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51.png" ContentType="image/png"/>
  <Override PartName="/ppt/media/image47.jpeg" ContentType="image/jpeg"/>
  <Override PartName="/ppt/media/image55.png" ContentType="image/png"/>
  <Override PartName="/ppt/media/image37.png" ContentType="image/png"/>
  <Override PartName="/ppt/media/image34.jpeg" ContentType="image/jpeg"/>
  <Override PartName="/ppt/media/image56.png" ContentType="image/png"/>
  <Override PartName="/ppt/media/image46.png" ContentType="image/png"/>
  <Override PartName="/ppt/media/image5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0047-F122-4807-9F80-6E27DA53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84E-0306-453B-A3A8-8D221997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B24-5DFB-4060-98F0-712BABBC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9AB-65A2-4CFB-959C-E2DBFC7D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4B4-B79B-4B1F-BA2E-C8408553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BF0-9A93-479D-B4DA-57AEA640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BBC-5C9C-4C7D-ABDC-3DBD5B12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5EB-C5AB-4D49-9C92-EDB76A50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3DD-D2E1-4681-8C89-32295E48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8E6-C1FC-4308-B908-83A29D66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AFC-E588-427F-BEF9-115BD08D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A30-2518-4558-B73C-D045DB4E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4153-0290-425C-A0C4-46EA6BB92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img-fotki.yandex.ru%2Fget%2F6508%2F133038111.2b%2F0_8890a_b160e798_XL&amp;iorient=&amp;ih=&amp;icolor=&amp;site=&amp;text=&#1086;&#1090;&#1082;&#1088;&#1099;&#1090;&#1082;&#1080;%20&#1083;&#1077;&#1089;&#1085;&#1072;&#1103;%20&#1096;&#1082;&#1086;&#1083;&#1072;&amp;iw=&amp;wp=&amp;pos=0&amp;recent=&amp;type=&amp;isize=&amp;rpt=simage&amp;itype=&amp;noj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kinderinfo.ru%2Fwp-content%2Fuploads%2Fgames5.jpg&amp;iorient=&amp;ih=&amp;icolor=&amp;site=&amp;text=&#1076;&#1077;&#1090;&#1080;%20&#1080;&#1075;&#1088;&#1072;&#1102;&#1090;%20&#1074;%20&#1087;&#1086;&#1076;&#1074;&#1080;&#1078;&#1085;&#1099;&#1077;%20&#1080;&#1075;&#1088;&#1099;%20&#1092;&#1086;&#1090;&#1086;&amp;iw=&amp;wp=&amp;pos=15&amp;recent=&amp;type=&amp;isize=&amp;rpt=simage&amp;itype=&amp;nojs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yandex.ru/yandsearch?fp=0&amp;img_url=http%3A%2F%2Fwww.proshkolu.ru%2Fcontent%2Fmedia%2Fpic%2Fstd%2F1000000%2F699000%2F698317-1888d07398eff157.jpg&amp;iorient=&amp;ih=&amp;icolor=&amp;site=&amp;text=&#1076;&#1077;&#1090;&#1080;%20&#1080;&#1075;&#1088;&#1072;&#1102;&#1090;%20&#1074;%20&#1087;&#1086;&#1076;&#1074;&#1080;&#1078;&#1085;&#1099;&#1077;%20&#1080;&#1075;&#1088;&#1099;%20&#1085;&#1072;%20&#1087;&#1077;&#1088;&#1077;&#1084;&#1077;&#1085;&#1077;%20&#1092;&#1086;&#1090;&#1086;&amp;iw=&amp;wp=&amp;pos=1&amp;recent=&amp;type=&amp;isize=&amp;rpt=simage&amp;itype=&amp;nojs=1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yandex.ru/yandsearch?fp=0&amp;img_url=http%3A%2F%2Fschool1orsk.ucoz.ru%2F_ph%2F7%2F1%2F245231737.jpg&amp;iorient=&amp;ih=&amp;icolor=&amp;site=&amp;text=&#1076;&#1077;&#1090;&#1080;%20&#1080;&#1075;&#1088;&#1072;&#1102;&#1090;%20&#1074;%20&#1087;&#1086;&#1076;&#1074;&#1080;&#1078;&#1085;&#1099;&#1077;%20&#1080;&#1075;&#1088;&#1099;%20&#1085;&#1072;%20&#1087;&#1077;&#1088;&#1077;&#1084;&#1077;&#1085;&#1077;%20&#1092;&#1086;&#1090;&#1086;&amp;iw=&amp;wp=&amp;pos=7&amp;recent=&amp;type=&amp;isize=&amp;rpt=simage&amp;itype=&amp;nojs=1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yandex.ru/yandsearch?fp=0&amp;img_url=http%3A%2F%2Feducation.simcat.ru%2Fschool56%2Fimg%2F1380199299_podvijnie_igri_na_peremenah.JPG&amp;iorient=&amp;ih=&amp;icolor=&amp;site=&amp;text=&#1076;&#1077;&#1090;&#1080;%20&#1080;&#1075;&#1088;&#1072;&#1102;&#1090;%20&#1074;%20&#1087;&#1086;&#1076;&#1074;&#1080;&#1078;&#1085;&#1099;&#1077;%20&#1080;&#1075;&#1088;&#1099;%20&#1085;&#1072;%20&#1087;&#1077;&#1088;&#1077;&#1084;&#1077;&#1085;&#1077;%20&#1092;&#1086;&#1090;&#1086;&amp;iw=&amp;wp=&amp;pos=9&amp;recent=&amp;type=&amp;isize=&amp;rpt=simage&amp;itype=&amp;nojs=1" TargetMode="External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grosvit.com.ua/product_thumb.php?img=images/Gulliver%20R6020.jpg&amp;w=250&amp;h=350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static.freepik.com%2Ffotos-gratis%2Fescova-de-dentes-com-creme-dental-com-clip-art_435609.jpg&amp;iorient=&amp;ih=&amp;nojs=1&amp;icolor=&amp;site=&amp;text=&#1079;&#1091;&#1073;&#1085;&#1072;&#1103;%20&#1097;&#1077;&#1090;&#1082;&#1072;&amp;iw=&amp;wp=&amp;pos=8&amp;recent=&amp;type=&amp;isize=&amp;rpt=simage&amp;itype=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fp=0&amp;img_url=http%3A%2F%2Fwww.myjulia.ru%2Fdata%2Fcache%2F2013%2F04%2F05%2F1171794_1360nothumb500.jpg&amp;iorient=&amp;ih=&amp;nojs=1&amp;icolor=&amp;site=&amp;text=&#1084;&#1086;&#1095;&#1072;&#1083;&#1082;&#1072;&amp;iw=&amp;wp=&amp;pos=5&amp;recent=&amp;type=&amp;isize=&amp;rpt=simage&amp;itype=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fp=0&amp;img_url=http%3A%2F%2Fvdonetske.net.ua%2Fserverdata%2Fnews_info%2F2011%2F07%2F16%2F881266%2FimgFull.jpg&amp;iorient=&amp;ih=&amp;nojs=1&amp;icolor=&amp;site=&amp;text=&#1084;&#1099;&#1083;&#1086;&amp;iw=&amp;wp=&amp;pos=26&amp;recent=&amp;type=&amp;isize=&amp;rpt=simage&amp;itype=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yandsearch?fp=0&amp;img_url=http%3A%2F%2Fdomosed.ru%2Fupload%2Fiblock%2F6063-0.jpg&amp;iorient=&amp;ih=&amp;nojs=1&amp;icolor=&amp;site=&amp;text=&#1091;&#1090;&#1102;&#1075;&amp;iw=&amp;wp=&amp;pos=2&amp;recent=&amp;type=&amp;isize=&amp;rpt=simage&amp;itype=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yandsearch?img_url=http%3A%2F%2Fwww.nta-nn.ru%2Fupload%2Fiblock%2F0ee%2Fautdbzoj.jpg&amp;iorient=&amp;ih=&amp;icolor=&amp;site=&amp;text=&#1088;&#1072;&#1089;&#1095;&#1077;&#1089;&#1082;&#1072;&amp;iw=&amp;wp=&amp;pos=8&amp;recent=&amp;type=&amp;isize=&amp;rpt=simage&amp;itype=&amp;nojs=1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yandex.ru/yandsearch?img_url=http%3A%2F%2Fvyshyvka.com.ua%2Fimg%2Fwool_place%2Flarge_platok1.jpg&amp;iorient=&amp;ih=&amp;icolor=&amp;site=&amp;text=&#1085;&#1086;&#1089;&#1086;&#1074;&#1086;&#1081;%20&#1087;&#1083;&#1072;&#1090;&#1086;&#1082;&amp;iw=&amp;wp=&amp;pos=0&amp;recent=&amp;type=&amp;isize=&amp;rpt=simage&amp;itype=&amp;nojs=1" TargetMode="External"/><Relationship Id="rId12" Type="http://schemas.openxmlformats.org/officeDocument/2006/relationships/image" Target="../media/image36.jpe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sch1002.mskzapad.ru%2Fimages%2Fcms%2Fdata%2Fimg_6097.jpg&amp;iorient=&amp;ih=&amp;icolor=&amp;site=&amp;text=&#1076;&#1077;&#1078;&#1091;&#1088;&#1085;&#1099;&#1077;%20&#1074;%20&#1096;&#1082;&#1086;&#1083;&#1077;&amp;iw=&amp;wp=&amp;pos=20&amp;recent=&amp;type=&amp;isize=&amp;rpt=simage&amp;itype=&amp;nojs=1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yandex.ru/yandsearch?fp=0&amp;img_url=http%3A%2F%2Flyantor.info%2Fnews%2Fwp-content%2Fuploads%2F84683910-90x65.jpg&amp;iorient=&amp;ih=&amp;icolor=&amp;site=&amp;text=&#1076;&#1077;&#1078;&#1091;&#1088;&#1085;&#1099;&#1077;%20&#1074;%20&#1096;&#1082;&#1086;&#1083;&#1077;&amp;iw=&amp;wp=&amp;pos=23&amp;recent=&amp;type=&amp;isize=&amp;rpt=simage&amp;itype=&amp;nojs=1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yandex.ru/yandsearch?fp=0&amp;img_url=http%3A%2F%2Fwww.idiomconnection.com%2F1teacher23-med.jpg&amp;iorient=&amp;ih=&amp;icolor=&amp;site=&amp;text=&#1076;&#1077;&#1078;&#1091;&#1088;&#1085;&#1099;&#1077;%20&#1074;%20&#1096;&#1082;&#1086;&#1083;&#1077;&amp;iw=&amp;wp=&amp;pos=13&amp;recent=&amp;type=&amp;isize=&amp;rpt=simage&amp;itype=&amp;nojs=1" TargetMode="External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p=1&amp;text=&#1078;&#1080;&#1074;&#1086;&#1081;%20&#1091;&#1075;&#1086;&#1083;&#1086;&#1082;%20&#1074;%20&#1096;&#1082;&#1086;&#1083;&#1077;&amp;img_url=http%3A%2F%2Fwww.kcn.ru%2Fschool%2Fgym7%2Fprev%2Fgymn_1_.jpg&amp;pos=31&amp;rpt=simage&amp;nojs=1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img.nr2.ru%2Fpict%2Farts1%2F03%2F72%2F37292.jpg&amp;iorient=&amp;ih=&amp;icolor=&amp;site=&amp;text=&#1086;&#1090;&#1082;&#1088;&#1099;&#1090;&#1082;&#1080;%20&#1082;%201%20&#1089;&#1077;&#1085;&#1090;&#1103;&#1073;&#1088;&#1103;%20&#1082;&#1072;&#1088;&#1090;&#1080;&#1085;&#1082;&#1080;&amp;iw=&amp;wp=&amp;pos=14&amp;recent=&amp;type=&amp;isize=&amp;rpt=simage&amp;itype=&amp;nojs=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udioskazki.info/uploads/1331719214_mec2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yandex.ru/yandsearch?img_url=http%3A%2F%2Fwww.pennsbury.k12.pa.us%2Fpennsbury%2FDisney%2Fbackpack.png&amp;iorient=&amp;ih=&amp;icolor=&amp;p=4&amp;site=&amp;text=&#1073;&#1077;&#1083;&#1082;&#1072;%20&#1089;%20&#1087;&#1086;&#1088;&#1090;&#1092;&#1077;&#1083;&#1077;&#1084;&amp;iw=&amp;wp=&amp;pos=133&amp;recent=&amp;type=&amp;isize=&amp;rpt=simage&amp;itype=&amp;nojs=1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yandex.ru/yandsearch?img_url=http%3A%2F%2Fmedia.otkritka.com%2Fimages%2Fotkritka-1_sentyabrya_19.gif&amp;iorient=&amp;ih=&amp;icolor=&amp;site=&amp;text=&#1086;&#1090;&#1082;&#1088;&#1099;&#1090;&#1082;&#1080;%20&#1082;%201%20&#1089;&#1077;&#1085;&#1090;&#1103;&#1073;&#1088;&#1103;%20&#1082;&#1072;&#1088;&#1090;&#1080;&#1085;&#1082;&#1080;&amp;iw=&amp;wp=&amp;pos=26&amp;recent=&amp;type=&amp;isize=&amp;rpt=simage&amp;itype=&amp;nojs=1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yandex.ru/yandsearch?p=1&amp;text=&#1047;&#1072;&#1103;&#1094;%20&#1089;%20&#1087;&#1086;&#1088;&#1090;&#1092;&#1077;&#1083;&#1077;&#1084;&amp;img_url=http%3A%2F%2Fimg-fotki.yandex.ru%2Fget%2F3513%2Fmadam-27.61%2F0_2f86b_73b33c09_XL&amp;pos=36&amp;rpt=simage&amp;nojs=1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ic.pics.livejournal.com%2Flvoropaeva%2F12410323%2F2899909%2F2899909_original.jpg&amp;iorient=&amp;ih=&amp;icolor=&amp;site=&amp;text=&#1076;&#1077;&#1090;&#1080;%20&#1091;&#1083;&#1099;&#1073;&#1072;&#1102;&#1090;&#1089;&#1103;%20&#1076;&#1088;&#1091;&#1075;%20&#1076;&#1088;&#1091;&#1075;&#1091;&amp;iw=&amp;wp=&amp;pos=1&amp;recent=&amp;type=&amp;isize=&amp;rpt=simage&amp;itype=&amp;nojs=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www.tis.nnov.ru%2Fcatalog%2Fdata%2F41007_img2.jpg&amp;iorient=&amp;ih=&amp;icolor=&amp;site=&amp;text=&#1088;&#1072;&#1073;&#1086;&#1095;&#1077;&#1077;%20&#1084;&#1077;&#1089;&#1090;&#1086;%20&#1091;&#1095;&#1077;&#1085;&#1080;&#1082;&#1072;&amp;iw=&amp;wp=&amp;pos=1&amp;recent=&amp;type=&amp;isize=&amp;rpt=simage&amp;itype=&amp;nojs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detsky-mir.ru/img/more/2139D160E767FB38A47B45B43F807742_3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img2.1001golos.ru%2Fratings%2F558000%2F557831%2Fpic1.jpg&amp;iorient=&amp;ih=&amp;nojs=1&amp;icolor=&amp;site=&amp;text=&#1076;&#1077;&#1090;&#1080;%20&#1074;&#1085;&#1080;&#1084;&#1072;&#1090;&#1077;&#1083;&#1100;&#1085;&#1086;%20&#1089;&#1083;&#1091;&#1096;&#1072;&#1102;&#1090;%20&#1091;&#1095;&#1080;&#1090;&#1077;&#1083;&#1103;&amp;iw=&amp;wp=&amp;pos=16&amp;recent=&amp;type=&amp;isize=&amp;rpt=simage&amp;itype=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fp=0&amp;img_url=http%3A%2F%2Fwww.vzmakh.ru%2Fprimary_school%2Fphoto%2F2011-2012%2Ff1class%2F05.jpg&amp;iorient=&amp;ih=&amp;nojs=1&amp;icolor=&amp;site=&amp;text=&#1087;&#1077;&#1088;&#1074;&#1086;&#1082;&#1083;&#1072;&#1089;&#1089;&#1085;&#1080;&#1082;&#1080;%20&#1074;&#1085;&#1080;&#1084;&#1072;&#1090;&#1077;&#1083;&#1100;&#1085;&#1086;%20&#1089;&#1083;&#1091;&#1096;&#1072;&#1102;&#1090;%20&#1091;&#1095;&#1080;&#1090;&#1077;&#1083;&#1103;&amp;iw=&amp;wp=&amp;pos=1&amp;recent=&amp;type=&amp;isize=&amp;rpt=simage&amp;itype=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storage.pressfoto.ru%2F2011.09%2F78850912154362d27ec6e5207563893e156fe6dcbf3_b.jpg&amp;iorient=&amp;ih=&amp;nojs=1&amp;icolor=&amp;site=&amp;text=&#1076;&#1077;&#1090;&#1080;%20&#1087;&#1086;&#1076;&#1085;&#1080;&#1084;&#1072;&#1102;&#1090;%20&#1088;&#1091;&#1082;&#1091;%20&#1085;&#1072;%20&#1091;&#1088;&#1086;&#1082;&#1077;&amp;iw=&amp;wp=&amp;pos=4&amp;recent=&amp;type=&amp;isize=&amp;rpt=simage&amp;itype=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yandex.ru/yandsearch?fp=0&amp;img_url=http%3A%2F%2Fstorage.pressfoto.ru%2F2009.07%2F2098964c90a997_b.jpg&amp;iorient=&amp;ih=&amp;nojs=1&amp;icolor=&amp;site=&amp;text=&#1076;&#1077;&#1090;&#1080;%20&#1087;&#1086;&#1076;&#1085;&#1080;&#1084;&#1072;&#1102;&#1090;%20&#1088;&#1091;&#1082;&#1091;%20&#1085;&#1072;%20&#1091;&#1088;&#1086;&#1082;&#1077;&amp;iw=&amp;wp=&amp;pos=10&amp;recent=&amp;type=&amp;isize=&amp;rpt=simage&amp;itype=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yandex.ru/yandsearch?fp=0&amp;img_url=http%3A%2F%2Fknu.znate.ru%2Fpars_docs%2Frefs%2F454%2F453547%2F453547_html_m3ff99de6.jpg&amp;iorient=&amp;ih=&amp;nojs=1&amp;icolor=&amp;site=&amp;text=&#1076;&#1077;&#1090;&#1080;%20&#1087;&#1086;&#1076;&#1085;&#1080;&#1084;&#1072;&#1102;&#1090;%20&#1088;&#1091;&#1082;&#1091;%20&#1085;&#1072;%20&#1091;&#1088;&#1086;&#1082;&#1077;&amp;iw=&amp;wp=&amp;pos=6&amp;recent=&amp;type=&amp;isize=&amp;rpt=simage&amp;itype=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images.yandex.ru/yandsearch?fp=0&amp;img_url=http%3A%2F%2Fstorage1.tvidi.ru%2FCms%2FNews%2F2%2F1%2F1412%2F23908_12884891867922986468_Original.jpg&amp;iorient=&amp;ih=&amp;nojs=1&amp;icolor=&amp;site=&amp;text=&#1076;&#1077;&#1090;&#1080;%20&#1087;&#1086;&#1076;&#1085;&#1080;&#1084;&#1072;&#1102;&#1090;%20&#1088;&#1091;&#1082;&#1091;%20&#1085;&#1072;%20&#1091;&#1088;&#1086;&#1082;&#1077;&amp;iw=&amp;wp=&amp;pos=27&amp;recent=&amp;type=&amp;isize=&amp;rpt=simage&amp;itype=" TargetMode="External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оздание "Лесной школы"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?id=247272630-01-72&amp;n=21">
            <a:hlinkClick r:id="rId1"/>
          </p:cNvPr>
          <p:cNvPicPr/>
          <p:nvPr/>
        </p:nvPicPr>
        <p:blipFill>
          <a:blip r:embed="rId2"/>
          <a:srcRect l="5266" t="-21890" r="0" b="-6890"/>
          <a:stretch/>
        </p:blipFill>
        <p:spPr>
          <a:xfrm>
            <a:off x="457200" y="2743200"/>
            <a:ext cx="8229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авило пят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еники играют на перемене в спокойные игры, чтобы все смогли отдохну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?id=187063470-1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200400"/>
            <a:ext cx="2361960" cy="194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i?id=154672973-1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19440" y="2714760"/>
            <a:ext cx="2552760" cy="191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i?id=153756755-07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4267080"/>
            <a:ext cx="2667240" cy="200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?id=401922350-39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24080" y="4908600"/>
            <a:ext cx="24386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ирание рюкз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846000" y="1066680"/>
            <a:ext cx="660744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я Аккура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Gulliver%20R60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600200"/>
            <a:ext cx="3753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мощники Феи Аккура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i?id=426876288-6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2857680" cy="1362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i?id=113343322-13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57280" y="4191120"/>
            <a:ext cx="1590840" cy="1428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i?id=431182477-0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1295280"/>
            <a:ext cx="182880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i?id=424214615-18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1566720"/>
            <a:ext cx="193356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i?id=437007221-28-72&amp;n=21">
            <a:hlinkClick r:id="rId9"/>
          </p:cNvPr>
          <p:cNvPicPr/>
          <p:nvPr/>
        </p:nvPicPr>
        <p:blipFill>
          <a:blip r:embed="rId10"/>
          <a:stretch/>
        </p:blipFill>
        <p:spPr>
          <a:xfrm rot="7964400">
            <a:off x="4380840" y="37666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i?id=436789171-13-72&amp;n=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3520" y="4151160"/>
            <a:ext cx="1066680" cy="10414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9" descr=""/>
          <p:cNvPicPr/>
          <p:nvPr/>
        </p:nvPicPr>
        <p:blipFill>
          <a:blip r:embed="rId13"/>
          <a:stretch/>
        </p:blipFill>
        <p:spPr>
          <a:xfrm>
            <a:off x="6095880" y="3886200"/>
            <a:ext cx="23623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журные в школ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?id=42770360-2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133720"/>
            <a:ext cx="3884760" cy="365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i?id=149716161-54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22800" y="12193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?id=140641912-18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403848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дунья 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i?id=26933011-21-72&amp;n=21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чонку хотелось гул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i?id=146466316-22-72&amp;n=21"/>
          <p:cNvPicPr/>
          <p:nvPr/>
        </p:nvPicPr>
        <p:blipFill>
          <a:blip r:embed="rId1"/>
          <a:stretch/>
        </p:blipFill>
        <p:spPr>
          <a:xfrm>
            <a:off x="2743200" y="1114560"/>
            <a:ext cx="3352680" cy="243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049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надо было делать уроки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i?id=283181198-40-72&amp;n=21"/>
          <p:cNvPicPr/>
          <p:nvPr/>
        </p:nvPicPr>
        <p:blipFill>
          <a:blip r:embed="rId2"/>
          <a:srcRect l="-6455" t="24389" r="0" b="0"/>
          <a:stretch/>
        </p:blipFill>
        <p:spPr>
          <a:xfrm>
            <a:off x="5486400" y="3570120"/>
            <a:ext cx="35812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 попросил, чтобы папа сделал уроки за меня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?id=174538599-12-72&amp;n=21"/>
          <p:cNvPicPr/>
          <p:nvPr/>
        </p:nvPicPr>
        <p:blipFill>
          <a:blip r:embed="rId1"/>
          <a:stretch/>
        </p:blipFill>
        <p:spPr>
          <a:xfrm>
            <a:off x="2286000" y="1913040"/>
            <a:ext cx="47242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вот начался урок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35049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чонку было стыд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?id=126724419-24-72&amp;n=21"/>
          <p:cNvPicPr/>
          <p:nvPr/>
        </p:nvPicPr>
        <p:blipFill>
          <a:blip r:embed="rId1"/>
          <a:stretch/>
        </p:blipFill>
        <p:spPr>
          <a:xfrm>
            <a:off x="1998720" y="17524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845240" cy="322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i?id=374754952-48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228600"/>
            <a:ext cx="4495680" cy="307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09480" y="1447920"/>
            <a:ext cx="3114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ни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i?id=40792822-61-72&amp;n=21"/>
          <p:cNvPicPr/>
          <p:nvPr/>
        </p:nvPicPr>
        <p:blipFill>
          <a:blip r:embed="rId1"/>
          <a:stretch/>
        </p:blipFill>
        <p:spPr>
          <a:xfrm>
            <a:off x="533520" y="1523880"/>
            <a:ext cx="5410080" cy="4316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269651782-13-72&amp;n=21"/>
          <p:cNvPicPr/>
          <p:nvPr/>
        </p:nvPicPr>
        <p:blipFill>
          <a:blip r:embed="rId2"/>
          <a:stretch/>
        </p:blipFill>
        <p:spPr>
          <a:xfrm>
            <a:off x="6172200" y="3886200"/>
            <a:ext cx="2743200" cy="1996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?id=318783453-66-72&amp;n=21"/>
          <p:cNvPicPr/>
          <p:nvPr/>
        </p:nvPicPr>
        <p:blipFill>
          <a:blip r:embed="rId3"/>
          <a:stretch/>
        </p:blipFill>
        <p:spPr>
          <a:xfrm>
            <a:off x="6248520" y="15238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кольные 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3111480" cy="2959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5486400" y="1355760"/>
            <a:ext cx="308628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2819520" y="3429000"/>
            <a:ext cx="3124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ружите дети с 2, 3, 1, а дружите с медвежонком, он вам пригодиться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онок будет помогать, получать вам только 5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971800" cy="42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194000" cy="4270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7086600" y="1639800"/>
            <a:ext cx="12985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рпение и труд  все перетру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i?id=446982736-16-72&amp;n=21"/>
          <p:cNvPicPr/>
          <p:nvPr/>
        </p:nvPicPr>
        <p:blipFill>
          <a:blip r:embed="rId1"/>
          <a:stretch/>
        </p:blipFill>
        <p:spPr>
          <a:xfrm>
            <a:off x="1828800" y="1676520"/>
            <a:ext cx="5105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5178600" cy="4165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i?id=385860335-18-72"/>
          <p:cNvPicPr/>
          <p:nvPr/>
        </p:nvPicPr>
        <p:blipFill>
          <a:blip r:embed="rId2"/>
          <a:stretch/>
        </p:blipFill>
        <p:spPr>
          <a:xfrm>
            <a:off x="5450040" y="1219320"/>
            <a:ext cx="35049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i?id=320685366-2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80" y="1162080"/>
            <a:ext cx="528300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109401680586335"/>
          <p:cNvPicPr/>
          <p:nvPr/>
        </p:nvPicPr>
        <p:blipFill>
          <a:blip r:embed="rId3"/>
          <a:stretch/>
        </p:blipFill>
        <p:spPr>
          <a:xfrm>
            <a:off x="5383080" y="1162080"/>
            <a:ext cx="3691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331719214_mec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590920"/>
            <a:ext cx="3210120" cy="39924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3048120" y="0"/>
            <a:ext cx="3200400" cy="2590920"/>
            <a:chOff x="3048120" y="0"/>
            <a:chExt cx="3200400" cy="2590920"/>
          </a:xfrm>
        </p:grpSpPr>
        <p:sp>
          <p:nvSpPr>
            <p:cNvPr id="58" name="AutoShape 6"/>
            <p:cNvSpPr/>
            <p:nvPr/>
          </p:nvSpPr>
          <p:spPr>
            <a:xfrm>
              <a:off x="3048120" y="0"/>
              <a:ext cx="3200400" cy="25909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7" descr="i?id=24997654-06-72"/>
            <p:cNvPicPr/>
            <p:nvPr/>
          </p:nvPicPr>
          <p:blipFill>
            <a:blip r:embed="rId3"/>
            <a:stretch/>
          </p:blipFill>
          <p:spPr>
            <a:xfrm>
              <a:off x="3540240" y="279720"/>
              <a:ext cx="2277360" cy="20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12"/>
          <p:cNvGrpSpPr/>
          <p:nvPr/>
        </p:nvGrpSpPr>
        <p:grpSpPr>
          <a:xfrm>
            <a:off x="340920" y="-237960"/>
            <a:ext cx="2823840" cy="3295800"/>
            <a:chOff x="340920" y="-237960"/>
            <a:chExt cx="2823840" cy="3295800"/>
          </a:xfrm>
        </p:grpSpPr>
        <p:sp>
          <p:nvSpPr>
            <p:cNvPr id="61" name="AutoShape 10"/>
            <p:cNvSpPr/>
            <p:nvPr/>
          </p:nvSpPr>
          <p:spPr>
            <a:xfrm rot="17152800">
              <a:off x="342720" y="342720"/>
              <a:ext cx="2819520" cy="21337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11" descr="i?id=127846820-58-72&amp;n=21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143000" y="685800"/>
              <a:ext cx="120024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13" descr="i?id=360483758-19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29200" y="342900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4"/>
          <p:cNvSpPr/>
          <p:nvPr/>
        </p:nvSpPr>
        <p:spPr>
          <a:xfrm>
            <a:off x="3809880" y="457200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8"/>
          <p:cNvGrpSpPr/>
          <p:nvPr/>
        </p:nvGrpSpPr>
        <p:grpSpPr>
          <a:xfrm>
            <a:off x="3529080" y="1835640"/>
            <a:ext cx="2368440" cy="2337480"/>
            <a:chOff x="3529080" y="1835640"/>
            <a:chExt cx="2368440" cy="2337480"/>
          </a:xfrm>
        </p:grpSpPr>
        <p:sp>
          <p:nvSpPr>
            <p:cNvPr id="66" name="AutoShape 16"/>
            <p:cNvSpPr/>
            <p:nvPr/>
          </p:nvSpPr>
          <p:spPr>
            <a:xfrm rot="2094000">
              <a:off x="3836880" y="2190600"/>
              <a:ext cx="1752840" cy="1627200"/>
            </a:xfrm>
            <a:prstGeom prst="wedgeEllipseCallout">
              <a:avLst>
                <a:gd name="adj1" fmla="val -41282"/>
                <a:gd name="adj2" fmla="val 600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7" descr="i?id=15738600-46-72&amp;n=21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4267080" y="2438280"/>
              <a:ext cx="833400" cy="120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авило перв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школе все ученики здороваются, улыбаясь взрослым и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i?id=257347257-6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89548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торое правил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 звонка на урок надо подготовить все необходимое для учеб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?id=152832214-2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53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2139D160E767FB38A47B45B43F807742_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3400" y="2870280"/>
            <a:ext cx="35812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ретье правил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узнать новое и многому научиться на уроке, ученики внимател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 слуш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?id=39304798-6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20574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i?id=457278818-0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88620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i?id=28466968-06-72"/>
          <p:cNvPicPr/>
          <p:nvPr/>
        </p:nvPicPr>
        <p:blipFill>
          <a:blip r:embed="rId5"/>
          <a:stretch/>
        </p:blipFill>
        <p:spPr>
          <a:xfrm>
            <a:off x="5791320" y="5105520"/>
            <a:ext cx="2286000" cy="1431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i?id=213138714-30-72"/>
          <p:cNvPicPr/>
          <p:nvPr/>
        </p:nvPicPr>
        <p:blipFill>
          <a:blip r:embed="rId6"/>
          <a:stretch/>
        </p:blipFill>
        <p:spPr>
          <a:xfrm>
            <a:off x="5486400" y="358128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авило четверто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бы спросить, ученики поднимают ру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i?id=45169581-5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43828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i?id=111878759-0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43434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i?id=485232120-50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0384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i?id=218873007-59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29400" y="25146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6-05-11T14:59:0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