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3D7-B2D4-47C0-993F-67417BF6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92E-6F28-4156-BF58-1C12EFC7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616D-940F-4BBE-93D4-4B85F60A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D51A-8DA5-4C98-8DA8-73ECFD36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3882-6B7F-4F40-B0E0-6E4DCD2B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71DB-E1CD-4212-BAA7-9FD22293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4C32-8738-4959-93D7-561D9E74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671F-6D63-4E0F-A829-8BBFDDE9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764A-4327-4823-B86E-DE81A093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09FF-4B3A-4A94-847D-66189A15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13B7-3A86-4BF6-B26D-83E87A1B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8B1-FD6C-4D37-8F4E-25573134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89B7-7B3B-4B2B-BADD-F58554A2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7F6D-230A-480F-9301-9EB35DBF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C3DC-D282-4DC7-AA02-8EAD85FF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7049-51A0-4E03-8C3B-9F4999E4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FFFC-4521-4648-891B-86248FFD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0A57-FD89-4D5E-92A0-56E00A18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FC9-2701-4B3F-A946-0B22E4D0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00F-D6C3-485C-8A59-1B23B4F9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4B6-A658-4F7B-B19C-76B0FA22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314-B059-4674-8EB0-377256D7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5F3-5FE3-4D73-B436-9968A3AB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1E6-2430-431E-9A85-74301F5F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C754-8C5B-468D-8FFE-69D64F28C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64CD-302A-43C8-8D83-AAFC364489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40400"/>
                </a:solidFill>
                <a:latin typeface="comic"/>
              </a:rPr>
              <a:t>Профилактика </a:t>
            </a:r>
            <a:br>
              <a:rPr sz="6000"/>
            </a:br>
            <a:r>
              <a:rPr b="1" i="1" lang="en-US" sz="6000" spc="-1" strike="noStrike">
                <a:solidFill>
                  <a:srgbClr val="040400"/>
                </a:solidFill>
                <a:latin typeface="comic"/>
              </a:rPr>
              <a:t>детской </a:t>
            </a:r>
            <a:br>
              <a:rPr sz="6000"/>
            </a:br>
            <a:r>
              <a:rPr b="1" i="1" lang="en-US" sz="6000" spc="-1" strike="noStrike">
                <a:solidFill>
                  <a:srgbClr val="040400"/>
                </a:solidFill>
                <a:latin typeface="comic"/>
              </a:rPr>
              <a:t>агрессии.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дагог-психолог Шитякова В.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1" descr="C:\Users\игорь\Desktop\для Жени\зеленый фон c бабочкой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05520" y="4075200"/>
            <a:ext cx="4038480" cy="2782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04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40400"/>
                </a:solidFill>
                <a:latin typeface="Arial Black"/>
              </a:rPr>
              <a:t>Понятие агре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05280" y="2590920"/>
            <a:ext cx="762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Агрессивное поведение понимается как специфическая форма действий человека, демонстрирующая превосходство, возможность причинения ущерба или причинения такового живому существу (или неживому объекту). Так же агрессивное поведение служит формой отреагирования физического и психического дискомфорта, стрессов, фрустраций.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Рисунок 1" descr="C:\Users\игорь\Desktop\для Жени\зеленый фон c бабочкой копия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434960"/>
            <a:ext cx="9296280" cy="5423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38512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Общепринятым считается, что у детей дошкольного возраста отмечается в основном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доброкачественная агрессия: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3962160"/>
            <a:ext cx="8007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Оборонительная агрессия (непредномеренная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Агрессия как самоутверждение.</a:t>
            </a:r>
            <a:r>
              <a:rPr b="1" lang="ru-RU" sz="2800" spc="-1" strike="noStrike">
                <a:solidFill>
                  <a:srgbClr val="0404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1" descr="C:\Users\игорь\Desktop\для Жени\зеленый фон c бабочкой копия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C:\Users\игорь\Desktop\для Жени\зеленый фон c бабочкой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3208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228600" y="1676520"/>
            <a:ext cx="7999920" cy="4190040"/>
            <a:chOff x="228600" y="1676520"/>
            <a:chExt cx="7999920" cy="4190040"/>
          </a:xfrm>
        </p:grpSpPr>
        <p:cxnSp>
          <p:nvCxnSpPr>
            <p:cNvPr id="111" name="_s17415"/>
            <p:cNvCxnSpPr>
              <a:stCxn id="112" idx="1"/>
              <a:endCxn id="113" idx="2"/>
            </p:cNvCxnSpPr>
            <p:nvPr/>
          </p:nvCxnSpPr>
          <p:spPr>
            <a:xfrm rot="10800000">
              <a:off x="2627640" y="2437560"/>
              <a:ext cx="800640" cy="304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7416"/>
            <p:cNvCxnSpPr>
              <a:stCxn id="115" idx="1"/>
              <a:endCxn id="113" idx="2"/>
            </p:cNvCxnSpPr>
            <p:nvPr/>
          </p:nvCxnSpPr>
          <p:spPr>
            <a:xfrm rot="10800000">
              <a:off x="2627640" y="2437560"/>
              <a:ext cx="800640" cy="1905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7417"/>
            <p:cNvCxnSpPr>
              <a:stCxn id="117" idx="1"/>
              <a:endCxn id="113" idx="2"/>
            </p:cNvCxnSpPr>
            <p:nvPr/>
          </p:nvCxnSpPr>
          <p:spPr>
            <a:xfrm rot="10800000">
              <a:off x="2627640" y="2437560"/>
              <a:ext cx="800640" cy="762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17418"/>
            <p:cNvSpPr/>
            <p:nvPr/>
          </p:nvSpPr>
          <p:spPr>
            <a:xfrm>
              <a:off x="228600" y="1676520"/>
              <a:ext cx="4799880" cy="761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0400"/>
                  </a:solidFill>
                  <a:latin typeface="Arial"/>
                </a:rPr>
                <a:t>Причины агрессивного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0400"/>
                  </a:solidFill>
                  <a:latin typeface="Arial"/>
                </a:rPr>
                <a:t>повед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7419"/>
            <p:cNvSpPr/>
            <p:nvPr/>
          </p:nvSpPr>
          <p:spPr>
            <a:xfrm>
              <a:off x="3428640" y="2819160"/>
              <a:ext cx="4799880" cy="761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0400"/>
                  </a:solidFill>
                  <a:latin typeface="Arial"/>
                </a:rPr>
                <a:t>Нарушение эмоционально-волево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0400"/>
                  </a:solidFill>
                  <a:latin typeface="Arial"/>
                </a:rPr>
                <a:t>сферы ребен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7420"/>
            <p:cNvSpPr/>
            <p:nvPr/>
          </p:nvSpPr>
          <p:spPr>
            <a:xfrm>
              <a:off x="3428640" y="3962160"/>
              <a:ext cx="4799880" cy="761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0400"/>
                  </a:solidFill>
                  <a:latin typeface="Arial"/>
                </a:rPr>
                <a:t>Неблагополучная семейна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0400"/>
                  </a:solidFill>
                  <a:latin typeface="Arial"/>
                </a:rPr>
                <a:t>обстанов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7421"/>
            <p:cNvSpPr/>
            <p:nvPr/>
          </p:nvSpPr>
          <p:spPr>
            <a:xfrm>
              <a:off x="3428640" y="5104800"/>
              <a:ext cx="4799880" cy="761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0400"/>
                  </a:solidFill>
                  <a:latin typeface="Arial"/>
                </a:rPr>
                <a:t>Психологический климат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0400"/>
                  </a:solidFill>
                  <a:latin typeface="Arial"/>
                </a:rPr>
                <a:t>в дошкольном учрежден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4764240"/>
            <a:ext cx="262728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4800600" cy="3195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3627360" cy="3809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160" y="2819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воспитателей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Рисунок 1" descr="C:\Users\игорь\Desktop\для Жени\зеленый фон c бабочкой копия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432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офилактика агрессии возможна - при участии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5943600"/>
            <a:ext cx="340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родител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67080" y="3443400"/>
            <a:ext cx="4876920" cy="3414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0400"/>
                </a:solidFill>
                <a:latin typeface="Arial Black"/>
              </a:rPr>
              <a:t>Обращение с детьми до вспышки агрессивност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86169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 большинстве случаев детей лучше оставить, чтобы они разобрались с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Сориентировать ребенка на другой тип повед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Отвлечь ребенка каким-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тересным для него заняти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зрослым сами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предотвратить возможную дра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1" descr="C:\Users\игорь\Desktop\для Жени\зеленый фон c бабочкой копия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064040" y="3683160"/>
            <a:ext cx="5079960" cy="3174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0400"/>
                </a:solidFill>
                <a:latin typeface="Arial Black"/>
              </a:rPr>
              <a:t>Обращение с детьми после агрессивного нападения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2895480"/>
            <a:ext cx="85406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Резкое слово драчуну и участливое отношение к жерт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Отослать агрессивного ребенка в тихий угол поосты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Твердо сказать: «Драться нельзя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Взрослые должны высказать свое отношение и постараться побыстрее прекратить неприятную ситуац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Отрицательное подкрепление (ребенка лишают любимых игрушек или привилег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Не отвечать агрессией на агресс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Рисунок 1" descr="C:\Users\игорь\Desktop\для Жени\зеленый фон c бабочкой копия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3833640"/>
            <a:ext cx="4572000" cy="3024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" descr="C:\Users\игорь\Desktop\для Жени\зеленый фон c бабочкой копия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43208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152280" y="1447920"/>
            <a:ext cx="8761680" cy="5336280"/>
            <a:chOff x="152280" y="1447920"/>
            <a:chExt cx="8761680" cy="5336280"/>
          </a:xfrm>
        </p:grpSpPr>
        <p:cxnSp>
          <p:nvCxnSpPr>
            <p:cNvPr id="136" name="_s26666"/>
            <p:cNvCxnSpPr>
              <a:stCxn id="137" idx="1"/>
              <a:endCxn id="138" idx="2"/>
            </p:cNvCxnSpPr>
            <p:nvPr/>
          </p:nvCxnSpPr>
          <p:spPr>
            <a:xfrm rot="10800000">
              <a:off x="2779920" y="2417400"/>
              <a:ext cx="876600" cy="3881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9" name="_s26665"/>
            <p:cNvCxnSpPr>
              <a:stCxn id="140" idx="1"/>
              <a:endCxn id="138" idx="2"/>
            </p:cNvCxnSpPr>
            <p:nvPr/>
          </p:nvCxnSpPr>
          <p:spPr>
            <a:xfrm rot="10800000">
              <a:off x="2779920" y="2417400"/>
              <a:ext cx="876600" cy="2426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1" name="_s26664"/>
            <p:cNvCxnSpPr>
              <a:stCxn id="142" idx="1"/>
              <a:endCxn id="138" idx="2"/>
            </p:cNvCxnSpPr>
            <p:nvPr/>
          </p:nvCxnSpPr>
          <p:spPr>
            <a:xfrm rot="10800000">
              <a:off x="2779920" y="2417400"/>
              <a:ext cx="876600" cy="970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8" name="_s26660"/>
            <p:cNvSpPr/>
            <p:nvPr/>
          </p:nvSpPr>
          <p:spPr>
            <a:xfrm>
              <a:off x="152280" y="1447920"/>
              <a:ext cx="5257080" cy="970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400"/>
                  </a:solidFill>
                  <a:latin typeface="Arial"/>
                </a:rPr>
                <a:t>Условий направленных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400"/>
                  </a:solidFill>
                  <a:latin typeface="Arial"/>
                </a:rPr>
                <a:t>на снижение агрессивност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26661"/>
            <p:cNvSpPr/>
            <p:nvPr/>
          </p:nvSpPr>
          <p:spPr>
            <a:xfrm>
              <a:off x="3656880" y="2903040"/>
              <a:ext cx="5257080" cy="970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40400"/>
                  </a:solidFill>
                  <a:latin typeface="Arial"/>
                </a:rPr>
                <a:t>психогимнастические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40400"/>
                  </a:solidFill>
                  <a:latin typeface="Arial"/>
                </a:rPr>
                <a:t>игры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26662"/>
            <p:cNvSpPr/>
            <p:nvPr/>
          </p:nvSpPr>
          <p:spPr>
            <a:xfrm>
              <a:off x="3656880" y="4358520"/>
              <a:ext cx="5257080" cy="970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40400"/>
                  </a:solidFill>
                  <a:latin typeface="Arial"/>
                </a:rPr>
                <a:t>развитие коммуникативных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40400"/>
                  </a:solidFill>
                  <a:latin typeface="Arial"/>
                </a:rPr>
                <a:t>умений</a:t>
              </a: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26663"/>
            <p:cNvSpPr/>
            <p:nvPr/>
          </p:nvSpPr>
          <p:spPr>
            <a:xfrm>
              <a:off x="3656880" y="5814000"/>
              <a:ext cx="5257080" cy="970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40400"/>
                  </a:solidFill>
                  <a:latin typeface="Arial"/>
                </a:rPr>
                <a:t>формирование адекватных –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40400"/>
                  </a:solidFill>
                  <a:latin typeface="Arial"/>
                </a:rPr>
                <a:t>дружелюбных форм поведени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C:\Users\игорь\Desktop\для Жени\зеленый фон c бабочкой коп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32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556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6440" y="5562720"/>
            <a:ext cx="900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rko</cp:lastModifiedBy>
  <dcterms:modified xsi:type="dcterms:W3CDTF">2011-03-29T15:29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