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1B0A-FE73-4617-9732-9EC46538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675A-CF3C-420F-AB2D-8F3E8A4E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C95D-D88A-49A4-BEE1-03DF54B9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209E-AA03-456B-804B-B79DCE8C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32F8-F19F-42BF-8B83-27822CBA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C388-0646-4082-AA9D-9FA9EEB4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D85A-0D33-47E9-BF0C-749A99FC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E2B7-4775-4C36-9854-7326CB4A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9FBA-65FA-4E34-AE26-0F623B44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1F7E-02EB-4E8A-836C-9769D086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740C-44B4-40C4-874F-673B75AF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15BB-675B-4F82-B61E-E33B2685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72D1-6E1F-4417-A1D7-9C2C87AE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4CD3-FD7C-402E-B8C9-44B34D91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2399-3257-4BAA-B9F9-1F2BA2BD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584B-754F-4BF2-B132-3D98CCB5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5855-AF51-48B2-8C76-4984F829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60BE-1AB6-4FA2-BEE0-A7727C0C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E22E-DDC9-4D1F-A670-8513EDBB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9F6-41D1-4EEB-9409-52D247D2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19E5-F0D5-49CC-8BBC-AE0F58E8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7A6B-5B1A-4A72-B9DE-C48B5A6F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E97-46B6-418E-82B7-3D969203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70B5-E363-4B79-B265-CEF46FBA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BB1E-FFD0-4B10-844D-FDFA270879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8683-7E9A-4941-9C1E-4BEA62DC22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40400"/>
                </a:solidFill>
                <a:latin typeface="comic"/>
              </a:rPr>
              <a:t>Профилактика </a:t>
            </a:r>
            <a:br>
              <a:rPr sz="6000"/>
            </a:br>
            <a:r>
              <a:rPr b="1" i="1" lang="en-US" sz="6000" spc="-1" strike="noStrike">
                <a:solidFill>
                  <a:srgbClr val="040400"/>
                </a:solidFill>
                <a:latin typeface="comic"/>
              </a:rPr>
              <a:t>детской </a:t>
            </a:r>
            <a:br>
              <a:rPr sz="6000"/>
            </a:br>
            <a:r>
              <a:rPr b="1" i="1" lang="en-US" sz="6000" spc="-1" strike="noStrike">
                <a:solidFill>
                  <a:srgbClr val="040400"/>
                </a:solidFill>
                <a:latin typeface="comic"/>
              </a:rPr>
              <a:t>агрессии.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дагог-психолог Шитякова В.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Рисунок 1" descr="C:\Users\игорь\Desktop\для Жени\зеленый фон c бабочкой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105520" y="4075200"/>
            <a:ext cx="4038480" cy="2782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0400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040400"/>
                </a:solidFill>
                <a:latin typeface="Arial Black"/>
              </a:rPr>
              <a:t>Понятие агресс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05280" y="2590920"/>
            <a:ext cx="7626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Агрессивное поведение понимается как специфическая форма действий человека, демонстрирующая превосходство, возможность причинения ущерба или причинения такового живому существу (или неживому объекту). Так же агрессивное поведение служит формой отреагирования физического и психического дискомфорта, стрессов, фрустраций.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Рисунок 1" descr="C:\Users\игорь\Desktop\для Жени\зеленый фон c бабочкой копия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434960"/>
            <a:ext cx="9296280" cy="5423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38512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Общепринятым считается, что у детей дошкольного возраста отмечается в основном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доброкачественная агрессия: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3962160"/>
            <a:ext cx="8007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Оборонительная агрессия (непредномеренная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Агрессия как самоутверждение.</a:t>
            </a:r>
            <a:r>
              <a:rPr b="1" lang="ru-RU" sz="2800" spc="-1" strike="noStrike">
                <a:solidFill>
                  <a:srgbClr val="0404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Рисунок 1" descr="C:\Users\игорь\Desktop\для Жени\зеленый фон c бабочкой копия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C:\Users\игорь\Desktop\для Жени\зеленый фон c бабочкой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3208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228600" y="1676520"/>
            <a:ext cx="7999920" cy="4190040"/>
            <a:chOff x="228600" y="1676520"/>
            <a:chExt cx="7999920" cy="4190040"/>
          </a:xfrm>
        </p:grpSpPr>
        <p:cxnSp>
          <p:nvCxnSpPr>
            <p:cNvPr id="111" name="_s17415"/>
            <p:cNvCxnSpPr>
              <a:stCxn id="112" idx="1"/>
              <a:endCxn id="113" idx="2"/>
            </p:cNvCxnSpPr>
            <p:nvPr/>
          </p:nvCxnSpPr>
          <p:spPr>
            <a:xfrm rot="10800000">
              <a:off x="2627640" y="2437560"/>
              <a:ext cx="800640" cy="304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17416"/>
            <p:cNvCxnSpPr>
              <a:stCxn id="115" idx="1"/>
              <a:endCxn id="113" idx="2"/>
            </p:cNvCxnSpPr>
            <p:nvPr/>
          </p:nvCxnSpPr>
          <p:spPr>
            <a:xfrm rot="10800000">
              <a:off x="2627640" y="2437560"/>
              <a:ext cx="800640" cy="1905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17417"/>
            <p:cNvCxnSpPr>
              <a:stCxn id="117" idx="1"/>
              <a:endCxn id="113" idx="2"/>
            </p:cNvCxnSpPr>
            <p:nvPr/>
          </p:nvCxnSpPr>
          <p:spPr>
            <a:xfrm rot="10800000">
              <a:off x="2627640" y="2437560"/>
              <a:ext cx="800640" cy="762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17418"/>
            <p:cNvSpPr/>
            <p:nvPr/>
          </p:nvSpPr>
          <p:spPr>
            <a:xfrm>
              <a:off x="228600" y="1676520"/>
              <a:ext cx="4799880" cy="761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0400"/>
                  </a:solidFill>
                  <a:latin typeface="Arial"/>
                </a:rPr>
                <a:t>Причины агрессивного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0400"/>
                  </a:solidFill>
                  <a:latin typeface="Arial"/>
                </a:rPr>
                <a:t>повед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7419"/>
            <p:cNvSpPr/>
            <p:nvPr/>
          </p:nvSpPr>
          <p:spPr>
            <a:xfrm>
              <a:off x="3428640" y="2819160"/>
              <a:ext cx="4799880" cy="761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0400"/>
                  </a:solidFill>
                  <a:latin typeface="Arial"/>
                </a:rPr>
                <a:t>Нарушение эмоционально-волевой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0400"/>
                  </a:solidFill>
                  <a:latin typeface="Arial"/>
                </a:rPr>
                <a:t>сферы ребен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7420"/>
            <p:cNvSpPr/>
            <p:nvPr/>
          </p:nvSpPr>
          <p:spPr>
            <a:xfrm>
              <a:off x="3428640" y="3962160"/>
              <a:ext cx="4799880" cy="761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0400"/>
                  </a:solidFill>
                  <a:latin typeface="Arial"/>
                </a:rPr>
                <a:t>Неблагополучная семейная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0400"/>
                  </a:solidFill>
                  <a:latin typeface="Arial"/>
                </a:rPr>
                <a:t>обстанов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17421"/>
            <p:cNvSpPr/>
            <p:nvPr/>
          </p:nvSpPr>
          <p:spPr>
            <a:xfrm>
              <a:off x="3428640" y="5104800"/>
              <a:ext cx="4799880" cy="761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0400"/>
                  </a:solidFill>
                  <a:latin typeface="Arial"/>
                </a:rPr>
                <a:t>Психологический климат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0400"/>
                  </a:solidFill>
                  <a:latin typeface="Arial"/>
                </a:rPr>
                <a:t>в дошкольном учрежден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4764240"/>
            <a:ext cx="262728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343400" y="2743200"/>
            <a:ext cx="4800600" cy="3195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3627360" cy="38098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160" y="28191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воспитателей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Рисунок 1" descr="C:\Users\игорь\Desktop\для Жени\зеленый фон c бабочкой копия.jpg"/>
          <p:cNvPicPr/>
          <p:nvPr/>
        </p:nvPicPr>
        <p:blipFill>
          <a:blip r:embed="rId3"/>
          <a:stretch/>
        </p:blipFill>
        <p:spPr>
          <a:xfrm>
            <a:off x="0" y="0"/>
            <a:ext cx="9144000" cy="1432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рофилактика агрессии возможна - при участии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5943600"/>
            <a:ext cx="340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родител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267080" y="3443400"/>
            <a:ext cx="4876920" cy="34146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0400"/>
                </a:solidFill>
                <a:latin typeface="Arial Black"/>
              </a:rPr>
              <a:t>Обращение с детьми до вспышки агрессивности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86169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 большинстве случаев детей лучше оставить, чтобы они разобрались с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Сориентировать ребенка на другой тип повед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Отвлечь ребенка каким-т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нтересным для него занятие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зрослым сами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предотвратить возможную дра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Рисунок 1" descr="C:\Users\игорь\Desktop\для Жени\зеленый фон c бабочкой копия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064040" y="3683160"/>
            <a:ext cx="5079960" cy="31748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0400"/>
                </a:solidFill>
                <a:latin typeface="Arial Black"/>
              </a:rPr>
              <a:t>Обращение с детьми после агрессивного нападения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2895480"/>
            <a:ext cx="85406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Резкое слово драчуну и участливое отношение к жерт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Отослать агрессивного ребенка в тихий угол поосты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Твердо сказать: «Драться нельзя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Взрослые должны высказать свое отношение и постараться побыстрее прекратить неприятную ситуац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Отрицательное подкрепление (ребенка лишают любимых игрушек или привилег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Не отвечать агрессией на агресси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Рисунок 1" descr="C:\Users\игорь\Desktop\для Жени\зеленый фон c бабочкой копия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3833640"/>
            <a:ext cx="4572000" cy="30243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" descr="C:\Users\игорь\Desktop\для Жени\зеленый фон c бабочкой копия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43208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152280" y="1447920"/>
            <a:ext cx="8761680" cy="5336280"/>
            <a:chOff x="152280" y="1447920"/>
            <a:chExt cx="8761680" cy="5336280"/>
          </a:xfrm>
        </p:grpSpPr>
        <p:cxnSp>
          <p:nvCxnSpPr>
            <p:cNvPr id="136" name="_s26666"/>
            <p:cNvCxnSpPr>
              <a:stCxn id="137" idx="1"/>
              <a:endCxn id="138" idx="2"/>
            </p:cNvCxnSpPr>
            <p:nvPr/>
          </p:nvCxnSpPr>
          <p:spPr>
            <a:xfrm rot="10800000">
              <a:off x="2779920" y="2417400"/>
              <a:ext cx="876600" cy="3881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9" name="_s26665"/>
            <p:cNvCxnSpPr>
              <a:stCxn id="140" idx="1"/>
              <a:endCxn id="138" idx="2"/>
            </p:cNvCxnSpPr>
            <p:nvPr/>
          </p:nvCxnSpPr>
          <p:spPr>
            <a:xfrm rot="10800000">
              <a:off x="2779920" y="2417400"/>
              <a:ext cx="876600" cy="2426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1" name="_s26664"/>
            <p:cNvCxnSpPr>
              <a:stCxn id="142" idx="1"/>
              <a:endCxn id="138" idx="2"/>
            </p:cNvCxnSpPr>
            <p:nvPr/>
          </p:nvCxnSpPr>
          <p:spPr>
            <a:xfrm rot="10800000">
              <a:off x="2779920" y="2417400"/>
              <a:ext cx="876600" cy="970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8" name="_s26660"/>
            <p:cNvSpPr/>
            <p:nvPr/>
          </p:nvSpPr>
          <p:spPr>
            <a:xfrm>
              <a:off x="152280" y="1447920"/>
              <a:ext cx="5257080" cy="970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0400"/>
                  </a:solidFill>
                  <a:latin typeface="Arial"/>
                </a:rPr>
                <a:t>Условий направленных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0400"/>
                  </a:solidFill>
                  <a:latin typeface="Arial"/>
                </a:rPr>
                <a:t>на снижение агрессивност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26661"/>
            <p:cNvSpPr/>
            <p:nvPr/>
          </p:nvSpPr>
          <p:spPr>
            <a:xfrm>
              <a:off x="3656880" y="2903040"/>
              <a:ext cx="5257080" cy="970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40400"/>
                  </a:solidFill>
                  <a:latin typeface="Arial"/>
                </a:rPr>
                <a:t>психогимнастические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40400"/>
                  </a:solidFill>
                  <a:latin typeface="Arial"/>
                </a:rPr>
                <a:t>игры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26662"/>
            <p:cNvSpPr/>
            <p:nvPr/>
          </p:nvSpPr>
          <p:spPr>
            <a:xfrm>
              <a:off x="3656880" y="4358520"/>
              <a:ext cx="5257080" cy="970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40400"/>
                  </a:solidFill>
                  <a:latin typeface="Arial"/>
                </a:rPr>
                <a:t>развитие коммуникативных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40400"/>
                  </a:solidFill>
                  <a:latin typeface="Arial"/>
                </a:rPr>
                <a:t>умений</a:t>
              </a: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26663"/>
            <p:cNvSpPr/>
            <p:nvPr/>
          </p:nvSpPr>
          <p:spPr>
            <a:xfrm>
              <a:off x="3656880" y="5814000"/>
              <a:ext cx="5257080" cy="970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40400"/>
                  </a:solidFill>
                  <a:latin typeface="Arial"/>
                </a:rPr>
                <a:t>формирование адекватных –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40400"/>
                  </a:solidFill>
                  <a:latin typeface="Arial"/>
                </a:rPr>
                <a:t>дружелюбных форм поведения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" descr="C:\Users\игорь\Desktop\для Жени\зеленый фон c бабочкой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32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5556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36440" y="5562720"/>
            <a:ext cx="900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rko</cp:lastModifiedBy>
  <dcterms:modified xsi:type="dcterms:W3CDTF">2011-03-29T15:29:3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