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29E9-B952-457D-A276-667184941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BEDE-0E6D-4444-9671-B4EDC503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992D-812F-4E6F-9E62-AB1A4FF74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DE25-F799-4B72-AF4C-33E42723C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6BBB-2E6A-4992-9592-8C32ABA0E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BA0D-CE7D-4962-83F1-1ABE0AED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A789-6467-44CF-B5B0-4D4E581F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5D4F-5112-4055-A3F5-81308A81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C44A-E24A-46D3-81F8-D6AC6AF6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06BA-4BF8-43CA-8B4A-6297ABAD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BBF9-D36A-4E9C-A064-46AE7B2D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BFA2-2E41-416D-AC81-2FB22337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65098-0035-4875-83A8-0F5FD934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4ABF-617B-44B1-A95F-7E95933A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A695-FA65-449C-AE78-40C28BE4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6507-6F15-4C98-B3D1-192C80CEF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2D78-B31A-4FE7-B95B-EC511387C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F64A2-F6A5-4126-870A-B8D54E217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27B54-9A34-4967-9BB5-53D6AF6B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7D020-587D-4C3B-A097-1CA8F7DD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308B2-1391-408C-8154-C46A4F71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E464D-BAC0-4E56-B592-B8C6A3E6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BA19-A237-46A7-9B41-5029A962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1C2BB-6981-4745-9B2C-C6EC4B4F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B2BC2-DE79-4A21-89AC-4F48935D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905ED-9021-4BFE-BA61-725F8812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391A1-450C-4D74-9B8B-25D9CE8B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29D2D-7F35-4FAB-9E13-46939ED5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49DD2-3E48-491D-B840-C162E5623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76597-0A82-4B83-8B62-53DE3D982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8AA3E-9217-4BF0-A6F9-E38248B6C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B710F-3C0D-4239-B67F-18B1C227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A1B54-53C3-41A5-87E0-18769E8C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43F6-28BD-4552-A324-AA80DC60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3D782-613E-4007-A6EB-05DA7D28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DB409-A02A-4E26-A1DE-09ADAF9B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56617-9BE1-47F7-9A53-828684B8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3B3A3-4740-4F3E-8A30-9FDC859E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70156-0F6B-4837-95BB-68CF226A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9D47C-4C68-41A8-A9F0-F2DE04B2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2B5D6-8A30-4A61-91D2-D2BC63DB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50185-8C69-450C-9181-96BCC9AA5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9703F-B893-42A1-AA9A-00025324A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534A1-C99E-4147-B827-6B33EF896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6621-4215-408C-A273-2473837B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0F1C1-8671-4E70-A1F7-A06B7004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85BA2-9B52-414D-B8B1-7BD79F20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66723-EA7D-454A-A38F-6A666E01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D4B6A-1A8F-4FEA-BEDC-24B67AFD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95BC6-B85C-4435-91AA-420AE0E4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53678-A1EB-4E47-8E0C-1CCB03EE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2D99E-62C6-4125-BD82-DFAC4E8E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B1F03-A9AF-4FF6-A824-AE7D608A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BB25A-98D4-419F-A681-554F290A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7A02B-E311-4400-845D-077C8282B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D824-5018-48C4-AD8F-7576D815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5A770-532E-4DA6-8D87-9E0F5F1AB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DDE2-FB36-4AD0-93EA-4C3B508E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F3A5-9685-4083-B9E4-FD7E3845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5D5A-5BBF-4E5D-9F0A-5F110743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C717-4A44-4D92-81C7-52CDCB32B75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3C09-1373-44BA-AEB7-99067A2A6A8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4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4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5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6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6332-2300-41BA-A29D-A5B4705DFA1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0171-295A-4FF6-853B-B6BC047929F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71F5-356B-434B-8687-7203266B4C2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Прямоугольник 3" descr=""/>
          <p:cNvPicPr/>
          <p:nvPr/>
        </p:nvPicPr>
        <p:blipFill>
          <a:blip r:embed="rId1"/>
          <a:stretch/>
        </p:blipFill>
        <p:spPr>
          <a:xfrm>
            <a:off x="420840" y="1682640"/>
            <a:ext cx="8656560" cy="11034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D:\клипарты\осень\6d56531efc4c.png"/>
          <p:cNvPicPr/>
          <p:nvPr/>
        </p:nvPicPr>
        <p:blipFill>
          <a:blip r:embed="rId2"/>
          <a:stretch/>
        </p:blipFill>
        <p:spPr>
          <a:xfrm>
            <a:off x="214200" y="2786040"/>
            <a:ext cx="8715600" cy="43862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F:\сканир1\7.jpg"/>
          <p:cNvPicPr/>
          <p:nvPr/>
        </p:nvPicPr>
        <p:blipFill>
          <a:blip r:embed="rId1"/>
          <a:stretch/>
        </p:blipFill>
        <p:spPr>
          <a:xfrm>
            <a:off x="312840" y="357120"/>
            <a:ext cx="8331120" cy="60008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F:\сканир1\8.jpg"/>
          <p:cNvPicPr/>
          <p:nvPr/>
        </p:nvPicPr>
        <p:blipFill>
          <a:blip r:embed="rId1"/>
          <a:stretch/>
        </p:blipFill>
        <p:spPr>
          <a:xfrm>
            <a:off x="285840" y="500040"/>
            <a:ext cx="8237520" cy="58579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F:\сканир1\9.jpg"/>
          <p:cNvPicPr/>
          <p:nvPr/>
        </p:nvPicPr>
        <p:blipFill>
          <a:blip r:embed="rId1"/>
          <a:stretch/>
        </p:blipFill>
        <p:spPr>
          <a:xfrm>
            <a:off x="214200" y="419040"/>
            <a:ext cx="8358480" cy="59436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F:\сканир1\10.jpg"/>
          <p:cNvPicPr/>
          <p:nvPr/>
        </p:nvPicPr>
        <p:blipFill>
          <a:blip r:embed="rId1"/>
          <a:stretch/>
        </p:blipFill>
        <p:spPr>
          <a:xfrm>
            <a:off x="414360" y="357120"/>
            <a:ext cx="8337600" cy="59295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F:\сканир1\11.jpg"/>
          <p:cNvPicPr/>
          <p:nvPr/>
        </p:nvPicPr>
        <p:blipFill>
          <a:blip r:embed="rId1"/>
          <a:stretch/>
        </p:blipFill>
        <p:spPr>
          <a:xfrm>
            <a:off x="196920" y="642960"/>
            <a:ext cx="8439120" cy="60008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8:34:21Z</dcterms:created>
  <dc:creator>Helen</dc:creator>
  <dc:description/>
  <dc:language>en-US</dc:language>
  <cp:lastModifiedBy>3</cp:lastModifiedBy>
  <dcterms:modified xsi:type="dcterms:W3CDTF">2015-09-29T07:25:53Z</dcterms:modified>
  <cp:revision>2</cp:revision>
  <dc:subject/>
  <dc:title>Слайд 1</dc:title>
</cp:coreProperties>
</file>