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13986-94A8-4EE8-925A-88EEB961A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C1A18-99DE-4937-B442-EA2E8D428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40351-7066-49E0-813E-A91899278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B82A7-9F82-40F6-8C62-609BAF3D0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BFA5C-4183-4979-A5B3-6B34BBA90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80D8F-B8B4-443E-872E-7D1C4E8BF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DAAE5-31C1-4991-9E54-F7B4C9227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3B234-AA67-4F68-95C1-91095B33A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93C94-85EA-4A1D-BE4A-427D548DF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4941A-CBCC-4C67-8555-80C771E0A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2F834-71CC-4AF5-9AF6-CE01AC6BE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B25F1-8A57-49A0-84D0-659E0033F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4B876-9846-4390-AE40-C30EA254D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E4682-9818-46AF-AB01-E889C9E68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9DC68-74A4-491B-902B-13C6BA9DA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32D4C-3F35-4E82-B56A-41A085A8B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3472F-8EAC-4A98-A337-4C6B914A3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6FA73C-2F39-4CA1-819B-364EA5213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012282-122E-4A93-9950-5107A0136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287EFE-81CF-46CB-BD93-26C375E29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4D41AF-6E86-4EDC-AFF5-B5D531A6F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5434CD-5207-42E5-AB6A-60BAB8F6E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90047-0B31-4B1C-AF51-E59A682AA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DFC20A-EC0A-4060-82BB-858D1D5B2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33C02B-5F8C-4FEC-9897-4D4C67CB4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2DD401-9D17-444F-90F4-195265464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FFED07-BA4A-48C4-A818-97F167CF6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1C5567-DA0D-40A5-B5E2-C7CD588EB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9E436A-6453-4621-9D01-30F07A335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DB9375-C27B-43F9-8BE8-BF7BB595D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FECB05-E481-434C-BABB-4D71267DD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2DCD57-5EDF-4338-A282-8FB9D5F8D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0AB970-87A6-4EC1-A152-9D3E7095A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AB68C-6710-443E-BB84-E70B5943A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276C25-0669-4D6A-A66A-48E645624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D8B6E3-42C5-423A-9312-DC7A44E14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653780-8D24-4B0E-A2DD-512C779B9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8B154A-3510-416B-A2FF-27D48CF5A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B2996A-7A2B-46F7-9B02-8F977C18E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9E0616-A6CF-4E02-AF63-0C8651FFC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64566F-A337-4C4F-9AB6-035A7E3CB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76EADC-BA24-40A0-A5CF-F529EB19D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8A65C5-2DFF-4C9E-868C-7596BB70B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3A3575-F8DC-4288-9266-C5230C52A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1BF71-AC7D-4CB7-A2B7-4C6DB2315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88489A-FD5A-4799-80D2-E96186C19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BA1D81-368A-4C51-A2FD-7F4FFDE91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94F786-CB1F-4FA2-9B69-C7BF28A59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602339-D7F4-4253-876C-D93C97633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991556-FC3F-450E-A83C-5F437CBEA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82A544-73E1-47AD-A61A-69311CAC4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823D39-3198-4056-9F8A-CA8982E1A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DBBBE5-4745-4CD5-A653-62F2658DF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5440F6-DE1F-47E3-8B47-443A05A68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9B542C-6265-415B-A501-B195471EE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3C8E3-E7F0-4E38-AA7F-F204EB9B6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729ADE-0219-4161-A873-AE5938C8B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5A161-3465-440B-A18A-009505708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5D59F-955A-4421-A0A0-731A9A115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BB79C-FC03-4A65-9D85-673A0E162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1E4D3-0F90-4804-B4DD-D3416983D154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Скругленный прямоугольник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04442-EAC7-445C-80FA-977F527C1994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Скругленный прямоугольник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Скругленный прямоугольник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Text Box 4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Прямоугольник 14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15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16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8A05C-1D54-4156-8B7E-281C7F59EC22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Скругленный прямоугольник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3096C-E015-4965-B5DD-B6B887E6C27C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Прямоугольник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Прямоугольник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Прямоугольник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D4AED-765C-419A-A842-DC1152449DFD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Прямоугольник 3" descr=""/>
          <p:cNvPicPr/>
          <p:nvPr/>
        </p:nvPicPr>
        <p:blipFill>
          <a:blip r:embed="rId1"/>
          <a:stretch/>
        </p:blipFill>
        <p:spPr>
          <a:xfrm>
            <a:off x="420840" y="1682640"/>
            <a:ext cx="8656560" cy="110340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2" descr="D:\клипарты\осень\6d56531efc4c.png"/>
          <p:cNvPicPr/>
          <p:nvPr/>
        </p:nvPicPr>
        <p:blipFill>
          <a:blip r:embed="rId2"/>
          <a:stretch/>
        </p:blipFill>
        <p:spPr>
          <a:xfrm>
            <a:off x="214200" y="2786040"/>
            <a:ext cx="8715600" cy="4386240"/>
          </a:xfrm>
          <a:prstGeom prst="rect">
            <a:avLst/>
          </a:prstGeom>
          <a:ln w="0">
            <a:noFill/>
          </a:ln>
        </p:spPr>
      </p:pic>
    </p:spTree>
  </p:cSld>
  <p:transition>
    <p:cut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2" descr="F:\сканир1\7.jpg"/>
          <p:cNvPicPr/>
          <p:nvPr/>
        </p:nvPicPr>
        <p:blipFill>
          <a:blip r:embed="rId1"/>
          <a:stretch/>
        </p:blipFill>
        <p:spPr>
          <a:xfrm>
            <a:off x="312840" y="357120"/>
            <a:ext cx="8331120" cy="6000840"/>
          </a:xfrm>
          <a:prstGeom prst="rect">
            <a:avLst/>
          </a:prstGeom>
          <a:ln w="0">
            <a:noFill/>
          </a:ln>
        </p:spPr>
      </p:pic>
    </p:spTree>
  </p:cSld>
  <p:transition>
    <p:cut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2" descr="F:\сканир1\8.jpg"/>
          <p:cNvPicPr/>
          <p:nvPr/>
        </p:nvPicPr>
        <p:blipFill>
          <a:blip r:embed="rId1"/>
          <a:stretch/>
        </p:blipFill>
        <p:spPr>
          <a:xfrm>
            <a:off x="285840" y="500040"/>
            <a:ext cx="8237520" cy="5857920"/>
          </a:xfrm>
          <a:prstGeom prst="rect">
            <a:avLst/>
          </a:prstGeom>
          <a:ln w="0">
            <a:noFill/>
          </a:ln>
        </p:spPr>
      </p:pic>
    </p:spTree>
  </p:cSld>
  <p:transition>
    <p:cut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2" descr="F:\сканир1\9.jpg"/>
          <p:cNvPicPr/>
          <p:nvPr/>
        </p:nvPicPr>
        <p:blipFill>
          <a:blip r:embed="rId1"/>
          <a:stretch/>
        </p:blipFill>
        <p:spPr>
          <a:xfrm>
            <a:off x="214200" y="419040"/>
            <a:ext cx="8358480" cy="5943600"/>
          </a:xfrm>
          <a:prstGeom prst="rect">
            <a:avLst/>
          </a:prstGeom>
          <a:ln w="0">
            <a:noFill/>
          </a:ln>
        </p:spPr>
      </p:pic>
    </p:spTree>
  </p:cSld>
  <p:transition>
    <p:cut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2" descr="F:\сканир1\10.jpg"/>
          <p:cNvPicPr/>
          <p:nvPr/>
        </p:nvPicPr>
        <p:blipFill>
          <a:blip r:embed="rId1"/>
          <a:stretch/>
        </p:blipFill>
        <p:spPr>
          <a:xfrm>
            <a:off x="414360" y="357120"/>
            <a:ext cx="8337600" cy="5929560"/>
          </a:xfrm>
          <a:prstGeom prst="rect">
            <a:avLst/>
          </a:prstGeom>
          <a:ln w="0">
            <a:noFill/>
          </a:ln>
        </p:spPr>
      </p:pic>
    </p:spTree>
  </p:cSld>
  <p:transition>
    <p:cut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Picture 2" descr="F:\сканир1\11.jpg"/>
          <p:cNvPicPr/>
          <p:nvPr/>
        </p:nvPicPr>
        <p:blipFill>
          <a:blip r:embed="rId1"/>
          <a:stretch/>
        </p:blipFill>
        <p:spPr>
          <a:xfrm>
            <a:off x="196920" y="642960"/>
            <a:ext cx="8439120" cy="6000840"/>
          </a:xfrm>
          <a:prstGeom prst="rect">
            <a:avLst/>
          </a:prstGeom>
          <a:ln w="0">
            <a:noFill/>
          </a:ln>
        </p:spPr>
      </p:pic>
    </p:spTree>
  </p:cSld>
  <p:transition>
    <p:cut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0T08:34:21Z</dcterms:created>
  <dc:creator>Helen</dc:creator>
  <dc:description/>
  <dc:language>en-US</dc:language>
  <cp:lastModifiedBy>3</cp:lastModifiedBy>
  <dcterms:modified xsi:type="dcterms:W3CDTF">2015-09-29T07:25:53Z</dcterms:modified>
  <cp:revision>2</cp:revision>
  <dc:subject/>
  <dc:title>Слайд 1</dc:title>
</cp:coreProperties>
</file>