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AC5-3F14-457B-9F49-E81D3994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522-9518-4942-B36A-65A1B91F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6FE-AFC8-4EED-BB6B-328059AF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C72-EA72-4E52-A37D-E5C78540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563-2AEA-4144-B4A6-0635EF3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4BA-0249-4470-B62C-168944B8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5F1-F1DF-4424-AFE8-4EF21857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856-15F5-4AD6-8B56-46606BDB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CE5-4A6D-4499-9432-2E8C73DB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291-819C-4648-A1FF-2367842D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E91-5AE5-401E-89FE-457AABCA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D0C-897C-4E3F-9224-CB7567CD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9004-6053-4F6D-9D9F-9E0FFBFE8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426960" y="176040"/>
            <a:ext cx="8217000" cy="2292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im4-tub.yandex.net/i?id=37244793&amp;tov=4"/>
          <p:cNvPicPr/>
          <p:nvPr/>
        </p:nvPicPr>
        <p:blipFill>
          <a:blip r:embed="rId3"/>
          <a:stretch/>
        </p:blipFill>
        <p:spPr>
          <a:xfrm>
            <a:off x="2195640" y="2205000"/>
            <a:ext cx="416088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324000" y="5084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1420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5000760" y="3500280"/>
            <a:ext cx="3166920" cy="278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4"/>
          <a:stretch/>
        </p:blipFill>
        <p:spPr>
          <a:xfrm>
            <a:off x="4643280" y="0"/>
            <a:ext cx="3643560" cy="314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5"/>
          <a:stretch/>
        </p:blipFill>
        <p:spPr>
          <a:xfrm>
            <a:off x="642960" y="2948040"/>
            <a:ext cx="37148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жим дня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–одно из направлений сохранения здоровья ребе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500120"/>
            <a:ext cx="316224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6286680" y="1500120"/>
            <a:ext cx="2261880" cy="243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5072040" y="4071960"/>
            <a:ext cx="212904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>
            <a:off x="3286080" y="1643040"/>
            <a:ext cx="28004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6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кий физиолог Павлов не раз говорил, что ни что не облегчает работу нервных клеток головного мозга, как определённы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порядок жиз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Это и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жим 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Если ребёнок не доспал – у него нет внимания, на уроке он зевает, отвлекается. Поэтому должны быть отведены определённые часы для занятий, прогулок, сна и других различных д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Древние греки утверждали: </a:t>
            </a:r>
            <a:r>
              <a:rPr b="1" i="1" lang="ru-RU" sz="4400" spc="-1" strike="noStrike">
                <a:solidFill>
                  <a:srgbClr val="403152"/>
                </a:solidFill>
                <a:latin typeface="Calibri"/>
              </a:rPr>
              <a:t>«Хочешь быть здоровым – бегай. Хочешь быть красивым – бегай. Хочешь быть умным – бег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1928520"/>
            <a:ext cx="878688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Группы  здоровья: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группа здоровья I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дети здоровые, с нормальным развитием и нормальным уровнем функций 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группа здоровья I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дети здоровые, но с факторами риска по возникновению патологии, функциональными и некоторыми морфологическими отклонениями, хроническими заболеваниями в стадии стойкой клинико-лабораторной ремиссии не менее 3–5 лет, врожденными пороками развития, не осложненными заболеваниями одноименного органа или нарушением его функции, а также со сниженной сопротивляемостью к острым хроническим заболеваниям; 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группа здоровья III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дети с хроническими заболеваниями и врожденными пороками развития разной степени активности и компенсации, с сохраненными функциональными возможностя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Физические упраж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Прямая со стрелкой 3"/>
          <p:cNvCxnSpPr/>
          <p:nvPr/>
        </p:nvCxnSpPr>
        <p:spPr>
          <a:xfrm flipH="1">
            <a:off x="1713960" y="1714680"/>
            <a:ext cx="929160" cy="16437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"/>
          <p:cNvCxnSpPr/>
          <p:nvPr/>
        </p:nvCxnSpPr>
        <p:spPr>
          <a:xfrm flipH="1">
            <a:off x="4500360" y="1571400"/>
            <a:ext cx="2160" cy="17866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"/>
          <p:cNvCxnSpPr/>
          <p:nvPr/>
        </p:nvCxnSpPr>
        <p:spPr>
          <a:xfrm>
            <a:off x="6213960" y="1714320"/>
            <a:ext cx="1072440" cy="1500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Заголовок 1"/>
          <p:cNvSpPr/>
          <p:nvPr/>
        </p:nvSpPr>
        <p:spPr>
          <a:xfrm>
            <a:off x="3357720" y="3786120"/>
            <a:ext cx="25002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витие и улучшение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285840" y="3714840"/>
            <a:ext cx="25002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витие и улучшение физиче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6429240" y="3571920"/>
            <a:ext cx="25005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развитие и улучшение умственных способ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Palatino Linotype"/>
              </a:rPr>
              <a:t>Любовь, понимание и одобрение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так же нужны маленькому человечку для здоровья, как кальций, йод, солнечный свет и возду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434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В здоровом теле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4000680" y="28584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доровый д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0" y="3214800"/>
            <a:ext cx="35434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олен – леч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142920" y="371484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доровье дор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214200" y="421488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Лук с чесноком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285840" y="478620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елень на стол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285840" y="542916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Через 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142920" y="6000840"/>
            <a:ext cx="5286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Никто не позаботится о т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                      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лучш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285840" y="264312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доровье в порядк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1"/>
          <p:cNvSpPr/>
          <p:nvPr/>
        </p:nvSpPr>
        <p:spPr>
          <a:xfrm>
            <a:off x="285840" y="2071800"/>
            <a:ext cx="354312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елу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Заголовок 1"/>
          <p:cNvSpPr/>
          <p:nvPr/>
        </p:nvSpPr>
        <p:spPr>
          <a:xfrm>
            <a:off x="357120" y="150012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ыстрого и лов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357120" y="85716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то любит спор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143240" y="78588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1428840"/>
            <a:ext cx="4143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олезнь не догон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4429080" y="200016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отехе –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4643280" y="250020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пасибо за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4500720" y="3071880"/>
            <a:ext cx="354312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а здоров  берег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4786200" y="357192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бога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4786200" y="4071960"/>
            <a:ext cx="3543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одные бра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оловок 1"/>
          <p:cNvSpPr/>
          <p:nvPr/>
        </p:nvSpPr>
        <p:spPr>
          <a:xfrm>
            <a:off x="4500720" y="4714920"/>
            <a:ext cx="39718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доровье на сто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3857760" y="5357880"/>
            <a:ext cx="44002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то болезней вход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5715000" y="5929200"/>
            <a:ext cx="29718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чем ты с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4714920" y="9302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доров и бо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571680" y="1450800"/>
            <a:ext cx="800244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 – это крас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Здоровье – это богатство, которое не продается и не покуп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  <a:ea typeface="Times New Roman"/>
              </a:rPr>
              <a:t>Здоровье – мы и при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  <a:ea typeface="Times New Roman"/>
              </a:rPr>
              <a:t>Здоровье – когда мы бегаем, прыгаем, и у нас все получ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Здоровье – это то, что нужно бере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  <a:ea typeface="Times New Roman"/>
              </a:rPr>
              <a:t>Здоровье – это сила и у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  <a:ea typeface="Times New Roman"/>
              </a:rPr>
              <a:t>Здоровье – самое большое богат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Здоровье нужно всем: и детям, и взрослым, и даже моему к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  <a:ea typeface="Times New Roman"/>
              </a:rPr>
              <a:t>Здоровье – это счастье, это когда здоровы наши близкие люди, когда у нас дружная семья, и мы с радостью бежим домой, где нас всегда жд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00080" y="6429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Bookman Old Style"/>
              </a:rPr>
              <a:t>Что такое здоровь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Palatino Linotype"/>
              </a:rPr>
              <a:t>Счастье</a:t>
            </a:r>
            <a:r>
              <a:rPr b="1" i="1" lang="en-US" sz="4400" spc="-1" strike="noStrike">
                <a:solidFill>
                  <a:srgbClr val="000000"/>
                </a:solidFill>
                <a:latin typeface="Palatino Linotype"/>
              </a:rPr>
              <a:t> – </a:t>
            </a:r>
            <a:r>
              <a:rPr b="1" i="1" lang="en-US" sz="4400" spc="-1" strike="noStrike">
                <a:solidFill>
                  <a:srgbClr val="0000ff"/>
                </a:solidFill>
                <a:latin typeface="Palatino Linotype"/>
              </a:rPr>
              <a:t>как здоровье: когда его не замечаешь, значит, оно есть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И. Тургене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857160" y="3071880"/>
            <a:ext cx="207180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4714920" y="3929040"/>
            <a:ext cx="17143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6"/>
          <p:cNvSpPr/>
          <p:nvPr/>
        </p:nvSpPr>
        <p:spPr>
          <a:xfrm>
            <a:off x="357120" y="500040"/>
            <a:ext cx="7572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Семья с существующими в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ней взаимоотношениями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между детьми и родителями –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первая школа интеллектуального,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нравственного, эстетического и</a:t>
            </a:r>
            <a:br>
              <a:rPr sz="2800"/>
            </a:br>
            <a:r>
              <a:rPr b="1" i="1" lang="en-US" sz="2800" spc="-1" strike="noStrike">
                <a:solidFill>
                  <a:srgbClr val="984807"/>
                </a:solidFill>
                <a:latin typeface="Bookman Old Style"/>
                <a:ea typeface="Calibri"/>
              </a:rPr>
              <a:t>физического здоров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84807"/>
                </a:solidFill>
                <a:latin typeface="Bookman Old Style"/>
                <a:ea typeface="Calibri"/>
              </a:rPr>
              <a:t>В.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571680" y="3500280"/>
            <a:ext cx="42382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7168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татистика по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Диаграмма 3" descr=""/>
          <p:cNvPicPr/>
          <p:nvPr/>
        </p:nvPicPr>
        <p:blipFill>
          <a:blip r:embed="rId2"/>
          <a:stretch/>
        </p:blipFill>
        <p:spPr>
          <a:xfrm>
            <a:off x="714240" y="1397160"/>
            <a:ext cx="792972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00040" y="946440"/>
            <a:ext cx="77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Calibri"/>
                <a:ea typeface="Times New Roman"/>
              </a:rPr>
              <a:t>     </a:t>
            </a:r>
            <a:r>
              <a:rPr b="0" lang="en-US" sz="1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«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Здоровье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(по определению всемирной организации здравоохранения) – это состояние полного физического, психического и социального благополучия, а не просто отсутствие болезней или физических дефектов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571680" y="50004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ое питание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тами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-конечная звезда 2"/>
          <p:cNvSpPr/>
          <p:nvPr/>
        </p:nvSpPr>
        <p:spPr>
          <a:xfrm>
            <a:off x="214200" y="642960"/>
            <a:ext cx="571680" cy="642960"/>
          </a:xfrm>
          <a:custGeom>
            <a:avLst/>
            <a:gdLst>
              <a:gd name="textAreaLeft" fmla="*/ 235440 w 571680"/>
              <a:gd name="textAreaRight" fmla="*/ 336240 w 5716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-конечная звезда 3"/>
          <p:cNvSpPr/>
          <p:nvPr/>
        </p:nvSpPr>
        <p:spPr>
          <a:xfrm>
            <a:off x="357120" y="2071800"/>
            <a:ext cx="571680" cy="642960"/>
          </a:xfrm>
          <a:custGeom>
            <a:avLst/>
            <a:gdLst>
              <a:gd name="textAreaLeft" fmla="*/ 235440 w 571680"/>
              <a:gd name="textAreaRight" fmla="*/ 336240 w 5716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-конечная звезда 4"/>
          <p:cNvSpPr/>
          <p:nvPr/>
        </p:nvSpPr>
        <p:spPr>
          <a:xfrm>
            <a:off x="500040" y="5786280"/>
            <a:ext cx="571680" cy="642960"/>
          </a:xfrm>
          <a:custGeom>
            <a:avLst/>
            <a:gdLst>
              <a:gd name="textAreaLeft" fmla="*/ 235440 w 571680"/>
              <a:gd name="textAreaRight" fmla="*/ 336240 w 5716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-конечная звезда 6"/>
          <p:cNvSpPr/>
          <p:nvPr/>
        </p:nvSpPr>
        <p:spPr>
          <a:xfrm>
            <a:off x="357120" y="3929040"/>
            <a:ext cx="571680" cy="642960"/>
          </a:xfrm>
          <a:custGeom>
            <a:avLst/>
            <a:gdLst>
              <a:gd name="textAreaLeft" fmla="*/ 235440 w 571680"/>
              <a:gd name="textAreaRight" fmla="*/ 336240 w 5716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1143000" y="2071800"/>
            <a:ext cx="65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гиена и режим 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000080" y="3714840"/>
            <a:ext cx="64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здоровье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1071720" y="5072040"/>
            <a:ext cx="742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сихоэмоциональ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600" y="1285920"/>
            <a:ext cx="1785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24%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85840" y="2999880"/>
            <a:ext cx="85723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альчики потребляют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 55,5%  калорий больш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ем дев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57168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960г                      2010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285840" y="4857840"/>
            <a:ext cx="8572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 20%мальчиков констатируется излишек веса по сравнению с нор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943360" cy="207144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6000840" y="1357200"/>
            <a:ext cx="1571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90%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КАРНИТ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щество, которое обеспечивает доставку “топлива” в энергетические системы кле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нитин содержится в мясе говядины, телятины;много его в мол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Если подросток ест достаточно мяса, рост своего сердца он может и не заметить – будет в меру бодр и энергич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Витам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143000" y="200016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571680" y="121428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Слово «витамин» придумал американский учёный Казимир Функ. Он открыл, что вещество («амин»), содержащееся в оболочке рисового зерна, необходимо для жизни. Соединив латинское слово вита (жизнь) с «амин», получилось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«витамин». Детям младшего школьного возраста надо съедать в день 500- 600 грамм овощей и фр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071720" y="3929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at"/>
          <p:cNvPicPr/>
          <p:nvPr/>
        </p:nvPicPr>
        <p:blipFill>
          <a:blip r:embed="rId2"/>
          <a:stretch/>
        </p:blipFill>
        <p:spPr>
          <a:xfrm>
            <a:off x="214200" y="3357720"/>
            <a:ext cx="1571760" cy="142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img-d8c3a"/>
          <p:cNvPicPr/>
          <p:nvPr/>
        </p:nvPicPr>
        <p:blipFill>
          <a:blip r:embed="rId3"/>
          <a:stretch/>
        </p:blipFill>
        <p:spPr>
          <a:xfrm>
            <a:off x="1714680" y="5000760"/>
            <a:ext cx="1500120" cy="1428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Изображение 001"/>
          <p:cNvPicPr/>
          <p:nvPr/>
        </p:nvPicPr>
        <p:blipFill>
          <a:blip r:embed="rId4"/>
          <a:srcRect l="0" t="0" r="-8022" b="0"/>
          <a:stretch/>
        </p:blipFill>
        <p:spPr>
          <a:xfrm>
            <a:off x="3214800" y="3286080"/>
            <a:ext cx="1928880" cy="15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svekla"/>
          <p:cNvPicPr/>
          <p:nvPr/>
        </p:nvPicPr>
        <p:blipFill>
          <a:blip r:embed="rId5"/>
          <a:stretch/>
        </p:blipFill>
        <p:spPr>
          <a:xfrm>
            <a:off x="5286240" y="4929120"/>
            <a:ext cx="1871640" cy="155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Изображение 004"/>
          <p:cNvPicPr/>
          <p:nvPr/>
        </p:nvPicPr>
        <p:blipFill>
          <a:blip r:embed="rId6"/>
          <a:stretch/>
        </p:blipFill>
        <p:spPr>
          <a:xfrm>
            <a:off x="7143840" y="3214800"/>
            <a:ext cx="14954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05T09:11:57Z</dcterms:modified>
  <cp:revision>87</cp:revision>
  <dc:subject/>
  <dc:title>Слайд 1</dc:title>
</cp:coreProperties>
</file>