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1F1-1966-4065-AF18-7E4831E2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E95-7B73-40A6-9CE8-E5FB373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544-9508-4928-A2E8-DD01E751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C40-69B2-4212-8261-9F8AC899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3EC-04B1-4776-A5ED-E577311C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14AF-165F-40BB-B49D-36F628B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6172-975E-4EF4-A5D1-CE46462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765D-E3F0-4D0A-8A72-9FBCCAF2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FBF-FDBA-4726-99FA-3A12752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1FF-B4DE-4C30-AA0D-DFFB487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033D-FF34-48D6-86B3-050043D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AE4-3A7F-4061-894C-1D31243E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5296-07F6-4BDE-9BFD-6D35025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787-D185-4068-A70C-AE1E16F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AA89-5000-4A1B-A032-5669E20C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8EB-580C-4EE0-97C6-68801CBA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D81-23C0-4AD0-8C09-6E560BC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C946-2B0C-40FF-B657-69BB5D76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4024-C31E-4A55-8D06-C9B1C6D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A339-C156-4295-B2A7-B25D024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50BB-1DBE-4FF0-8623-4F16BB4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C432-B461-477E-9989-3DCA3531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386-C180-4BA9-9FB1-CE23DD5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AAAE-2AAD-47D8-AEDE-7639C462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B162-0DA5-410D-8199-3D95B9B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FF7E-CE7E-48DA-BE9B-58352B0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F9F0-6F8F-45A7-B90D-780B771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36940-4674-4702-9750-20EC8AB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39E8-C6D7-4C87-AF41-E6AF02FD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FF9E-FAFB-4DBD-B097-DD9E5FD8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2E7D-004C-4831-B769-DF4D0B2D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FBE6-D011-4A30-990A-D05FD22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91733-69D8-4F53-A7CF-7E5B84A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481-87D5-4BEB-9E9A-9D80C0C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67E1-F6C6-4F06-84B8-6235B0F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3E59-7E03-4ED1-BFDD-8F4EF0C4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E175-60A1-4B8F-BAE5-ADB4D1B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C3D9-7746-4E4F-BA1F-3DE9DF1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FEA0-3206-4EE2-8EBF-324FFBE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6A1C-6E58-47D6-8716-FBA4C12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BC8A-7E11-4C64-8420-12E17B8A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9568-8946-41ED-B8DD-2752ED1F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3DD4-4523-4321-B66E-9B85E8B8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C270-F1F8-454C-90FB-50FEFCF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6B6-5EEE-4DD0-945A-589DE99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95BC-C4C6-49CF-8F12-3AFFF9A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F9FE-F2F6-4A26-B94B-6BCD88C9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9CB9-C5EB-47BE-9D40-2E847FCF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42A0-A9D2-4DD9-A56A-34058F2F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DFEB-95A3-4FD9-A09B-6F68AC2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C8BE-A89C-4C1A-9F2F-0975316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04C0-37AD-44F1-815C-C4A144B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4869-C0E3-4113-B8DB-433EC3D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F235-660D-49C9-8F38-C754EFC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1C9F-F1D8-4F37-95BA-1AC310CB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68B-CAC4-410F-9BCE-E8B5F55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AF96-39D7-44DC-BFCC-51D8DC56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A96-5644-4E0A-A548-0E40CEA1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1D1-20F2-41FA-BF1C-A584C5D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854-976F-4396-A480-97DDABF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408-523F-401E-8BFA-56023091A4C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9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7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574-673A-46D0-8ABD-D78C95CE069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4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EE6-F11A-4BAD-AFF2-ED733806746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9D4-A5CB-44ED-AC96-F3C495ED5F1F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3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0A9-126F-4C0B-ADD9-38B647DF829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9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603360" y="-30240"/>
            <a:ext cx="8265960" cy="2151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451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29"/>
          <p:cNvSpPr/>
          <p:nvPr/>
        </p:nvSpPr>
        <p:spPr>
          <a:xfrm>
            <a:off x="395280" y="1197000"/>
            <a:ext cx="8093160" cy="71172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Сформулируйте правила сложения и вычитания дробей с одинаковыми знаменателя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131"/>
          <p:cNvSpPr/>
          <p:nvPr/>
        </p:nvSpPr>
        <p:spPr>
          <a:xfrm>
            <a:off x="539640" y="2997360"/>
            <a:ext cx="7828200" cy="101556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28440">
            <a:solidFill>
              <a:srgbClr val="f9f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Чтобы сложить дроби с одинаковыми знаменателями, надо сложить их числител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а знаменатель оставить без изме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132"/>
          <p:cNvSpPr/>
          <p:nvPr/>
        </p:nvSpPr>
        <p:spPr>
          <a:xfrm>
            <a:off x="468360" y="4653000"/>
            <a:ext cx="7881840" cy="132012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28440">
            <a:solidFill>
              <a:srgbClr val="f9f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Чтобы выполнить вычитание дроб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с одинаковыми знаменателями, надо из числителя уменьшаемого вычесть числитель вычитаемог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а знаменатель оставить без изме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34"/>
          <p:cNvSpPr/>
          <p:nvPr/>
        </p:nvSpPr>
        <p:spPr>
          <a:xfrm>
            <a:off x="0" y="0"/>
            <a:ext cx="9144000" cy="878040"/>
          </a:xfrm>
          <a:prstGeom prst="rect">
            <a:avLst/>
          </a:prstGeom>
          <a:solidFill>
            <a:srgbClr val="422e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WordArt 135"/>
          <p:cNvSpPr txBox="1"/>
          <p:nvPr/>
        </p:nvSpPr>
        <p:spPr>
          <a:xfrm>
            <a:off x="271440" y="169920"/>
            <a:ext cx="84866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8f8f8"/>
                </a:solidFill>
                <a:latin typeface="Arial"/>
              </a:rPr>
              <a:t>Сложение и вычитание обыкновенных дробе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8f8f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1" descr="фон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pic>
        <p:nvPicPr>
          <p:cNvPr id="278" name="WordArt 12" descr=""/>
          <p:cNvPicPr/>
          <p:nvPr/>
        </p:nvPicPr>
        <p:blipFill>
          <a:blip r:embed="rId2"/>
          <a:stretch/>
        </p:blipFill>
        <p:spPr>
          <a:xfrm>
            <a:off x="536400" y="828720"/>
            <a:ext cx="782640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255600" y="225360"/>
            <a:ext cx="7450200" cy="1243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0200"/>
            <a:ext cx="28195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полни действ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800360" cy="3938760"/>
          </a:xfrm>
          <a:prstGeom prst="rect">
            <a:avLst/>
          </a:prstGeom>
          <a:ln w="0">
            <a:noFill/>
          </a:ln>
        </p:spPr>
      </p:pic>
      <p:sp>
        <p:nvSpPr>
          <p:cNvPr id="282" name="Содержимое 2"/>
          <p:cNvSpPr/>
          <p:nvPr/>
        </p:nvSpPr>
        <p:spPr>
          <a:xfrm>
            <a:off x="3132000" y="1628640"/>
            <a:ext cx="28180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рав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132000" y="2565360"/>
            <a:ext cx="1295640" cy="36720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ая соединительная линия 7"/>
          <p:cNvSpPr/>
          <p:nvPr/>
        </p:nvSpPr>
        <p:spPr>
          <a:xfrm>
            <a:off x="5003640" y="1484280"/>
            <a:ext cx="0" cy="47530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Прямая соединительная линия 8"/>
          <p:cNvSpPr/>
          <p:nvPr/>
        </p:nvSpPr>
        <p:spPr>
          <a:xfrm>
            <a:off x="2987640" y="1484280"/>
            <a:ext cx="0" cy="47530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5219640" y="1628640"/>
            <a:ext cx="2819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пиш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5 мин= * ча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 дня = * неде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847 кг = * 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3"/>
          <p:cNvSpPr txBox="1"/>
          <p:nvPr/>
        </p:nvSpPr>
        <p:spPr>
          <a:xfrm>
            <a:off x="684360" y="189000"/>
            <a:ext cx="75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олните таблицу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413000"/>
          <a:ext cx="7056360" cy="5072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360"/>
                <a:gridCol w="1008000"/>
                <a:gridCol w="1008000"/>
                <a:gridCol w="1008000"/>
              </a:tblGrid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9" name="Group 54"/>
          <p:cNvGrpSpPr/>
          <p:nvPr/>
        </p:nvGrpSpPr>
        <p:grpSpPr>
          <a:xfrm>
            <a:off x="1332000" y="4005360"/>
            <a:ext cx="1356840" cy="1016280"/>
            <a:chOff x="1332000" y="4005360"/>
            <a:chExt cx="1356840" cy="1016280"/>
          </a:xfrm>
        </p:grpSpPr>
        <p:sp>
          <p:nvSpPr>
            <p:cNvPr id="290" name="Text Box 55"/>
            <p:cNvSpPr/>
            <p:nvPr/>
          </p:nvSpPr>
          <p:spPr>
            <a:xfrm>
              <a:off x="151128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Text Box 56"/>
            <p:cNvSpPr/>
            <p:nvPr/>
          </p:nvSpPr>
          <p:spPr>
            <a:xfrm>
              <a:off x="1332000" y="456192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57"/>
            <p:cNvSpPr/>
            <p:nvPr/>
          </p:nvSpPr>
          <p:spPr>
            <a:xfrm>
              <a:off x="1692360" y="456192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3" name="Group 58"/>
          <p:cNvGrpSpPr/>
          <p:nvPr/>
        </p:nvGrpSpPr>
        <p:grpSpPr>
          <a:xfrm>
            <a:off x="1332000" y="5300640"/>
            <a:ext cx="1356840" cy="1016280"/>
            <a:chOff x="1332000" y="5300640"/>
            <a:chExt cx="1356840" cy="1016280"/>
          </a:xfrm>
        </p:grpSpPr>
        <p:sp>
          <p:nvSpPr>
            <p:cNvPr id="294" name="Text Box 59"/>
            <p:cNvSpPr/>
            <p:nvPr/>
          </p:nvSpPr>
          <p:spPr>
            <a:xfrm>
              <a:off x="151128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Text Box 60"/>
            <p:cNvSpPr/>
            <p:nvPr/>
          </p:nvSpPr>
          <p:spPr>
            <a:xfrm>
              <a:off x="1332000" y="5857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Line 61"/>
            <p:cNvSpPr/>
            <p:nvPr/>
          </p:nvSpPr>
          <p:spPr>
            <a:xfrm>
              <a:off x="1692360" y="5857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7" name="Group 62"/>
          <p:cNvGrpSpPr/>
          <p:nvPr/>
        </p:nvGrpSpPr>
        <p:grpSpPr>
          <a:xfrm>
            <a:off x="2340000" y="1628640"/>
            <a:ext cx="1356840" cy="1016280"/>
            <a:chOff x="2340000" y="1628640"/>
            <a:chExt cx="1356840" cy="1016280"/>
          </a:xfrm>
        </p:grpSpPr>
        <p:sp>
          <p:nvSpPr>
            <p:cNvPr id="298" name="Text Box 63"/>
            <p:cNvSpPr/>
            <p:nvPr/>
          </p:nvSpPr>
          <p:spPr>
            <a:xfrm>
              <a:off x="2519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Text Box 64"/>
            <p:cNvSpPr/>
            <p:nvPr/>
          </p:nvSpPr>
          <p:spPr>
            <a:xfrm>
              <a:off x="2340000" y="2185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>
              <a:off x="2700360" y="2185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" name="Group 66"/>
          <p:cNvGrpSpPr/>
          <p:nvPr/>
        </p:nvGrpSpPr>
        <p:grpSpPr>
          <a:xfrm>
            <a:off x="2411280" y="4005360"/>
            <a:ext cx="1357200" cy="1016280"/>
            <a:chOff x="2411280" y="4005360"/>
            <a:chExt cx="1357200" cy="1016280"/>
          </a:xfrm>
        </p:grpSpPr>
        <p:sp>
          <p:nvSpPr>
            <p:cNvPr id="302" name="Text Box 67"/>
            <p:cNvSpPr/>
            <p:nvPr/>
          </p:nvSpPr>
          <p:spPr>
            <a:xfrm>
              <a:off x="259056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Text Box 68"/>
            <p:cNvSpPr/>
            <p:nvPr/>
          </p:nvSpPr>
          <p:spPr>
            <a:xfrm>
              <a:off x="2411280" y="45619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Line 69"/>
            <p:cNvSpPr/>
            <p:nvPr/>
          </p:nvSpPr>
          <p:spPr>
            <a:xfrm>
              <a:off x="2772000" y="456192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Group 70"/>
          <p:cNvGrpSpPr/>
          <p:nvPr/>
        </p:nvGrpSpPr>
        <p:grpSpPr>
          <a:xfrm>
            <a:off x="4427640" y="4149720"/>
            <a:ext cx="1356840" cy="1016280"/>
            <a:chOff x="4427640" y="4149720"/>
            <a:chExt cx="1356840" cy="1016280"/>
          </a:xfrm>
        </p:grpSpPr>
        <p:sp>
          <p:nvSpPr>
            <p:cNvPr id="306" name="Text Box 71"/>
            <p:cNvSpPr/>
            <p:nvPr/>
          </p:nvSpPr>
          <p:spPr>
            <a:xfrm>
              <a:off x="4606920" y="4149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Text Box 72"/>
            <p:cNvSpPr/>
            <p:nvPr/>
          </p:nvSpPr>
          <p:spPr>
            <a:xfrm>
              <a:off x="4427640" y="4706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73"/>
            <p:cNvSpPr/>
            <p:nvPr/>
          </p:nvSpPr>
          <p:spPr>
            <a:xfrm>
              <a:off x="4788000" y="4706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78"/>
          <p:cNvGrpSpPr/>
          <p:nvPr/>
        </p:nvGrpSpPr>
        <p:grpSpPr>
          <a:xfrm>
            <a:off x="5364000" y="4076640"/>
            <a:ext cx="1357200" cy="1016280"/>
            <a:chOff x="5364000" y="4076640"/>
            <a:chExt cx="1357200" cy="1016280"/>
          </a:xfrm>
        </p:grpSpPr>
        <p:sp>
          <p:nvSpPr>
            <p:cNvPr id="310" name="Text Box 79"/>
            <p:cNvSpPr/>
            <p:nvPr/>
          </p:nvSpPr>
          <p:spPr>
            <a:xfrm>
              <a:off x="5543280" y="4076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Text Box 80"/>
            <p:cNvSpPr/>
            <p:nvPr/>
          </p:nvSpPr>
          <p:spPr>
            <a:xfrm>
              <a:off x="5364000" y="4633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81"/>
            <p:cNvSpPr/>
            <p:nvPr/>
          </p:nvSpPr>
          <p:spPr>
            <a:xfrm>
              <a:off x="5724720" y="4633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Text Box 82"/>
          <p:cNvSpPr/>
          <p:nvPr/>
        </p:nvSpPr>
        <p:spPr>
          <a:xfrm>
            <a:off x="3708360" y="299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4" name="Group 83"/>
          <p:cNvGrpSpPr/>
          <p:nvPr/>
        </p:nvGrpSpPr>
        <p:grpSpPr>
          <a:xfrm>
            <a:off x="3348000" y="5373720"/>
            <a:ext cx="1356840" cy="1016280"/>
            <a:chOff x="3348000" y="5373720"/>
            <a:chExt cx="1356840" cy="1016280"/>
          </a:xfrm>
        </p:grpSpPr>
        <p:sp>
          <p:nvSpPr>
            <p:cNvPr id="315" name="Text Box 84"/>
            <p:cNvSpPr/>
            <p:nvPr/>
          </p:nvSpPr>
          <p:spPr>
            <a:xfrm>
              <a:off x="3527280" y="5373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Text Box 85"/>
            <p:cNvSpPr/>
            <p:nvPr/>
          </p:nvSpPr>
          <p:spPr>
            <a:xfrm>
              <a:off x="3348000" y="5930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86"/>
            <p:cNvSpPr/>
            <p:nvPr/>
          </p:nvSpPr>
          <p:spPr>
            <a:xfrm>
              <a:off x="3708360" y="5930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8" name="Group 87"/>
          <p:cNvGrpSpPr/>
          <p:nvPr/>
        </p:nvGrpSpPr>
        <p:grpSpPr>
          <a:xfrm>
            <a:off x="5364000" y="1628640"/>
            <a:ext cx="1357200" cy="1016280"/>
            <a:chOff x="5364000" y="1628640"/>
            <a:chExt cx="1357200" cy="1016280"/>
          </a:xfrm>
        </p:grpSpPr>
        <p:sp>
          <p:nvSpPr>
            <p:cNvPr id="319" name="Text Box 88"/>
            <p:cNvSpPr/>
            <p:nvPr/>
          </p:nvSpPr>
          <p:spPr>
            <a:xfrm>
              <a:off x="5543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Text Box 89"/>
            <p:cNvSpPr/>
            <p:nvPr/>
          </p:nvSpPr>
          <p:spPr>
            <a:xfrm>
              <a:off x="5364000" y="2185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90"/>
            <p:cNvSpPr/>
            <p:nvPr/>
          </p:nvSpPr>
          <p:spPr>
            <a:xfrm>
              <a:off x="5724720" y="2185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" name="Group 91"/>
          <p:cNvGrpSpPr/>
          <p:nvPr/>
        </p:nvGrpSpPr>
        <p:grpSpPr>
          <a:xfrm>
            <a:off x="6300720" y="2852640"/>
            <a:ext cx="1357200" cy="1016280"/>
            <a:chOff x="6300720" y="2852640"/>
            <a:chExt cx="1357200" cy="1016280"/>
          </a:xfrm>
        </p:grpSpPr>
        <p:sp>
          <p:nvSpPr>
            <p:cNvPr id="323" name="Text Box 92"/>
            <p:cNvSpPr/>
            <p:nvPr/>
          </p:nvSpPr>
          <p:spPr>
            <a:xfrm>
              <a:off x="6480000" y="2852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Text Box 93"/>
            <p:cNvSpPr/>
            <p:nvPr/>
          </p:nvSpPr>
          <p:spPr>
            <a:xfrm>
              <a:off x="6300720" y="3409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94"/>
            <p:cNvSpPr/>
            <p:nvPr/>
          </p:nvSpPr>
          <p:spPr>
            <a:xfrm>
              <a:off x="6661440" y="3409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Group 95"/>
          <p:cNvGrpSpPr/>
          <p:nvPr/>
        </p:nvGrpSpPr>
        <p:grpSpPr>
          <a:xfrm>
            <a:off x="6300720" y="5300640"/>
            <a:ext cx="1357200" cy="1016280"/>
            <a:chOff x="6300720" y="5300640"/>
            <a:chExt cx="1357200" cy="1016280"/>
          </a:xfrm>
        </p:grpSpPr>
        <p:sp>
          <p:nvSpPr>
            <p:cNvPr id="327" name="Text Box 96"/>
            <p:cNvSpPr/>
            <p:nvPr/>
          </p:nvSpPr>
          <p:spPr>
            <a:xfrm>
              <a:off x="648000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Text Box 97"/>
            <p:cNvSpPr/>
            <p:nvPr/>
          </p:nvSpPr>
          <p:spPr>
            <a:xfrm>
              <a:off x="6300720" y="5857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98"/>
            <p:cNvSpPr/>
            <p:nvPr/>
          </p:nvSpPr>
          <p:spPr>
            <a:xfrm>
              <a:off x="6661440" y="5857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" name="Text Box 99"/>
          <p:cNvSpPr/>
          <p:nvPr/>
        </p:nvSpPr>
        <p:spPr>
          <a:xfrm>
            <a:off x="4716360" y="551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8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по учебник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39640" y="30686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58 № 1014, 10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971640" y="2997360"/>
            <a:ext cx="396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56 № 1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60 № 1032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WordArt 8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2571840" y="165240"/>
            <a:ext cx="6121440" cy="1242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610920" y="1268280"/>
            <a:ext cx="777708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rebuchet MS"/>
              </a:rPr>
              <a:t>Как складывают дроби с одинаковыми знаменателям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rebuchet MS"/>
              </a:rPr>
              <a:t>Как вычитают  дроби с одинаковыми знаменателям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1646280" y="1036800"/>
            <a:ext cx="5608440" cy="1236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116000" y="242100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Comic Sans MS"/>
              </a:rPr>
              <a:t>п.26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Comic Sans MS"/>
              </a:rPr>
              <a:t>Стр. 161 № 1040, №1043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Екатерина</dc:creator>
  <dc:description/>
  <dc:language>en-US</dc:language>
  <cp:lastModifiedBy>Екатерина</cp:lastModifiedBy>
  <dcterms:modified xsi:type="dcterms:W3CDTF">2017-02-05T15:07:28Z</dcterms:modified>
  <cp:revision>131</cp:revision>
  <dc:subject/>
  <dc:title>Слайд 1</dc:title>
</cp:coreProperties>
</file>