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728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DC6BDA6-1948-4F0E-AA12-A64C86531E95}" type="datetime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0.07.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унова Г.А., учитель МБОУ "СОШ №13 с УИОП", г.Губкин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22AA5F9-5D62-4107-ACFB-2EFAAE2442B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0" y="9441000"/>
            <a:ext cx="2954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унова Г.А., учитель МБОУ "СОШ №13 с УИОП", г.Губкин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7320"/>
                <a:tab algn="l" pos="199080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5B81BEC-EFC7-4F4B-BCFF-E063DDCA1AB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0D4-BF9E-4A6C-89D5-459C3759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3E5-41F1-48BE-AAED-046FD5D3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7BC-D65E-40AD-9ADC-1FA34D4B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93C-86CC-4706-B6BC-B60756BA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810-01DB-44FF-99C9-4406633A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578-F46A-4B79-9DD9-D8E719ED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2E3-D8F3-43B7-BBE3-592B8E5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BD8-110B-4D68-BB1F-CEBC960C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B90-3EA7-47B6-9AFB-A754944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AB0-A429-4D0E-B395-94D4072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06E-094F-4C2D-8868-CD98D9E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ED4-53BF-4279-B03C-D190F8C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9128D8D-05C0-4F70-BD93-32BA6A5CEDF0}" type="datetime">
              <a:rPr b="0" lang="ru-RU" sz="15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унова Г.А., учитель МОУ "СОШ №13 с УИОП", г.Губк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C811F63-D7DF-4E06-B36A-C05EB2140B8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FC180D6-7D98-4D74-BD8C-6D3A3323CA31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832360" y="0"/>
            <a:ext cx="4248360" cy="39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ложение и вычитание смешанных чис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273766D-7DC8-4B2D-95FC-E2F19587CB9C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5"/>
          <p:cNvGrpSpPr/>
          <p:nvPr/>
        </p:nvGrpSpPr>
        <p:grpSpPr>
          <a:xfrm>
            <a:off x="1944720" y="611280"/>
            <a:ext cx="7559640" cy="4932360"/>
            <a:chOff x="1944720" y="611280"/>
            <a:chExt cx="7559640" cy="4932360"/>
          </a:xfrm>
        </p:grpSpPr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1944720" y="611280"/>
              <a:ext cx="7559640" cy="49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Прямая соединительная линия 4"/>
            <p:cNvSpPr/>
            <p:nvPr/>
          </p:nvSpPr>
          <p:spPr>
            <a:xfrm>
              <a:off x="6799320" y="4785120"/>
              <a:ext cx="1782720" cy="0"/>
            </a:xfrm>
            <a:prstGeom prst="line">
              <a:avLst/>
            </a:prstGeom>
            <a:ln w="381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620587C-0AF3-459F-9052-ACA2513F8EE6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player.myshared.ru/5/477338/slides/slide_11.jpg"/>
          <p:cNvPicPr/>
          <p:nvPr/>
        </p:nvPicPr>
        <p:blipFill>
          <a:blip r:embed="rId1"/>
          <a:srcRect l="8661" t="12068" r="6291" b="27039"/>
          <a:stretch/>
        </p:blipFill>
        <p:spPr>
          <a:xfrm>
            <a:off x="0" y="0"/>
            <a:ext cx="9853560" cy="485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074080" y="5003640"/>
            <a:ext cx="1989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BDAA122-2D11-433F-A1C5-C251A0A204A1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39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34FAAE4-AA42-4BCB-8B25-6CC5230F1748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9980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0" y="0"/>
            <a:ext cx="5472000" cy="22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887640" y="2195640"/>
            <a:ext cx="1368720" cy="1655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456000" y="3924360"/>
            <a:ext cx="1944720" cy="1655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095640" y="5651640"/>
            <a:ext cx="1368360" cy="1657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8136000" y="2843280"/>
            <a:ext cx="1368360" cy="1657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DA35DC8-AC5C-4943-B0B6-BD0269AAF7D0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735280" y="1619280"/>
            <a:ext cx="158436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032360" y="2843280"/>
            <a:ext cx="1368360" cy="1341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3"/>
          <a:stretch/>
        </p:blipFill>
        <p:spPr>
          <a:xfrm>
            <a:off x="3816360" y="5219640"/>
            <a:ext cx="1144440" cy="1111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4"/>
          <a:stretch/>
        </p:blipFill>
        <p:spPr>
          <a:xfrm>
            <a:off x="8856720" y="327492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"/>
          <p:cNvPicPr/>
          <p:nvPr/>
        </p:nvPicPr>
        <p:blipFill>
          <a:blip r:embed="rId5"/>
          <a:stretch/>
        </p:blipFill>
        <p:spPr>
          <a:xfrm>
            <a:off x="7848720" y="5219640"/>
            <a:ext cx="120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3809C20-0C12-40F9-A488-C08B79DA2023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Box 2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632800" cy="1311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76360" y="1908000"/>
            <a:ext cx="856764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5 № 1117,11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5 № 1115, № 1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B97D3EC-8682-4302-B6F3-8372F21513F8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2" descr=""/>
          <p:cNvPicPr/>
          <p:nvPr/>
        </p:nvPicPr>
        <p:blipFill>
          <a:blip r:embed="rId1"/>
          <a:stretch/>
        </p:blipFill>
        <p:spPr>
          <a:xfrm>
            <a:off x="566640" y="165240"/>
            <a:ext cx="8077320" cy="1309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76360" y="1908000"/>
            <a:ext cx="8567640" cy="39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. 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8 № 1138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9 № 1143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(а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11:11Z</dcterms:created>
  <dc:creator>Екатерина</dc:creator>
  <dc:description/>
  <dc:language>en-US</dc:language>
  <cp:lastModifiedBy>Екатерина</cp:lastModifiedBy>
  <dcterms:modified xsi:type="dcterms:W3CDTF">2017-02-05T15:06:33Z</dcterms:modified>
  <cp:revision>104</cp:revision>
  <dc:subject/>
  <dc:title>Слайд 1</dc:title>
</cp:coreProperties>
</file>