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728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CEA0365-3A23-4C48-BC71-95147D45AE68}" type="datetime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унова Г.А., учитель МБОУ "СОШ №13 с УИОП", г.Губкин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F6125F2-9F56-4AF1-ADC3-73C02141E48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0" y="9441000"/>
            <a:ext cx="2954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663480"/>
                <a:tab algn="l" pos="1327320"/>
                <a:tab algn="l" pos="199224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унова Г.А., учитель МБОУ "СОШ №13 с УИОП", г.Губкин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855960" y="944100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7320"/>
                <a:tab algn="l" pos="1990800"/>
                <a:tab algn="l" pos="265572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0054F9D-F914-41D5-8D2B-810BDFF8711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20880" y="7556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307-9489-48E0-939A-BD359618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74C-97CA-4BCF-9319-0CDE892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ED6-314B-497F-9DE7-64B34B2E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D17-B35A-43A3-9267-7B49F357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262-1D75-442B-AA16-7DAAE59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209-2F9B-45FA-AC36-E99E61CE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5F1-6CC3-4D44-8789-EEC5BF3B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83F-CB86-48D5-8CDB-873C2A4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994-CBCB-4F20-8686-4F8975E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B07-C96F-4926-B672-9E7A3E3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48C-B9BC-4186-BCE4-1621E3C3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653-6857-467E-B5AF-B826FFC3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305AF77-580C-416F-A0CC-D917572DAC4F}" type="datetime">
              <a:rPr b="0" lang="ru-RU" sz="15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унова Г.А., учитель МОУ "СОШ №13 с УИОП", г.Губк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A52B995-9A86-47CD-91C0-E4F4EA36B470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91428B5-6D80-4D4C-A641-45F0D723956E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832360" y="0"/>
            <a:ext cx="4248360" cy="39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ложение и вычитание смешанных чис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34B25C9-5535-4B5A-A90D-227EA87B8FF3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5"/>
          <p:cNvGrpSpPr/>
          <p:nvPr/>
        </p:nvGrpSpPr>
        <p:grpSpPr>
          <a:xfrm>
            <a:off x="1944720" y="611280"/>
            <a:ext cx="7559640" cy="4932360"/>
            <a:chOff x="1944720" y="611280"/>
            <a:chExt cx="7559640" cy="4932360"/>
          </a:xfrm>
        </p:grpSpPr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1944720" y="611280"/>
              <a:ext cx="7559640" cy="49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Прямая соединительная линия 4"/>
            <p:cNvSpPr/>
            <p:nvPr/>
          </p:nvSpPr>
          <p:spPr>
            <a:xfrm>
              <a:off x="6799320" y="4785120"/>
              <a:ext cx="1782720" cy="0"/>
            </a:xfrm>
            <a:prstGeom prst="line">
              <a:avLst/>
            </a:prstGeom>
            <a:ln w="381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748A319-88F3-41F5-A42D-A207C9720606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player.myshared.ru/5/477338/slides/slide_11.jpg"/>
          <p:cNvPicPr/>
          <p:nvPr/>
        </p:nvPicPr>
        <p:blipFill>
          <a:blip r:embed="rId1"/>
          <a:srcRect l="8661" t="12068" r="6291" b="27039"/>
          <a:stretch/>
        </p:blipFill>
        <p:spPr>
          <a:xfrm>
            <a:off x="0" y="0"/>
            <a:ext cx="9853560" cy="485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074080" y="5003640"/>
            <a:ext cx="1989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4320194-23BB-4F9C-B9ED-75F58E9F3D8F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39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6DBF443-8CC3-4867-B5FF-F235195FDB15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9980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0" y="0"/>
            <a:ext cx="5472000" cy="22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887640" y="2195640"/>
            <a:ext cx="1368720" cy="1655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456000" y="3924360"/>
            <a:ext cx="1944720" cy="1655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095640" y="5651640"/>
            <a:ext cx="1368360" cy="1657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8136000" y="2843280"/>
            <a:ext cx="1368360" cy="1657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67374C4-6150-42E0-9C72-0AB3918419F6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735280" y="1619280"/>
            <a:ext cx="158436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032360" y="2843280"/>
            <a:ext cx="1368360" cy="1341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3"/>
          <a:stretch/>
        </p:blipFill>
        <p:spPr>
          <a:xfrm>
            <a:off x="3816360" y="5219640"/>
            <a:ext cx="1144440" cy="1111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4"/>
          <a:stretch/>
        </p:blipFill>
        <p:spPr>
          <a:xfrm>
            <a:off x="8856720" y="327492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"/>
          <p:cNvPicPr/>
          <p:nvPr/>
        </p:nvPicPr>
        <p:blipFill>
          <a:blip r:embed="rId5"/>
          <a:stretch/>
        </p:blipFill>
        <p:spPr>
          <a:xfrm>
            <a:off x="7848720" y="5219640"/>
            <a:ext cx="12096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1C2CEB3-42E1-4134-8AE6-F82258ABFED9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Box 2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632800" cy="1311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76360" y="1908000"/>
            <a:ext cx="856764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5 № 1117,11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5 № 1115, № 1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1"/>
          <p:cNvSpPr/>
          <p:nvPr/>
        </p:nvSpPr>
        <p:spPr>
          <a:xfrm>
            <a:off x="7224840" y="6885000"/>
            <a:ext cx="2352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C235F38-7EE7-4170-99B9-1EEC3A313B7D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2" descr=""/>
          <p:cNvPicPr/>
          <p:nvPr/>
        </p:nvPicPr>
        <p:blipFill>
          <a:blip r:embed="rId1"/>
          <a:stretch/>
        </p:blipFill>
        <p:spPr>
          <a:xfrm>
            <a:off x="566640" y="165240"/>
            <a:ext cx="8077320" cy="1309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76360" y="1908000"/>
            <a:ext cx="8567640" cy="39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. 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8 № 1138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р. 179 № 1143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(а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11:11Z</dcterms:created>
  <dc:creator>Екатерина</dc:creator>
  <dc:description/>
  <dc:language>en-US</dc:language>
  <cp:lastModifiedBy>Екатерина</cp:lastModifiedBy>
  <dcterms:modified xsi:type="dcterms:W3CDTF">2017-02-05T15:06:33Z</dcterms:modified>
  <cp:revision>104</cp:revision>
  <dc:subject/>
  <dc:title>Слайд 1</dc:title>
</cp:coreProperties>
</file>