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E78-B0C8-4314-930C-B86763AF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878-76EE-4A8E-8086-3264827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3BE-2A88-40D5-9892-A0BC387B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275-A6F3-409F-B45F-B6844B60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54F8-72BF-4540-A3B4-4098BA47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2F3B-90F1-46A6-A795-F12EC46D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5F33-DFB1-4682-8C84-70B1E0AD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9DD7-FA88-41EE-813F-DD8DD4CF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A6B7-34AD-4A0F-811A-7F3C3EE2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ED8A-0632-42E3-9B2B-E19BB942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F179-E907-405F-A1D5-52EE7B3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10E-E297-469A-83B8-D964E874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B68E-8D8E-4D70-8435-337BA27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721B-0C02-4657-9444-43F9E89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EB12-3211-4724-A56A-1B42B06E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D620-A0CE-4620-A24A-F7D3C2DB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D771-0979-42CC-88D4-356F0CE1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EAC0-5FF0-4A73-A720-ACF6160E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28F3-5CB5-4042-A816-8C003304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8884-475B-4B07-A2B3-956363BB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4223-78A5-4C79-8ECD-C6B8D84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5473-1E42-47B6-A9D7-EC353C87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F31-4B14-4316-B39D-CE0E579D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6BD8-15EA-494F-B0F4-E3DE8227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015B-097F-4255-957A-F068A95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EF07-B71B-45BF-A0B6-47690FB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24D1-6017-400D-9272-3F5EA8AF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A81F-72DF-43DA-A16F-C96C8B2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135D-95F2-40A6-9160-4F328E7B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5B55-107A-4193-8B23-6EF47A9B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06DA2-BA44-4AEA-89C1-2E3A2D49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1008A-2204-4DBB-87A2-5A211D43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A301-8CCF-47DA-98F2-32B64CA1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45F-820D-463A-90B3-419E4405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97A2C-C38D-4E79-9E3C-DF9F8BE5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A421-6293-47C6-BD9F-419E2B67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D997-2492-4EFE-A213-BADBFD89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5F552-3016-4FE5-B967-C9AA10DA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398A-65DD-4329-831C-FA5FD37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1050-D8CF-4258-A633-27DE897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FE09-1EA6-4293-B9BF-9C2B03AD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A625-A9C6-4E05-B84C-91CA5D74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0CCD9-D2F5-4A86-88CC-E63E65A7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976-1F63-4326-A449-D0B7B429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108-6E11-465C-BD69-73524638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0B5-673F-454B-A53F-42377748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E5E-2839-4240-BF13-4D2B4CC6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1BD-B937-403E-B084-556613C2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c09f"/>
            </a:gs>
            <a:gs pos="100000">
              <a:srgbClr val="586646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82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9CC6-AD2E-4813-8EDE-39C1264BE42C}" type="slidenum">
              <a:rPr b="0" lang="ru-RU" sz="2800" spc="-1" strike="noStrike">
                <a:solidFill>
                  <a:srgbClr val="3138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c09f"/>
            </a:gs>
            <a:gs pos="100000">
              <a:srgbClr val="586646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82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7AA3-98AA-4263-AEEE-A28D919450EB}" type="slidenum">
              <a:rPr b="0" lang="ru-RU" sz="2800" spc="-1" strike="noStrike">
                <a:solidFill>
                  <a:srgbClr val="3138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c09f"/>
            </a:gs>
            <a:gs pos="100000">
              <a:srgbClr val="586646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82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1873-04C5-488D-A1C7-DB83BE2B868C}" type="slidenum">
              <a:rPr b="0" lang="ru-RU" sz="2800" spc="-1" strike="noStrike">
                <a:solidFill>
                  <a:srgbClr val="3138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c09f"/>
            </a:gs>
            <a:gs pos="100000">
              <a:srgbClr val="586646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82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7EA1-76E8-4E68-8CF3-1B829908E229}" type="slidenum">
              <a:rPr b="0" lang="ru-RU" sz="2800" spc="-1" strike="noStrike">
                <a:solidFill>
                  <a:srgbClr val="3138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ОВРЕМЕННЫЙ УРОК В СООТВЕТСТВИИ С ТРЕБОВАНИЯМИ ФГО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9" descr="MM900223770[1]"/>
          <p:cNvPicPr/>
          <p:nvPr/>
        </p:nvPicPr>
        <p:blipFill>
          <a:blip r:embed="rId1"/>
          <a:stretch/>
        </p:blipFill>
        <p:spPr>
          <a:xfrm>
            <a:off x="1403280" y="4292640"/>
            <a:ext cx="439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5"/>
          <p:cNvSpPr/>
          <p:nvPr/>
        </p:nvSpPr>
        <p:spPr>
          <a:xfrm>
            <a:off x="1559160" y="3348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иды заданий при формировании УУ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765000"/>
          <a:ext cx="8569080" cy="5372280"/>
        </p:xfrm>
        <a:graphic>
          <a:graphicData uri="http://schemas.openxmlformats.org/drawingml/2006/table">
            <a:tbl>
              <a:tblPr/>
              <a:tblGrid>
                <a:gridCol w="2592360"/>
                <a:gridCol w="5976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ниверсальных действий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зад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18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 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проектах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дведение итогов урока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ворческие задания, имеющие практическое   применение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амооценка событ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18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йти отличия»; «Поиск лишнего»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абиринты»;   «Цепочки»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ставления схем-опор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бота с разными видами таблиц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ставления и распознавание диаграмм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бота со словарями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тив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днамеренные ошибки»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информации в предложенных источниках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заимоконтроль;    диспут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«Ищу ошибку»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нтрольный опрос на определенную проблем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 задание партнеру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овая работа по составлению кроссвордов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дготовь рассказ на тему…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3"/>
          <p:cNvSpPr/>
          <p:nvPr/>
        </p:nvSpPr>
        <p:spPr>
          <a:xfrm>
            <a:off x="395280" y="260280"/>
            <a:ext cx="84978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учен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билизующий этап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я предложенные учителем задания частично поискового характера, определяет тему урок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ясь опорной схемой, формулирует цели урока, создаёт установку на их реализацию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изирует имеющиеся знания, применяя их в практической 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овладения новыми знаниям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ует задания к упражнения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 упражнения, комментируя и поясняя свои действ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ует новое правило на основе анализа предложенного учителем материа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флекси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инает ход урок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ует свою деятельность или деятельность товарищ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ует свои впечат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560" y="333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Требования к технике проведения урока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e5e08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к должен быть эмоциональным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зывать интерес к учению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ть потребность в знаниях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 и ритм урока должны быть                            оптимальными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я учителя и учащихся завершёнными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 полный контроль во взаимодействии учителя и учащихся на уроке; 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й такт.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920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РИТЕРИИ ЭФФЕКТИВНОСТИ УРО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000" y="1628640"/>
            <a:ext cx="8280360" cy="39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через открытие;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сознание учеником деятельности;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моделирование затруднений и поиск путей их решения;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ученик в коллективном поиске приходит к открытию; 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педагог управляет деятельностью учащегося.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25992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Рецепт приготовления хорошего урока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ьмите дюжину самых лучших эмоций. Тщательно отберите только те, которые лишены разочарования, злопамятности и злости. После того как вы отобрали 12 эмоций, разделите их на 5 или 6 уроков, которые вам приходится проводить каждый рабочий день. Добавьте в каждый урок по одной порции: мудрости, терпения, храбрости, работоспособности, оптимизма, преданности своему делу, вольнодумия и свободомыслия, доброты, отдыха и заботы о здоровье, доброго юмора, такта, веры в каждого ученика. Количество ингредиентов – на усмотрение готовящего. Для того чтобы придать остроты уроку, добавьте в него щепотку безрассудства. А теперь долейте любви к детям и взбейте всё энергичными движениями. Поставьте ваше блюдо на огонь детских сердец. Украсьте изюминками улыбок и веточками радости. Перед подачей сервируйте урок профессионализмом учителя. Следуйте чётко этому рецепту, и всё у вас получится! Приятного аппетита, уважаемые коллеги! Аппетита к учительскому труду и творчеству. 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268360" y="2205000"/>
            <a:ext cx="4464360" cy="43344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ситу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755640" y="1484280"/>
            <a:ext cx="7416720" cy="50328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но – деятельностный под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40000" y="836640"/>
            <a:ext cx="4537080" cy="43164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ременный у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55640" y="2852640"/>
            <a:ext cx="7201080" cy="93672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нообразные формы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50920" y="4005360"/>
            <a:ext cx="4896000" cy="86364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У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0" y="5157720"/>
            <a:ext cx="2843280" cy="64764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3059280" y="5229360"/>
            <a:ext cx="3384360" cy="57600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апредме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6588000" y="5229360"/>
            <a:ext cx="2556000" cy="57600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24"/>
          <p:cNvSpPr/>
          <p:nvPr/>
        </p:nvSpPr>
        <p:spPr>
          <a:xfrm flipH="1">
            <a:off x="4716000" y="551664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11280" y="691920"/>
            <a:ext cx="8215200" cy="51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Типы уроков </a:t>
            </a: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just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SzPct val="42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ия» нового знания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 algn="just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SzPct val="42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и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 algn="just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SzPct val="42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методологической направленности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 algn="just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SzPct val="42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го контроля.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39280" y="765000"/>
            <a:ext cx="8358120" cy="36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Структурные элементы урока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билизующий этап – включение учащихся в активную интеллектуальную деятельность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полагание – формулирование учащимися целей урока по схеме: вспомнить – узнать – научиться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мент осознания недостаточности имеющихся знаний.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ция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аимопроверка и взаимоконтроль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флексия – осознание учеником и воспроизведение в речи того, что нового он узнал и чему научился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250920" y="189000"/>
            <a:ext cx="864216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ученического целеполаг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учениками целей из предложенного учителем набора; классификация составленных детьми целей с последующей детализацией; обсуждение ученических целей на реалистичность, их достижимость; конструирование учениками целей с помощью заданных алгоритмов; формулирование целей на основе результатов рефлексии; соотношение индивидуальных и коллективных целей, целей ученика, учителя, школы; разработка ценностных норм и положений в шко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ученического планиро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ам предлагается спланировать свою образовательную деятельность на определенный период – урок, день, неделю, или – на тему, раздел, творческую работу. План может быть устный или письменный, простой или сложный, главное, чтобы он обозначал основные этапы и виды деятельности ученика по реализации его цели. В ходе работы план может меняться, дополняться или заменяться; ученик фиксирует изменения, выясняет их причины, а в конце работы осуществляет рефлексию планиро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395280" y="189000"/>
            <a:ext cx="8497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нормотворч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учениками норм индивидуальной и коллективной деятельности – эвристический процесс, который требует применения методологических методов: рефлексии деятельности, определения ее элементов, установление субъектов деятельности и их функциональных прав, задание организационных и тематических рамок, формулирование правил и законов. Примеры заданий, развивающих методологические, педагогические, рефлексивные способности в процессе нормотворчества. Составить инструкции: «Как решать задачу», «Как наблюдать явление»,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самоорганизации обу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абота с учебником, первоисточниками, приборами, реальными объектами; решение задач, выполнение упражнений; изготовление моделей, поделок; творческие исследования и др. Становятся значимыми также методы самоорганизации учащихся по осуществлению индивидуальных образовательных программ: методы разработки программ, их координации с другими программами (учителя, учеников), коррекции программ, методов оценки результатов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250920" y="2602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взаимообуч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еся в парах, группах или в коллективных занятиях с целым классом выполняют функции учителя, применяя доступный им набор педагогических метод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 реценз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критически взглянуть на образовательный продукт товарища, его устный ответ, на материал учебника, просмотренный видеофильм, проанализировать их содержание, выделить главные моменты – необходимые условия самоопределения учащихся. Введению метода рецензий в обучение предшествует подготовительная работа. Первые рецензии составляются с помощью специальных опорных схем. Оценки и суждения учеников поощряются, закрепляется положительное отношение к рецензиям. Рецензии учащихся оцениваются наравне с другими продуктами их творческой деятельности. Анализ ученических рецензий позволяет установить обратную связь с учениками, осуществить диагностику их знаний, скорректировать дальнейшее обуч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250920" y="115920"/>
            <a:ext cx="87138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радиционном обучении образовательный проект ученика оценивается по степени его приближения к заданному образцу, то есть более точно и полно воспроизводит ученик заданное содержание, тем выше оценки его образовательной деятельности. В личностно-ориентированном обучении образовательный продукт ученика оценивается по степени отличия от заданного, то есть чем большего научно- и культурно-значимого отличия от известного продукта удается добиться ученику, тем выше оценка продуктивности его образо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рефлек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м результатом обучения является только тот, который осознан учеником. Если же ученик не понимает, что он делал и чему научился, не может вразумительно сформулировать способы своей деятельности, возникающие проблемы, пути их решения и полученные результаты, то его образовательный результат находится в скрытом, неявном виде, что не позволяет использовать его в целях дальнейшего образования. Организация осознания учениками собственной деятельности имеет два основных вида: 1) текущая рефлексия, осуществляемая по ходу учебного процесса; 2) итоговая рефлексия, завершающая логически или тематически замкнутый период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24000" y="26028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самооце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оценка ученика вытекает из итоговой рефлексии и завершает образовательный цикл. Самооценка носит качественный и количественный характер: качественные параметры формулируются на основе ученической образовательной программы или задаются учителем; количественные – отражают полноту достижения учеником целей. Качественная и количественная самооценки деятельности ученика – его образовательный продукт, который сопоставляется с культурно-историческими аналогами в виде оценок учителя, одноклассников, независимых экспертов. 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Irenus</dc:creator>
  <dc:description/>
  <dc:language>en-US</dc:language>
  <cp:lastModifiedBy>user</cp:lastModifiedBy>
  <dcterms:modified xsi:type="dcterms:W3CDTF">2017-02-05T17:40:50Z</dcterms:modified>
  <cp:revision>36</cp:revision>
  <dc:subject/>
  <dc:title>Классная доска</dc:title>
</cp:coreProperties>
</file>