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FAE-C07B-478D-B0A7-809184AD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4AAD-1A95-48E3-9918-ACD85BE8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7D5-04C4-48B8-971E-D592020A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4248-86BD-4E25-AD4D-E4354945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1659-435D-49DB-88FD-825B557F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ED07-D0CD-4062-8F92-9575AC2A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1788-02BA-4969-8B73-52574B79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160A-F4DB-4506-8768-9A2AE317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8E1A-EE0F-4F7D-A1CD-AAA01FBB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DEB1-AE0F-4601-8DB2-2B872E45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1F5D-45F3-475F-896C-BCADD1FC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1572-0460-45ED-AFF2-0157DE5B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666B-9599-45BF-AD93-ED153C68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7136-7821-4BDB-99B0-6167B3D5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DF2F-2126-419C-AFEC-AFECE59F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6FAC-3219-4A13-A296-A05E4EAC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84EB-E8C4-480D-AF77-32EFEBC0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8590C-016E-432D-B21F-51FC49C0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2FE7E-DE13-4BFB-A427-28B71940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F58C0-846B-4118-8CD5-C1E3355E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82514-ACCC-4F91-9FA2-9805418B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B0016-3DF9-4E8E-9CF7-F7B0D1DF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5A55-6B87-47FC-94FC-6FA7F3BF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764D7-128A-4022-B02B-0E70CE44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92902-00A1-4EC9-8386-876E5E46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17713-5332-4FFA-B282-C17DDAEB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1ED32-3F35-4584-9793-F76735F5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DE67F-E573-4F6C-A227-4DB388B2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9D50E-1693-4B1A-AA1C-1D4000F2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B9487-B8A2-46DE-8483-7163215A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E083B-3EC1-43C2-AF76-6CB2F44B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7844F-B4B5-4517-8941-4054BC59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99F90-E381-482F-9473-FB67F741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EC29-C871-4A46-92C8-9FCB5115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3F347-9A09-434F-A542-9CE96C6E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27228-4B7A-4CA7-B648-0C185D8C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86F25-E27A-4729-9C73-CA821B31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6BEF3-8DD5-4F8C-A134-65700AFF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AF294-AA4C-4E99-ABB1-6135E2CB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D358E-DD5C-4367-8664-3D621A99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1DBFD-1015-430E-A28B-0F8E8D5F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471B7-95AE-4125-8D4D-816570B6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F0867-C4EE-42A2-BC14-F51FBE70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7AE2-59B1-418F-9EC1-2C5A6A29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B07E-62A6-41AB-A93F-E8139557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49F-D4AF-4BB2-B61D-B04C62C2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E5D0-DBA8-46EF-A628-2975E213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79B-F62F-4C20-989A-0335ED60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c09f"/>
            </a:gs>
            <a:gs pos="100000">
              <a:srgbClr val="586646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82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1382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31382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87FD-6642-4943-85AC-38CAD07BC404}" type="slidenum">
              <a:rPr b="0" lang="ru-RU" sz="2800" spc="-1" strike="noStrike">
                <a:solidFill>
                  <a:srgbClr val="31382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c09f"/>
            </a:gs>
            <a:gs pos="100000">
              <a:srgbClr val="586646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82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1382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31382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5D41-1113-4BBF-9C27-78FFC9BEF877}" type="slidenum">
              <a:rPr b="0" lang="ru-RU" sz="2800" spc="-1" strike="noStrike">
                <a:solidFill>
                  <a:srgbClr val="31382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c09f"/>
            </a:gs>
            <a:gs pos="100000">
              <a:srgbClr val="586646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82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1382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31382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0344-DFC3-48D2-9CBD-A73759515F01}" type="slidenum">
              <a:rPr b="0" lang="ru-RU" sz="2800" spc="-1" strike="noStrike">
                <a:solidFill>
                  <a:srgbClr val="31382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c09f"/>
            </a:gs>
            <a:gs pos="100000">
              <a:srgbClr val="586646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82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1382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31382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19B4-5FEE-4CEC-8DE1-CA4BBBB3AF18}" type="slidenum">
              <a:rPr b="0" lang="ru-RU" sz="2800" spc="-1" strike="noStrike">
                <a:solidFill>
                  <a:srgbClr val="31382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16999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СОВРЕМЕННЫЙ УРОК В СООТВЕТСТВИИ С ТРЕБОВАНИЯМИ ФГОС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3" name="Picture 9" descr="MM900223770[1]"/>
          <p:cNvPicPr/>
          <p:nvPr/>
        </p:nvPicPr>
        <p:blipFill>
          <a:blip r:embed="rId1"/>
          <a:stretch/>
        </p:blipFill>
        <p:spPr>
          <a:xfrm>
            <a:off x="1403280" y="4292640"/>
            <a:ext cx="4392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5"/>
          <p:cNvSpPr/>
          <p:nvPr/>
        </p:nvSpPr>
        <p:spPr>
          <a:xfrm>
            <a:off x="1559160" y="33480"/>
            <a:ext cx="65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иды заданий при формировании УУ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24000" y="765000"/>
          <a:ext cx="8569080" cy="5372280"/>
        </p:xfrm>
        <a:graphic>
          <a:graphicData uri="http://schemas.openxmlformats.org/drawingml/2006/table">
            <a:tbl>
              <a:tblPr/>
              <a:tblGrid>
                <a:gridCol w="2592360"/>
                <a:gridCol w="5976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88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универсальных действий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 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зада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18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остные 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проектах;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дведение итогов урока;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ворческие задания, имеющие практическое   применение;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амооценка событий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18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наватель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йти отличия»; «Поиск лишнего»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абиринты»;   «Цепочки»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оставления схем-опор;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бота с разными видами таблиц;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оставления и распознавание диаграмм;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бота со словарями 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улятив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еднамеренные ошибки»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иск информации в предложенных источниках;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заимоконтроль;    диспут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«Ищу ошибку»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нтрольный опрос на определенную проблем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тив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ь задание партнеру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овая работа по составлению кроссвордов;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дготовь рассказ на тему…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3"/>
          <p:cNvSpPr/>
          <p:nvPr/>
        </p:nvSpPr>
        <p:spPr>
          <a:xfrm>
            <a:off x="395280" y="260280"/>
            <a:ext cx="8497800" cy="60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еятельность учени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билизующий этап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яя предложенные учителем задания частично поискового характера, определяет тему урок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уясь опорной схемой, формулирует цели урока, создаёт установку на их реализацию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уализирует имеющиеся знания, применяя их в практической деятель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ап овладения новыми знаниями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улирует задания к упражнениям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яет упражнения, комментируя и поясняя свои действ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улирует новое правило на основе анализа предложенного учителем материал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флексия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поминает ход урок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ирует свою деятельность или деятельность товарищ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улирует свои впечатл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0560" y="33336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47293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Требования к технике проведения урока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47293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3e5e08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7293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рок должен быть эмоциональным;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7293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зывать интерес к учению;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7293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оспитывать потребность в знаниях;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7293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п и ритм урока должны быть                            оптимальными;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7293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ействия учителя и учащихся завершёнными;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7293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обходим полный контроль во взаимодействии учителя и учащихся на уроке; 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7293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ий такт.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7293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920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РИТЕРИИ ЭФФЕКТИВНОСТИ УРОК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000" y="1628640"/>
            <a:ext cx="8280360" cy="391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через открытие;</a:t>
            </a:r>
            <a:endParaRPr b="0" lang="en-US" sz="3100" spc="-1" strike="noStrike">
              <a:solidFill>
                <a:srgbClr val="3e5e08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осознание учеником деятельности;</a:t>
            </a:r>
            <a:endParaRPr b="0" lang="en-US" sz="3100" spc="-1" strike="noStrike">
              <a:solidFill>
                <a:srgbClr val="3e5e08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моделирование затруднений и поиск путей их решения;</a:t>
            </a:r>
            <a:endParaRPr b="0" lang="en-US" sz="3100" spc="-1" strike="noStrike">
              <a:solidFill>
                <a:srgbClr val="3e5e08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ученик в коллективном поиске приходит к открытию; </a:t>
            </a:r>
            <a:endParaRPr b="0" lang="en-US" sz="3100" spc="-1" strike="noStrike">
              <a:solidFill>
                <a:srgbClr val="3e5e08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педагог управляет деятельностью учащегося.</a:t>
            </a:r>
            <a:endParaRPr b="0" lang="en-US" sz="3100" spc="-1" strike="noStrike">
              <a:solidFill>
                <a:srgbClr val="3e5e08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e5e08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95280" y="259920"/>
            <a:ext cx="835344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Рецепт приготовления хорошего урока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2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озьмите дюжину самых лучших эмоций. Тщательно отберите только те, которые лишены разочарования, злопамятности и злости. После того как вы отобрали 12 эмоций, разделите их на 5 или 6 уроков, которые вам приходится проводить каждый рабочий день. Добавьте в каждый урок по одной порции: мудрости, терпения, храбрости, работоспособности, оптимизма, преданности своему делу, вольнодумия и свободомыслия, доброты, отдыха и заботы о здоровье, доброго юмора, такта, веры в каждого ученика. Количество ингредиентов – на усмотрение готовящего. Для того чтобы придать остроты уроку, добавьте в него щепотку безрассудства. А теперь долейте любви к детям и взбейте всё энергичными движениями. Поставьте ваше блюдо на огонь детских сердец. Украсьте изюминками улыбок и веточками радости. Перед подачей сервируйте урок профессионализмом учителя. Следуйте чётко этому рецепту, и всё у вас получится! Приятного аппетита, уважаемые коллеги! Аппетита к учительскому труду и творчеству. </a:t>
            </a:r>
            <a:endParaRPr b="0" lang="en-US" sz="22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2268360" y="2205000"/>
            <a:ext cx="4464360" cy="433440"/>
          </a:xfrm>
          <a:prstGeom prst="rect">
            <a:avLst/>
          </a:prstGeom>
          <a:solidFill>
            <a:srgbClr val="6f7b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бная ситу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755640" y="1484280"/>
            <a:ext cx="7416720" cy="503280"/>
          </a:xfrm>
          <a:prstGeom prst="rect">
            <a:avLst/>
          </a:prstGeom>
          <a:solidFill>
            <a:srgbClr val="6f7b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стемно – деятельностный подх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2340000" y="836640"/>
            <a:ext cx="4537080" cy="431640"/>
          </a:xfrm>
          <a:prstGeom prst="rect">
            <a:avLst/>
          </a:prstGeom>
          <a:solidFill>
            <a:srgbClr val="6f7b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ременный у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55640" y="2852640"/>
            <a:ext cx="7201080" cy="936720"/>
          </a:xfrm>
          <a:prstGeom prst="rect">
            <a:avLst/>
          </a:prstGeom>
          <a:solidFill>
            <a:srgbClr val="6f7b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нообразные формы рабо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2050920" y="4005360"/>
            <a:ext cx="4896000" cy="863640"/>
          </a:xfrm>
          <a:prstGeom prst="rect">
            <a:avLst/>
          </a:prstGeom>
          <a:solidFill>
            <a:srgbClr val="6f7b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ование УУ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0" y="5157720"/>
            <a:ext cx="2843280" cy="647640"/>
          </a:xfrm>
          <a:prstGeom prst="rect">
            <a:avLst/>
          </a:prstGeom>
          <a:solidFill>
            <a:srgbClr val="6f7b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чнос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3059280" y="5229360"/>
            <a:ext cx="3384360" cy="576000"/>
          </a:xfrm>
          <a:prstGeom prst="rect">
            <a:avLst/>
          </a:prstGeom>
          <a:solidFill>
            <a:srgbClr val="6f7b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апредме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6588000" y="5229360"/>
            <a:ext cx="2556000" cy="576000"/>
          </a:xfrm>
          <a:prstGeom prst="rect">
            <a:avLst/>
          </a:prstGeom>
          <a:solidFill>
            <a:srgbClr val="6f7b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дме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Line 24"/>
          <p:cNvSpPr/>
          <p:nvPr/>
        </p:nvSpPr>
        <p:spPr>
          <a:xfrm flipH="1">
            <a:off x="4716000" y="5516640"/>
            <a:ext cx="7164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11280" y="691920"/>
            <a:ext cx="8215200" cy="51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Типы уроков </a:t>
            </a:r>
            <a:endParaRPr b="0" lang="en-US" sz="2600" spc="-1" strike="noStrike">
              <a:solidFill>
                <a:srgbClr val="3e5e08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e5e08"/>
              </a:solidFill>
              <a:latin typeface="Century Gothic"/>
            </a:endParaRPr>
          </a:p>
          <a:p>
            <a:pPr algn="just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SzPct val="42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крытия» нового знания;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 algn="just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SzPct val="42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и;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 algn="just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SzPct val="42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методологической направленности;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 algn="just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SzPct val="42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его контроля.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e5e08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e5e08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e5e08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e5e08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e5e08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39280" y="765000"/>
            <a:ext cx="8358120" cy="36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Arial"/>
              </a:rPr>
              <a:t>Структурные элементы урока 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билизующий этап – включение учащихся в активную интеллектуальную деятельность. 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еполагание – формулирование учащимися целей урока по схеме: вспомнить – узнать – научиться. 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мент осознания недостаточности имеющихся знаний.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муникация. 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заимопроверка и взаимоконтроль. 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флексия – осознание учеником и воспроизведение в речи того, что нового он узнал и чему научился. 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3"/>
          <p:cNvSpPr/>
          <p:nvPr/>
        </p:nvSpPr>
        <p:spPr>
          <a:xfrm>
            <a:off x="250920" y="189000"/>
            <a:ext cx="8642160" cy="58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ы ученического целеполаг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ор учениками целей из предложенного учителем набора; классификация составленных детьми целей с последующей детализацией; обсуждение ученических целей на реалистичность, их достижимость; конструирование учениками целей с помощью заданных алгоритмов; формулирование целей на основе результатов рефлексии; соотношение индивидуальных и коллективных целей, целей ученика, учителя, школы; разработка ценностных норм и положений в школ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ы ученического планирова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ьникам предлагается спланировать свою образовательную деятельность на определенный период – урок, день, неделю, или – на тему, раздел, творческую работу. План может быть устный или письменный, простой или сложный, главное, чтобы он обозначал основные этапы и виды деятельности ученика по реализации его цели. В ходе работы план может меняться, дополняться или заменяться; ученик фиксирует изменения, выясняет их причины, а в конце работы осуществляет рефлексию планирова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3"/>
          <p:cNvSpPr/>
          <p:nvPr/>
        </p:nvSpPr>
        <p:spPr>
          <a:xfrm>
            <a:off x="395280" y="189000"/>
            <a:ext cx="8497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ы нормотворче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учениками норм индивидуальной и коллективной деятельности – эвристический процесс, который требует применения методологических методов: рефлексии деятельности, определения ее элементов, установление субъектов деятельности и их функциональных прав, задание организационных и тематических рамок, формулирование правил и законов. Примеры заданий, развивающих методологические, педагогические, рефлексивные способности в процессе нормотворчества. Составить инструкции: «Как решать задачу», «Как наблюдать явление», и д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ы самоорганизации обуч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работа с учебником, первоисточниками, приборами, реальными объектами; решение задач, выполнение упражнений; изготовление моделей, поделок; творческие исследования и др. Становятся значимыми также методы самоорганизации учащихся по осуществлению индивидуальных образовательных программ: методы разработки программ, их координации с другими программами (учителя, учеников), коррекции программ, методов оценки результатов и д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3"/>
          <p:cNvSpPr/>
          <p:nvPr/>
        </p:nvSpPr>
        <p:spPr>
          <a:xfrm>
            <a:off x="250920" y="260280"/>
            <a:ext cx="8569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ы взаимообуч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щиеся в парах, группах или в коллективных занятиях с целым классом выполняют функции учителя, применяя доступный им набор педагогических метод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 реценз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критически взглянуть на образовательный продукт товарища, его устный ответ, на материал учебника, просмотренный видеофильм, проанализировать их содержание, выделить главные моменты – необходимые условия самоопределения учащихся. Введению метода рецензий в обучение предшествует подготовительная работа. Первые рецензии составляются с помощью специальных опорных схем. Оценки и суждения учеников поощряются, закрепляется положительное отношение к рецензиям. Рецензии учащихся оцениваются наравне с другими продуктами их творческой деятельности. Анализ ученических рецензий позволяет установить обратную связь с учениками, осуществить диагностику их знаний, скорректировать дальнейшее обучен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3"/>
          <p:cNvSpPr/>
          <p:nvPr/>
        </p:nvSpPr>
        <p:spPr>
          <a:xfrm>
            <a:off x="250920" y="115920"/>
            <a:ext cx="87138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ы контро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радиционном обучении образовательный проект ученика оценивается по степени его приближения к заданному образцу, то есть более точно и полно воспроизводит ученик заданное содержание, тем выше оценки его образовательной деятельности. В личностно-ориентированном обучении образовательный продукт ученика оценивается по степени отличия от заданного, то есть чем большего научно- и культурно-значимого отличия от известного продукта удается добиться ученику, тем выше оценка продуктивности его образова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ы рефлекс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ым результатом обучения является только тот, который осознан учеником. Если же ученик не понимает, что он делал и чему научился, не может вразумительно сформулировать способы своей деятельности, возникающие проблемы, пути их решения и полученные результаты, то его образовательный результат находится в скрытом, неявном виде, что не позволяет использовать его в целях дальнейшего образования. Организация осознания учениками собственной деятельности имеет два основных вида: 1) текущая рефлексия, осуществляемая по ходу учебного процесса; 2) итоговая рефлексия, завершающая логически или тематически замкнутый период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3"/>
          <p:cNvSpPr/>
          <p:nvPr/>
        </p:nvSpPr>
        <p:spPr>
          <a:xfrm>
            <a:off x="324000" y="260280"/>
            <a:ext cx="8569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ы самооцен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оценка ученика вытекает из итоговой рефлексии и завершает образовательный цикл. Самооценка носит качественный и количественный характер: качественные параметры формулируются на основе ученической образовательной программы или задаются учителем; количественные – отражают полноту достижения учеником целей. Качественная и количественная самооценки деятельности ученика – его образовательный продукт, который сопоставляется с культурно-историческими аналогами в виде оценок учителя, одноклассников, независимых экспертов. 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08:05:38Z</dcterms:created>
  <dc:creator>Soul Reaver;Irenus</dc:creator>
  <dc:description/>
  <dc:language>en-US</dc:language>
  <cp:lastModifiedBy>user</cp:lastModifiedBy>
  <dcterms:modified xsi:type="dcterms:W3CDTF">2017-02-05T17:40:50Z</dcterms:modified>
  <cp:revision>36</cp:revision>
  <dc:subject/>
  <dc:title>Классная доска</dc:title>
</cp:coreProperties>
</file>