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B65-8D58-401E-ADD4-C7CAB1DC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E08-AE93-4398-8358-8DE227FE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2E2E-C04F-48B7-B032-67B616E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FCB9-CB0A-4FEC-86E7-6C43F13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1B6B-039D-4032-AF85-B2FB59E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0A3B7-9E76-4898-9435-6658C4B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69E34-DAC9-4DD2-91A5-A0343C5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04DF4-70D3-4F8D-955C-1AF465A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1FC1E-1FB9-44A7-92DE-289F32E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B3D4B-DE3C-4A8B-8CBD-B56362F1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36E3E-5161-4E4E-8A37-F3B37BFA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2D9-6F9F-4A71-8C22-F4DCB2D8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DB4-145E-4640-966F-3402321D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0862-FCA6-4DF3-9027-51348ADB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FA25-2D7F-4FF6-9CFB-AE9AB4F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F0C5-13C9-4DF3-A328-7AF895D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51D-7D13-42EF-814F-C03C907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FA00-B3FD-4BF2-81BB-F16CA85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40E-3CAA-4AE3-80E1-9605EA1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D536-1526-465A-96CA-8833552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60E-3D85-4E31-86EB-7D6FFBBC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FD13-6944-42B1-B849-22158E9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F655-587D-412E-970F-327BF99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C9FC-1E9C-4B0C-9C0D-81AFB51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7DE-8664-419B-982A-AC23DA1D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0517-7411-4C77-B9E6-2290361C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68F5-BA0C-44E2-9117-AA738D5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3170-B8BF-47C5-89C7-F51E17D9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A29B-F8EF-4891-A7E9-25F8909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D564-ADA9-4D44-B368-9D298C2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1D017-DD7E-4F5A-8E56-8687116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8B5-FF57-43B7-96DD-DD06986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84D4-89D7-4B92-998E-C01AB3A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AD9E-25A9-40D6-9DF8-57A664F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BD4F-A294-4B7B-94BD-6995409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2127-973A-451C-A9AD-CCA3DC0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1DFF-7FA6-4B39-9060-7E4F559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9ED6-3B97-40B7-B853-C2F47F0A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0A7B-F1AB-4B2C-9E5E-E836E001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A841-F9B6-4E1A-859D-8F4F4885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6FD8-9FAC-4756-9884-27C8E5C8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4859-FAB3-4CD3-8A12-5875552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775-0AC8-4BD6-B9EC-D50188A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C084-E2A9-47B8-AA81-34E32D47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CE0A-D170-4B7C-9628-0C2BC9D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070D-B8C3-4C42-9641-D86059DF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9E6E-1E1C-4BFA-91E1-723017A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5AAC-7DAD-4966-8C16-4862A62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531D-5191-405A-861C-FE0B6349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4047-4CAB-475B-A8CC-AA9CD4A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8D59-AF2B-4F36-84E6-D3B28373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E26E-8699-4926-B2A8-A59C9292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C9EA-8CA0-4379-AE6F-DABD9839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F5C-8804-4E34-A5E2-BCD415C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FA2A-9E2E-42CD-B90F-4C944E21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ABA1-EAF0-43F2-A281-D3DF6D1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7C158-48AD-4CA4-A0BF-25EF923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40A1E-30F8-4898-ACC0-E23375A5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6945-AA30-443B-A53E-F60F300D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B451-34C7-47A1-8BB5-343E323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8CF1-4B00-4C9B-A5C4-BC47183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BDCA-D735-4C14-876A-BAD2B60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8B3B-1DC3-48EC-90BA-576F9DCC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F643-4B41-430E-95BF-09DE3F7C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ACE-4F30-4382-91DA-7AD9BC37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00DA-B502-48B5-952F-38635F2F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6A46-9008-4A87-BE6A-35F4A58F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7A22-B6C1-470E-9376-701FFC4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1905-0BAC-475C-93FC-8A108F3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0E7E-3F7F-46B5-9A69-6720275B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248E6-5E5C-4A6F-9D4E-5FD6D693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08B7-D56F-4883-BF83-8DA2764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90B5-6F1F-4D22-A31A-F42A5755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C95E-FD3D-497F-8489-E732DA9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4742-D542-4C35-8563-6396B059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3BF-25B4-4ACA-86D7-35BFAAB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0875-4DC9-411A-BE6C-7CC3CAC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55AD-85E7-437C-A5B9-4792DF66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D164-F07C-4C11-B6E1-0FAD66E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A951-8950-4FF6-95CD-08A239E2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0FF8-52A8-40E3-B32E-25DE6827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F6E8-5BBC-45AB-9B2B-3CDE7C2B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E736-65E2-4D47-93AD-ED29BB0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26946-D976-4C48-9224-68C9E26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2C7F-1B56-44E4-8DC1-EB01AA2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F3DF-F31D-44C1-9DE7-4D89D31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1D1-A875-47F0-9810-FC75FFE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5F633-DBFF-438D-99F5-5668DE6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AF12-5F8E-460D-A37B-E5A99363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DF99-90B1-4D7C-97D7-1099FD7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284DF-C5BF-43CF-A166-92C8DF0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5735-FF28-4245-BE3F-4387307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0E37-BA4A-4537-8B62-D9F6CDA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83E8-341F-4FD9-95FA-24D73304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22AF-07E4-4B0D-A4C3-9C86BDF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318D-A80F-4E41-BCED-1BE837BE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1C0FD-3B26-4013-8E2A-745A4D7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284-5F8D-4B92-BB99-CDBAB2E0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2642-B3AF-4F13-9B21-B5FF58F3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3BE8-B7E5-4315-B665-50DE7F08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CB38-999D-48EF-B809-DD5E410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6C01-975B-47D0-9762-EA61BBD9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9A4B-1D9D-4FB7-B29B-BE2902A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9D48B-8DE7-4F16-BA45-FB2F0F23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C80D-2FF5-4CCF-8474-6AB2A9D3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35F15-7042-482E-A9B0-2886DED7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4657D-3A43-4E94-9E4B-A1456F2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A994D-6907-4E28-B2E0-7C84DF3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59D-79AC-4539-B4CD-EEE848762A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778B-D246-41C2-9C71-282FAABD37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4DC-72C2-4988-BE3C-11EBA3F4D8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3EB-590D-4145-835F-C7D2DD29CD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963-CBE9-4AF1-8C8F-AABAD4D07E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17A9-EEF1-4FE8-9E98-D1D804946F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3480-860C-4179-BADE-4C987F0EE9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490-BA27-42A7-BF37-CB0418D3EB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275F-662A-4436-83B8-3E9204A88E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9daab"/>
                </a:solidFill>
                <a:latin typeface="Times New Roman"/>
                <a:ea typeface="Times New Roman"/>
              </a:rPr>
              <a:t>Современные образовательные </a:t>
            </a: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9daab"/>
                </a:solidFill>
                <a:latin typeface="Times New Roman"/>
                <a:ea typeface="Times New Roman"/>
              </a:rPr>
              <a:t>технологии </a:t>
            </a: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12600" y="2054160"/>
            <a:ext cx="9118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40744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95280" y="76464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 результате применения модульных технологий, лекционно – семинарско – зачетной системы занятий в общеобразовательной школе, у учащихся формируются основные организационно – практические умения и навыки, предполагающие умения свободно ориентироваться в учебном материале, связно его излагать, высказывать свое мнение на основе анализа разноплановой информации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сознанность школьниками процесса обучения, возможность активного включения в нег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ланирования ими своей деятельн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озможность строить учебный процесс на разных уровнях сложн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нятие перегрузки, тревожности и неуверенности учащихс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довлетворение учащихся успехом, что способствует развитию познавательных интересов, инициатив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 так ж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редний балл по ЕГЭ в последние 5 лет на уровне среднерегиональн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табильно высокое качество знаний и 100% обученнос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ногие учащиеся активно участвуют в проектной деятельности. Есть победители и призер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3240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 категории обучаемых: </a:t>
            </a:r>
            <a:r>
              <a:rPr b="0" lang="ru-RU" sz="2400" spc="-1" strike="noStrike">
                <a:solidFill>
                  <a:srgbClr val="534b38"/>
                </a:solidFill>
                <a:latin typeface="Franklin Gothic Book"/>
              </a:rPr>
              <a:t>массова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т вид технологии широко применяется в вузах. Для школы это новый тип учебной деятельности. Поскольку старшая школа ориентирована в большей мере на поступление в вуз, в ней реализуется профильное обучение, по этому старшеклассников следует заранее готовить к новой образовательной сред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534b38"/>
                </a:solidFill>
                <a:latin typeface="Franklin Gothic Book"/>
              </a:rPr>
              <a:t>Технология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одульного обучения </a:t>
            </a:r>
            <a:r>
              <a:rPr b="1" lang="ru-RU" sz="3200" spc="-1" strike="noStrike">
                <a:solidFill>
                  <a:srgbClr val="534b38"/>
                </a:solidFill>
                <a:latin typeface="Franklin Gothic Book"/>
              </a:rPr>
              <a:t>использует в комплексе многие инновации в педагогике и психологии, применима к самым различным школам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1359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68360" y="1341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Блочное (модульное) построение учебного материал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тивация учеб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еобладание самостоятельной, творческой деятельности на уроках под руководством учителя по усвоению знаний и уме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рганизация самоконтроля и внешнего контроля формирование учебной деятельности, усвоение учебного материала на основе рефлексии ученика и учителя.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096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Гибкост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подвижность элементов структуры проблемного модуля, возможность дифференцирования и индивидуализации, интеграции содержания обучения: технологическая динамичность и взаимозаменяемость приемов и методов обучения, системы контроля и оценивания достижений учащихся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зрачность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ы, этапов технологии при сохранении преемственности, её целост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стот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позволяет достигать реальных результатов в решении заданий учителя, переносе оперативных знаний, формировании компетентности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-122400"/>
            <a:ext cx="8407440" cy="10004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79280" y="124128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одика модульной системы основана на представлениях о том, что всякий урок должен способствовать как усвоение новой информации, так и формированию умений и навыков обработки этой информаци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овым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по сравнению с традиционной системой обучения является организация на уроках рефлексии с целью выявления и оценивания собственных успехов и неудач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влечение в процессе осуществления технологии компетентных помощников учителя (в роли консультантов и экспертов) качественно повысит уровень подготовки учащихся, их рефлексии, мотивации обучения истор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19664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Логично использовать модульную (блоковую) организацию подачи материала, а именно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лекция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урок изучения нового материала)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семинар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исследование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оллоквиум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зачет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(учет и оценка знаний и умений).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Лекционно – семинарско – зачетн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– это системный комплекс дидактических условий, включающий оптимальные формы, методы и средства, обеспечивающие рациональные пути обучения и развития школьников. Это модульная технолог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Лекция, семинар, зачет в единстве и взаимосвязи реализуют задачи обучения и развит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менение данной технологии позволяет быстрыми темпами, качественно, на уровне осмысления изучить большие блоки учебного материала.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Как показывает опыт, продолжительность лекции не более двух уроков, для семинара два часа и один час на заче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екции следует планировать при изучении тем, содержание которых мало знакомо учащимся или требует систематизации, обобщ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спользование иллюстративного материа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одуманная обратная связь (задания учащимся: следить за объяснением по плану или ключевым словам, записанным на доске; составить план по мере изложения материала; схема-конспект; тезис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собенность школьной лекции в использовании элементов беседы (см. Коллоквиум), проблемных и развивающих ситуаций, отработка понятий, вовлечение учащихся в сотрудничество.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дидактике нет единой классификации семинаров,  тем не менее их можно подразделить на следующие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нового материал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нтегрированны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мбинированны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вторно – обобщающ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нтролирующ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ю важно определить место планируемого семинара в изучаемой теме, в развитии учащихся и в соответствии с этим определять его тип и содерж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240760" cy="920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179280" y="836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сле школьной лекции учителем планируется семинар, как форма творческого поиска знаний, их осмысления и закрепле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просы к семинару учитель предлагает в конце лекции, дает обзор литературы по данной тем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Школьный семинар – форма занятия, представляющая собой групповое сотрудничество учащихся и учителя по обсуждению проблемы, темы под непосредственным руководством педагог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Это не способ проверки и оценки учебных достижений учащихся, а специфическая форма организации учебно – познавательной деятельности, предполагающая творческое изучение программного материал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еминар дает возможность учащимся закрепить знания, осуществить самоконтроль самостоятельно приобретенных знаний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ступления на семинарах требуют тщательной домашней подготовки от учащихся, работы с первоисточниками, схемами, таблицами, картами, с компьютером и т.д.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етодическая ценность семинара состоит в том, что в ходе его подготовки и непосредственно в процессе деятельности обеспечивается развитие самостоятельного мышления у учащихся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Формируются общеучебные интеллектуальные умения (группировка информации её анализ, обобщение и т.п.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e3b30"/>
                </a:solidFill>
                <a:latin typeface="Franklin Gothic Book"/>
              </a:rPr>
              <a:t>Недопустимо превращение семинаров в механическое заслушивание подготовленных докладов, так как создается фрагментарность восприятия информации, культивируется пассивность аудитории. Целесообразно, наряду с семинаром, включать в данную технологию практические занятия.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8382240" cy="9205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50560" y="69228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верка качества знаний учащихся при лекционно – семинарской системе занятий осуществляется на зачетных урок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Зачет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форма проверки знаний и навыков, полученных на семинарских и практических занятиях. Это один из равнозначных компонентов лекционно – семинарско – зачетной технолог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Зачет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форма развития учащихся, их самообразования и самообучения, контроля знаний и умений предусмотренных программам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Классификация зачетов</a:t>
            </a:r>
            <a:r>
              <a:rPr b="0" lang="ru-RU" sz="2200" spc="-1" strike="noStrike">
                <a:solidFill>
                  <a:srgbClr val="c00000"/>
                </a:solidFill>
                <a:latin typeface="Franklin Gothic Book"/>
              </a:rPr>
              <a:t>: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вивающие (вопросы и задания исследовательского характера)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рректирующие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нтролирующие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 форме организации зачеты классифицируются следующим образом: устные, письменные, письменно – устные, компьютерные, дифференцирован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69228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4b38"/>
                </a:solidFill>
                <a:latin typeface="Franklin Gothic Book"/>
              </a:rPr>
              <a:t>Педагогическая технология на основе дидактического усовершенств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дульная технология получила известность с 1972 г., когда в педагогике она называлась «модульная система». После всемирной конференции ЮНЕСКО (1972 г.) в Токио, где обсуждались проблемы  образования, модульная система (технология) была признана как наиболее эффективная для обучения не только старшеклассников, но и взрослых. Этот вид технологии широко применяется в вузах. Для школы это новый тип учебной деятельности. Поскольку старшая школа ориентирована в большей мере на поступление в вуз, в ней реализуется профильное обучение, по этому старшеклассников следует заранее готовить к новой образовательной среде.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785000" cy="13845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30280" y="199980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r"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Селевко Г. К. Энциклопедия образовательных технологий: В 2 т. –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2b1"/>
                </a:solidFill>
                <a:latin typeface="Franklin Gothic Book"/>
              </a:rPr>
              <a:t>Т. 1. М.: НИИ школьных технологий,2006.816 с.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5" descr="smajlik.jpg"/>
          <p:cNvPicPr/>
          <p:nvPr/>
        </p:nvPicPr>
        <p:blipFill>
          <a:blip r:embed="rId2"/>
          <a:stretch/>
        </p:blipFill>
        <p:spPr>
          <a:xfrm>
            <a:off x="1582560" y="1557360"/>
            <a:ext cx="5942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70028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.Юцявичене «Теория и практика модульного обучения»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.Б.Сенновский и П.И.Третьяков являются авторами практических пособий, их совместный труд «Технология модульного обучения в школе: практико - - ориентированная монография» - наиболее полное пособие для учите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Целеполаганию, как одному из наиболее важных элементов модульной технологии посвящены работы Беспалько В.П., Кларина М.В. В статьях Шамовой Т.И. и Головатенко А.Ю. также освещается этот вопрос.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Технолог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с греч. Технос –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стерство, Логос –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изучат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) - это совокупность форм, методов, приемов и средств применяемых в какой - либо деятельност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Педагогическая технология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– системная совокупность и порядок функционирования всех личностных, инструментальных и методологических средств, используемых для достижения педагогических целей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и имеет прогнозируемый хар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ктер (М.В.Кларин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Критерии технологичност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онцептуаль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истем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правляем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Эффектив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175400" indent="-207360">
              <a:spcBef>
                <a:spcPts val="700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оспроизводим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Философская основа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спосабливающая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Методологический подход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системный, дифференцированный, деятельностный, синергетический (самоорганизация и саморазвитие учащихся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едущие факторы развит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социогенны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Научная концепция освоения опыт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ассоциативно – рефлекторна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Характер содержания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учающая + воспитательная, светская, общеобразовательная, технократическа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ип управления учебно-воспитательным процессом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: программированное обучен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000" y="1052280"/>
            <a:ext cx="8505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истематическая (от занятия к занятию, от темы к теме) самостоятельная деятельность учащихся при обучении физики, как в группах так и индивидуально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ьно разработанные вопросы и задания проблемного, развивающего, логического характера развивают у учащихся потребность в систематической подготовке домашнего задания, изучения дополнительной литературы, что в конечном итоге формирует у них такие нравственные качества, как ответственность, целеустремленно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рагментарное включение уроков – лекций, семинаров, зачетов, коллоквиумов в практику преподавания физики в среднем звене общеобразовательной школы (5 – 8 классы) логично вырастает в модульную систему преподавания в старших (9 – 11) класс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22400" y="32868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Тип управления учебно-воспитательным процессом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программированное обучение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Методологический подход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системный, дифференцированный, деятельностный, синергетический (самоорганизация и саморазвитие учащихся)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реобладающие методы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репродуктивные + проблемные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Организационные формы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: вариативная, классно-урочная, групповая, индивидуальная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дход к ребенку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личностно-ориентированный</a:t>
            </a: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Методика преподавания 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объяснительно-иллюстративная и проблемная.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зиция ученика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 ориентация на личностное восприятие всего окружающего: не сторонний наблюдатель, а заинтересованный исследователь; личная ответственность за последствия своей деятельности для других людей и для природы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Franklin Gothic Book"/>
              </a:rPr>
              <a:t>Позиция учителя: </a:t>
            </a:r>
            <a:r>
              <a:rPr b="0" lang="ru-RU" sz="1900" spc="-1" strike="noStrike">
                <a:solidFill>
                  <a:srgbClr val="4e3b30"/>
                </a:solidFill>
                <a:latin typeface="Franklin Gothic Book"/>
              </a:rPr>
              <a:t>представляет творческую личность, которую отличают: эрудиция, любовь к ребенку, психологическая грамотность, раскованность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9320" y="109440"/>
            <a:ext cx="889308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Алгоритмизация учебн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модульности – структуризация содержания образования на обособленные законченные ча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гласование и завершенность всех этапов позна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Укрупнение блоков теоретическ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 дифференциации и индивидуализац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Деятельностный подход : реализация всей структуры деятельности (целеполагание, планирование, организация, рабочий процесс, контроль и оценивание результата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амоорганизация и саморазвитие учащих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сотрудничества ученика с учителе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Дедуктивная логика подачи учебного материала в модуле: переход от всеобщего к общему и единично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пережающее изучение теоретического материал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жатие учебной информации (обобщение, укрупнение, систематизация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ыбор индивидуального темпа продвижения по программе и саморегуляция своих учебных достиже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инцип осознанной перспективы (мотивация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3" descr="img5.jpg"/>
          <p:cNvPicPr/>
          <p:nvPr/>
        </p:nvPicPr>
        <p:blipFill>
          <a:blip r:embed="rId2"/>
          <a:srcRect l="13223" t="15323" r="0" b="0"/>
          <a:stretch/>
        </p:blipFill>
        <p:spPr>
          <a:xfrm>
            <a:off x="1403280" y="1268280"/>
            <a:ext cx="756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6:58:54Z</dcterms:created>
  <dc:creator>Dimasik.ru</dc:creator>
  <dc:description/>
  <dc:language>en-US</dc:language>
  <cp:lastModifiedBy>Admin</cp:lastModifiedBy>
  <dcterms:modified xsi:type="dcterms:W3CDTF">2016-12-03T21:14:39Z</dcterms:modified>
  <cp:revision>33</cp:revision>
  <dc:subject/>
  <dc:title>Слайд 1</dc:title>
</cp:coreProperties>
</file>