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D85-7F9E-4C99-85A6-B5597F57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9B7-0539-4632-8937-76908504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C0A61-4991-4D20-B1EA-9EC76D5F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6CB39-62C9-48A1-A7BE-F7653601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A29BC-8EFA-45CA-819E-BAF25D7E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E7E88-4CBB-42B0-893D-18525383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4C949-3A1B-4626-8060-490C7ABA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5C5D2-5D1A-4018-9237-102F4C67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D0C89-06D3-4A54-8315-5E0D7195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63FB1-0BFA-4542-B847-9F43E5BA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FA775-B1F9-4E83-91B6-AC4382B0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DE8-7897-45FF-8F65-C19A6395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2AC-FF55-4502-8759-F2860CA2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C5BF-E8FA-433C-9AE2-C3B761BD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4A71-02E1-4F80-9881-A0F771F1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D02C-C213-47AE-9B81-CA6927BB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C0E6-2337-464E-8014-8ED148AA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DC1C-A0E5-4B65-AE2D-04260986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96C9-7669-40C9-B04B-CCF1F31A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CD76-CA77-40B9-A62D-68E6914A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0E9-B870-4875-8FF7-1B3B84B2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50EE-D0C0-49EC-B77E-4C6F18AF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EF3D-B409-4FCE-A1E7-6EC2F31D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2C09-BAD8-42A2-A7FF-CF70770E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25A8-FB88-47B4-86E6-49182EA6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D54F-9C70-4261-BF50-9A190820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27735-4445-4A5B-8066-A191490F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5AB5-9753-4EAA-95C9-CE7189F4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0A6DF-0BB5-4348-B85B-3EA4A9E2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3BC5A-E467-4940-8AB1-5CE26472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398DF-0357-49D1-AB27-F6078448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9DE-FC0C-4E0B-AE9F-2A0823D4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4CDF9-2821-4BCD-BA4B-97D7B5E0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8BB62-9ED9-4103-9C7E-F6F696B3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0CEFC-9394-4719-8223-F1BD3549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93346-54D2-4F46-BA47-966F5D1B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7F2D9-F555-4890-81B4-A69538A8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A99A5-15A8-439D-B7DB-0D00C3C0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5A9D-5158-437E-A3F3-62B31EFE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BB6E-0C29-4E8F-828F-74EF96C2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42463-2F48-4E63-AD47-F0EA4A7B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CC5E4-FAE4-4A64-BC28-51A324C5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B598-E642-4E8C-8A39-776E3ED9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077DE-2529-43E2-969A-2C24A154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15502-B98A-44DB-A537-592A889A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F0990-4664-4E7E-BAC5-8363D1BF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58169-E955-4831-9DEC-95AB3431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0F6FE-EA01-4AF1-B4A7-8AF8999F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6B363-AA9B-4F9B-845A-1BAD822C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83BDB-FF20-4321-9407-9C0F356E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F8F4E-089D-4210-B812-7FA3CAB9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78D36-B684-4F77-A838-08E0DE30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BEF3C-5B76-4DAC-B7CC-5BD713CF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AEF-AFFF-4D32-A2D2-0DC99BE6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2C08B-6F4C-4C92-8AA6-D0B77A08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408EE-91D6-422B-9AC2-A42132E5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F1C65-17DE-40AC-B195-63DDE226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711D5-5884-4133-9AE6-F3E50666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1BCB8-3A2F-4F79-A9C9-C2F6BEA4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3612E-E57B-4288-A580-F80A8D25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BAFAD-D85C-4BB3-AA87-C43C4428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FE8E9-370F-44D6-A65B-A4D3D7F5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1A11C-CABF-4519-98BA-50E5C355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C9F0A-87BD-4E35-BD0E-DA04ECF2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558A-9AC6-4901-B8C8-BCB0BF26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A0A43-DA57-4F82-83C4-C7922842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2FBF0-272A-42A7-A1FB-DAE916F2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56944-C906-4353-8594-B2E57253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EDD24-E673-49BF-9BCA-0467E3A5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394AB-770B-48DA-96B9-5C629F1D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9451A-7D35-4CE3-AFCF-B5C91774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EDBA3-7281-4F2A-96E9-E757836D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68659-25AE-4443-82B1-5159EA89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31335-26D3-4BAD-AECE-13C8B564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FDC91-0838-4030-8B39-7C0B20A6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49B-F25F-4FE8-A5E2-D9EB7550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93E50-D99F-4D92-B2AA-AE116F04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2C948-8398-445E-B527-47B8F80F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5D260-220E-45BB-A22B-38A08103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5EE9C-7677-4FD8-B8BA-0B435732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70647-0A7E-482B-BB8E-F97A5B17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E4D3B-4FBC-4173-99A2-3EB21ED5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71502-5D9A-4843-8EFF-C88CBAB1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6317C-68FE-4DEC-A130-E024A669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8B2CE-B828-4C58-86D5-162BFBF4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C7B42-D7BF-4D73-9002-B7C4D5F5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18E-02FE-4CAB-B072-154078F8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94680-9338-47BB-8F5D-65A3441A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4C30F-9317-4E9F-81C8-F9F57E7E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DBD74-7DA1-4E3C-8F06-39D74574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3710F-5D5B-4973-A565-37697B9E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80024-E874-405B-8E15-8C965AED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3D782-1204-4C97-B669-538D183B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4F177-0C3D-4E84-BD1F-49CBB8E5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B228F-805D-4DD3-9C76-A8F18B73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FDD20-ADD1-4E01-96C6-2A9C0C97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E45C5-F468-41D3-8C57-B4768195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F2D-5125-42B2-87B1-28973CDE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381B6-63E0-43E0-B027-379A8354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834BB-C9DF-40A5-84C9-DBFE7573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C7AE6-D125-42EE-B780-EC61BA1B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D4C12-3F53-40B4-B552-51339389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B03B2-0079-4E40-918F-6B63F8C5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BB956-0006-4C26-8CE4-37CB2D93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2CFA2-C345-4553-978E-B3F5C664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EE024-28B0-4B68-8D0D-AF340DF1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2C359-E610-4ECF-8FB2-A3910071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F8059-E343-410E-8740-8DA6FBAF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182B-6B56-4861-8F93-3D85AEECD2C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47F4-ADA9-4274-9AFF-D7458539487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1C6C-1DFE-4511-990B-6AD6827787F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89B3-2468-4B6B-B1D9-D22BB72F316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E3B3-7422-448B-B751-BDC89FC92C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DDDD-D9A9-4625-82A6-679393D0BF4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354B-2690-4D6E-8061-759FE7AE161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C4CE-6941-44F1-8DE9-0C2B6480574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FAD2-D8AC-486C-919D-C93A30EC63C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9000"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9daab"/>
                </a:solidFill>
                <a:latin typeface="Times New Roman"/>
                <a:ea typeface="Times New Roman"/>
              </a:rPr>
              <a:t>Современные образовательные </a:t>
            </a:r>
            <a:endParaRPr b="0" lang="en-US" sz="37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9daab"/>
                </a:solidFill>
                <a:latin typeface="Times New Roman"/>
                <a:ea typeface="Times New Roman"/>
              </a:rPr>
              <a:t>технологии </a:t>
            </a:r>
            <a:endParaRPr b="0" lang="en-US" sz="37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400" name="Заголовок 2" descr=""/>
          <p:cNvPicPr/>
          <p:nvPr/>
        </p:nvPicPr>
        <p:blipFill>
          <a:blip r:embed="rId1"/>
          <a:stretch/>
        </p:blipFill>
        <p:spPr>
          <a:xfrm>
            <a:off x="12600" y="2054160"/>
            <a:ext cx="911880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40744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95280" y="764640"/>
            <a:ext cx="8569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 результате применения модульных технологий, лекционно – семинарско – зачетной системы занятий в общеобразовательной школе, у учащихся формируются основные организационно – практические умения и навыки, предполагающие умения свободно ориентироваться в учебном материале, связно его излагать, высказывать свое мнение на основе анализа разноплановой информации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осознанность школьниками процесса обучения, возможность активного включения в нег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ланирования ими своей деятельност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озможность строить учебный процесс на разных уровнях сложност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нятие перегрузки, тревожности и неуверенности учащихс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удовлетворение учащихся успехом, что способствует развитию познавательных интересов, инициативы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А так же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редний балл по ЕГЭ в последние 5 лет на уровне среднерегионального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табильно высокое качество знаний и 100% обученность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ногие учащиеся активно участвуют в проектной деятельности. Есть победители и призер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268280"/>
            <a:ext cx="86868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 категории обучаемых: </a:t>
            </a:r>
            <a:r>
              <a:rPr b="0" lang="ru-RU" sz="2400" spc="-1" strike="noStrike">
                <a:solidFill>
                  <a:srgbClr val="534b38"/>
                </a:solidFill>
                <a:latin typeface="Franklin Gothic Book"/>
              </a:rPr>
              <a:t>массовая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т вид технологии широко применяется в вузах. Для школы это новый тип учебной деятельности. Поскольку старшая школа ориентирована в большей мере на поступление в вуз, в ней реализуется профильное обучение, по этому старшеклассников следует заранее готовить к новой образовательной сред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534b38"/>
                </a:solidFill>
                <a:latin typeface="Franklin Gothic Book"/>
              </a:rPr>
              <a:t>Технология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модульного обучения </a:t>
            </a:r>
            <a:r>
              <a:rPr b="1" lang="ru-RU" sz="3200" spc="-1" strike="noStrike">
                <a:solidFill>
                  <a:srgbClr val="534b38"/>
                </a:solidFill>
                <a:latin typeface="Franklin Gothic Book"/>
              </a:rPr>
              <a:t>использует в комплексе многие инновации в педагогике и психологии, применима к самым различным школам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699760" cy="1359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68360" y="134136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Блочное (модульное) построение учебного материала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Мотивация учебной де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реобладание самостоятельной, творческой деятельности на уроках под руководством учителя по усвоению знаний и умени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рганизация самоконтроля и внешнего контроля формирование учебной деятельности, усвоение учебного материала на основе рефлексии ученика и учителя. 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63680" y="182520"/>
            <a:ext cx="8242200" cy="10969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Гибкость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(подвижность элементов структуры проблемного модуля, возможность дифференцирования и индивидуализации, интеграции содержания обучения: технологическая динамичность и взаимозаменяемость приемов и методов обучения, системы контроля и оценивания достижений учащихся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озрачность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труктуры, этапов технологии при сохранении преемственности, её целостност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остота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позволяет достигать реальных результатов в решении заданий учителя, переносе оперативных знаний, формировании компетентности.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298440" y="-122400"/>
            <a:ext cx="8407440" cy="10004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179280" y="124128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тодика модульной системы основана на представлениях о том, что всякий урок должен способствовать как усвоение новой информации, так и формированию умений и навыков обработки этой информаци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Новым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по сравнению с традиционной системой обучения является организация на уроках рефлексии с целью выявления и оценивания собственных успехов и неудач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овлечение в процессе осуществления технологии компетентных помощников учителя (в роли консультантов и экспертов) качественно повысит уровень подготовки учащихся, их рефлексии, мотивации обучения истори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19664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Логично использовать модульную (блоковую) организацию подачи материала, а именно: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лекция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(урок изучения нового материала),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семинар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исследование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коллоквиум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зачет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(учет и оценка знаний и умений).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Лекционно – семинарско – зачетная технология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– это системный комплекс дидактических условий, включающий оптимальные формы, методы и средства, обеспечивающие рациональные пути обучения и развития школьников. Это модульная технолог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Лекция, семинар, зачет в единстве и взаимосвязи реализуют задачи обучения и развит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именение данной технологии позволяет быстрыми темпами, качественно, на уровне осмысления изучить большие блоки учебного материала.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Как показывает опыт, продолжительность лекции не более двух уроков, для семинара два часа и один час на заче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26792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Лекции следует планировать при изучении тем, содержание которых мало знакомо учащимся или требует систематизации, обобще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Использование иллюстративного материал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родуманная обратная связь (задания учащимся: следить за объяснением по плану или ключевым словам, записанным на доске; составить план по мере изложения материала; схема-конспект; тезисы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собенность школьной лекции в использовании элементов беседы (см. Коллоквиум), проблемных и развивающих ситуаций, отработка понятий, вовлечение учащихся в сотрудничество.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1116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 дидактике нет единой классификации семинаров,  тем не менее их можно подразделить на следующие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зучение нового материал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нтегрированны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омбинированный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вторно – обобщающи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онтролирующий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чителю важно определить место планируемого семинара в изучаемой теме, в развитии учащихся и в соответствии с этим определять его тип и содержани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240760" cy="9208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179280" y="83664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осле школьной лекции учителем планируется семинар, как форма творческого поиска знаний, их осмысления и закрепления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опросы к семинару учитель предлагает в конце лекции, дает обзор литературы по данной теме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Школьный семинар – форма занятия, представляющая собой групповое сотрудничество учащихся и учителя по обсуждению проблемы, темы под непосредственным руководством педагога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Это не способ проверки и оценки учебных достижений учащихся, а специфическая форма организации учебно – познавательной деятельности, предполагающая творческое изучение программного материала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Семинар дает возможность учащимся закрепить знания, осуществить самоконтроль самостоятельно приобретенных знаний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ыступления на семинарах требуют тщательной домашней подготовки от учащихся, работы с первоисточниками, схемами, таблицами, картами, с компьютером и т.д.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етодическая ценность семинара состоит в том, что в ходе его подготовки и непосредственно в процессе деятельности обеспечивается развитие самостоятельного мышления у учащихся,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Формируются общеучебные интеллектуальные умения (группировка информации её анализ, обобщение и т.п.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Franklin Gothic Book"/>
              </a:rPr>
              <a:t>Недопустимо превращение семинаров в механическое заслушивание подготовленных докладов, так как создается фрагментарность восприятия информации, культивируется пассивность аудитории. Целесообразно, наряду с семинаром, включать в данную технологию практические занятия.  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249120" y="73080"/>
            <a:ext cx="8382240" cy="9205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250560" y="69228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роверка качества знаний учащихся при лекционно – семинарской системе занятий осуществляется на зачетных уроках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4e3b30"/>
                </a:solidFill>
                <a:uFillTx/>
                <a:latin typeface="Franklin Gothic Book"/>
              </a:rPr>
              <a:t>Зачет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– форма проверки знаний и навыков, полученных на семинарских и практических занятиях. Это один из равнозначных компонентов лекционно – семинарско – зачетной технологи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4e3b30"/>
                </a:solidFill>
                <a:uFillTx/>
                <a:latin typeface="Franklin Gothic Book"/>
              </a:rPr>
              <a:t>Зачет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– форма развития учащихся, их самообразования и самообучения, контроля знаний и умений предусмотренных программам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Franklin Gothic Book"/>
              </a:rPr>
              <a:t>Классификация зачетов</a:t>
            </a:r>
            <a:r>
              <a:rPr b="0" lang="ru-RU" sz="2200" spc="-1" strike="noStrike">
                <a:solidFill>
                  <a:srgbClr val="c00000"/>
                </a:solidFill>
                <a:latin typeface="Franklin Gothic Book"/>
              </a:rPr>
              <a:t>: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азвивающие (вопросы и задания исследовательского характера)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орректирующие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онтролирующие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о форме организации зачеты классифицируются следующим образом: устные, письменные, письменно – устные, компьютерные, дифференцированные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6840" y="692280"/>
            <a:ext cx="84358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4b38"/>
                </a:solidFill>
                <a:latin typeface="Franklin Gothic Book"/>
              </a:rPr>
              <a:t>Педагогическая технология на основе дидактического усовершенствова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одульная технология получила известность с 1972 г., когда в педагогике она называлась «модульная система». После всемирной конференции ЮНЕСКО (1972 г.) в Токио, где обсуждались проблемы  образования, модульная система (технология) была признана как наиболее эффективная для обучения не только старшеклассников, но и взрослых. Этот вид технологии широко применяется в вузах. Для школы это новый тип учебной деятельности. Поскольку старшая школа ориентирована в большей мере на поступление в вуз, в ней реализуется профильное обучение, по этому старшеклассников следует заранее готовить к новой образовательной среде.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523800" y="334800"/>
            <a:ext cx="7785000" cy="138456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530280" y="199980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algn="r"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2b1"/>
                </a:solidFill>
                <a:latin typeface="Franklin Gothic Book"/>
              </a:rPr>
              <a:t>Селевко Г. К. Энциклопедия образовательных технологий: В 2 т. – 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2b1"/>
                </a:solidFill>
                <a:latin typeface="Franklin Gothic Book"/>
              </a:rPr>
              <a:t>Т. 1. М.: НИИ школьных технологий,2006.816 с.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3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38" name="Содержимое 5" descr="smajlik.jpg"/>
          <p:cNvPicPr/>
          <p:nvPr/>
        </p:nvPicPr>
        <p:blipFill>
          <a:blip r:embed="rId2"/>
          <a:stretch/>
        </p:blipFill>
        <p:spPr>
          <a:xfrm>
            <a:off x="1582560" y="1557360"/>
            <a:ext cx="59421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58760" y="324000"/>
            <a:ext cx="8839080" cy="1358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6840" y="1700280"/>
            <a:ext cx="84358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.Юцявичене «Теория и практика модульного обучения»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.Б.Сенновский и П.И.Третьяков являются авторами практических пособий, их совместный труд «Технология модульного обучения в школе: практико - - ориентированная монография» - наиболее полное пособие для учител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Целеполаганию, как одному из наиболее важных элементов модульной технологии посвящены работы Беспалько В.П., Кларина М.В. В статьях Шамовой Т.И. и Головатенко А.Ю. также освещается этот вопрос.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78920" y="-36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Технология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с греч. Технос –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астерство, Логос –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изучать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) - это совокупность форм, методов, приемов и средств применяемых в какой - либо деятельност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Педагогическая технология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– системная совокупность и порядок функционирования всех личностных, инструментальных и методологических средств, используемых для достижения педагогических целей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и имеет прогнозируемый хар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ктер (М.В.Кларин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Book"/>
              </a:rPr>
              <a:t>Критерии технологичности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175400" indent="-207360">
              <a:spcBef>
                <a:spcPts val="700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Концептуальнос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175400" indent="-207360">
              <a:spcBef>
                <a:spcPts val="700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истемнос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175400" indent="-207360">
              <a:spcBef>
                <a:spcPts val="700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Управляемос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175400" indent="-207360">
              <a:spcBef>
                <a:spcPts val="700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Эффективнос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175400" indent="-207360">
              <a:spcBef>
                <a:spcPts val="700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Воспроизводимос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Философская основа: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испосабливающаяс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Методологический подход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: системный, дифференцированный, деятельностный, синергетический (самоорганизация и саморазвитие учащихся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едущие факторы развития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: социогенны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Научная концепция освоения опыта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: ассоциативно – рефлекторна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Характер содержания: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учающая + воспитательная, светская, общеобразовательная, технократическа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Тип управления учебно-воспитательным процессом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: программированное обучени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09440"/>
            <a:ext cx="824076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68000" y="1052280"/>
            <a:ext cx="8505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истематическая (от занятия к занятию, от темы к теме) самостоятельная деятельность учащихся при обучении физики, как в группах так и индивидуально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ециально разработанные вопросы и задания проблемного, развивающего, логического характера развивают у учащихся потребность в систематической подготовке домашнего задания, изучения дополнительной литературы, что в конечном итоге формирует у них такие нравственные качества, как ответственность, целеустремленность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Фрагментарное включение уроков – лекций, семинаров, зачетов, коллоквиумов в практику преподавания физики в среднем звене общеобразовательной школы (5 – 8 классы) логично вырастает в модульную систему преподавания в старших (9 – 11) классах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22400" y="328680"/>
            <a:ext cx="8893080" cy="1146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1970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Тип управления учебно-воспитательным процессом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: программированное обучение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Методологический подход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: системный, дифференцированный, деятельностный, синергетический (самоорганизация и саморазвитие учащихся)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Преобладающие методы: 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репродуктивные + проблемные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Организационные формы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: вариативная, классно-урочная, групповая, индивидуальная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Подход к ребенку: 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личностно-ориентированный</a:t>
            </a: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Методика преподавания : 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объяснительно-иллюстративная и проблемная.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Позиция ученика: 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 ориентация на личностное восприятие всего окружающего: не сторонний наблюдатель, а заинтересованный исследователь; личная ответственность за последствия своей деятельности для других людей и для природы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Позиция учителя: 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представляет творческую личность, которую отличают: эрудиция, любовь к ребенку, психологическая грамотность, раскованность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9320" y="109440"/>
            <a:ext cx="889308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25056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Алгоритмизация учебной деятельнос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инцип модульности – структуризация содержания образования на обособленные законченные ча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огласование и завершенность всех этапов познан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Укрупнение блоков теоретического материал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инцип  дифференциации и индивидуализаци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Деятельностный подход : реализация всей структуры деятельности (целеполагание, планирование, организация, рабочий процесс, контроль и оценивание результата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амоорганизация и саморазвитие учащих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инцип сотрудничества ученика с учителе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Дедуктивная логика подачи учебного материала в модуле: переход от всеобщего к общему и единичному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Опережающее изучение теоретического материал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жатие учебной информации (обобщение, укрупнение, систематизация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ыбор индивидуального темпа продвижения по программе и саморегуляция своих учебных достижени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инцип осознанной перспективы (мотивация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Содержимое 3" descr="img5.jpg"/>
          <p:cNvPicPr/>
          <p:nvPr/>
        </p:nvPicPr>
        <p:blipFill>
          <a:blip r:embed="rId2"/>
          <a:srcRect l="13223" t="15323" r="0" b="0"/>
          <a:stretch/>
        </p:blipFill>
        <p:spPr>
          <a:xfrm>
            <a:off x="1403280" y="1268280"/>
            <a:ext cx="756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06:58:54Z</dcterms:created>
  <dc:creator>Dimasik.ru</dc:creator>
  <dc:description/>
  <dc:language>en-US</dc:language>
  <cp:lastModifiedBy>Admin</cp:lastModifiedBy>
  <dcterms:modified xsi:type="dcterms:W3CDTF">2016-12-03T21:14:39Z</dcterms:modified>
  <cp:revision>33</cp:revision>
  <dc:subject/>
  <dc:title>Слайд 1</dc:title>
</cp:coreProperties>
</file>