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B546-BA93-4C0C-9955-57261013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2EFA-FBA2-408D-82E1-14EF03FE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BADD-9363-45E3-9DB2-D3AFAFE1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8C2E-2152-4645-974A-9325A3B1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8C4-5B3F-459B-8FB0-70762042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080F-0D90-446B-9BCC-BB8A0B08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2DAB-4B7E-4788-A245-94A0A4D2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83F-4060-4539-A3E9-9E02FACF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B334-5D11-4D74-A3A7-A67170C8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570D-B84B-4D35-A523-9DD8B210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93CE-1EEB-401B-9296-411F6C1C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37FB-6F03-4F5D-913E-47956E91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AEE3-255B-452E-A11F-6D37008DB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known famous Ar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ish the quota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Painting is just another way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Painting is just another way of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keeping a diary.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Pablo Picass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Картины знаменитых НЕ художников"/>
          <p:cNvPicPr/>
          <p:nvPr/>
        </p:nvPicPr>
        <p:blipFill>
          <a:blip r:embed="rId1"/>
          <a:stretch/>
        </p:blipFill>
        <p:spPr>
          <a:xfrm>
            <a:off x="1908000" y="0"/>
            <a:ext cx="547236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705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69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48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с детства очень любил лепить и рисов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восьмилетки он продолжил путь художника и поступил в Серовское училище на оформительское отделение, а после вечерней школы закончил художественно-реставрационное училищ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ный  советский рок-музыкант, автор песен и художник. Снялся в нескольких фильмах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No great artist ever sees thin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as they really ar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If he did,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he would ceas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to be an art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Oscar Wil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ктор Робертович Цо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ы знаменитых НЕ художников"/>
          <p:cNvPicPr/>
          <p:nvPr/>
        </p:nvPicPr>
        <p:blipFill>
          <a:blip r:embed="rId1"/>
          <a:stretch/>
        </p:blipFill>
        <p:spPr>
          <a:xfrm>
            <a:off x="1042920" y="1557360"/>
            <a:ext cx="72010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4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The world today doesn't make sens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so why should I paint pictures that do?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~Pablo Picass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4000" y="549360"/>
            <a:ext cx="4155840" cy="5759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643280" y="549360"/>
            <a:ext cx="4213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2056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476280"/>
            <a:ext cx="4657680" cy="6095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660920" y="404640"/>
            <a:ext cx="4483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американский музыкант, художник и бывший музыкальный журналист, основатель и бессменный лидер популярной рок-групп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иматься живописью он начал задолго до того, как стал знаменитым, и теперь нынешняя слава мешает воспринимать его как художника. Он давно тяготеет ко всему дьявольскому и в качестве тем для своих картин избрал, конечно же, смерть, насилие и увечь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сценический псевдоним состоит из имен двух американских знаковых фигур 1960-х год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4400" spc="-1" strike="noStrike">
                <a:solidFill>
                  <a:srgbClr val="000000"/>
                </a:solidFill>
                <a:latin typeface="Arial"/>
              </a:rPr>
              <a:t>Marilyn Manso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Every portrait that is painted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feeling is a portrait of the art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            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not of the sitter.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~Oscar Wild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Картины знаменитых НЕ художник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Картины знаменитых НЕ художник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Картины знаменитых НЕ художник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мог бы стать неплохим художником, писать пейзажи и натюрморты, зарабатывать себе на хлеб созданием открыток и марок, чем, в принципе, в молодости и занимал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в свое время его не приняли в Венскую академию искусств, признав его картины непримечательными, за исключением тех, на которых изображены здания: соборы, дворцы, музе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We all know that Art is not truth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Art is a lie that makes us realize truth, at least the truth that is given us to understand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The artist must know the manner whereby to convince others of the truthfulness of his lies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~Pablo Picas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ish up the Ide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Monotype Corsiva"/>
              </a:rPr>
              <a:t>Art i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Modern art is what happens when painters stop looking at girls and persuade themselves that they have a better idea.  ~John Anthony Ciar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rt is a kind of illness.  ~Giacomo Puccini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rt is when you hear a knocking from your soul — and you answer. ~Terri Guillem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268880" cy="6551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19520" y="115920"/>
            <a:ext cx="45244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rt is the triumph over chaos.  ~John Che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rt is indeed not the bread but the wine of life.  ~Jean Paul Rich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rt is not a thing; it is a way.  ~Elbert Hubb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т знаменитый голливудский актер и режиссер серьёзно занимается живописью уже 35 л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ль его картин можно назвать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бстрактным экспрессионизм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где автор не придерживается определённой направленности жанра, его полотна напоминают фильмы с его участием – красочны и выразительны, экспрессивны и непосредствен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признаётся, что смущается продавать сво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ивописные рабо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и брать за это деньги. Ему легче их дарить, что он и сделал с большей частью своей коллекции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юбимый цвет художника – красный. Рисование для него - своего рода психотерапия. Сам …..он. говори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ак ни странно, чем хуже у меня настроение, когда я стою за мольбертом, тем больше я доволен результат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Sylvester Gardenzio Stallone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39640" y="1268280"/>
            <a:ext cx="3961080" cy="2521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4643280" y="1268280"/>
            <a:ext cx="403236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468360" y="3933720"/>
            <a:ext cx="4032360" cy="2230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4643280" y="3933720"/>
            <a:ext cx="4032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14:50:56Z</dcterms:created>
  <dc:creator>Оля</dc:creator>
  <dc:description/>
  <dc:language>en-US</dc:language>
  <cp:lastModifiedBy>Оля</cp:lastModifiedBy>
  <dcterms:modified xsi:type="dcterms:W3CDTF">2014-03-11T17:11:10Z</dcterms:modified>
  <cp:revision>10</cp:revision>
  <dc:subject/>
  <dc:title>Unknown famous Artists</dc:title>
</cp:coreProperties>
</file>