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jpeg" ContentType="image/jpeg"/>
  <Override PartName="/ppt/media/image21.jpeg" ContentType="image/jpeg"/>
  <Override PartName="/ppt/media/image20.jpeg" ContentType="image/jpeg"/>
  <Override PartName="/ppt/media/image6.png" ContentType="image/pn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37FD4-EBFF-43FE-BDE4-044BFB2AD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A846F-CE82-4693-9C55-91AA8A28A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C8C33-9C91-48D0-B2EE-6A5F12D31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331C0-1BEF-42A4-97EF-947A6B0DF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6C1C5-48E7-4099-B72F-EC41C19F5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1D14E-D3DD-458C-85C1-A2511EE9B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C5FFD-068F-46F2-93C7-EA2FD05E4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1D317-1B54-4876-9241-C8316B2CB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04C81-EDB2-42AF-A8D9-CBF27AD26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744F0-31A6-4539-A7F0-9D8F0507D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FDE5E-AF45-4D51-A203-D9E4D5097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5BE4D-4540-41E4-A6B6-116417CEB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8A87A-20C3-4B5A-A97E-974E33F944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10.jpeg"/><Relationship Id="rId9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known famous Artis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nish the quotation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Monotype Corsiva"/>
              </a:rPr>
              <a:t>Painting is just another way of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Monotype Corsiva"/>
              </a:rPr>
              <a:t>Painting is just another way of</a:t>
            </a:r>
            <a:r>
              <a:rPr b="0" lang="ru-RU" sz="48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6000" spc="-1" strike="noStrike">
                <a:solidFill>
                  <a:srgbClr val="000000"/>
                </a:solidFill>
                <a:latin typeface="Monotype Corsiva"/>
              </a:rPr>
              <a:t>keeping a diary.</a:t>
            </a:r>
            <a:r>
              <a:rPr b="0" lang="ru-RU" sz="4800" spc="-1" strike="noStrike">
                <a:solidFill>
                  <a:srgbClr val="000000"/>
                </a:solidFill>
                <a:latin typeface="Monotype Corsiva"/>
              </a:rPr>
              <a:t> 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Monotype Corsiva"/>
              </a:rPr>
              <a:t>Pablo Picasso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Картины знаменитых НЕ художников"/>
          <p:cNvPicPr/>
          <p:nvPr/>
        </p:nvPicPr>
        <p:blipFill>
          <a:blip r:embed="rId1"/>
          <a:stretch/>
        </p:blipFill>
        <p:spPr>
          <a:xfrm>
            <a:off x="1908000" y="0"/>
            <a:ext cx="5472360" cy="681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116000" y="0"/>
            <a:ext cx="7056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324000" y="404640"/>
            <a:ext cx="8569080" cy="61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403280" y="0"/>
            <a:ext cx="6483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н с детства очень любил лепить и рисовать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сле восьмилетки он продолжил путь художника и поступил в Серовское училище на оформительское отделение, а после вечерней школы закончил художественно-реставрационное училищ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звестный  советский рок-музыкант, автор песен и художник. Снялся в нескольких фильмах…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No great artist ever sees thing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as they really are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If he did,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he would cease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to be an artis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Oscar Wil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иктор Робертович Цой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Картины знаменитых НЕ художников"/>
          <p:cNvPicPr/>
          <p:nvPr/>
        </p:nvPicPr>
        <p:blipFill>
          <a:blip r:embed="rId1"/>
          <a:stretch/>
        </p:blipFill>
        <p:spPr>
          <a:xfrm>
            <a:off x="1042920" y="1557360"/>
            <a:ext cx="720108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971640" y="0"/>
            <a:ext cx="748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The world today doesn't make sense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so why should I paint pictures that do? 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~Pablo Picasso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324000" y="549360"/>
            <a:ext cx="4155840" cy="57592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4"/>
          <a:stretch/>
        </p:blipFill>
        <p:spPr>
          <a:xfrm>
            <a:off x="4643280" y="549360"/>
            <a:ext cx="4213440" cy="57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908000" y="0"/>
            <a:ext cx="5205600" cy="681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0" y="476280"/>
            <a:ext cx="4657680" cy="60958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4660920" y="404640"/>
            <a:ext cx="4483080" cy="61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124000" y="0"/>
            <a:ext cx="5040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64216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то американский музыкант, художник и бывший музыкальный журналист, основатель и бессменный лидер популярной рок-группы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ниматься живописью он начал задолго до того, как стал знаменитым, и теперь нынешняя слава мешает воспринимать его как художника. Он давно тяготеет ко всему дьявольскому и в качестве тем для своих картин избрал, конечно же, смерть, насилие и увечь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го сценический псевдоним состоит из имен двух американских знаковых фигур 1960-х годов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" sz="4400" spc="-1" strike="noStrike">
                <a:solidFill>
                  <a:srgbClr val="000000"/>
                </a:solidFill>
                <a:latin typeface="Arial"/>
              </a:rPr>
              <a:t>Marilyn Manson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826920" y="1413000"/>
            <a:ext cx="7561440" cy="51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Bookman Old Style"/>
              </a:rPr>
              <a:t>Every portrait that is painted with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okman Old Style"/>
              </a:rPr>
              <a:t>      </a:t>
            </a:r>
            <a:r>
              <a:rPr b="0" lang="ru-RU" sz="3600" spc="-1" strike="noStrike">
                <a:solidFill>
                  <a:srgbClr val="000000"/>
                </a:solidFill>
                <a:latin typeface="Bookman Old Style"/>
              </a:rPr>
              <a:t>feeling is a portrait of the artist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okman Old Style"/>
              </a:rPr>
              <a:t>              </a:t>
            </a:r>
            <a:r>
              <a:rPr b="0" lang="ru-RU" sz="3600" spc="-1" strike="noStrike">
                <a:solidFill>
                  <a:srgbClr val="000000"/>
                </a:solidFill>
                <a:latin typeface="Bookman Old Style"/>
              </a:rPr>
              <a:t>not of the sitter. 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okman Old Style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Bookman Old Style"/>
              </a:rPr>
              <a:t>~Oscar Wilde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33480"/>
            <a:ext cx="9144000" cy="68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Картины знаменитых НЕ художников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Картины знаменитых НЕ художников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Картины знаменитых НЕ художников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н мог бы стать неплохим художником, писать пейзажи и натюрморты, зарабатывать себе на хлеб созданием открыток и марок, чем, в принципе, в молодости и занималс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о в свое время его не приняли в Венскую академию искусств, признав его картины непримечательными, за исключением тех, на которых изображены здания: соборы, дворцы, музеи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We all know that Art is not truth. 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Art is a lie that makes us realize truth, at least the truth that is given us to understand. 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The artist must know the manner whereby to convince others of the truthfulness of his lies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~Pablo Picass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nish up the Idea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Monotype Corsiva"/>
              </a:rPr>
              <a:t>Art is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Modern art is what happens when painters stop looking at girls and persuade themselves that they have a better idea.  ~John Anthony Ciard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Art is a kind of illness.  ~Giacomo Puccini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Art is when you hear a knocking from your soul — and you answer. ~Terri Guilleme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55520" y="46080"/>
            <a:ext cx="4268880" cy="65516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619520" y="115920"/>
            <a:ext cx="4524480" cy="648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Art is the triumph over chaos.  ~John Chee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Art is indeed not the bread but the wine of life.  ~Jean Paul Richt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Art is not a thing; it is a way.  ~Elbert Hubbar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79280" y="620640"/>
            <a:ext cx="8785440" cy="54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619280" y="0"/>
            <a:ext cx="5905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Этот знаменитый голливудский актер и режиссер серьёзно занимается живописью уже 35 лет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тиль его картин можно назвать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бстрактным экспрессионизмо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где автор не придерживается определённой направленности жанра, его полотна напоминают фильмы с его участием – красочны и выразительны, экспрессивны и непосредственн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н признаётся, что смущается продавать свои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живописные работ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и брать за это деньги. Ему легче их дарить, что он и сделал с большей частью своей коллекции.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Любимый цвет художника – красный. Рисование для него - своего рода психотерапия. Сам …..он. говорит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Как ни странно, чем хуже у меня настроение, когда я стою за мольбертом, тем больше я доволен результатом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». 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Sylvester Gardenzio Stallone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457200" y="3938760"/>
            <a:ext cx="4038480" cy="218736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4648320" y="3938760"/>
            <a:ext cx="4038480" cy="21873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5"/>
          <a:stretch/>
        </p:blipFill>
        <p:spPr>
          <a:xfrm>
            <a:off x="539640" y="1268280"/>
            <a:ext cx="3961080" cy="25210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6"/>
          <a:stretch/>
        </p:blipFill>
        <p:spPr>
          <a:xfrm>
            <a:off x="4643280" y="1268280"/>
            <a:ext cx="4032360" cy="25146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7"/>
          <a:stretch/>
        </p:blipFill>
        <p:spPr>
          <a:xfrm>
            <a:off x="468360" y="3933720"/>
            <a:ext cx="4032360" cy="22305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8"/>
          <a:stretch/>
        </p:blipFill>
        <p:spPr>
          <a:xfrm>
            <a:off x="4643280" y="3933720"/>
            <a:ext cx="403236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1T14:50:56Z</dcterms:created>
  <dc:creator>Оля</dc:creator>
  <dc:description/>
  <dc:language>en-US</dc:language>
  <cp:lastModifiedBy>Оля</cp:lastModifiedBy>
  <dcterms:modified xsi:type="dcterms:W3CDTF">2014-03-11T17:11:10Z</dcterms:modified>
  <cp:revision>10</cp:revision>
  <dc:subject/>
  <dc:title>Unknown famous Artists</dc:title>
</cp:coreProperties>
</file>