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008-E58B-4385-9D0C-540D4595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170-5F8A-4841-848D-9E026784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BE4DD-12A9-4687-B3AF-55AC58B7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B31AB-D0E6-47FB-AD90-DFF46D6C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F8C76-56D6-4A78-8B80-1D128FDF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161E8-08FA-4D20-98E0-EF27781D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4AC5A-B844-41D8-A6D9-739D6A4B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CCFC1-3B37-437A-9E5A-6F7F4BAC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4A359-027C-45F3-BB8B-CBA805F3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C939B-D94F-41A2-B6A3-F0486DE3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62F51-D707-435C-9F4E-5F25E4BB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B3700-15FA-422F-847F-D7EAD4D2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E36-E4CB-44AE-B86F-7E6ACF4B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07FE6-A491-4D2A-BAE3-3AFF2289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21E0E-7117-4D82-8691-C3DFD990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CFFEF-B75D-47CD-BF40-BE9DBF03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82FDA-34EB-4389-BFD5-8F9A336F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18BAC-579F-4B08-BE79-DFDF3AF6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D8088-B3CF-43A7-B99A-B4F5B192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C8929-27C0-41EE-9126-B7964567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9AB30-202D-40BF-9ECE-F6F6406D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FD299-1B62-4F48-A027-45D2C219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E590C-F036-4551-971C-3154D802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914-34A4-4B72-B22F-53E381B6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19071-F6D1-4F93-A2F1-F2062455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B22C6-AA57-423E-8625-FC4C9FE7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E8D81-05D8-4FB1-8251-94FF85AA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6FC6A-7346-421B-9CBA-9328A5BD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7E09D-1F9E-4922-8F20-AF34BA23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53FDC-3F6D-4014-BBC3-1EB1021E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01F80-6FF0-4088-ADD6-8AE8F2C6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8AFC5-0901-4405-B5FB-1B5874D5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012BD-33F9-4ABB-A373-B87E95A0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B8221-A0D8-464C-86D7-11148A11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EF08-A97A-45AA-8B44-748BB9DC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7FD00-6CBB-46B9-8135-7D73D1C1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5D587-2470-4EEC-8116-50DEA22E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9CB7C-2542-4191-8CD7-1BA54F5D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99F8E7-0044-48F5-9599-E5BB341A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9F2A44-F905-40BA-80C9-9F8F61AD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ABFB58-34D0-42F9-87B5-0C388077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23C926-D84C-4E99-9523-7BD47764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5496C4-6E82-4958-81A4-AA34C38E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28D407-4EE3-4FFD-A545-8A4F5443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47DE08-1C62-462E-B58B-3C588ECA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8C16-0B7D-4736-8E3E-190D5312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D61D63-F83C-4862-B90F-D1E1B886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BE74BE-A8AF-4244-8570-55DD7DD2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97EB82-0401-4482-A300-50895FEC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A047C4-59B5-458B-8146-E58A420B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2C1FF5-69BA-430C-A4D3-A0D69CD9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D199F-2F53-4DD8-A00B-ADD17784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DC4D2-46A4-43F3-B6D6-AA22874B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6B1F3-082F-490E-99DD-0A141917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90A35-BC8B-4B0E-B668-2ED395BA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EBCA0-9271-4AD5-8C6B-B4DB931B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8DD2-8DC8-4DED-A1ED-AB117A70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F8C60-A80A-416F-B430-2AF84F8C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A88F2-03EB-44F0-95C2-0517F336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A832E-43E1-425F-94D9-930BB2D6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0104E-00AC-439E-9E6A-0A13452B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B0606-BD61-4821-A4AB-362D77DF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F48BF-33BC-403D-B955-016436E7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6ECAB-458C-4AFE-8066-2C85481F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EBFA-52C8-473E-ADC1-54894CD4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FC1D-4DD1-40EB-AF06-3CA783E5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1C28-8A45-4B54-83D8-7A574A67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8888-87F1-4916-B5FA-38FDABDF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9CA-FC62-4DE2-AC79-1B7899C7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11A1-4DBD-4E8F-8580-823C39B0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9CE4-CB66-4A2F-9A72-85269561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B230-FF86-4FE4-93C0-3FCC6EF6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8053-5E8E-48E0-9FD0-2631A59B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8459-3E70-41A4-BC54-D7D7C9C2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08710-D282-4667-883B-2DC66CA7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4AED2-0D8A-429D-95AA-BA3C22CA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4C21F-5D40-480B-B6CB-386AFD4F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E0D1C-9ACB-4045-AF95-E55E66D1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A502D-D13B-4912-B461-1ACAB0EB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F8D-B9C4-4A52-8B14-6B974FA9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7491D-AF75-4396-ABE8-2E4C214E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9DF41-FF6C-403A-AAFC-16FEBF30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840B-E242-489D-A5C5-4D732B68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2B733-2741-44F1-A674-39A2BD58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B9B1D-EC55-43EF-9665-0306A175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680D3-3AE8-4696-907B-8224595F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89779-06E5-4F99-888D-A0E5A206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1793E-6164-4292-8D0D-828ED0A5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CCB5C-D255-467B-8159-F2E5310D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2A92C-58F0-431C-A4FC-94276B47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3BF-5972-48BB-B572-FF324357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8559A-11DD-47A7-8E3E-9F688235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D1A67-67F6-42E0-B856-318885B5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F5C76-C651-436B-9A8C-2848F60A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238DC-A475-4453-B538-6487A6C8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10D06-6F6E-4C98-9832-B1569206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4E1ED-640A-4EA9-8BB3-D2B7F820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FAED9-EA9A-46A3-A269-ED149EC6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CEC9C-ED35-40A5-961E-E7B47683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32A68-583B-4A6C-9697-574F333D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3BA8A-77F6-4C4A-9A44-11277FCE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367-615E-46EB-97F9-B761F031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FD231-174A-4C82-842D-F44691AA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EA91F-FB25-4579-BCD0-EDAAD096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3D685-17F3-457E-B2EF-251404FA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FB782-4B07-483C-A043-3652CC0F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3A861-6B35-4179-BA7B-09AF8E8B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B0FF8-8EA6-4AE2-90BD-358635A4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C7E92-8480-40AD-B6EB-AA0A1DF8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753D1-270B-4088-9C10-379CFAF5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3A6BA-9BB2-4309-AE45-B70C9DD6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8BAA0-003E-463A-AD3E-74F8B8F7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B8E-BD1A-4194-8B51-79FBF21D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6EC65-3CB5-4C72-96F4-285F5797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8CB6F-F62C-47D2-A2EF-75682832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9C226-596C-4B53-9812-02748877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AFB04-28EE-490F-BAD3-8E28CB67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D27CF-F12E-4FA7-8CEA-2FC22EEF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B92D9-F813-4395-A323-3C41DD15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7EB2A-0234-47F4-91BD-0B599CDD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B3F15-8D76-471A-8504-7C9A7C47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69D00-0A75-4A2A-854E-BEEAE702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21D4F-C565-4259-93A5-BC83D240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6FB-0C00-43C9-BA8C-B7BE5D83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CCEED-7673-4C7B-A6F0-C1F61FF1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63873-A478-49BC-A786-B139F995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6032C-D96B-435E-B95B-2DC9AF6E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461A6-0E42-49A8-AC8B-B43805DD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7289E-FD9A-4125-8E65-E1AB2861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BC541-1A82-4C8E-BC19-7B6B673D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15A83-4262-4EFE-A393-941BA3C6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617D7-1905-4544-B32A-2C2C8D9E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25607-2626-4556-8B6E-54087D6D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E687B-B854-4E3F-944F-19329769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A67-9E95-4F97-B1AA-478116D9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9D696-74D4-4A60-83CD-C7561E37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2BD46-48EF-4DFB-8202-429B9811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DE5CB-E6DD-4089-A43B-BEAC3309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DB428-0DFD-4F41-82F2-0EC61F7F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93A3F-7269-483F-8820-853E0A06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01B24-6439-4C1F-BF2E-3CE598C5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D6CC2-FC0F-49CE-A022-42F1AD66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D7888-48BB-4020-810B-29EC77B2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3D5CA-3004-42A5-9777-5574B8E8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08CE0-7619-4AEF-98DE-4CAE7077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0EB-F35B-4FBA-BCA2-6C51823B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ED30C-4624-4959-9C79-EB5F0F6B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5BFA4-CA8B-4ADA-A72F-24C76969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13C4C-8139-427F-AD4F-8F33091B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13414-2B89-4274-8C22-DDFB1C0D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14367-5C01-462F-95F8-80AF242A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902A7-B981-4198-966F-57E2F280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ABA42-75FC-4F61-947B-3C5DD644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F81CE-7860-464D-9FDB-BB2B2FBB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E1E2C-7401-4279-BCBC-7BE99741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0086E-E348-4311-B867-BDD3DC4C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F117-F366-4E27-A057-17C9A8470CB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DF58-30BA-4F3C-8770-4770422F415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7799-F97A-4E31-857B-86AC88F6F9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AD4C-7B41-4EDA-A5C5-52864ECCE8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136F-E064-4BF2-B96F-0461DFB156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281F-919F-485B-A584-034EC457ED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6141-FE2B-41D9-A5FB-95DC48A4963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4768-5B0A-4844-8E36-225ED5FAE59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8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EC88-0A99-45AD-82B5-AACA2DC8E00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0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8ED8-F41C-4B6C-9FAB-BDA6B965999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3AB2-043E-4541-AC5B-4E67840A3FD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15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FA77-0E8E-4395-99FB-FE8A9AFDC93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C699-A92F-48B2-9AFD-402C8FFCD30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endParaRPr b="0" lang="en-US" sz="49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601" name="Picture 6" descr="327"/>
          <p:cNvPicPr/>
          <p:nvPr/>
        </p:nvPicPr>
        <p:blipFill>
          <a:blip r:embed="rId1"/>
          <a:stretch/>
        </p:blipFill>
        <p:spPr>
          <a:xfrm>
            <a:off x="5334120" y="533520"/>
            <a:ext cx="3657600" cy="55623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C:\Users\1\Desktop\Занятие золотя осень\images.jpg"/>
          <p:cNvPicPr/>
          <p:nvPr/>
        </p:nvPicPr>
        <p:blipFill>
          <a:blip r:embed="rId2"/>
          <a:stretch/>
        </p:blipFill>
        <p:spPr>
          <a:xfrm>
            <a:off x="380880" y="457200"/>
            <a:ext cx="4862520" cy="21812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8" descr="C:\Users\1\Desktop\Занятие золотя осень\images (21).jpg"/>
          <p:cNvPicPr/>
          <p:nvPr/>
        </p:nvPicPr>
        <p:blipFill>
          <a:blip r:embed="rId3"/>
          <a:stretch/>
        </p:blipFill>
        <p:spPr>
          <a:xfrm>
            <a:off x="380880" y="3048120"/>
            <a:ext cx="4876920" cy="304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0"/>
          <p:cNvSpPr/>
          <p:nvPr/>
        </p:nvSpPr>
        <p:spPr>
          <a:xfrm>
            <a:off x="4114800" y="152280"/>
            <a:ext cx="304812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чки солнце закрыв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ючий ветер прилет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маны осенью плыву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12" descr="c4eabc4e9e05"/>
          <p:cNvPicPr/>
          <p:nvPr/>
        </p:nvPicPr>
        <p:blipFill>
          <a:blip r:embed="rId1"/>
          <a:stretch/>
        </p:blipFill>
        <p:spPr>
          <a:xfrm>
            <a:off x="3124080" y="4343400"/>
            <a:ext cx="2743200" cy="231768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13"/>
          <p:cNvSpPr/>
          <p:nvPr/>
        </p:nvSpPr>
        <p:spPr>
          <a:xfrm>
            <a:off x="306000" y="6172200"/>
            <a:ext cx="2898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ри норки закрываю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14" descr="DSC_4344"/>
          <p:cNvPicPr/>
          <p:nvPr/>
        </p:nvPicPr>
        <p:blipFill>
          <a:blip r:embed="rId2"/>
          <a:stretch/>
        </p:blipFill>
        <p:spPr>
          <a:xfrm>
            <a:off x="152280" y="0"/>
            <a:ext cx="3886200" cy="42624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5" descr="C:\Users\1\Desktop\Занятие золотя осень\Без названия (17).jpg"/>
          <p:cNvPicPr/>
          <p:nvPr/>
        </p:nvPicPr>
        <p:blipFill>
          <a:blip r:embed="rId3"/>
          <a:stretch/>
        </p:blipFill>
        <p:spPr>
          <a:xfrm>
            <a:off x="4572000" y="1828800"/>
            <a:ext cx="3876840" cy="24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643" name="Picture 2" descr="C:\Users\1\Desktop\Занятие золотя осень\images (33).jpg"/>
          <p:cNvPicPr/>
          <p:nvPr/>
        </p:nvPicPr>
        <p:blipFill>
          <a:blip r:embed="rId1"/>
          <a:stretch/>
        </p:blipFill>
        <p:spPr>
          <a:xfrm>
            <a:off x="609480" y="4000680"/>
            <a:ext cx="3124440" cy="23396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C:\Users\1\Desktop\Занятие золотя осень\images (35).jpg"/>
          <p:cNvPicPr/>
          <p:nvPr/>
        </p:nvPicPr>
        <p:blipFill>
          <a:blip r:embed="rId2"/>
          <a:stretch/>
        </p:blipFill>
        <p:spPr>
          <a:xfrm>
            <a:off x="4343400" y="4038480"/>
            <a:ext cx="3429000" cy="2281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C:\Users\1\Desktop\Занятие золотя осень\images (32).jpg"/>
          <p:cNvPicPr/>
          <p:nvPr/>
        </p:nvPicPr>
        <p:blipFill>
          <a:blip r:embed="rId3"/>
          <a:stretch/>
        </p:blipFill>
        <p:spPr>
          <a:xfrm>
            <a:off x="5105520" y="304920"/>
            <a:ext cx="3124080" cy="22809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" descr="C:\Users\1\Desktop\Занятие золотя осень\images (31).jpg"/>
          <p:cNvPicPr/>
          <p:nvPr/>
        </p:nvPicPr>
        <p:blipFill>
          <a:blip r:embed="rId4"/>
          <a:stretch/>
        </p:blipFill>
        <p:spPr>
          <a:xfrm>
            <a:off x="304920" y="380880"/>
            <a:ext cx="4660920" cy="213372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6"/>
          <p:cNvSpPr/>
          <p:nvPr/>
        </p:nvSpPr>
        <p:spPr>
          <a:xfrm>
            <a:off x="533520" y="274644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  <a:ea typeface="Times New Roman"/>
              </a:rPr>
              <a:t>Ну а птицы гнезда вь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  <a:ea typeface="Times New Roman"/>
              </a:rPr>
              <a:t>А букашки прилет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5868360" y="3276720"/>
            <a:ext cx="2696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жай все собираю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4" descr="AutumnCornHarvestCadillacMichigan_hd"/>
          <p:cNvPicPr/>
          <p:nvPr/>
        </p:nvPicPr>
        <p:blipFill>
          <a:blip r:embed="rId1"/>
          <a:stretch/>
        </p:blipFill>
        <p:spPr>
          <a:xfrm>
            <a:off x="0" y="0"/>
            <a:ext cx="5562720" cy="37339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800 (1)"/>
          <p:cNvPicPr/>
          <p:nvPr/>
        </p:nvPicPr>
        <p:blipFill>
          <a:blip r:embed="rId2"/>
          <a:stretch/>
        </p:blipFill>
        <p:spPr>
          <a:xfrm>
            <a:off x="4876920" y="373392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7" descr="800"/>
          <p:cNvPicPr/>
          <p:nvPr/>
        </p:nvPicPr>
        <p:blipFill>
          <a:blip r:embed="rId3"/>
          <a:stretch/>
        </p:blipFill>
        <p:spPr>
          <a:xfrm>
            <a:off x="0" y="3733920"/>
            <a:ext cx="4876920" cy="312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304200" y="6324480"/>
            <a:ext cx="2620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чьи стаи улетаю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4" descr="8907"/>
          <p:cNvPicPr/>
          <p:nvPr/>
        </p:nvPicPr>
        <p:blipFill>
          <a:blip r:embed="rId1"/>
          <a:stretch/>
        </p:blipFill>
        <p:spPr>
          <a:xfrm>
            <a:off x="0" y="0"/>
            <a:ext cx="4724280" cy="44956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" descr="imgpreview (1)"/>
          <p:cNvPicPr/>
          <p:nvPr/>
        </p:nvPicPr>
        <p:blipFill>
          <a:blip r:embed="rId2"/>
          <a:stretch/>
        </p:blipFill>
        <p:spPr>
          <a:xfrm>
            <a:off x="4724280" y="3200400"/>
            <a:ext cx="4419720" cy="365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228960" y="6019920"/>
            <a:ext cx="29329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о-часто льют дожд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аем ли сапог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4" descr="imgpreview (2)"/>
          <p:cNvPicPr/>
          <p:nvPr/>
        </p:nvPicPr>
        <p:blipFill>
          <a:blip r:embed="rId1"/>
          <a:stretch/>
        </p:blipFill>
        <p:spPr>
          <a:xfrm>
            <a:off x="0" y="0"/>
            <a:ext cx="4267080" cy="34290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" descr="42696085"/>
          <p:cNvPicPr/>
          <p:nvPr/>
        </p:nvPicPr>
        <p:blipFill>
          <a:blip r:embed="rId2"/>
          <a:stretch/>
        </p:blipFill>
        <p:spPr>
          <a:xfrm>
            <a:off x="4241880" y="1600200"/>
            <a:ext cx="4902120" cy="3429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" descr="imgpreview (4)"/>
          <p:cNvPicPr/>
          <p:nvPr/>
        </p:nvPicPr>
        <p:blipFill>
          <a:blip r:embed="rId3"/>
          <a:stretch/>
        </p:blipFill>
        <p:spPr>
          <a:xfrm>
            <a:off x="6095880" y="50292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"/>
          <p:cNvSpPr/>
          <p:nvPr/>
        </p:nvSpPr>
        <p:spPr>
          <a:xfrm>
            <a:off x="230760" y="5334120"/>
            <a:ext cx="32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це светит очень жар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детям загор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 а что же надо 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тки, шапки надев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4" descr="imgpreview (3)"/>
          <p:cNvPicPr/>
          <p:nvPr/>
        </p:nvPicPr>
        <p:blipFill>
          <a:blip r:embed="rId1"/>
          <a:stretch/>
        </p:blipFill>
        <p:spPr>
          <a:xfrm>
            <a:off x="0" y="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5" descr="1286050892_5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4290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7" descr="K:\Осень 2016\P1070890.JPG"/>
          <p:cNvPicPr/>
          <p:nvPr/>
        </p:nvPicPr>
        <p:blipFill>
          <a:blip r:embed="rId3"/>
          <a:stretch/>
        </p:blipFill>
        <p:spPr>
          <a:xfrm>
            <a:off x="3809880" y="350532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665" name="Picture 4" descr="65401258_zolotaya_os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605" name="Picture 4" descr="91374454_large_8"/>
          <p:cNvPicPr/>
          <p:nvPr/>
        </p:nvPicPr>
        <p:blipFill>
          <a:blip r:embed="rId1"/>
          <a:stretch/>
        </p:blipFill>
        <p:spPr>
          <a:xfrm>
            <a:off x="304920" y="228600"/>
            <a:ext cx="3886200" cy="3108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C:\Users\1\Desktop\Занятие золотя осень\images (14).jpg"/>
          <p:cNvPicPr/>
          <p:nvPr/>
        </p:nvPicPr>
        <p:blipFill>
          <a:blip r:embed="rId2"/>
          <a:stretch/>
        </p:blipFill>
        <p:spPr>
          <a:xfrm>
            <a:off x="304920" y="3581280"/>
            <a:ext cx="3962160" cy="29689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C:\Users\1\Desktop\Занятие золотя осень\images (25).jpg"/>
          <p:cNvPicPr/>
          <p:nvPr/>
        </p:nvPicPr>
        <p:blipFill>
          <a:blip r:embed="rId3"/>
          <a:stretch/>
        </p:blipFill>
        <p:spPr>
          <a:xfrm>
            <a:off x="4495680" y="609480"/>
            <a:ext cx="4354560" cy="24386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C:\Users\1\Desktop\Занятие золотя осень\images (26).jpg"/>
          <p:cNvPicPr/>
          <p:nvPr/>
        </p:nvPicPr>
        <p:blipFill>
          <a:blip r:embed="rId4"/>
          <a:stretch/>
        </p:blipFill>
        <p:spPr>
          <a:xfrm>
            <a:off x="4419720" y="3809880"/>
            <a:ext cx="4354560" cy="243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28240" y="457200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ивительная, неповторимая пора- увядание. Солнце осеннее ярко светит, да не греет, вода в реке холодная. Как ни хороша осенняя погода, а все в природе готовятся к суровым холодам,  птицы улетают на юг. Одна из первых примет осени - на деревьях появляются разноцветные листочки,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теет и высыхает трава, идет моросящий дождь, на небе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ые облака, по утрам бывают туманы. 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611" name="Picture 4" descr="44992_or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44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613" name="Picture 2" descr="C:\Users\1\Desktop\Занятие золотя осень\Без названия (12).jpg"/>
          <p:cNvPicPr/>
          <p:nvPr/>
        </p:nvPicPr>
        <p:blipFill>
          <a:blip r:embed="rId1"/>
          <a:stretch/>
        </p:blipFill>
        <p:spPr>
          <a:xfrm>
            <a:off x="228600" y="3409920"/>
            <a:ext cx="3581280" cy="3278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C:\Users\1\Desktop\Занятие золотя осень\Без названия (11).jpg"/>
          <p:cNvPicPr/>
          <p:nvPr/>
        </p:nvPicPr>
        <p:blipFill>
          <a:blip r:embed="rId2"/>
          <a:stretch/>
        </p:blipFill>
        <p:spPr>
          <a:xfrm>
            <a:off x="2209680" y="228600"/>
            <a:ext cx="4267440" cy="30988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C:\Users\1\Desktop\Занятие золотя осень\Без названия (9).jpg"/>
          <p:cNvPicPr/>
          <p:nvPr/>
        </p:nvPicPr>
        <p:blipFill>
          <a:blip r:embed="rId3"/>
          <a:stretch/>
        </p:blipFill>
        <p:spPr>
          <a:xfrm>
            <a:off x="4648320" y="3505320"/>
            <a:ext cx="4267080" cy="31971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8"/>
          <p:cNvSpPr/>
          <p:nvPr/>
        </p:nvSpPr>
        <p:spPr>
          <a:xfrm>
            <a:off x="1295280" y="2514600"/>
            <a:ext cx="6248520" cy="916920"/>
          </a:xfrm>
          <a:prstGeom prst="rect">
            <a:avLst/>
          </a:prstGeom>
          <a:solidFill>
            <a:srgbClr val="fbe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ньше всех начинает желтеть лип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такая поговорка в народе «Мигнула липа пестрым листом – осень позвал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C:\Users\1\Desktop\Занятие золотя осень\Без названия (13).jpg"/>
          <p:cNvPicPr/>
          <p:nvPr/>
        </p:nvPicPr>
        <p:blipFill>
          <a:blip r:embed="rId2"/>
          <a:stretch/>
        </p:blipFill>
        <p:spPr>
          <a:xfrm>
            <a:off x="304920" y="304920"/>
            <a:ext cx="2990880" cy="38862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C:\Users\1\Desktop\Занятие золотя осень\bereza-j.jpg"/>
          <p:cNvPicPr/>
          <p:nvPr/>
        </p:nvPicPr>
        <p:blipFill>
          <a:blip r:embed="rId3"/>
          <a:stretch/>
        </p:blipFill>
        <p:spPr>
          <a:xfrm>
            <a:off x="3352680" y="2273400"/>
            <a:ext cx="5791320" cy="42037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C:\Users\1\Desktop\Занятие золотя осень\images (28).jpg"/>
          <p:cNvPicPr/>
          <p:nvPr/>
        </p:nvPicPr>
        <p:blipFill>
          <a:blip r:embed="rId4"/>
          <a:stretch/>
        </p:blipFill>
        <p:spPr>
          <a:xfrm>
            <a:off x="304920" y="4191120"/>
            <a:ext cx="3051000" cy="228600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8"/>
          <p:cNvSpPr/>
          <p:nvPr/>
        </p:nvSpPr>
        <p:spPr>
          <a:xfrm>
            <a:off x="3581280" y="1447920"/>
            <a:ext cx="5029200" cy="368280"/>
          </a:xfrm>
          <a:prstGeom prst="rect">
            <a:avLst/>
          </a:prstGeom>
          <a:solidFill>
            <a:srgbClr val="ad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 начинают желтеть березы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623" name="Picture 2" descr="C:\Users\1\Desktop\Занятие золотя осень\images (29).jpg"/>
          <p:cNvPicPr/>
          <p:nvPr/>
        </p:nvPicPr>
        <p:blipFill>
          <a:blip r:embed="rId1"/>
          <a:stretch/>
        </p:blipFill>
        <p:spPr>
          <a:xfrm>
            <a:off x="0" y="3875040"/>
            <a:ext cx="3962520" cy="29829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C:\Users\1\Desktop\Занятие золотя осень\Без названия (15).jpg"/>
          <p:cNvPicPr/>
          <p:nvPr/>
        </p:nvPicPr>
        <p:blipFill>
          <a:blip r:embed="rId2"/>
          <a:stretch/>
        </p:blipFill>
        <p:spPr>
          <a:xfrm>
            <a:off x="0" y="0"/>
            <a:ext cx="4068720" cy="30481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" descr="C:\Users\1\Desktop\Занятие золотя осень\images (30).jpg"/>
          <p:cNvPicPr/>
          <p:nvPr/>
        </p:nvPicPr>
        <p:blipFill>
          <a:blip r:embed="rId3"/>
          <a:stretch/>
        </p:blipFill>
        <p:spPr>
          <a:xfrm>
            <a:off x="4906800" y="0"/>
            <a:ext cx="4237200" cy="30481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C:\Users\1\Desktop\Занятие золотя осень\Без названия (16).jpg"/>
          <p:cNvPicPr/>
          <p:nvPr/>
        </p:nvPicPr>
        <p:blipFill>
          <a:blip r:embed="rId4"/>
          <a:stretch/>
        </p:blipFill>
        <p:spPr>
          <a:xfrm>
            <a:off x="5257800" y="3962520"/>
            <a:ext cx="3886200" cy="289548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8"/>
          <p:cNvSpPr/>
          <p:nvPr/>
        </p:nvSpPr>
        <p:spPr>
          <a:xfrm>
            <a:off x="2286000" y="2971800"/>
            <a:ext cx="4572000" cy="916920"/>
          </a:xfrm>
          <a:prstGeom prst="rect">
            <a:avLst/>
          </a:prstGeom>
          <a:solidFill>
            <a:srgbClr val="ad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ют желтеть листья рябины, кружатся в воздухе опадающие листья. Это явление называется листопа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solidFill>
            <a:srgbClr val="ad1f1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4e3b30"/>
                </a:solidFill>
                <a:latin typeface="Arial"/>
              </a:rPr>
              <a:t>ЛИСТОПАД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630" name="Picture 4" descr="3236332_large"/>
          <p:cNvPicPr/>
          <p:nvPr/>
        </p:nvPicPr>
        <p:blipFill>
          <a:blip r:embed="rId1"/>
          <a:stretch/>
        </p:blipFill>
        <p:spPr>
          <a:xfrm>
            <a:off x="380880" y="1600200"/>
            <a:ext cx="8763120" cy="50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914400"/>
          </a:xfrm>
          <a:prstGeom prst="rect">
            <a:avLst/>
          </a:prstGeom>
          <a:solidFill>
            <a:srgbClr val="ad1f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Игра «Да или нет»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80880" y="6324120"/>
            <a:ext cx="8305920" cy="3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Осенью цветут цветы?</a:t>
            </a:r>
            <a:endParaRPr b="0" lang="en-US" sz="18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633" name="Picture 4" descr="osennie_tsveti-2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7" descr="0_54fab_361516c_-1-XL"/>
          <p:cNvPicPr/>
          <p:nvPr/>
        </p:nvPicPr>
        <p:blipFill>
          <a:blip r:embed="rId1"/>
          <a:stretch/>
        </p:blipFill>
        <p:spPr>
          <a:xfrm>
            <a:off x="0" y="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8" descr="0_45e93_c9225b4f_XL"/>
          <p:cNvPicPr/>
          <p:nvPr/>
        </p:nvPicPr>
        <p:blipFill>
          <a:blip r:embed="rId2"/>
          <a:stretch/>
        </p:blipFill>
        <p:spPr>
          <a:xfrm>
            <a:off x="4419720" y="3276720"/>
            <a:ext cx="4724280" cy="358128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9"/>
          <p:cNvSpPr/>
          <p:nvPr/>
        </p:nvSpPr>
        <p:spPr>
          <a:xfrm>
            <a:off x="304920" y="6324480"/>
            <a:ext cx="2627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Осенью растут гри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8:36:05Z</dcterms:created>
  <dc:creator>Ковалева Юлия Игоревна</dc:creator>
  <dc:description/>
  <dc:language>en-US</dc:language>
  <cp:lastModifiedBy>1</cp:lastModifiedBy>
  <dcterms:modified xsi:type="dcterms:W3CDTF">2017-02-05T11:11:34Z</dcterms:modified>
  <cp:revision>88</cp:revision>
  <dc:subject/>
  <dc:title>Слайд 1</dc:title>
</cp:coreProperties>
</file>