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724-383D-4059-A922-4F8AE0FD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95C-78C1-4E0B-A377-748603E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ADBFB-7DE8-40AA-BAED-56670074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9CC31-7B7A-45FA-9EAD-D439E2A0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7AB26-59CA-410D-A6D1-E50C551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B16C4-86DF-4F2F-97AE-04740656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DCCB7-E63B-4B49-9485-A5AAB48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CB7B3-8993-411C-8515-53674FB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CA097-4C9E-4B92-AE25-091AA569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489BF-DFB2-4083-8399-0A3E44E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02402-EDE5-4243-8C43-BA4E355A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55B2C-B0EE-49D0-8DA1-73962087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388-9C21-4EE5-A798-29F68082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A1FC5-2D9D-42B6-A963-0E02D552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091FD-94B8-4933-B8D5-11C1B606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C2C9D-33F9-4833-9657-B6C3CE6F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A8C01-F8FC-4C12-92B1-91BE4C1A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6D11F-614D-45C5-B2B3-1C23AC5C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B850E-4E79-4A9D-AD9E-DBD9974E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930A9-6CDE-4EAC-8256-9B47FD8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D9348-3204-4D15-A815-214D9243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4F9B4-EB7C-4193-AA6A-E47ADFB8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FDF48-8B2D-43C1-AD26-F51F261E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C72-D8CE-4DA8-9460-77252E2A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931D9-27FB-4E30-BFDF-08BF396A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7F942-1C16-4D0E-A373-F5A4D8B4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509DD-CC74-4548-8547-D3E47292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F0147-0B55-4FF8-9EBB-C9DBA398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E2D5B-C3DC-4F9B-876F-B3962E7D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741CF-14C3-4600-B4F1-9684596D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15B33-A1A6-40F5-AD04-DE896B43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B70B6-D77D-4662-86EF-123FC1E1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40B1F-F3C3-4DE3-9FEE-A803B085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D9214-6D50-43C8-96E9-08F7D89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D317-DAF5-496A-8CBE-9839EB1D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2BB37-F03B-4AF7-A802-521DAC32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A585A-276A-4C67-BD3A-70318DA1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B028B-2295-49E3-AA12-80ADA30C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336788-2CD6-473D-B837-B6F058C0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B86B75-82B5-4B1B-9B18-EC1113A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2BAF7E-5C8C-4A80-9D80-2C2F014E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8C64A5-74F2-4EB6-9D7C-56B40880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64EC4D-9DD9-4FF1-AFEA-9C2D5C28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B45178-149A-4F2E-BF53-F64FB63B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88C1B8-496C-41A1-8099-29A599F8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C4ED-755D-4867-AD52-01D337D5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B1589C-91C4-4152-983B-EE5AE666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1145F1-6004-4752-B6EA-BD5B7E76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6ED375-FF28-4946-BEE1-D5321004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4D7C69-F549-4E37-A171-0FE91E4C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D0BB3A-558C-4271-9EFE-BE81E856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19C74-3A16-45BA-A0CC-3A3B06C3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7D655-2BB9-44A9-B5AE-000777D2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9E6D7-496D-4885-979A-FA2578F9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30555-CE11-4695-B7C8-2469818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82E03-EEEE-4D40-955A-C937F682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E121-F218-4160-A569-B9224F71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A6190-B3CC-4228-AB73-C81167C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765CA-BD88-4AA6-A15D-5631975F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8A9E2-1FA4-4B6D-B7EA-FAD07C7A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BBFEF-2522-4907-9373-EFD8524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F1CD4-E861-48E7-A679-87F5750B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26D11-6F91-4600-A0EB-941B6979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99478-11D3-44C4-9C40-F7DB746A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0549-AE7C-4AD3-A34F-64E87F36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EDE1-C0A1-4C26-B486-0CF9F19B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CBF8-4A73-4CE7-88D4-32429140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47AE-928C-48BF-A0A7-D2D3B87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C5B-C6AA-4D5F-B898-9AF11435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E03F-80B7-495D-9407-C51493C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D963-FF83-4EA2-87B5-D163101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4447-456E-4A24-BCB1-DD4914CD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8407-F538-47C0-AE78-2D4E4CE6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1177-2376-405D-9D84-8B06036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5BEA-DC80-409B-AFF5-0859C415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2A2F-128D-4816-8968-CDCE4425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00F2-B38D-4FF7-9F53-DB5AB494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2091-C1C3-4897-974D-E01D014A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B528-701F-401C-BF6C-BF3B5E7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585-6CD2-448E-8AB7-87C48645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5889-5BEB-4772-A93F-66DF4C9F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180E-9683-4DA7-9031-EF9FB69E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29C7-0E26-46BC-A41B-3B4D50F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A7D5-A00D-4C08-B40E-9AB2F6AB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5BCD-E7D1-4F95-B0D3-EC7E6A21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4002-6AE6-44D5-8616-3D295D84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F605-1243-43A4-8383-958FEE18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8034-16C5-45CF-BAF4-A6DF088E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9E5E9-F7F7-483C-AD5A-210FB8C4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B708-9859-473F-9043-F7482890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DA9-1515-40A7-9674-00198569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F9306-99F4-4CEB-860B-675DE189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766F-9F10-46D9-AA16-616A4AA8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D14C-C580-4CE3-89BC-ABB85D98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61A8-F24C-4E74-B374-BA40165B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14490-AAED-49DD-8F59-DFFB6CA3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6C10-7641-4635-8211-6F45FA96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4E0A-751C-4DD3-A004-560D371F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81303-C3DA-4A1F-A0B1-215D6236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EE33B-6E28-4269-BBE2-7C826D64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45D6D-C72C-405A-8FC9-A6E4BD45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33D-D998-465E-8F3E-B95A8EA8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24E5-9F89-46AD-BC4F-4347E81E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455A-47C5-4D8C-86D8-979A329A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92F37-66E3-4FE5-9176-BFBD5D93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C71D-3EB3-49C1-BCAB-FD72EE00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68A18-9C91-40B8-A74C-61AAA5B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5A07-E5BA-4CE8-AC4B-85DBC3A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32348-B316-4B09-9A90-509A9482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528A7-569C-4D3B-A04B-3AF21C1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B0120-47C7-4ECA-A130-256E0F45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DB85F-2D37-4333-A03F-6C421F9A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F27-DEA6-4770-B4AF-413D729B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98B9-5B53-4686-A34B-C698DE91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8EA3-4769-4436-8FBA-5EAA9530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F9BDB-D76D-4F7E-BCEC-EF4BC758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9A5FF-0460-4882-8D9D-287B0D6D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2C6FC-AA74-4FC5-BAE1-45614125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3226A-2ED0-43C4-9138-4A8F07FF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0977D-48A0-4030-990B-9E1CE921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9C68-12C0-422D-AB11-FC8C69A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F8F91-0E9D-4C70-9CED-999065E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EEA69-6FBF-4931-B1F3-194B8562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970-3D0B-4850-9189-EF93384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EF8D0-AAAE-4E5F-9318-2DD044CF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64792-CE7C-4E65-9540-F9C6678F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3B20A-AC40-4A5C-8E78-0EB96107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3953F-A00C-458B-A349-CF3C0586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D263E-27E9-4596-85B4-6C05E570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A203A-9810-43F2-BCFB-98B8FEDC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AFE12-9623-4F59-BC19-22DF80E3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3BB5D-382B-47B2-8DF0-6C4A22BA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ECDD6-421A-46F9-872F-5E72955A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A1E4F-CF20-415D-8E8E-8B627A27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ED8-04E5-411A-BE14-13711CD6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1ECE8-67D3-493B-8B54-7390D32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0F5FB-A74B-4038-A074-33591099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649B6-581E-4EFA-A9A0-48A063A7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2D507-FF4A-43DD-965E-056BA311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55E43-4014-4301-8AE4-991CE432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226A7-FD81-4678-98E3-47737232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171A3-3714-423E-8E35-47270477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7C69B-A6C8-4BD5-8083-53E9765B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511B5-9B4D-443B-95FC-3400CD8F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15B25-AC88-4673-85F3-50B0F932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9CD-6713-4DE9-ADF1-E8CB203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B156C-2C38-48B5-A4B1-C9B32E56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0B494-9D2D-4DA1-BD7C-18EF9DDF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5517B-6975-4C0E-B8CC-85B5D65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142D6-19A7-4BB1-8F18-01BE1C52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E04E0-013E-401B-A774-D5EE8D2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2A10F-1164-4D2C-B026-A6270016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0F414-A4F0-4ABB-B00B-2CE5F796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973AD-BC7C-43BB-B0A8-95ACC034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17C82-5DC0-42AE-9C76-F4ADC3E5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56DFF-8C40-4444-AF02-871AD528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3E6C-24C9-437A-972A-773CF6363A3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E672-45F5-4BD4-9F6B-5E0CD1DACF7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CEB3-C5D0-4FE3-907A-484379FF7A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47A2-B45B-46D7-9898-AF2D6BBE3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92A3-4A76-4370-AC76-AD99713327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78FD-0FB5-4898-B060-12177B4B4F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2E5-BF55-40D8-9131-7B496E1599F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D734-849B-4056-A3C6-BA3B784C372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9878-5B0D-47FB-BBD5-C9E9193EB1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9BDC-8553-4954-965C-BE528E9934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009E-B16A-4B41-9535-5FF596761B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1D6A-C76C-44DB-AD54-DD36E798A91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3FC1-68F9-495C-BFD1-CF8576AEE4E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endParaRPr b="0" lang="en-US" sz="49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01" name="Picture 6" descr="327"/>
          <p:cNvPicPr/>
          <p:nvPr/>
        </p:nvPicPr>
        <p:blipFill>
          <a:blip r:embed="rId1"/>
          <a:stretch/>
        </p:blipFill>
        <p:spPr>
          <a:xfrm>
            <a:off x="5334120" y="533520"/>
            <a:ext cx="3657600" cy="5562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C:\Users\1\Desktop\Занятие золотя осень\images.jpg"/>
          <p:cNvPicPr/>
          <p:nvPr/>
        </p:nvPicPr>
        <p:blipFill>
          <a:blip r:embed="rId2"/>
          <a:stretch/>
        </p:blipFill>
        <p:spPr>
          <a:xfrm>
            <a:off x="380880" y="457200"/>
            <a:ext cx="4862520" cy="2181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C:\Users\1\Desktop\Занятие золотя осень\images (21).jpg"/>
          <p:cNvPicPr/>
          <p:nvPr/>
        </p:nvPicPr>
        <p:blipFill>
          <a:blip r:embed="rId3"/>
          <a:stretch/>
        </p:blipFill>
        <p:spPr>
          <a:xfrm>
            <a:off x="380880" y="3048120"/>
            <a:ext cx="4876920" cy="30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0"/>
          <p:cNvSpPr/>
          <p:nvPr/>
        </p:nvSpPr>
        <p:spPr>
          <a:xfrm>
            <a:off x="4114800" y="152280"/>
            <a:ext cx="304812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чки солнце закрыв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ючий ветер прилет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маны осенью плыв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2" descr="c4eabc4e9e05"/>
          <p:cNvPicPr/>
          <p:nvPr/>
        </p:nvPicPr>
        <p:blipFill>
          <a:blip r:embed="rId1"/>
          <a:stretch/>
        </p:blipFill>
        <p:spPr>
          <a:xfrm>
            <a:off x="3124080" y="4343400"/>
            <a:ext cx="2743200" cy="23176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13"/>
          <p:cNvSpPr/>
          <p:nvPr/>
        </p:nvSpPr>
        <p:spPr>
          <a:xfrm>
            <a:off x="306000" y="6172200"/>
            <a:ext cx="289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ри норки закрываю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4" descr="DSC_4344"/>
          <p:cNvPicPr/>
          <p:nvPr/>
        </p:nvPicPr>
        <p:blipFill>
          <a:blip r:embed="rId2"/>
          <a:stretch/>
        </p:blipFill>
        <p:spPr>
          <a:xfrm>
            <a:off x="152280" y="0"/>
            <a:ext cx="3886200" cy="42624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C:\Users\1\Desktop\Занятие золотя осень\Без названия (17).jpg"/>
          <p:cNvPicPr/>
          <p:nvPr/>
        </p:nvPicPr>
        <p:blipFill>
          <a:blip r:embed="rId3"/>
          <a:stretch/>
        </p:blipFill>
        <p:spPr>
          <a:xfrm>
            <a:off x="4572000" y="1828800"/>
            <a:ext cx="387684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43" name="Picture 2" descr="C:\Users\1\Desktop\Занятие золотя осень\images (33).jpg"/>
          <p:cNvPicPr/>
          <p:nvPr/>
        </p:nvPicPr>
        <p:blipFill>
          <a:blip r:embed="rId1"/>
          <a:stretch/>
        </p:blipFill>
        <p:spPr>
          <a:xfrm>
            <a:off x="609480" y="4000680"/>
            <a:ext cx="3124440" cy="2339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C:\Users\1\Desktop\Занятие золотя осень\images (35).jpg"/>
          <p:cNvPicPr/>
          <p:nvPr/>
        </p:nvPicPr>
        <p:blipFill>
          <a:blip r:embed="rId2"/>
          <a:stretch/>
        </p:blipFill>
        <p:spPr>
          <a:xfrm>
            <a:off x="4343400" y="403848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C:\Users\1\Desktop\Занятие золотя осень\images (32).jpg"/>
          <p:cNvPicPr/>
          <p:nvPr/>
        </p:nvPicPr>
        <p:blipFill>
          <a:blip r:embed="rId3"/>
          <a:stretch/>
        </p:blipFill>
        <p:spPr>
          <a:xfrm>
            <a:off x="5105520" y="304920"/>
            <a:ext cx="3124080" cy="22809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C:\Users\1\Desktop\Занятие золотя осень\images (31).jpg"/>
          <p:cNvPicPr/>
          <p:nvPr/>
        </p:nvPicPr>
        <p:blipFill>
          <a:blip r:embed="rId4"/>
          <a:stretch/>
        </p:blipFill>
        <p:spPr>
          <a:xfrm>
            <a:off x="304920" y="380880"/>
            <a:ext cx="4660920" cy="213372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6"/>
          <p:cNvSpPr/>
          <p:nvPr/>
        </p:nvSpPr>
        <p:spPr>
          <a:xfrm>
            <a:off x="533520" y="274644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  <a:ea typeface="Times New Roman"/>
              </a:rPr>
              <a:t>Ну а птицы гнезда вь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  <a:ea typeface="Times New Roman"/>
              </a:rPr>
              <a:t>А букашки при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5868360" y="3276720"/>
            <a:ext cx="2696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жай все собираю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AutumnCornHarvestCadillacMichigan_hd"/>
          <p:cNvPicPr/>
          <p:nvPr/>
        </p:nvPicPr>
        <p:blipFill>
          <a:blip r:embed="rId1"/>
          <a:stretch/>
        </p:blipFill>
        <p:spPr>
          <a:xfrm>
            <a:off x="0" y="0"/>
            <a:ext cx="5562720" cy="3733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800 (1)"/>
          <p:cNvPicPr/>
          <p:nvPr/>
        </p:nvPicPr>
        <p:blipFill>
          <a:blip r:embed="rId2"/>
          <a:stretch/>
        </p:blipFill>
        <p:spPr>
          <a:xfrm>
            <a:off x="4876920" y="373392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800"/>
          <p:cNvPicPr/>
          <p:nvPr/>
        </p:nvPicPr>
        <p:blipFill>
          <a:blip r:embed="rId3"/>
          <a:stretch/>
        </p:blipFill>
        <p:spPr>
          <a:xfrm>
            <a:off x="0" y="3733920"/>
            <a:ext cx="4876920" cy="312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304200" y="6324480"/>
            <a:ext cx="2620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чьи стаи улетаю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4" descr="8907"/>
          <p:cNvPicPr/>
          <p:nvPr/>
        </p:nvPicPr>
        <p:blipFill>
          <a:blip r:embed="rId1"/>
          <a:stretch/>
        </p:blipFill>
        <p:spPr>
          <a:xfrm>
            <a:off x="0" y="0"/>
            <a:ext cx="4724280" cy="4495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imgpreview (1)"/>
          <p:cNvPicPr/>
          <p:nvPr/>
        </p:nvPicPr>
        <p:blipFill>
          <a:blip r:embed="rId2"/>
          <a:stretch/>
        </p:blipFill>
        <p:spPr>
          <a:xfrm>
            <a:off x="4724280" y="3200400"/>
            <a:ext cx="441972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228960" y="6019920"/>
            <a:ext cx="29329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-часто льют дож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ем ли сапог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4" descr="imgpreview (2)"/>
          <p:cNvPicPr/>
          <p:nvPr/>
        </p:nvPicPr>
        <p:blipFill>
          <a:blip r:embed="rId1"/>
          <a:stretch/>
        </p:blipFill>
        <p:spPr>
          <a:xfrm>
            <a:off x="0" y="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42696085"/>
          <p:cNvPicPr/>
          <p:nvPr/>
        </p:nvPicPr>
        <p:blipFill>
          <a:blip r:embed="rId2"/>
          <a:stretch/>
        </p:blipFill>
        <p:spPr>
          <a:xfrm>
            <a:off x="4241880" y="1600200"/>
            <a:ext cx="4902120" cy="3429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imgpreview (4)"/>
          <p:cNvPicPr/>
          <p:nvPr/>
        </p:nvPicPr>
        <p:blipFill>
          <a:blip r:embed="rId3"/>
          <a:stretch/>
        </p:blipFill>
        <p:spPr>
          <a:xfrm>
            <a:off x="6095880" y="50292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30760" y="533412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е светит очень жар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детям загор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а что же над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тки, шапки надев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imgpreview (3)"/>
          <p:cNvPicPr/>
          <p:nvPr/>
        </p:nvPicPr>
        <p:blipFill>
          <a:blip r:embed="rId1"/>
          <a:stretch/>
        </p:blipFill>
        <p:spPr>
          <a:xfrm>
            <a:off x="0" y="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1286050892_5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7" descr="K:\Осень 2016\P1070890.JPG"/>
          <p:cNvPicPr/>
          <p:nvPr/>
        </p:nvPicPr>
        <p:blipFill>
          <a:blip r:embed="rId3"/>
          <a:stretch/>
        </p:blipFill>
        <p:spPr>
          <a:xfrm>
            <a:off x="3809880" y="3505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665" name="Picture 4" descr="65401258_zolotaya_os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05" name="Picture 4" descr="91374454_large_8"/>
          <p:cNvPicPr/>
          <p:nvPr/>
        </p:nvPicPr>
        <p:blipFill>
          <a:blip r:embed="rId1"/>
          <a:stretch/>
        </p:blipFill>
        <p:spPr>
          <a:xfrm>
            <a:off x="304920" y="228600"/>
            <a:ext cx="3886200" cy="3108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Users\1\Desktop\Занятие золотя осень\images (14).jpg"/>
          <p:cNvPicPr/>
          <p:nvPr/>
        </p:nvPicPr>
        <p:blipFill>
          <a:blip r:embed="rId2"/>
          <a:stretch/>
        </p:blipFill>
        <p:spPr>
          <a:xfrm>
            <a:off x="304920" y="3581280"/>
            <a:ext cx="3962160" cy="2968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C:\Users\1\Desktop\Занятие золотя осень\images (25).jpg"/>
          <p:cNvPicPr/>
          <p:nvPr/>
        </p:nvPicPr>
        <p:blipFill>
          <a:blip r:embed="rId3"/>
          <a:stretch/>
        </p:blipFill>
        <p:spPr>
          <a:xfrm>
            <a:off x="4495680" y="609480"/>
            <a:ext cx="4354560" cy="2438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C:\Users\1\Desktop\Занятие золотя осень\images (26).jpg"/>
          <p:cNvPicPr/>
          <p:nvPr/>
        </p:nvPicPr>
        <p:blipFill>
          <a:blip r:embed="rId4"/>
          <a:stretch/>
        </p:blipFill>
        <p:spPr>
          <a:xfrm>
            <a:off x="4419720" y="3809880"/>
            <a:ext cx="4354560" cy="243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ивительная, неповторимая пора- увядание. Солнце осеннее ярко светит, да не греет, вода в реке холодная. Как ни хороша осенняя погода, а все в природе готовятся к суровым холодам,  птицы улетают на юг. Одна из первых примет осени - на деревьях появляются разноцветные листочки,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теет и высыхает трава, идет моросящий дождь, на небе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ые облака, по утрам бывают туманы.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611" name="Picture 4" descr="44992_or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4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13" name="Picture 2" descr="C:\Users\1\Desktop\Занятие золотя осень\Без названия (12).jpg"/>
          <p:cNvPicPr/>
          <p:nvPr/>
        </p:nvPicPr>
        <p:blipFill>
          <a:blip r:embed="rId1"/>
          <a:stretch/>
        </p:blipFill>
        <p:spPr>
          <a:xfrm>
            <a:off x="228600" y="3409920"/>
            <a:ext cx="3581280" cy="3278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C:\Users\1\Desktop\Занятие золотя осень\Без названия (11).jpg"/>
          <p:cNvPicPr/>
          <p:nvPr/>
        </p:nvPicPr>
        <p:blipFill>
          <a:blip r:embed="rId2"/>
          <a:stretch/>
        </p:blipFill>
        <p:spPr>
          <a:xfrm>
            <a:off x="2209680" y="228600"/>
            <a:ext cx="4267440" cy="30988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Users\1\Desktop\Занятие золотя осень\Без названия (9).jpg"/>
          <p:cNvPicPr/>
          <p:nvPr/>
        </p:nvPicPr>
        <p:blipFill>
          <a:blip r:embed="rId3"/>
          <a:stretch/>
        </p:blipFill>
        <p:spPr>
          <a:xfrm>
            <a:off x="4648320" y="3505320"/>
            <a:ext cx="4267080" cy="31971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8"/>
          <p:cNvSpPr/>
          <p:nvPr/>
        </p:nvSpPr>
        <p:spPr>
          <a:xfrm>
            <a:off x="1295280" y="2514600"/>
            <a:ext cx="6248520" cy="916920"/>
          </a:xfrm>
          <a:prstGeom prst="rect">
            <a:avLst/>
          </a:prstGeom>
          <a:solidFill>
            <a:srgbClr val="fbe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ьше всех начинает желтеть ли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такая поговорка в народе «Мигнула липа пестрым листом – осень позвал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C:\Users\1\Desktop\Занятие золотя осень\Без названия (13).jpg"/>
          <p:cNvPicPr/>
          <p:nvPr/>
        </p:nvPicPr>
        <p:blipFill>
          <a:blip r:embed="rId2"/>
          <a:stretch/>
        </p:blipFill>
        <p:spPr>
          <a:xfrm>
            <a:off x="304920" y="304920"/>
            <a:ext cx="2990880" cy="3886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Users\1\Desktop\Занятие золотя осень\bereza-j.jpg"/>
          <p:cNvPicPr/>
          <p:nvPr/>
        </p:nvPicPr>
        <p:blipFill>
          <a:blip r:embed="rId3"/>
          <a:stretch/>
        </p:blipFill>
        <p:spPr>
          <a:xfrm>
            <a:off x="3352680" y="2273400"/>
            <a:ext cx="5791320" cy="42037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C:\Users\1\Desktop\Занятие золотя осень\images (28).jpg"/>
          <p:cNvPicPr/>
          <p:nvPr/>
        </p:nvPicPr>
        <p:blipFill>
          <a:blip r:embed="rId4"/>
          <a:stretch/>
        </p:blipFill>
        <p:spPr>
          <a:xfrm>
            <a:off x="304920" y="4191120"/>
            <a:ext cx="3051000" cy="22860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8"/>
          <p:cNvSpPr/>
          <p:nvPr/>
        </p:nvSpPr>
        <p:spPr>
          <a:xfrm>
            <a:off x="3581280" y="1447920"/>
            <a:ext cx="5029200" cy="368280"/>
          </a:xfrm>
          <a:prstGeom prst="rect">
            <a:avLst/>
          </a:prstGeom>
          <a:solidFill>
            <a:srgbClr val="ad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начинают желтеть березы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23" name="Picture 2" descr="C:\Users\1\Desktop\Занятие золотя осень\images (29).jpg"/>
          <p:cNvPicPr/>
          <p:nvPr/>
        </p:nvPicPr>
        <p:blipFill>
          <a:blip r:embed="rId1"/>
          <a:stretch/>
        </p:blipFill>
        <p:spPr>
          <a:xfrm>
            <a:off x="0" y="3875040"/>
            <a:ext cx="3962520" cy="29829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C:\Users\1\Desktop\Занятие золотя осень\Без названия (15).jpg"/>
          <p:cNvPicPr/>
          <p:nvPr/>
        </p:nvPicPr>
        <p:blipFill>
          <a:blip r:embed="rId2"/>
          <a:stretch/>
        </p:blipFill>
        <p:spPr>
          <a:xfrm>
            <a:off x="0" y="0"/>
            <a:ext cx="4068720" cy="3048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C:\Users\1\Desktop\Занятие золотя осень\images (30).jpg"/>
          <p:cNvPicPr/>
          <p:nvPr/>
        </p:nvPicPr>
        <p:blipFill>
          <a:blip r:embed="rId3"/>
          <a:stretch/>
        </p:blipFill>
        <p:spPr>
          <a:xfrm>
            <a:off x="4906800" y="0"/>
            <a:ext cx="4237200" cy="3048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C:\Users\1\Desktop\Занятие золотя осень\Без названия (16).jpg"/>
          <p:cNvPicPr/>
          <p:nvPr/>
        </p:nvPicPr>
        <p:blipFill>
          <a:blip r:embed="rId4"/>
          <a:stretch/>
        </p:blipFill>
        <p:spPr>
          <a:xfrm>
            <a:off x="5257800" y="3962520"/>
            <a:ext cx="3886200" cy="28954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8"/>
          <p:cNvSpPr/>
          <p:nvPr/>
        </p:nvSpPr>
        <p:spPr>
          <a:xfrm>
            <a:off x="2286000" y="2971800"/>
            <a:ext cx="4572000" cy="916920"/>
          </a:xfrm>
          <a:prstGeom prst="rect">
            <a:avLst/>
          </a:prstGeom>
          <a:solidFill>
            <a:srgbClr val="ad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ют желтеть листья рябины, кружатся в воздухе опадающие листья. Это явление называется листоп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solidFill>
            <a:srgbClr val="ad1f1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4e3b30"/>
                </a:solidFill>
                <a:latin typeface="Arial"/>
              </a:rPr>
              <a:t>ЛИСТОПАД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630" name="Picture 4" descr="3236332_large"/>
          <p:cNvPicPr/>
          <p:nvPr/>
        </p:nvPicPr>
        <p:blipFill>
          <a:blip r:embed="rId1"/>
          <a:stretch/>
        </p:blipFill>
        <p:spPr>
          <a:xfrm>
            <a:off x="380880" y="16002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14400"/>
          </a:xfrm>
          <a:prstGeom prst="rect">
            <a:avLst/>
          </a:prstGeom>
          <a:solidFill>
            <a:srgbClr val="ad1f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Игра «Да или нет»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0880" y="6324120"/>
            <a:ext cx="8305920" cy="3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Осенью цветут цветы?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633" name="Picture 4" descr="osennie_tsveti-2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7" descr="0_54fab_361516c_-1-XL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0_45e93_c9225b4f_XL"/>
          <p:cNvPicPr/>
          <p:nvPr/>
        </p:nvPicPr>
        <p:blipFill>
          <a:blip r:embed="rId2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9"/>
          <p:cNvSpPr/>
          <p:nvPr/>
        </p:nvSpPr>
        <p:spPr>
          <a:xfrm>
            <a:off x="304920" y="6324480"/>
            <a:ext cx="262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Осенью растут гри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8:36:05Z</dcterms:created>
  <dc:creator>Ковалева Юлия Игоревна</dc:creator>
  <dc:description/>
  <dc:language>en-US</dc:language>
  <cp:lastModifiedBy>1</cp:lastModifiedBy>
  <dcterms:modified xsi:type="dcterms:W3CDTF">2017-02-05T11:11:34Z</dcterms:modified>
  <cp:revision>88</cp:revision>
  <dc:subject/>
  <dc:title>Слайд 1</dc:title>
</cp:coreProperties>
</file>