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567-E621-4D3C-A4C3-952F2E3805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764-8D82-4D12-8DD3-884FADA1B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B29-3CAF-4790-8DCE-37E2281E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882-DEA0-4628-AB78-5FBC62F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5BC-FF97-4882-ACF6-D2B02638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515-073E-46C7-9883-0539274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22B-C593-4B88-9E61-A9172CC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7536-5F9F-4CE6-870D-9BD29E9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178B-8777-4587-93A5-66723F5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2961-82A0-471F-9718-39C675F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F0E8-1A03-4785-926B-586EB7D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13E9-7429-4E1D-BA06-786F8FA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4EC7-58FA-4905-BEE9-F18DFC7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FB2-AF2C-40CF-9DC8-4D89289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17BE-216E-473F-9746-2C2698E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67F-8E1C-45C6-B8F6-2164A95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66B-963D-4AB0-BADC-8B5C4986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E22-7901-4F36-9F4F-24F8D2B3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C7B5-9B78-4BE4-B66A-CF67D807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160-7F23-4557-98ED-BE22E1B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C56-D7CF-4EE9-823B-713B6D0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B02-4448-4DDE-A3A9-56C66908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D59-4F16-49C5-8BA4-1463DD8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9B0-AE9F-4A4B-9337-180688A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90B-F94E-4B8A-8A8D-4781910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023-DB01-45B6-9F04-A9B6BAD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DCFE-2F7F-4571-9986-88B971ADD2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EDB6-C8D2-4539-81C0-F59DA87B6D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Fields of scien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ligh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547640" y="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гимназия №16 «Интер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5219640" y="573264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 учитель англ.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нчикова Светла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840" y="2444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What are they famous for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4" descr="gagarin.jpg"/>
          <p:cNvPicPr/>
          <p:nvPr/>
        </p:nvPicPr>
        <p:blipFill>
          <a:blip r:embed="rId1"/>
          <a:stretch/>
        </p:blipFill>
        <p:spPr>
          <a:xfrm>
            <a:off x="426960" y="1322280"/>
            <a:ext cx="2462400" cy="2146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user\Рабочий стол\1.jpeg"/>
          <p:cNvPicPr/>
          <p:nvPr/>
        </p:nvPicPr>
        <p:blipFill>
          <a:blip r:embed="rId2"/>
          <a:srcRect l="3937" t="0" r="3937" b="5921"/>
          <a:stretch/>
        </p:blipFill>
        <p:spPr>
          <a:xfrm>
            <a:off x="3540240" y="1571760"/>
            <a:ext cx="1655640" cy="187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Documents and Settings\user\Рабочий стол\Alexander_Graham_Bell_Biography_2.jpg"/>
          <p:cNvPicPr/>
          <p:nvPr/>
        </p:nvPicPr>
        <p:blipFill>
          <a:blip r:embed="rId3"/>
          <a:stretch/>
        </p:blipFill>
        <p:spPr>
          <a:xfrm>
            <a:off x="6334200" y="1658880"/>
            <a:ext cx="1406520" cy="169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user\Рабочий стол\200px-Bill_Gates_World_Economic_Forum_2007.jpg"/>
          <p:cNvPicPr/>
          <p:nvPr/>
        </p:nvPicPr>
        <p:blipFill>
          <a:blip r:embed="rId4"/>
          <a:stretch/>
        </p:blipFill>
        <p:spPr>
          <a:xfrm>
            <a:off x="828720" y="4005360"/>
            <a:ext cx="1657440" cy="186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ocuments and Settings\user\Рабочий стол\11.jpeg"/>
          <p:cNvPicPr/>
          <p:nvPr/>
        </p:nvPicPr>
        <p:blipFill>
          <a:blip r:embed="rId5"/>
          <a:srcRect l="2509" t="1928" r="5018" b="1928"/>
          <a:stretch/>
        </p:blipFill>
        <p:spPr>
          <a:xfrm>
            <a:off x="3635280" y="4005360"/>
            <a:ext cx="1584360" cy="188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PER_MOD_164_a"/>
          <p:cNvPicPr/>
          <p:nvPr/>
        </p:nvPicPr>
        <p:blipFill>
          <a:blip r:embed="rId6"/>
          <a:stretch/>
        </p:blipFill>
        <p:spPr>
          <a:xfrm>
            <a:off x="5742000" y="3860640"/>
            <a:ext cx="2590920" cy="1808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925560" y="33415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uri Gag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3530160" y="34653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690520" y="34066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040400" y="5923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810600" y="58896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l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-206280"/>
            <a:ext cx="914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280" y="83160"/>
            <a:ext cx="91440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920" bIns="7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5828040" y="573876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golfier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Hot-air ballo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a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ome to th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t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afe a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Re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u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Ra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u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412640"/>
            <a:ext cx="3886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ра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лыть в возду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Любопы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de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Но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Средство пере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c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Со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Целый и невре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Ж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одн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01 - Unit 3a. Ex. 1, p. 42.mp3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1882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Natural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Social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Applied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ich subject should people study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326960"/>
            <a:ext cx="81360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d3dd7"/>
                </a:solidFill>
                <a:latin typeface="Arial"/>
              </a:rPr>
              <a:t>e.g.    To become a computer programmer, you should study  Computer scien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n accounta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geologis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mechanic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teacher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 web designer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 preside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surge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gardener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scientis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57:30Z</dcterms:created>
  <dc:creator>Admin</dc:creator>
  <dc:description/>
  <dc:language>en-US</dc:language>
  <cp:lastModifiedBy>Б4</cp:lastModifiedBy>
  <dcterms:modified xsi:type="dcterms:W3CDTF">2017-01-19T07:12:22Z</dcterms:modified>
  <cp:revision>9</cp:revision>
  <dc:subject/>
  <dc:title>What are they famous for?</dc:title>
</cp:coreProperties>
</file>