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77B0-1047-49C8-AC11-64E86775F2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A1A2-29F9-4580-82C2-112787334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ACD-DCA6-42F4-B73F-DF001491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21A-C79D-4483-9F10-9C50D5D7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356-A196-420E-A097-05756072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F40-CF87-42BA-A4A7-A0B311B3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04F2-06C2-4345-B314-AAFC087A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E064-20E1-4276-B9AF-135C3FF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1AC-C746-4A93-9672-DABD2225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EDE2-DD82-4FC2-93F7-8DF7D88D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783E-732A-4BB6-BE2B-CF7F0742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F7C-B5FD-474E-9BF4-782BAFE6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849-D0A1-495D-8516-B78A6E6A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55C-380F-453F-88A8-3A524139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3FA-B291-49CD-9A0C-8283815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18CF-D997-4722-B434-9FF32DE1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11FF-527E-4C4D-B13D-7380AF67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FD9D-5198-4B24-8986-F994F7F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67E-04A1-4713-AFCE-01B0EEF2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521-2949-45D3-95CD-02345CE4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B1A-6DF4-447F-90D1-59AD5FA2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FFA-441B-44A6-9E22-BB69EC6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644-CD0E-46A7-9A2F-DEF6336B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FDB-AF9C-47D8-B348-C12EF83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BE9-9956-4D59-B8FD-703690A5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93C-2622-470A-BADE-CAC7644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7703-EA1A-4AC8-B581-321087DF38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1DB9-357F-402E-BD25-262F9ECBFA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Fields of scien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ligh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547640" y="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гимназия №16 «Интер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5219640" y="573264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 учитель англ.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нчикова Светлан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840" y="24444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What are they famous for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4" descr="gagarin.jpg"/>
          <p:cNvPicPr/>
          <p:nvPr/>
        </p:nvPicPr>
        <p:blipFill>
          <a:blip r:embed="rId1"/>
          <a:stretch/>
        </p:blipFill>
        <p:spPr>
          <a:xfrm>
            <a:off x="426960" y="1322280"/>
            <a:ext cx="2462400" cy="2146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user\Рабочий стол\1.jpeg"/>
          <p:cNvPicPr/>
          <p:nvPr/>
        </p:nvPicPr>
        <p:blipFill>
          <a:blip r:embed="rId2"/>
          <a:srcRect l="3937" t="0" r="3937" b="5921"/>
          <a:stretch/>
        </p:blipFill>
        <p:spPr>
          <a:xfrm>
            <a:off x="3540240" y="1571760"/>
            <a:ext cx="1655640" cy="187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C:\Documents and Settings\user\Рабочий стол\Alexander_Graham_Bell_Biography_2.jpg"/>
          <p:cNvPicPr/>
          <p:nvPr/>
        </p:nvPicPr>
        <p:blipFill>
          <a:blip r:embed="rId3"/>
          <a:stretch/>
        </p:blipFill>
        <p:spPr>
          <a:xfrm>
            <a:off x="6334200" y="1658880"/>
            <a:ext cx="1406520" cy="169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user\Рабочий стол\200px-Bill_Gates_World_Economic_Forum_2007.jpg"/>
          <p:cNvPicPr/>
          <p:nvPr/>
        </p:nvPicPr>
        <p:blipFill>
          <a:blip r:embed="rId4"/>
          <a:stretch/>
        </p:blipFill>
        <p:spPr>
          <a:xfrm>
            <a:off x="828720" y="4005360"/>
            <a:ext cx="1657440" cy="186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Documents and Settings\user\Рабочий стол\11.jpeg"/>
          <p:cNvPicPr/>
          <p:nvPr/>
        </p:nvPicPr>
        <p:blipFill>
          <a:blip r:embed="rId5"/>
          <a:srcRect l="2509" t="1928" r="5018" b="1928"/>
          <a:stretch/>
        </p:blipFill>
        <p:spPr>
          <a:xfrm>
            <a:off x="3635280" y="4005360"/>
            <a:ext cx="1584360" cy="188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PER_MOD_164_a"/>
          <p:cNvPicPr/>
          <p:nvPr/>
        </p:nvPicPr>
        <p:blipFill>
          <a:blip r:embed="rId6"/>
          <a:stretch/>
        </p:blipFill>
        <p:spPr>
          <a:xfrm>
            <a:off x="5742000" y="3860640"/>
            <a:ext cx="2590920" cy="1808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925560" y="33415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uri Gag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3530160" y="346536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690520" y="34066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er Graham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040400" y="5923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3810600" y="58896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l B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-206280"/>
            <a:ext cx="9144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52280" y="83160"/>
            <a:ext cx="91440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920" bIns="7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"/>
          <p:cNvSpPr/>
          <p:nvPr/>
        </p:nvSpPr>
        <p:spPr>
          <a:xfrm>
            <a:off x="5828040" y="573876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golfier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Hot-air ballo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au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ome to the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St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Safe an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Re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Su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Ra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u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412640"/>
            <a:ext cx="3886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Пра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Плыть в возду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Любопы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dec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Но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Средство пере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c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Со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Целый и невре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Ж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Усп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omic Sans MS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Подним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01 - Unit 3a. Ex. 1, p. 42.mp3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18822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Natural sci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хема 1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Social sci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хема 1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omic"/>
              </a:rPr>
              <a:t>Applied sci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хема 1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ich subject should people study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326960"/>
            <a:ext cx="81360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d3dd7"/>
                </a:solidFill>
                <a:latin typeface="Arial"/>
              </a:rPr>
              <a:t>e.g.    To become a computer programmer, you should study  Computer scien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n accounta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geologis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mechanic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teacher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 web designer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 preside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surge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gardener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become a scientis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57:30Z</dcterms:created>
  <dc:creator>Admin</dc:creator>
  <dc:description/>
  <dc:language>en-US</dc:language>
  <cp:lastModifiedBy>Б4</cp:lastModifiedBy>
  <dcterms:modified xsi:type="dcterms:W3CDTF">2017-01-19T07:12:22Z</dcterms:modified>
  <cp:revision>9</cp:revision>
  <dc:subject/>
  <dc:title>What are they famous for?</dc:title>
</cp:coreProperties>
</file>