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gif" ContentType="image/gif"/>
  <Override PartName="/ppt/media/image13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51B-C0D0-49A5-97F1-07160D33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EA0-AE12-4294-8FB0-E87E58A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8A0-B17D-40FD-AB7A-28B926A7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CB1-292B-4F7C-8A39-C21B8F05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230-6A4B-4416-ABA3-7B6284F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DFA-E22F-4D65-9353-CA5304EA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278-8206-4AD2-8168-7578A58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C23-87EE-416F-B056-DFF8826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D48-4E0D-41C5-AA8F-BD23D86D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BAC-8211-4DCA-B3BD-73299D6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AB5-B100-4EB9-A7BD-F674C64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C5B-499B-462B-9204-CC51D05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3C91-1593-4DED-83EE-4FB573839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ea25d"/>
                </a:solidFill>
                <a:latin typeface="Arial"/>
              </a:rPr>
              <a:t>Цель и задач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85880" y="1571760"/>
            <a:ext cx="7786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Познакомить обучающихся с   праздничными гостевыми пес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Пробудить интерес к старинным обря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1ea25d"/>
                </a:solidFill>
                <a:latin typeface="Arial"/>
              </a:rPr>
              <a:t>Воспитывать дружелюб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a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6840"/>
            <a:ext cx="4038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на - б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ч- ва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ыльо-пи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ара – творожная запек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гыльо- варе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356840"/>
            <a:ext cx="4038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 –р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а – 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а -хозя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йыш-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йлаш –угощ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авате-хозя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Гостевые пес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лынат ом мошто, ўденат ом мош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е ўдем тений шыда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ралтенат ом мошто, йўктенат ом мош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е сийлем таче унам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вер эныж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чнеда г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шо уло гынат,пуры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нан койышнам палнеда г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а улна гынат, мийы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ень рождения республик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рий Эл - 4 ноябр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Dell\Desktop\310px-Карта_Марий_Эл.png"/>
          <p:cNvPicPr/>
          <p:nvPr/>
        </p:nvPicPr>
        <p:blipFill>
          <a:blip r:embed="rId2"/>
          <a:stretch/>
        </p:blipFill>
        <p:spPr>
          <a:xfrm>
            <a:off x="901800" y="1413000"/>
            <a:ext cx="7342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900000" y="1916280"/>
            <a:ext cx="75297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Рождество, святки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Рошто, Шорыкйо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документы\shorik_yol_web_0_0.jpg"/>
          <p:cNvPicPr/>
          <p:nvPr/>
        </p:nvPicPr>
        <p:blipFill>
          <a:blip r:embed="rId1"/>
          <a:stretch/>
        </p:blipFill>
        <p:spPr>
          <a:xfrm>
            <a:off x="4932360" y="1773360"/>
            <a:ext cx="3672000" cy="33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900000" y="1700280"/>
            <a:ext cx="352764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кров Пресвятой Богородицы</a:t>
            </a: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Покро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Dell\Desktop\1223875232-shutterstock_18635971.jpg"/>
          <p:cNvPicPr/>
          <p:nvPr/>
        </p:nvPicPr>
        <p:blipFill>
          <a:blip r:embed="rId1"/>
          <a:stretch/>
        </p:blipFill>
        <p:spPr>
          <a:xfrm>
            <a:off x="1012680" y="1557360"/>
            <a:ext cx="269568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Dell\Desktop\1223877596-shutterstock_1850925.jpg"/>
          <p:cNvPicPr/>
          <p:nvPr/>
        </p:nvPicPr>
        <p:blipFill>
          <a:blip r:embed="rId2"/>
          <a:stretch/>
        </p:blipFill>
        <p:spPr>
          <a:xfrm>
            <a:off x="5292720" y="2060640"/>
            <a:ext cx="297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асленица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Ўярн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документы\shorikjol_0_0.jpg"/>
          <p:cNvPicPr/>
          <p:nvPr/>
        </p:nvPicPr>
        <p:blipFill>
          <a:blip r:embed="rId1"/>
          <a:stretch/>
        </p:blipFill>
        <p:spPr>
          <a:xfrm>
            <a:off x="4716360" y="1700280"/>
            <a:ext cx="367200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684360" y="1700280"/>
            <a:ext cx="374328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асха </a:t>
            </a: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Кугеч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http://mariel.org.ru/uploads/posts/2009-04/1241009287_002-1.jpg"/>
          <p:cNvPicPr/>
          <p:nvPr/>
        </p:nvPicPr>
        <p:blipFill>
          <a:blip r:embed="rId1"/>
          <a:stretch/>
        </p:blipFill>
        <p:spPr>
          <a:xfrm>
            <a:off x="4572000" y="1557360"/>
            <a:ext cx="3987720" cy="364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Dell\Desktop\images.jpg"/>
          <p:cNvPicPr/>
          <p:nvPr/>
        </p:nvPicPr>
        <p:blipFill>
          <a:blip r:embed="rId2"/>
          <a:stretch/>
        </p:blipFill>
        <p:spPr>
          <a:xfrm>
            <a:off x="684360" y="1557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Троица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Impact"/>
              </a:rPr>
              <a:t>( Семы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Dell\Desktop\orig_33bba6253da49e1c84317bd3cabac659.gif"/>
          <p:cNvPicPr/>
          <p:nvPr/>
        </p:nvPicPr>
        <p:blipFill>
          <a:blip r:embed="rId1"/>
          <a:stretch/>
        </p:blipFill>
        <p:spPr>
          <a:xfrm>
            <a:off x="900000" y="1844640"/>
            <a:ext cx="3814920" cy="356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Dell\Desktop\images.jpg"/>
          <p:cNvPicPr/>
          <p:nvPr/>
        </p:nvPicPr>
        <p:blipFill>
          <a:blip r:embed="rId2"/>
          <a:stretch/>
        </p:blipFill>
        <p:spPr>
          <a:xfrm>
            <a:off x="4932360" y="1916280"/>
            <a:ext cx="3456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Краснова Э. - уна муро. _.mp3" descr=""/>
          <p:cNvPicPr/>
          <p:nvPr/>
        </p:nvPicPr>
        <p:blipFill>
          <a:blip r:embed="rId2"/>
          <a:stretch/>
        </p:blipFill>
        <p:spPr>
          <a:xfrm>
            <a:off x="8072280" y="5214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1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Impact"/>
              </a:rPr>
              <a:t>Гостевые песни</a:t>
            </a:r>
            <a:br>
              <a:rPr sz="8000"/>
            </a:br>
            <a:r>
              <a:rPr b="0" lang="ru-RU" sz="8000" spc="-1" strike="noStrike">
                <a:solidFill>
                  <a:srgbClr val="002060"/>
                </a:solidFill>
                <a:latin typeface="Impact"/>
              </a:rPr>
              <a:t>(Уна муро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Семейные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д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с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восел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ад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9:27:09Z</dcterms:created>
  <dc:creator>Людмила</dc:creator>
  <dc:description/>
  <dc:language>en-US</dc:language>
  <cp:lastModifiedBy>Dell</cp:lastModifiedBy>
  <dcterms:modified xsi:type="dcterms:W3CDTF">2015-10-15T20:16:56Z</dcterms:modified>
  <cp:revision>162</cp:revision>
  <dc:subject/>
  <dc:title>Слайд 1</dc:title>
</cp:coreProperties>
</file>