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gif" ContentType="image/gif"/>
  <Override PartName="/ppt/media/image13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0EB-B2A9-476D-83B0-0961F5A1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B31-3638-4798-B6C2-C407FB3E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3B4-7095-49A8-AF3B-8D1E4DA5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F42-2CFD-48C2-A211-4C493A4E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A55-B9CE-4817-AB74-D421955C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C04-B9B8-412B-9DAF-BCF9470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720-A094-4DB1-8EE5-F41FD67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73B-B2B6-40E0-AD64-B2F27894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756-9C6F-45BB-A7C6-2C8F78B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BB8-7570-41DF-A5CC-66EE516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74A-0C12-489B-8795-D4F8C9C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AFB-9CDE-4F22-B479-83F64CF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80C-2422-4D71-AA12-6F0A49136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a25d"/>
                </a:solidFill>
                <a:latin typeface="Arial"/>
              </a:rPr>
              <a:t>Цель и 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85880" y="1571760"/>
            <a:ext cx="7786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Познакомить обучающихся с   праздничными гостевыми пес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Пробудить интерес к старинным обря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Воспитывать друже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6840"/>
            <a:ext cx="4038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на - б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ч- ва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ыльо-пи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ара – творожная запек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гыльо- варе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356840"/>
            <a:ext cx="4038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 –р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 – 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а -хозя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йыш-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йлаш –угощ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авате-хозя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Гостевые пес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лынат ом мошто, ўденат ом мош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е ўдем тений шыда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ралтенат ом мошто, йўктенат ом мош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е сийлем таче унам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вер эныж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чнеда г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шо уло гынат,пуры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нан койышнам палнеда г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а улна гынат, мийыз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ень рождения республик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рий Эл - 4 ноябр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Dell\Desktop\310px-Карта_Марий_Эл.png"/>
          <p:cNvPicPr/>
          <p:nvPr/>
        </p:nvPicPr>
        <p:blipFill>
          <a:blip r:embed="rId2"/>
          <a:stretch/>
        </p:blipFill>
        <p:spPr>
          <a:xfrm>
            <a:off x="901800" y="1413000"/>
            <a:ext cx="7342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900000" y="1916280"/>
            <a:ext cx="75297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Рождество, святки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Рошто, Шорыкй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документы\shorik_yol_web_0_0.jpg"/>
          <p:cNvPicPr/>
          <p:nvPr/>
        </p:nvPicPr>
        <p:blipFill>
          <a:blip r:embed="rId1"/>
          <a:stretch/>
        </p:blipFill>
        <p:spPr>
          <a:xfrm>
            <a:off x="4932360" y="1773360"/>
            <a:ext cx="3672000" cy="331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Dell\Desktop\images.jpg"/>
          <p:cNvPicPr/>
          <p:nvPr/>
        </p:nvPicPr>
        <p:blipFill>
          <a:blip r:embed="rId2"/>
          <a:stretch/>
        </p:blipFill>
        <p:spPr>
          <a:xfrm>
            <a:off x="900000" y="1700280"/>
            <a:ext cx="352764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кров Пресвятой Богородицы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Покро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Dell\Desktop\1223875232-shutterstock_18635971.jpg"/>
          <p:cNvPicPr/>
          <p:nvPr/>
        </p:nvPicPr>
        <p:blipFill>
          <a:blip r:embed="rId1"/>
          <a:stretch/>
        </p:blipFill>
        <p:spPr>
          <a:xfrm>
            <a:off x="1012680" y="1557360"/>
            <a:ext cx="2695680" cy="328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Dell\Desktop\1223877596-shutterstock_1850925.jpg"/>
          <p:cNvPicPr/>
          <p:nvPr/>
        </p:nvPicPr>
        <p:blipFill>
          <a:blip r:embed="rId2"/>
          <a:stretch/>
        </p:blipFill>
        <p:spPr>
          <a:xfrm>
            <a:off x="5292720" y="2060640"/>
            <a:ext cx="297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асленица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Ўярн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документы\shorikjol_0_0.jpg"/>
          <p:cNvPicPr/>
          <p:nvPr/>
        </p:nvPicPr>
        <p:blipFill>
          <a:blip r:embed="rId1"/>
          <a:stretch/>
        </p:blipFill>
        <p:spPr>
          <a:xfrm>
            <a:off x="4716360" y="1700280"/>
            <a:ext cx="367200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Dell\Desktop\images.jpg"/>
          <p:cNvPicPr/>
          <p:nvPr/>
        </p:nvPicPr>
        <p:blipFill>
          <a:blip r:embed="rId2"/>
          <a:stretch/>
        </p:blipFill>
        <p:spPr>
          <a:xfrm>
            <a:off x="684360" y="1700280"/>
            <a:ext cx="3743280" cy="3313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асха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Кугеч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http://mariel.org.ru/uploads/posts/2009-04/1241009287_002-1.jpg"/>
          <p:cNvPicPr/>
          <p:nvPr/>
        </p:nvPicPr>
        <p:blipFill>
          <a:blip r:embed="rId1"/>
          <a:stretch/>
        </p:blipFill>
        <p:spPr>
          <a:xfrm>
            <a:off x="4572000" y="1557360"/>
            <a:ext cx="3987720" cy="36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Dell\Desktop\images.jpg"/>
          <p:cNvPicPr/>
          <p:nvPr/>
        </p:nvPicPr>
        <p:blipFill>
          <a:blip r:embed="rId2"/>
          <a:stretch/>
        </p:blipFill>
        <p:spPr>
          <a:xfrm>
            <a:off x="684360" y="1557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Троица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 Семы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Dell\Desktop\orig_33bba6253da49e1c84317bd3cabac659.gif"/>
          <p:cNvPicPr/>
          <p:nvPr/>
        </p:nvPicPr>
        <p:blipFill>
          <a:blip r:embed="rId1"/>
          <a:stretch/>
        </p:blipFill>
        <p:spPr>
          <a:xfrm>
            <a:off x="900000" y="1844640"/>
            <a:ext cx="3814920" cy="356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Dell\Desktop\images.jpg"/>
          <p:cNvPicPr/>
          <p:nvPr/>
        </p:nvPicPr>
        <p:blipFill>
          <a:blip r:embed="rId2"/>
          <a:stretch/>
        </p:blipFill>
        <p:spPr>
          <a:xfrm>
            <a:off x="4932360" y="1916280"/>
            <a:ext cx="3456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Краснова Э. - уна муро. _.mp3" descr=""/>
          <p:cNvPicPr/>
          <p:nvPr/>
        </p:nvPicPr>
        <p:blipFill>
          <a:blip r:embed="rId2"/>
          <a:stretch/>
        </p:blipFill>
        <p:spPr>
          <a:xfrm>
            <a:off x="807228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1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Impact"/>
              </a:rPr>
              <a:t>Гостевые песни</a:t>
            </a:r>
            <a:br>
              <a:rPr sz="8000"/>
            </a:br>
            <a:r>
              <a:rPr b="0" lang="ru-RU" sz="8000" spc="-1" strike="noStrike">
                <a:solidFill>
                  <a:srgbClr val="002060"/>
                </a:solidFill>
                <a:latin typeface="Impact"/>
              </a:rPr>
              <a:t>(Уна муро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Семейные празд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с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восел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адь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9:27:09Z</dcterms:created>
  <dc:creator>Людмила</dc:creator>
  <dc:description/>
  <dc:language>en-US</dc:language>
  <cp:lastModifiedBy>Dell</cp:lastModifiedBy>
  <dcterms:modified xsi:type="dcterms:W3CDTF">2015-10-15T20:16:56Z</dcterms:modified>
  <cp:revision>162</cp:revision>
  <dc:subject/>
  <dc:title>Слайд 1</dc:title>
</cp:coreProperties>
</file>