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5DAF-5505-43F7-B630-9715DB77E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F616-4D7C-4105-8B8A-6511877A14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CA2-649B-4249-84F5-3143C342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F17-CD64-4B91-85A3-09A0BCDF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EC1-E943-4BF4-A5CC-B3E9ED36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120-C465-4D63-A807-754815F7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BC909-9467-4A24-99E4-1429DFB0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AF23C-3BED-4917-9FF2-8837FE1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88DED-2E9E-4296-BBB4-E20BEA5A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A54C0-1E55-4282-8F0F-2B771ED0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4532-7796-4384-B319-7E4C6870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556AC-779F-441E-BC6D-2C510B2C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32AAD-9489-45A9-8DD1-FB80A8CC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DC1-4B11-4564-814F-8A2736D1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6F3A1-4AF7-4D4F-8733-B6928463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1CB2A-42D8-42DB-A71B-8DE0E67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722F1-DB97-4E07-A002-943293FB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C552B-FF23-4975-AD3F-5A8F2B0E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64693-DE1C-4515-93E3-D00B03D7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D3D-991D-41B0-8C13-F83E8C33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620-E11C-4B99-87B0-19087F49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E8D-C55B-4365-A3CC-E3E6310B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CFA-15B0-433C-A1BB-8A0E89D8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869-C1ED-44FB-965E-1201FBD2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AA2-6C05-45AB-9C28-7440310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A97-33AA-491C-8B3A-429004E6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55E3-7695-4998-B1F6-1E7218278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EB1D-73C8-4E4E-A2EE-E9A5581221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Desktop/&#1044;&#1086;&#1082;&#1091;&#1084;&#1077;&#1085;&#1090;%20Microsoft%20Word.docx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Качественная характеристика почвы пришкольного опытного участка с помощью растений биоиндикато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Работал над исследованием ученик 9</a:t>
            </a:r>
            <a:r>
              <a:rPr b="1" lang="ru-RU" sz="1400" spc="-1" strike="noStrike" u="sng" baseline="30000">
                <a:solidFill>
                  <a:srgbClr val="008600"/>
                </a:solidFill>
                <a:uFillTx/>
                <a:latin typeface="Tahoma"/>
              </a:rPr>
              <a:t>ого </a:t>
            </a: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Андриановского филиала МБОУ Мучкапской СОШ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Шаршов Семён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8600"/>
                </a:solidFill>
                <a:latin typeface="Tahoma"/>
              </a:rPr>
              <a:t>руководитель учитель биологии Хаванская Н.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Н.И. Вави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765520" y="1957320"/>
            <a:ext cx="41828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5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Выяснить качественную характеристику почвы пришкольно - опытного участка с помощью растений биоиндикаторов</a:t>
            </a:r>
            <a:r>
              <a:rPr b="0" lang="ru-RU" sz="2800" spc="-1" strike="noStrike">
                <a:solidFill>
                  <a:srgbClr val="00cc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DSC02005"/>
          <p:cNvPicPr/>
          <p:nvPr/>
        </p:nvPicPr>
        <p:blipFill>
          <a:blip r:embed="rId1"/>
          <a:stretch/>
        </p:blipFill>
        <p:spPr>
          <a:xfrm>
            <a:off x="5148360" y="2448000"/>
            <a:ext cx="3538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выяснить  качественную характеристику почвы пришкольно-опытного участка:  его рельеф, химический  и  механический  состав,  глубину залегания грунтовых вод ;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выяснить, много ли гумуса в почве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какова  глубина залегания грунтовых вод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что можно узнать по растениям индикаторам о почв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*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каким образом, по выращенным растениям на участке мы можем выяснить биологическую активность почв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Как знания о почве и экологии помогают поддерживать плодородие почвы,  делать опыты по агротехнике выращивания растений и получать хорошие урожа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Даты и место проведения      исследования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359892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Весна - осень 2015 г. Пришкольно-опытный участок Андриановского филиала МБОУ Мучкапской С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IMG_0407"/>
          <p:cNvPicPr/>
          <p:nvPr/>
        </p:nvPicPr>
        <p:blipFill>
          <a:blip r:embed="rId1"/>
          <a:stretch/>
        </p:blipFill>
        <p:spPr>
          <a:xfrm>
            <a:off x="4356000" y="1700280"/>
            <a:ext cx="45417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91960"/>
            <a:ext cx="821844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Краткая географическая характеристика места исслед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038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Место участка:  участок расположен на ровном, юго-восточном склоне. (Считается, самым предпочтительным  участком),  недалеко  от  школы.   Площадь  участка   50м</a:t>
            </a:r>
            <a:r>
              <a:rPr b="1" lang="ru-RU" sz="2800" spc="-1" strike="noStrike" baseline="30000">
                <a:solidFill>
                  <a:srgbClr val="0086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DSC02004"/>
          <p:cNvPicPr/>
          <p:nvPr/>
        </p:nvPicPr>
        <p:blipFill>
          <a:blip r:embed="rId1"/>
          <a:stretch/>
        </p:blipFill>
        <p:spPr>
          <a:xfrm>
            <a:off x="4572000" y="1989000"/>
            <a:ext cx="4110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600"/>
                </a:solidFill>
                <a:latin typeface="Tahoma"/>
              </a:rPr>
              <a:t>Материалы и оборуд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Атлас  определитель  сорных  растений, доска  или книга  для сушки гербарных образцов сорных растений, сантиметровая линейка, пробирка для изучения механического состава почвы, лупа; для получения почвенного раствора:  бумажный фильтр, воронка, штатив, пробирка, стеклянная пластинка, пинцет, сухое горючее, две лакмусовых бумажки (красная и синя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Методика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600"/>
                </a:solidFill>
                <a:latin typeface="Tahoma"/>
              </a:rPr>
              <a:t>Определил  по Солнцу и по компасу расположение участка (юго-восточный склон). Определил его рельеф (ровное место). Участок  расположен на самом предпочтительном месте (много солнц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15796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Механический состав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Как определил механический состав почвы под  руководством учителя. Для анализа взяли мокрый способ определения механического состава , раскатали мокрую тестообразную почву в шнур толщиной около 3 мм. При сворачивании в колечко диаметром в   3 см., кольцо при свёртывании  стойкое, но с трещинами. Это свидетельствует о том , что почва- тяжёлый суглин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Измерили толщину гумусового слоя в почве. Глубина плодородного слоя достигала 80…100 см, содержание перегноя более 10%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Ход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Механический  анализ почвы провели химическим способом. В пробирку поместили  почву (столбик почвы должен быть 2-3 см). Прилили дистилированную воду, обьёмом в  3 раза больше  обьёма почвы. Закрыли пробирку пробкой и тщательно встряхнули 1-2 мин, а затем под лупой наблюдали за осаждением  частиц почвы и структурой осад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7" descr="DSC02080"/>
          <p:cNvPicPr/>
          <p:nvPr/>
        </p:nvPicPr>
        <p:blipFill>
          <a:blip r:embed="rId1"/>
          <a:stretch/>
        </p:blipFill>
        <p:spPr>
          <a:xfrm>
            <a:off x="4572000" y="2133720"/>
            <a:ext cx="4249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640" y="1905120"/>
            <a:ext cx="460836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600"/>
                </a:solidFill>
                <a:latin typeface="Tahoma"/>
              </a:rPr>
              <a:t>Врачи занимаясь  проблемой сохранения здоровья нации пришли к выводу, что начинать нужно с земли, с выращивания экологически чистых продуктов.  В  том, что чернозёмы, раскинувшиеся от границ Украины почти до Красноярска, нуждаются в защите,  так как  есть факты варварского использования земель, на которых неизгладимыми шрамами  остаются следы деятельности человека, ежегодно  выводящей  из севооборота огромные площади. Невежественное применение знаний о почве и неразумный подход к её использованию нередко приводит к деградации ландшаф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DSC01984"/>
          <p:cNvPicPr/>
          <p:nvPr/>
        </p:nvPicPr>
        <p:blipFill>
          <a:blip r:embed="rId1"/>
          <a:stretch/>
        </p:blipFill>
        <p:spPr>
          <a:xfrm>
            <a:off x="5003640" y="1989000"/>
            <a:ext cx="3816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DSC02078"/>
          <p:cNvPicPr/>
          <p:nvPr/>
        </p:nvPicPr>
        <p:blipFill>
          <a:blip r:embed="rId1"/>
          <a:stretch/>
        </p:blipFill>
        <p:spPr>
          <a:xfrm>
            <a:off x="752400" y="291960"/>
            <a:ext cx="76374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Механический состав почвы: тяжёлый сугли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4" descr="DSC02080"/>
          <p:cNvPicPr/>
          <p:nvPr/>
        </p:nvPicPr>
        <p:blipFill>
          <a:blip r:embed="rId1"/>
          <a:stretch/>
        </p:blipFill>
        <p:spPr>
          <a:xfrm>
            <a:off x="4500720" y="2060640"/>
            <a:ext cx="4248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14716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Определение наличие минеральных веществ в почве , с помощью выпари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DSC02085"/>
          <p:cNvPicPr/>
          <p:nvPr/>
        </p:nvPicPr>
        <p:blipFill>
          <a:blip r:embed="rId1"/>
          <a:stretch/>
        </p:blipFill>
        <p:spPr>
          <a:xfrm>
            <a:off x="4716360" y="2349360"/>
            <a:ext cx="4253040" cy="424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DSC02084"/>
          <p:cNvPicPr/>
          <p:nvPr/>
        </p:nvPicPr>
        <p:blipFill>
          <a:blip r:embed="rId2"/>
          <a:stretch/>
        </p:blipFill>
        <p:spPr>
          <a:xfrm>
            <a:off x="179280" y="2421000"/>
            <a:ext cx="41752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В почве достаточное количество минера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Определение </a:t>
            </a:r>
            <a:r>
              <a:rPr b="1" lang="en-US" sz="4000" spc="-1" strike="noStrike">
                <a:solidFill>
                  <a:srgbClr val="008600"/>
                </a:solidFill>
                <a:latin typeface="Tahoma"/>
              </a:rPr>
              <a:t>PH </a:t>
            </a: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– среды почвы </a:t>
            </a: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с помощью 2 лакмусовых бумажек в почвенной вытяж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8" descr="DSC02089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403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DSC02092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600"/>
                </a:solidFill>
                <a:latin typeface="Tahoma"/>
              </a:rPr>
              <a:t>Раствор сделался розоватый. Значит в почве есть кислот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Растения биоиндикато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По мнению  кандидата  биологических наук  Н. В. Сорокиной многое о плодородии участка расскажут растения произрастающие на нё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</a:t>
            </a: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Изучили растения, растущие в травостое возле самого участка и определили по атласу определителю. На нашем участке встречаются в большом количестве:</a:t>
            </a:r>
            <a:r>
              <a:rPr b="1" lang="ru-RU" sz="2000" spc="-1" strike="noStrike">
                <a:solidFill>
                  <a:srgbClr val="00cc66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Лебе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лебеда"/>
          <p:cNvPicPr/>
          <p:nvPr/>
        </p:nvPicPr>
        <p:blipFill>
          <a:blip r:embed="rId1"/>
          <a:stretch/>
        </p:blipFill>
        <p:spPr>
          <a:xfrm>
            <a:off x="1116000" y="1628640"/>
            <a:ext cx="6335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Клеве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клевер"/>
          <p:cNvPicPr/>
          <p:nvPr/>
        </p:nvPicPr>
        <p:blipFill>
          <a:blip r:embed="rId1"/>
          <a:stretch/>
        </p:blipFill>
        <p:spPr>
          <a:xfrm>
            <a:off x="1116000" y="1700280"/>
            <a:ext cx="6769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403848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Почва-это многокомпонентная, динамическая система, которая, взаимодействуя с окружающей средой, живёт своей  особой жизнью. Считают, что стоит </a:t>
            </a: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«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напичкать</a:t>
            </a:r>
            <a:r>
              <a:rPr b="1" lang="en-US" sz="2400" spc="-1" strike="noStrike">
                <a:solidFill>
                  <a:srgbClr val="008600"/>
                </a:solidFill>
                <a:latin typeface="Tahoma"/>
              </a:rPr>
              <a:t>» </a:t>
            </a:r>
            <a:r>
              <a:rPr b="1" lang="ru-RU" sz="2400" spc="-1" strike="noStrike">
                <a:solidFill>
                  <a:srgbClr val="008600"/>
                </a:solidFill>
                <a:latin typeface="Tahoma"/>
              </a:rPr>
              <a:t>почву  удобрениями, обеспечить водой-и   будет всё  в  порядке. Здесь  игнорируется  такое важное свойство почвы,как  самоорганизация,   саморегуля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почва3"/>
          <p:cNvPicPr/>
          <p:nvPr/>
        </p:nvPicPr>
        <p:blipFill>
          <a:blip r:embed="rId1"/>
          <a:stretch/>
        </p:blipFill>
        <p:spPr>
          <a:xfrm>
            <a:off x="4643280" y="1125360"/>
            <a:ext cx="4321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Горчица дик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горчица"/>
          <p:cNvPicPr/>
          <p:nvPr/>
        </p:nvPicPr>
        <p:blipFill>
          <a:blip r:embed="rId1"/>
          <a:stretch/>
        </p:blipFill>
        <p:spPr>
          <a:xfrm>
            <a:off x="1116000" y="1773360"/>
            <a:ext cx="6913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Бодя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бодяк"/>
          <p:cNvPicPr/>
          <p:nvPr/>
        </p:nvPicPr>
        <p:blipFill>
          <a:blip r:embed="rId1"/>
          <a:stretch/>
        </p:blipFill>
        <p:spPr>
          <a:xfrm>
            <a:off x="395280" y="1628640"/>
            <a:ext cx="784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со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осот"/>
          <p:cNvPicPr/>
          <p:nvPr/>
        </p:nvPicPr>
        <p:blipFill>
          <a:blip r:embed="rId1"/>
          <a:stretch/>
        </p:blipFill>
        <p:spPr>
          <a:xfrm>
            <a:off x="2124000" y="1989000"/>
            <a:ext cx="54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начит почва плодород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озле распаханного участка  растут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Крапи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крапива"/>
          <p:cNvPicPr/>
          <p:nvPr/>
        </p:nvPicPr>
        <p:blipFill>
          <a:blip r:embed="rId1"/>
          <a:stretch/>
        </p:blipFill>
        <p:spPr>
          <a:xfrm>
            <a:off x="1332000" y="1989000"/>
            <a:ext cx="6624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Конский щ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6" descr="щавель"/>
          <p:cNvPicPr/>
          <p:nvPr/>
        </p:nvPicPr>
        <p:blipFill>
          <a:blip r:embed="rId1"/>
          <a:stretch/>
        </p:blipFill>
        <p:spPr>
          <a:xfrm>
            <a:off x="1476360" y="1916280"/>
            <a:ext cx="58341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008600"/>
                </a:solidFill>
                <a:latin typeface="Tahoma"/>
              </a:rPr>
              <a:t>Анютины - глаз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анютины глазки2"/>
          <p:cNvPicPr/>
          <p:nvPr/>
        </p:nvPicPr>
        <p:blipFill>
          <a:blip r:embed="rId1"/>
          <a:stretch/>
        </p:blipFill>
        <p:spPr>
          <a:xfrm>
            <a:off x="1116000" y="2031840"/>
            <a:ext cx="720108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начит почва кислая,  с большим количеством орга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Если на участке расту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Россия-родина научного почвоведения. Выдающийся русский учёный  В. В. Докучаев во всём мире признан его основоположником.  К. А. Тимирязев, П. А. Костычев,  Д. Н. Прянишников, Н. И. Вавилов, В.И Вернадский и другие учёные заложили основы земледелия, растениеводства и селекции. В нашей стране находятся ценнейшие чернозёмы.  Вместе с другими типами почв они составляют основу экономического благополучия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Цикорий, вью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6" descr="цикорий"/>
          <p:cNvPicPr/>
          <p:nvPr/>
        </p:nvPicPr>
        <p:blipFill>
          <a:blip r:embed="rId1"/>
          <a:stretch/>
        </p:blipFill>
        <p:spPr>
          <a:xfrm>
            <a:off x="932040" y="1905120"/>
            <a:ext cx="3197160" cy="426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вьюнок2"/>
          <p:cNvPicPr/>
          <p:nvPr/>
        </p:nvPicPr>
        <p:blipFill>
          <a:blip r:embed="rId2"/>
          <a:stretch/>
        </p:blipFill>
        <p:spPr>
          <a:xfrm>
            <a:off x="4427640" y="1913040"/>
            <a:ext cx="42591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начит, почва уплотнённая, низко плодород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Если на участке расту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дуванчик, коровя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одуванчик"/>
          <p:cNvPicPr/>
          <p:nvPr/>
        </p:nvPicPr>
        <p:blipFill>
          <a:blip r:embed="rId1"/>
          <a:stretch/>
        </p:blipFill>
        <p:spPr>
          <a:xfrm>
            <a:off x="250920" y="1844640"/>
            <a:ext cx="4784760" cy="41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коровяк1"/>
          <p:cNvPicPr/>
          <p:nvPr/>
        </p:nvPicPr>
        <p:blipFill>
          <a:blip r:embed="rId2"/>
          <a:stretch/>
        </p:blipFill>
        <p:spPr>
          <a:xfrm>
            <a:off x="5219640" y="1825560"/>
            <a:ext cx="333072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Кислая, низко плодород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Если на участке расту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008600"/>
                </a:solidFill>
                <a:latin typeface="Tahoma"/>
              </a:rPr>
              <a:t>Дикая морковь, полы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9" descr="дикая морковь"/>
          <p:cNvPicPr/>
          <p:nvPr/>
        </p:nvPicPr>
        <p:blipFill>
          <a:blip r:embed="rId1"/>
          <a:stretch/>
        </p:blipFill>
        <p:spPr>
          <a:xfrm>
            <a:off x="468360" y="1916280"/>
            <a:ext cx="4506840" cy="417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полынь"/>
          <p:cNvPicPr/>
          <p:nvPr/>
        </p:nvPicPr>
        <p:blipFill>
          <a:blip r:embed="rId2"/>
          <a:stretch/>
        </p:blipFill>
        <p:spPr>
          <a:xfrm>
            <a:off x="5076720" y="1916280"/>
            <a:ext cx="38880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Значит, почва истощён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На нашем участке изучив разнообразия растений, сделали вывод что она плодородная, кислая с большим количеством орга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911160" y="765000"/>
            <a:ext cx="7013520" cy="32068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07880" y="443700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Перед  осенней  распашкой  пришкольно-опытного участка мы выбрали корешки овощных культур. Рассматривая корни овощных растений, мы увидели, что  растения  произрастали  на рыхлой,  хорошо аэрируемой почве,  содержащей большое количество гумуса.  Хорошо развитая  корневая система свидетельствует  о  высокой  биологической  активности  почв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В.И Вернад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195640" y="1866960"/>
            <a:ext cx="47527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Опыты </a:t>
            </a:r>
            <a:br>
              <a:rPr sz="4000"/>
            </a:br>
            <a:r>
              <a:rPr b="1" lang="ru-RU" sz="4000" spc="-1" strike="noStrike">
                <a:solidFill>
                  <a:srgbClr val="008600"/>
                </a:solidFill>
                <a:latin typeface="Tahoma"/>
              </a:rPr>
              <a:t>на нашем участ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6831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Темы опытов  на пришкольном участке по столовой свекле: Продуктивность свеклы в зависимости от площади питания растений.  Цель опыта; установить для конкретной местности лучшую густоту посева, на урожай свеклы.  Ответственные за наблюдениями по культуре были  шестиклассники.  В результате проведённых опытов установили, что лучший урожай столовой свеклы  в  междурядьях  40 сантиметров</a:t>
            </a:r>
            <a:r>
              <a:rPr b="0" lang="ru-RU" sz="20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5" descr="почва10"/>
          <p:cNvPicPr/>
          <p:nvPr/>
        </p:nvPicPr>
        <p:blipFill>
          <a:blip r:embed="rId1"/>
          <a:stretch/>
        </p:blipFill>
        <p:spPr>
          <a:xfrm>
            <a:off x="4500720" y="1844640"/>
            <a:ext cx="41767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пыты </a:t>
            </a:r>
            <a:br>
              <a:rPr sz="4400"/>
            </a:b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по выращиванию лу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2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Влияние подкормки   птичьим помётом  на урожайность и величину луковиц.   В результате наблюдений  было выяснено: урожай и величина луковиц были больше  на  делянке лука с подкормкой (разбавленным водой и настоенным органическим удобрением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лук"/>
          <p:cNvPicPr/>
          <p:nvPr/>
        </p:nvPicPr>
        <p:blipFill>
          <a:blip r:embed="rId1"/>
          <a:stretch/>
        </p:blipFill>
        <p:spPr>
          <a:xfrm>
            <a:off x="5003640" y="1989000"/>
            <a:ext cx="35434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пыты </a:t>
            </a:r>
            <a:br>
              <a:rPr sz="4400"/>
            </a:b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по выращиванию морко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7432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Тема опыта:  установить условия при которых лучше развивается  морковь. Было выяснено, что  припосевное внесение  минеральных   удобрений лучше сказалось на величине корнеплода, чем  подкормка    в фазе формирования  корнепл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15" descr="почва8"/>
          <p:cNvPicPr/>
          <p:nvPr/>
        </p:nvPicPr>
        <p:blipFill>
          <a:blip r:embed="rId1"/>
          <a:stretch/>
        </p:blipFill>
        <p:spPr>
          <a:xfrm>
            <a:off x="4643280" y="1989000"/>
            <a:ext cx="4249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пыт </a:t>
            </a:r>
            <a:br>
              <a:rPr sz="4400"/>
            </a:b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с горох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388764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Опыт заключался  тем, что при одновременном посеве гороха сухими  и   замоченными в воде проросшими семенами,  нужно было сравнить, где  появляются раньше всходы, как развиваются растения при посеве различными семенами. В  ходе наблюдений  в растениях мы  убедились, что лучше растут и развиваются растения из замоченных семя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9" descr="горох3"/>
          <p:cNvPicPr/>
          <p:nvPr/>
        </p:nvPicPr>
        <p:blipFill>
          <a:blip r:embed="rId1"/>
          <a:stretch/>
        </p:blipFill>
        <p:spPr>
          <a:xfrm>
            <a:off x="4643280" y="2060640"/>
            <a:ext cx="40849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Описание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Определить  качественную характеристику  земельного участка можно по  рельефу, химическому и механическому составу почвы,   глубине   залегания  грунтовых  вод,   по содержанию гумуса в почве.         Определить плодородие и кислотность почвы можно с помощью растений биоиндикаторов. (см. таблицу 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Хорошо развитая корневая система свидетельствует о высокой биологической  активности поч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Без знаний о плодородии почвы нельзя получить хорошего урожая. Собрано с участка 15 кг моркови,15 кг столовой свёклы,  20 кг лука, 10 кг редиски, 5 кг горох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Без знаний о почве, её образовании, функционировании, без понимания её роли в биосфере  Земли нельзя решить современные экологические пробл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По механическому составу обследованная почва: тучный чернозём, тяжёлый суглинок.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Содержание гумуса более 10%.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Глубина залегания грунтовых вод 30 метров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Определив виды растений в разнотравье на территории возле участка, выяснили что почва плодородная, кислая с большим количеством органики.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600"/>
                </a:solidFill>
                <a:latin typeface="Tahoma"/>
              </a:rPr>
              <a:t>Без знаний о почве, её  саморегуляции, плодородии и продуктивности нельзя вырастить хорошего урожая. Завышенные дозы внесённых удобрений или чрезмерное увлажнение посевов могут повредить не только культивируемому растению, но и в целом природе, а это значит свести на нет труд многих люд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600"/>
                </a:solidFill>
                <a:latin typeface="Tahoma"/>
              </a:rPr>
              <a:t>Задачи дальнейших исследова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9280" y="1989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600"/>
                </a:solidFill>
                <a:latin typeface="Tahoma"/>
              </a:rPr>
              <a:t>Поддерживать плодородие почв пришкольно-опытного  участка, основываясь на знаниях о правильном внесении доз органических и минеральных  удобрений.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600"/>
                </a:solidFill>
                <a:latin typeface="Tahoma"/>
              </a:rPr>
              <a:t>Наблюдать как  внесение органических удобрений влияет на урожай растений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600"/>
                </a:solidFill>
                <a:latin typeface="Tahoma"/>
              </a:rPr>
              <a:t>Выяснить содержание элементов минерального питания на пришкольно-опытном участке с методической помощью агрохимических лаборато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907560"/>
            <a:ext cx="822960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Изучить сообщества животных отдельных систематических групп: червей, насекомых, обитающих  в почве на учас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600"/>
                </a:solidFill>
                <a:latin typeface="Tahoma"/>
              </a:rPr>
              <a:t>Выяснить степень экологической пластичности конкретных представителей  почвенной фау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42148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3924360" y="3133800"/>
            <a:ext cx="4965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В.В Докуча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77960" y="1967040"/>
            <a:ext cx="39387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56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600"/>
                </a:solidFill>
                <a:latin typeface="Tahoma"/>
              </a:rPr>
              <a:t>Использованная литерат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4000" y="141300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Атлас определитель растительного мира Центрально- чернозёмного края (для детей)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Г.Н. Панина; Я. С. Шапиро  С. Петербург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«Об элективном курсе Агробиология» 2007 г. статья в журнале.» Биология в школе» №7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00"/>
                </a:solidFill>
                <a:latin typeface="Tahoma"/>
              </a:rPr>
              <a:t>А. С. Владыченский  «Почва, её место и роль в Биосфере». Статья в журнале «Биология в школе» №1 2002г.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68000" y="291600"/>
            <a:ext cx="8218440" cy="62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Составитель Т. Г. Балашова Библиотека Сельская школа России Сборник программ для начальной и средней  школы, издательсво  «Владос».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В. Бут «ЗащитимЧернозёмы»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С. Свирбаник  «Почва- главная ценнос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600"/>
                </a:solidFill>
                <a:latin typeface="Tahoma"/>
              </a:rPr>
              <a:t>Статья Н. В. Сорокина «Занимательное растениеводство», журнал «Биология в школе» №1 2001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К. А. Тимиряз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916360" y="2014560"/>
            <a:ext cx="38876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008600"/>
                </a:solidFill>
                <a:latin typeface="Tahoma"/>
              </a:rPr>
              <a:t>П.А. Косты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268360" y="1790640"/>
            <a:ext cx="43912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008600"/>
                </a:solidFill>
                <a:latin typeface="Tahoma"/>
              </a:rPr>
              <a:t>Д.Н. Прянишни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28680" y="1700280"/>
            <a:ext cx="4243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07:39:11Z</dcterms:created>
  <dc:creator>Домашний</dc:creator>
  <dc:description/>
  <dc:language>en-US</dc:language>
  <cp:lastModifiedBy>YA</cp:lastModifiedBy>
  <dcterms:modified xsi:type="dcterms:W3CDTF">2017-02-06T09:21:23Z</dcterms:modified>
  <cp:revision>63</cp:revision>
  <dc:subject/>
  <dc:title>Качественная характеристика почвы пришкольного опытного участка с помощью растений биоиндикаторов.</dc:title>
</cp:coreProperties>
</file>