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8.wmf" ContentType="image/x-wmf"/>
  <Override PartName="/ppt/media/image15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87B-D8B4-4EE1-929D-EB774877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B34-C69A-4E7B-8D87-6C9698A2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43B-05BC-4A06-99C2-917C2FE6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957-727F-4181-9F20-772B4208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AC57-F833-4E65-B9B9-58B816CB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4E4-3976-4246-AC75-C9D84C7C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5EF0-17D3-4FF4-95B2-FE134D3F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CA5-743E-4BCC-96E4-7C93C07B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496-9F50-42C1-8DFC-317D1F4F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F30F-FEC1-4A61-BD26-09FBDD3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107F-BFF9-4568-AFDF-B08ED51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06B-C550-40CC-9AF9-83ACF2B9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A501-E691-4FD4-AF92-8E8704F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D97B-5131-4194-BEF9-701E9C4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7698-33B2-40B9-96D2-E1D7733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33C5-0B55-48A3-98F9-75243A64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D10A-6E71-4B8D-B1A8-F086DD07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D2F-4CC6-4A97-BB7D-D71D621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D72-87C8-4595-A440-1CA7952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EBF-1603-4E8A-B2FC-D26A4C9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CA5-B7F7-4760-8AAD-59DBB87E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E27-E602-4799-8921-CCC16FE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AE7-B3A4-4E32-A9A4-27FF79C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565-A3E7-43EF-9058-4AD7B12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EFC-C4E5-45C4-8A84-D46BB388375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D389-8D6E-4223-97A3-2A0D738FC8A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Презентация лексики по теме «Рождество и Новый Год»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ыполнена учителем английского языка МОУ «Краснополянская СОШ» Веретновой О.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Father Christmas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Picture 3" descr="j0290678[1]"/>
          <p:cNvPicPr/>
          <p:nvPr/>
        </p:nvPicPr>
        <p:blipFill>
          <a:blip r:embed="rId1"/>
          <a:stretch/>
        </p:blipFill>
        <p:spPr>
          <a:xfrm>
            <a:off x="2514600" y="2028960"/>
            <a:ext cx="45720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Christmas stocking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Picture 3" descr="j0409871[1]"/>
          <p:cNvPicPr/>
          <p:nvPr/>
        </p:nvPicPr>
        <p:blipFill>
          <a:blip r:embed="rId1"/>
          <a:stretch/>
        </p:blipFill>
        <p:spPr>
          <a:xfrm>
            <a:off x="228600" y="2666880"/>
            <a:ext cx="297324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j0410009[1]"/>
          <p:cNvPicPr/>
          <p:nvPr/>
        </p:nvPicPr>
        <p:blipFill>
          <a:blip r:embed="rId2"/>
          <a:stretch/>
        </p:blipFill>
        <p:spPr>
          <a:xfrm>
            <a:off x="6629400" y="3733920"/>
            <a:ext cx="2006640" cy="283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j0410771[1]"/>
          <p:cNvPicPr/>
          <p:nvPr/>
        </p:nvPicPr>
        <p:blipFill>
          <a:blip r:embed="rId3"/>
          <a:stretch/>
        </p:blipFill>
        <p:spPr>
          <a:xfrm>
            <a:off x="2971800" y="1981080"/>
            <a:ext cx="3816360" cy="310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96514[1]"/>
          <p:cNvPicPr/>
          <p:nvPr/>
        </p:nvPicPr>
        <p:blipFill>
          <a:blip r:embed="rId4"/>
          <a:stretch/>
        </p:blipFill>
        <p:spPr>
          <a:xfrm>
            <a:off x="7238880" y="1676520"/>
            <a:ext cx="13176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6666"/>
                </a:solidFill>
                <a:latin typeface="Verdana"/>
              </a:rPr>
              <a:t>Decorations</a:t>
            </a:r>
            <a:endParaRPr b="0" lang="en-US" sz="7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3" descr="j0409857[1]"/>
          <p:cNvPicPr/>
          <p:nvPr/>
        </p:nvPicPr>
        <p:blipFill>
          <a:blip r:embed="rId1"/>
          <a:stretch/>
        </p:blipFill>
        <p:spPr>
          <a:xfrm>
            <a:off x="3962520" y="19051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j0398641[1]"/>
          <p:cNvPicPr/>
          <p:nvPr/>
        </p:nvPicPr>
        <p:blipFill>
          <a:blip r:embed="rId2"/>
          <a:stretch/>
        </p:blipFill>
        <p:spPr>
          <a:xfrm>
            <a:off x="533520" y="20574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0409847[1]"/>
          <p:cNvPicPr/>
          <p:nvPr/>
        </p:nvPicPr>
        <p:blipFill>
          <a:blip r:embed="rId1"/>
          <a:stretch/>
        </p:blipFill>
        <p:spPr>
          <a:xfrm>
            <a:off x="5181480" y="1905120"/>
            <a:ext cx="3614760" cy="4159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j0408182[1]"/>
          <p:cNvPicPr/>
          <p:nvPr/>
        </p:nvPicPr>
        <p:blipFill>
          <a:blip r:embed="rId2"/>
          <a:stretch/>
        </p:blipFill>
        <p:spPr>
          <a:xfrm>
            <a:off x="1066680" y="2171880"/>
            <a:ext cx="3276720" cy="2863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Verdana"/>
              </a:rPr>
              <a:t>Presents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Crown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3" descr="j0410775[1]"/>
          <p:cNvPicPr/>
          <p:nvPr/>
        </p:nvPicPr>
        <p:blipFill>
          <a:blip r:embed="rId1"/>
          <a:stretch/>
        </p:blipFill>
        <p:spPr>
          <a:xfrm>
            <a:off x="2057400" y="1996920"/>
            <a:ext cx="563868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66"/>
                </a:solidFill>
                <a:latin typeface="Verdana"/>
              </a:rPr>
              <a:t>Lights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3" descr="j0408188[1]"/>
          <p:cNvPicPr/>
          <p:nvPr/>
        </p:nvPicPr>
        <p:blipFill>
          <a:blip r:embed="rId1"/>
          <a:stretch/>
        </p:blipFill>
        <p:spPr>
          <a:xfrm>
            <a:off x="2590920" y="2971800"/>
            <a:ext cx="2317680" cy="276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429000" cy="259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298865[1]"/>
          <p:cNvPicPr/>
          <p:nvPr/>
        </p:nvPicPr>
        <p:blipFill>
          <a:blip r:embed="rId3"/>
          <a:stretch/>
        </p:blipFill>
        <p:spPr>
          <a:xfrm>
            <a:off x="380880" y="1066680"/>
            <a:ext cx="239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Christmas tree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3" descr="j0410591[2]"/>
          <p:cNvPicPr/>
          <p:nvPr/>
        </p:nvPicPr>
        <p:blipFill>
          <a:blip r:embed="rId1"/>
          <a:stretch/>
        </p:blipFill>
        <p:spPr>
          <a:xfrm>
            <a:off x="1531800" y="1371600"/>
            <a:ext cx="502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6666"/>
                </a:solidFill>
                <a:latin typeface="Verdana"/>
              </a:rPr>
              <a:t>Cracker</a:t>
            </a:r>
            <a:endParaRPr b="0" lang="en-US" sz="69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8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572000" y="-1295280"/>
            <a:ext cx="5219640" cy="556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j0311498[1]"/>
          <p:cNvPicPr/>
          <p:nvPr/>
        </p:nvPicPr>
        <p:blipFill>
          <a:blip r:embed="rId3"/>
          <a:stretch/>
        </p:blipFill>
        <p:spPr>
          <a:xfrm>
            <a:off x="2819520" y="3124080"/>
            <a:ext cx="274320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66"/>
                </a:solidFill>
                <a:latin typeface="Verdana"/>
              </a:rPr>
              <a:t>Tinsel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3" descr="j0411131[1]"/>
          <p:cNvPicPr/>
          <p:nvPr/>
        </p:nvPicPr>
        <p:blipFill>
          <a:blip r:embed="rId1"/>
          <a:stretch/>
        </p:blipFill>
        <p:spPr>
          <a:xfrm>
            <a:off x="3276720" y="1674720"/>
            <a:ext cx="49528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5-03-26T16:56:01Z</dcterms:modified>
  <cp:revision>4</cp:revision>
  <dc:subject/>
  <dc:title>PowerPoint Presentation</dc:title>
</cp:coreProperties>
</file>