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18.wmf" ContentType="image/x-wmf"/>
  <Override PartName="/ppt/media/image15.gif" ContentType="image/gif"/>
  <Override PartName="/ppt/media/image17.wmf" ContentType="image/x-wmf"/>
  <Override PartName="/ppt/media/image14.gif" ContentType="image/gi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050-0B7C-4A85-A252-1A4CDA68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27D-FF43-4606-AB93-1663B926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2BA-9A70-4BCC-A90B-754F066F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C63-4AF9-4056-89FE-A4B113C3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D2DE-E452-4087-855E-CE0C9DAA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94A0-EBD0-4A10-8D49-C002608B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50D7-D68D-4DD5-868D-5E5039CE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EC58-08F3-454D-9E14-46E2316B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E169-BC41-4264-B937-38118B76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B572-F18F-4EC4-8AC1-9D9BF08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7988-A85E-4600-ACA2-2F36C9E8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141-426D-4EAE-8671-A7EC9079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9844-C652-43B0-B9AB-8EDDE09B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2197-E56E-4947-9DDA-23ECC7C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9D6D-752E-4037-ABE9-D07C7C8D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8D32-18DE-42D9-9B53-B5BC0CA9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1D03-2760-40C7-AB66-6ED80324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A0B-38F7-4379-9D22-207B67F0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FF8-C014-432A-8011-F005A284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5E4-7640-4438-A209-04383F5B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1C5-1684-47A9-A686-D1196AE5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017-C61C-44B3-8C4D-CF691E0C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FB5-7BB2-43EE-9684-E3CE6278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B66-B73E-4F4E-9F6A-7B12579F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25B6-FF5E-47EE-A995-718AAE964A1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C580-59F0-40AE-A040-E86E5C1EB0B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Презентация лексики по теме «Рождество и Новый Год» 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ыполнена учителем английского языка МОУ «Краснополянская СОШ» Веретновой О.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Verdana"/>
              </a:rPr>
              <a:t>Father Christmas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Picture 3" descr="j0290678[1]"/>
          <p:cNvPicPr/>
          <p:nvPr/>
        </p:nvPicPr>
        <p:blipFill>
          <a:blip r:embed="rId1"/>
          <a:stretch/>
        </p:blipFill>
        <p:spPr>
          <a:xfrm>
            <a:off x="2514600" y="2028960"/>
            <a:ext cx="45720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Verdana"/>
              </a:rPr>
              <a:t>Christmas stocking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Picture 3" descr="j0409871[1]"/>
          <p:cNvPicPr/>
          <p:nvPr/>
        </p:nvPicPr>
        <p:blipFill>
          <a:blip r:embed="rId1"/>
          <a:stretch/>
        </p:blipFill>
        <p:spPr>
          <a:xfrm>
            <a:off x="228600" y="2666880"/>
            <a:ext cx="297324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j0410009[1]"/>
          <p:cNvPicPr/>
          <p:nvPr/>
        </p:nvPicPr>
        <p:blipFill>
          <a:blip r:embed="rId2"/>
          <a:stretch/>
        </p:blipFill>
        <p:spPr>
          <a:xfrm>
            <a:off x="6629400" y="3733920"/>
            <a:ext cx="2006640" cy="2832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j0410771[1]"/>
          <p:cNvPicPr/>
          <p:nvPr/>
        </p:nvPicPr>
        <p:blipFill>
          <a:blip r:embed="rId3"/>
          <a:stretch/>
        </p:blipFill>
        <p:spPr>
          <a:xfrm>
            <a:off x="2971800" y="1981080"/>
            <a:ext cx="3816360" cy="310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j0396514[1]"/>
          <p:cNvPicPr/>
          <p:nvPr/>
        </p:nvPicPr>
        <p:blipFill>
          <a:blip r:embed="rId4"/>
          <a:stretch/>
        </p:blipFill>
        <p:spPr>
          <a:xfrm>
            <a:off x="7238880" y="1676520"/>
            <a:ext cx="13176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6666"/>
                </a:solidFill>
                <a:latin typeface="Verdana"/>
              </a:rPr>
              <a:t>Decorations</a:t>
            </a:r>
            <a:endParaRPr b="0" lang="en-US" sz="7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3" descr="j0409857[1]"/>
          <p:cNvPicPr/>
          <p:nvPr/>
        </p:nvPicPr>
        <p:blipFill>
          <a:blip r:embed="rId1"/>
          <a:stretch/>
        </p:blipFill>
        <p:spPr>
          <a:xfrm>
            <a:off x="3962520" y="190512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j0398641[1]"/>
          <p:cNvPicPr/>
          <p:nvPr/>
        </p:nvPicPr>
        <p:blipFill>
          <a:blip r:embed="rId2"/>
          <a:stretch/>
        </p:blipFill>
        <p:spPr>
          <a:xfrm>
            <a:off x="533520" y="20574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0409847[1]"/>
          <p:cNvPicPr/>
          <p:nvPr/>
        </p:nvPicPr>
        <p:blipFill>
          <a:blip r:embed="rId1"/>
          <a:stretch/>
        </p:blipFill>
        <p:spPr>
          <a:xfrm>
            <a:off x="5181480" y="1905120"/>
            <a:ext cx="3614760" cy="4159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j0408182[1]"/>
          <p:cNvPicPr/>
          <p:nvPr/>
        </p:nvPicPr>
        <p:blipFill>
          <a:blip r:embed="rId2"/>
          <a:stretch/>
        </p:blipFill>
        <p:spPr>
          <a:xfrm>
            <a:off x="1066680" y="2171880"/>
            <a:ext cx="3276720" cy="2863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Verdana"/>
              </a:rPr>
              <a:t>Presents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66"/>
                </a:solidFill>
                <a:latin typeface="Verdana"/>
              </a:rPr>
              <a:t>Crown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3" descr="j0410775[1]"/>
          <p:cNvPicPr/>
          <p:nvPr/>
        </p:nvPicPr>
        <p:blipFill>
          <a:blip r:embed="rId1"/>
          <a:stretch/>
        </p:blipFill>
        <p:spPr>
          <a:xfrm>
            <a:off x="2057400" y="1996920"/>
            <a:ext cx="5638680" cy="42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66"/>
                </a:solidFill>
                <a:latin typeface="Verdana"/>
              </a:rPr>
              <a:t>Lights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3" descr="j0408188[1]"/>
          <p:cNvPicPr/>
          <p:nvPr/>
        </p:nvPicPr>
        <p:blipFill>
          <a:blip r:embed="rId1"/>
          <a:stretch/>
        </p:blipFill>
        <p:spPr>
          <a:xfrm>
            <a:off x="2590920" y="2971800"/>
            <a:ext cx="2317680" cy="2766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3429000" cy="2595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j0298865[1]"/>
          <p:cNvPicPr/>
          <p:nvPr/>
        </p:nvPicPr>
        <p:blipFill>
          <a:blip r:embed="rId3"/>
          <a:stretch/>
        </p:blipFill>
        <p:spPr>
          <a:xfrm>
            <a:off x="380880" y="1066680"/>
            <a:ext cx="239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66"/>
                </a:solidFill>
                <a:latin typeface="Verdana"/>
              </a:rPr>
              <a:t>Christmas tree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Picture 3" descr="j0410591[2]"/>
          <p:cNvPicPr/>
          <p:nvPr/>
        </p:nvPicPr>
        <p:blipFill>
          <a:blip r:embed="rId1"/>
          <a:stretch/>
        </p:blipFill>
        <p:spPr>
          <a:xfrm>
            <a:off x="1531800" y="1371600"/>
            <a:ext cx="5021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6666"/>
                </a:solidFill>
                <a:latin typeface="Verdana"/>
              </a:rPr>
              <a:t>Cracker</a:t>
            </a:r>
            <a:endParaRPr b="0" lang="en-US" sz="69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809800" cy="2492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4572000" y="-1295280"/>
            <a:ext cx="5219640" cy="5562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j0311498[1]"/>
          <p:cNvPicPr/>
          <p:nvPr/>
        </p:nvPicPr>
        <p:blipFill>
          <a:blip r:embed="rId3"/>
          <a:stretch/>
        </p:blipFill>
        <p:spPr>
          <a:xfrm>
            <a:off x="2819520" y="3124080"/>
            <a:ext cx="274320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66"/>
                </a:solidFill>
                <a:latin typeface="Verdana"/>
              </a:rPr>
              <a:t>Tinsel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Picture 3" descr="j0411131[1]"/>
          <p:cNvPicPr/>
          <p:nvPr/>
        </p:nvPicPr>
        <p:blipFill>
          <a:blip r:embed="rId1"/>
          <a:stretch/>
        </p:blipFill>
        <p:spPr>
          <a:xfrm>
            <a:off x="3276720" y="1674720"/>
            <a:ext cx="4952880" cy="479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5-03-26T16:56:01Z</dcterms:modified>
  <cp:revision>4</cp:revision>
  <dc:subject/>
  <dc:title>PowerPoint Presentation</dc:title>
</cp:coreProperties>
</file>