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DBF20-02F4-442B-801E-86E932FCD8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4FABE-30DE-423F-A17F-DEE4E83BB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9BE24-3BCF-4C10-9F18-95DF124B4D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C1EE7-6FC0-4C0B-92C3-E630C303D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B609A-249C-4B42-8989-3DFA5E4B2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AD524-2DDB-45C2-97E9-FA507D294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D4696-8D7F-4D43-8F72-2F604A4DB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06B-B907-40E7-ACCD-E486DA6A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E4B-5879-4816-99C4-750A1F7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3E4-B2C2-498D-B563-A905DAD4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645-3D0E-4CB8-BAE4-649518FA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73A4-64A0-420D-AF5A-3FEF12A0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EAFD-6183-4433-92DF-CC92CCF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740-2A3C-4872-90AB-6E95102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363C-26E7-4AC1-8A51-541D07D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446-14D5-4BDA-AA76-A64444DE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F25-2FCF-4698-8E9F-89A682B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3F33-32C8-48BF-92FC-DD92242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099-6CAE-4F36-92DD-70F3BAC1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A81-D441-4FF0-8476-8A0C4DE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0870-BEC9-40B1-9EFA-A590716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DE5-4071-4615-819D-3BBEF94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ED4A-5364-40B0-8BBF-7088E14C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94A2-E80B-4F22-88AB-3E579B09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4809-CA6A-437E-8CCA-72B0FBEB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9E2A-A688-4FBF-9458-1AF33FAC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A7C8-C559-4672-A24E-D27824D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C76B-DAC2-4DCD-BBAA-730945E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A828-07BE-4E0A-ABF0-1826C250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364-DD88-4CE8-A391-D156660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501D-6E44-46A2-888A-2986C6C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2EF0-CA4F-4873-8A33-29E7085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9685-5D87-4A42-AAAD-7C062C3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E29C-46ED-4378-9BAB-99370A6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4B15-2C02-4F9D-A852-B6652E6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2270-6FE4-4045-A34E-25D2A05B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E9D8-F90C-452C-9FBE-100F61AC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21A2-68A8-4D65-9216-857648F1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0802-2887-4A81-A1B3-F47F4F5C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7DF0-970E-4311-9983-E0902D0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968-DA9C-46A0-85A9-77F72199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3C2E-9F0D-48F3-AA3B-FB1D948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9E00-7DF4-4FE5-81FE-BA1584CC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9679-2997-40D0-B801-4BE111B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2652-F021-4B2B-A557-47CE397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2BE8-DBEF-4856-A499-3AB44E2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15AF-1463-4EE6-8B98-A743327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B443-981B-4B1E-AE4A-2F9F661A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B400-E415-4CC6-953F-109F70C2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224F-4936-4FCD-9C3B-C9EB1D80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DCE52-2011-4B7D-9476-ED22FDA3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AAD-5FB3-4BC9-8EFB-AE9298C6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FF1A-0FE9-4909-B636-FCCB4E7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F130-5CC8-4BE2-A2A6-E905A31C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5475-AC40-4A78-93B4-E5A10E8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7B5D-19E2-43BC-8DC2-BE54E14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D02E-016F-46E7-91F0-12B91F5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38F2-605B-4745-961E-80AA53D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9A97-FA0F-41CF-8BDC-5D05BAC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E423-FE25-4CC9-BA24-851CD42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CE4F-8CE6-416E-BAD4-F309E82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9FFE-798B-47F6-8E1C-28B369E8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3F5-396B-401F-9324-2476A4FB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6ADF0-9EEF-4524-9F33-CB4FD68D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4A3F-91B4-442E-A1E9-4A3A3927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2B767-5D98-4EF0-AE97-38CE75C2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27B43-8DAB-49C7-9428-AB18DE6C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BAAF-5FE8-41A6-8EE4-1B02CEF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9E23-E585-455B-9605-5E1E9D5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1969-DB3D-40EA-94FE-53418FDC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7888-8C80-4CCF-BD23-8F05299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7B00-F210-486C-B099-693A462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68D9-B797-4BC8-9FDC-A3473728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952-0547-4568-97DC-77DAABE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54683-C161-4676-8BBE-4F9A6B0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CE9E-A7F0-4720-864B-507B5EA1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FB0C-2348-4EFC-8431-651E0E3C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C14-92BF-48FF-8B7D-DDD9F49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68B-06AD-416C-B1D0-9C73E54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CBF23E-DA63-4A07-9C04-22DAA926D4A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22F55-8A6E-495B-B426-9A50F1BFB06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CA764A-731F-4EED-B51A-776A0655E7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C51AFF-A0B5-4681-89BD-81CF2E0F2A2C}" type="slidenum">
              <a:rPr b="0" lang="ru-RU" sz="24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87F3CD-675D-4269-BB47-999E8B3153D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571160" y="6962400"/>
            <a:ext cx="1659600" cy="36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298350-F804-4F57-AD4C-8C3FB8E1408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1640" y="197964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4516d"/>
                </a:solidFill>
                <a:latin typeface="Franklin Gothic Medium"/>
              </a:rPr>
              <a:t>МАКЕЕВ ВАСИЛИЙ СТЕПАНОВИЧ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острыкин Леонид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5б класс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Созвездие - 2017»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1611720" y="366840"/>
            <a:ext cx="7053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4516d"/>
                </a:solidFill>
                <a:latin typeface="Arial"/>
              </a:rPr>
              <a:t>Литературная моза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ГДЕ РОДИЛСЯ, ГДЕ ЖИВЕТ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32360" y="1768320"/>
            <a:ext cx="55418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КЕЕВ Василий Степанович родился в 1948 году  на хуторе Клеймёновский Сталинградской области.В данный момент живет в Волгоград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216000" y="1692360"/>
            <a:ext cx="37432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ЧТО ЗАКОНЧИЛ, ГДЕ РАБОТАЛ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кончил Литературный институт имени А.М. Горького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ботал в газете, издательств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ие годы был руководителем литературной студии Волгоградского отделения Союза писателе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ЧТО НАПИСАЛ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Небо на плечах» (1966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Околица» (1971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клон» (1974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ра медосбора» (197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Сенозорник» (1979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д казачьим солнышком» (1983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Хлеб да соль» (1987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6624720" y="1289160"/>
            <a:ext cx="265572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ИНТЕРЕСНЫЕ ФАКТЫ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2920" y="1490400"/>
            <a:ext cx="9070920" cy="600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1971 г. Василий Макеев окончил Литературный институт. Его окончание совпало с выходом второй книги молодого поэта — «Околица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асилий Макеев по праву считается большим российским поэтом, педагогом, патриотом, человеком энциклопедических знаний с современным мышлением, глубочайшим знатоком мировой истории, литературы, философ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ейчас ему 68 лет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ОТРЫВОК ИЗ СТИХОТВОРЕНИЯ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258920"/>
            <a:ext cx="5184720" cy="468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6000"/>
          </a:bodyPr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ставит мать мне тихий угол дом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огда устанет сердце у неё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йдут дожди, и рыжая солома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 беззащитной крыше погниё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ожди карниз дощатый покоробят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ороз завалины крошить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ьмом золы затянутый колодец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дни синицы будут сторожить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 rot="780000">
            <a:off x="5313240" y="2187720"/>
            <a:ext cx="44989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1T09:14:40Z</dcterms:created>
  <dc:creator>Leonid Kostrykin</dc:creator>
  <dc:description/>
  <dc:language>en-US</dc:language>
  <cp:lastModifiedBy>Машенька</cp:lastModifiedBy>
  <dcterms:modified xsi:type="dcterms:W3CDTF">2017-01-20T17:20:25Z</dcterms:modified>
  <cp:revision>13</cp:revision>
  <dc:subject/>
  <dc:title>Макеев Василий Степанович.</dc:title>
</cp:coreProperties>
</file>