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dt" idx="1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2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E70C5-1B8B-4E46-9C4B-700545B010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24B00-8DFD-486C-8CC4-DF40D8E89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A3BB8-84E3-4036-8E7D-08818A8A86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35571-F153-4AD3-B4AA-41B5331994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FD07D-BE78-4033-981C-CC94349C56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50547-99CF-4346-A2C1-E6689B22E9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B3F75-B746-4FC9-B264-F47605E2FC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605-4533-4A90-8F49-B46E867E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6AA-13B2-4731-993D-F8BF1BB9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4B9-326B-4BEA-B79E-0F815F6D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92F-EAE6-439D-BB55-BD540117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0EF2-68DC-4B2E-84D5-2DFF1E89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7241-DDEB-4810-B955-BA7C3705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719C-1B50-4867-ABB3-4ACCCCB8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C143-E9D7-4371-9AE0-7468D57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474E-8AAF-413D-8B5C-D082F463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6D42-E731-4F0C-A057-1DB79643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4073-FF58-41E9-A55D-28657443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620-1879-4E8F-B532-3E006484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5AAA-D824-419A-A098-AA63042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8B9E-8EE2-47E3-A086-4C4E09D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CD41-A02B-49F9-9AA5-871BF283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F3FB-A0FD-4772-BFEA-7AFDE4B8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481D-9E13-4402-AD8F-CE4A2C90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6C69-C8E3-4452-BB8D-14EAD7E7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885D-4BA9-496D-B65C-DAE5F3FD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6B148-DF0A-4D9A-853B-B8EB61BA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554A1-B55A-4582-8A41-CF655D13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6AE7-B099-4D68-BE06-1C2F3F39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2F6-C35D-4EBD-B156-BF45BAA1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26269-E8D4-4595-99E0-D9006ECE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30BA2-8F32-41FC-A253-BA8DEAA4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BD6D-7449-422B-AD94-5DB8916A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DB35-CB0D-4A6C-A408-14ACDBBF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10E0-EA65-4F07-8C31-54F19D85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6412-9147-4B74-BB49-3413E234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C08B-FEBD-4F0D-97CC-ACE08214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5819-B46E-4ACA-8E59-36A4ED68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58F8D-DD4D-40C6-B003-461023DF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43C1-058A-4F52-8047-C5A09F60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3C3-2CC1-4731-9EE4-6DA5B2ED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6D144-03F0-4D72-8F1A-4C63A072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397F-2B97-433A-A91A-E6C60FBD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880A1-6441-4EE0-A642-2061E538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5747-6619-41F1-B84F-F483DE95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87C2-80F0-4627-B042-6358DA03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44925-8658-4242-83D2-B0D669E2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AFDBF-A48E-43B5-8909-B6FE1B41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8B770-38D6-40DC-B859-2687CC3E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16B54-1D47-4125-A7CA-D9C2FC07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8C08-90DF-4C8F-B4FE-3065EE41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79D-5D06-41D2-ABF5-2A1FBF9B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710BE-5DFB-4F62-9E8E-07B45C0E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4E8FB-16A1-485D-B7DB-AA3D799A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88C98-0A7E-4927-BB14-92E4BBD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F702-4935-4D9B-8B9A-0B4FEE09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FE5FA-0212-40C8-A6EA-7156651A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C813-1F30-40B7-A0F8-674C8218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5540C-E5A6-4160-8EDE-B6A17B68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B6355-0C3D-4C93-8AB3-0E5AA62C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20245-EE88-47F9-844E-D1296E2E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91E8-4AFC-4EE6-BF14-31C77374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688-702B-4028-850D-29DCD9F6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53741-3893-4410-AA92-A4564C92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004AB-A982-41FE-82A1-659B73C9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1FBFA-DF92-4612-8599-9C8A7D0A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12DEA-712D-4BB9-8729-E9118B87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E8A5D-CBA8-4DF4-90EE-548107EB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C7A24-3903-403A-ACC9-FFEF08A3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C51C9-D1C4-4041-A2E0-9281A95A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3B15F-ABDE-4899-8BAD-8F49EC9C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1AE19-168E-4213-816A-E7D669C1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40505-9EBB-4DD0-8329-894BFEED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654-1D80-4210-8178-82746E3D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74EDE-55E0-4C20-B3ED-ED86F3E8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E508A-1521-465F-ABF7-7F944EA1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BCE8D-F618-450B-9A3D-EBEA866A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9CF-14D8-483F-8C4A-6D7A6C63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CF8-49ED-4962-B70A-8FAA9140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567400"/>
            <a:ext cx="3940200" cy="19922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3240" y="5567400"/>
            <a:ext cx="10083960" cy="199224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F4B9AB-2697-47E1-8463-FF487232FAD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83E0B5-24F8-4385-A238-C677B4B8E6C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FDDBB7-76FF-4E12-BC1F-3BB3D680008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77720" y="-477720"/>
            <a:ext cx="7559640" cy="851544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A1DB9F-DC21-440A-939D-F3F7955DEED4}" type="slidenum">
              <a:rPr b="0" lang="ru-RU" sz="24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564160"/>
            <a:ext cx="3936960" cy="199548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086F7C-D430-4D44-8330-4CAB77E3ACC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567400"/>
            <a:ext cx="3940200" cy="19922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3240" y="5567400"/>
            <a:ext cx="10083960" cy="199224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7571160" y="6962400"/>
            <a:ext cx="1659600" cy="36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0D575F-0DDE-4697-AABD-6D51D6C11A9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1640" y="197964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4516d"/>
                </a:solidFill>
                <a:latin typeface="Franklin Gothic Medium"/>
              </a:rPr>
              <a:t>МАКЕЕВ ВАСИЛИЙ СТЕПАНОВИЧ.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-3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острыкин Леонид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5б класс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«Созвездие - 2017»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88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1611720" y="366840"/>
            <a:ext cx="7053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4516d"/>
                </a:solidFill>
                <a:latin typeface="Arial"/>
              </a:rPr>
              <a:t>Литературная моза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Franklin Gothic Medium"/>
              </a:rPr>
              <a:t>ГДЕ РОДИЛСЯ, ГДЕ ЖИВЕТ?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032360" y="1768320"/>
            <a:ext cx="55418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АКЕЕВ Василий Степанович родился в 1948 году  на хуторе Клеймёновский Сталинградской области.В данный момент живет в Волгограде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216000" y="1692360"/>
            <a:ext cx="37432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Franklin Gothic Medium"/>
              </a:rPr>
              <a:t>ЧТО ЗАКОНЧИЛ, ГДЕ РАБОТАЛ?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кончил Литературный институт имени А.М. Горького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ботал в газете, издательств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ие годы был руководителем литературной студии Волгоградского отделения Союза писателей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Franklin Gothic Medium"/>
              </a:rPr>
              <a:t>ЧТО НАПИСАЛ?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Небо на плечах» (1966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Околица» (1971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Поклон» (1974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Пора медосбора» (1978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Сенозорник» (1979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Под казачьим солнышком» (1983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«Хлеб да соль» (1987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6624720" y="1289160"/>
            <a:ext cx="2655720" cy="35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Franklin Gothic Medium"/>
              </a:rPr>
              <a:t>ИНТЕРЕСНЫЕ ФАКТЫ.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2920" y="1490400"/>
            <a:ext cx="9070920" cy="600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 1971 г. Василий Макеев окончил Литературный институт. Его окончание совпало с выходом второй книги молодого поэта — «Околица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асилий Макеев по праву считается большим российским поэтом, педагогом, патриотом, человеком энциклопедических знаний с современным мышлением, глубочайшим знатоком мировой истории, литературы, философ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36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ейчас ему 68 лет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Franklin Gothic Medium"/>
              </a:rPr>
              <a:t>ОТРЫВОК ИЗ СТИХОТВОРЕНИЯ.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258920"/>
            <a:ext cx="5184720" cy="468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6000"/>
          </a:bodyPr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ставит мать мне тихий угол дома,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огда устанет сердце у неё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ойдут дожди, и рыжая солома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 беззащитной крыше погниёт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ожди карниз дощатый покоробят,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ороз завалины крошить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ьмом золы затянутый колодец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71160" indent="-278280">
              <a:spcBef>
                <a:spcPts val="887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дни синицы будут сторожить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 rot="780000">
            <a:off x="5313240" y="2187720"/>
            <a:ext cx="44989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1T09:14:40Z</dcterms:created>
  <dc:creator>Leonid Kostrykin</dc:creator>
  <dc:description/>
  <dc:language>en-US</dc:language>
  <cp:lastModifiedBy>Машенька</cp:lastModifiedBy>
  <dcterms:modified xsi:type="dcterms:W3CDTF">2017-01-20T17:20:25Z</dcterms:modified>
  <cp:revision>13</cp:revision>
  <dc:subject/>
  <dc:title>Макеев Василий Степанович.</dc:title>
</cp:coreProperties>
</file>