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4DF-339E-416D-B6F9-136760CB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D17-9A81-4BF2-8731-BD4D6C2B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CF8-DABD-404D-9EF1-E83BDE75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908-1A24-4444-874A-2CFC9BD8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69E-E14E-4279-8958-EF59A5BD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FDC-1F22-4FC1-B56A-E0A71D05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AF3-16EA-4BDD-82A7-C2044A8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9A0-89FB-4F4B-854D-7144DC5A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BEE-52E5-45BA-AFCE-2804221F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AE2-28E0-491C-98E9-91F1064A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010-F091-4F55-95E5-99983D4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1FC-67E2-4A16-836B-3F294BCD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72EE-09D5-4B53-9C4D-70A3837C5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26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у, друз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юбить никак нельз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строгая нау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точная нау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ая наук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г. Симфер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МБОУ «СОШ №3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уч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охацкая Светлана Валер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869000" y="1844640"/>
            <a:ext cx="35938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404280"/>
            <a:ext cx="712764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3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- 56 ящ. по 20 к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ли –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ось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357360"/>
            <a:ext cx="8280360" cy="27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20 * 56 =  1120 ( кг) – было мас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1120 : 7 = 160 ( кг) – продали мас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1120 – 160 = 960 ( кг) – осталось м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 : 960 кг сливочного масла оста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686800" y="2174400"/>
            <a:ext cx="6192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446560" y="214200"/>
            <a:ext cx="430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Итоги 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500200" y="1214280"/>
            <a:ext cx="66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О ВРЕМЯ урока БЫЛО ИНТЕРЕСНО И ЛЕГКО, ПОТОМУ ЧТО УМЕЮ БЫСТРО И ПРАВИЛЬНО ВЫЧИСЛЯТЬ, РЕШАТЬ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826360" y="31431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РОК ПРОШЕЛ  ИНТЕРЕС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О НЕКОТОРЫЕ ЗАДАНИЯ ВЫЗЫ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ТРУД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500076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2845800" y="5000760"/>
            <a:ext cx="58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МНЕ  БЫЛО  СКУЧНО!  Я МЕДЛ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ЧИТАЮ, МНЕ ТРУДНО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ЫПОЛНИТЬ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im0-tub-ru.yandex.net/i?id=458191256-68-72&amp;n=21"/>
          <p:cNvPicPr/>
          <p:nvPr/>
        </p:nvPicPr>
        <p:blipFill>
          <a:blip r:embed="rId1"/>
          <a:stretch/>
        </p:blipFill>
        <p:spPr>
          <a:xfrm>
            <a:off x="428760" y="1071720"/>
            <a:ext cx="1447560" cy="1428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im2-tub-ru.yandex.net/i?id=310700640-05-72&amp;n=21"/>
          <p:cNvPicPr/>
          <p:nvPr/>
        </p:nvPicPr>
        <p:blipFill>
          <a:blip r:embed="rId2"/>
          <a:stretch/>
        </p:blipFill>
        <p:spPr>
          <a:xfrm>
            <a:off x="324000" y="2492280"/>
            <a:ext cx="1766880" cy="1879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http://im2-tub-ru.yandex.net/i?id=137119914-49-72&amp;n=21"/>
          <p:cNvPicPr/>
          <p:nvPr/>
        </p:nvPicPr>
        <p:blipFill>
          <a:blip r:embed="rId3"/>
          <a:stretch/>
        </p:blipFill>
        <p:spPr>
          <a:xfrm>
            <a:off x="468360" y="4869000"/>
            <a:ext cx="14479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1847880"/>
            <a:ext cx="7711920" cy="4314960"/>
          </a:xfrm>
          <a:prstGeom prst="rect">
            <a:avLst/>
          </a:prstGeom>
          <a:ln w="0">
            <a:noFill/>
          </a:ln>
        </p:spPr>
      </p:pic>
      <p:pic>
        <p:nvPicPr>
          <p:cNvPr id="133" name="Объект 6" descr="Картинки по запросу клипарт повар скачать бесплатно"/>
          <p:cNvPicPr/>
          <p:nvPr/>
        </p:nvPicPr>
        <p:blipFill>
          <a:blip r:embed="rId2"/>
          <a:stretch/>
        </p:blipFill>
        <p:spPr>
          <a:xfrm>
            <a:off x="6732720" y="455760"/>
            <a:ext cx="2066760" cy="22096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539640" y="476280"/>
            <a:ext cx="63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удет проще жить, если будешь друзей умножать и радость 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Цеп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24000" y="1397160"/>
            <a:ext cx="8229600" cy="481644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3"/>
          <p:cNvSpPr/>
          <p:nvPr/>
        </p:nvSpPr>
        <p:spPr>
          <a:xfrm>
            <a:off x="6300720" y="4797360"/>
            <a:ext cx="23558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"/>
          <p:cNvSpPr/>
          <p:nvPr/>
        </p:nvSpPr>
        <p:spPr>
          <a:xfrm>
            <a:off x="395280" y="212724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2"/>
          <p:cNvSpPr/>
          <p:nvPr/>
        </p:nvSpPr>
        <p:spPr>
          <a:xfrm>
            <a:off x="1763640" y="2276640"/>
            <a:ext cx="1152720" cy="122220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222200"/>
              <a:gd name="textAreaBottom" fmla="*/ 1166040 h 1222200"/>
            </a:gdLst>
            <a:ahLst/>
            <a:rect l="textAreaLeft" t="textAreaTop" r="textAreaRight" b="textAreaBottom"/>
            <a:pathLst>
              <a:path w="21600" h="22902">
                <a:moveTo>
                  <a:pt x="3600" y="0"/>
                </a:moveTo>
                <a:arcTo wR="3600" hR="3600" stAng="16200000" swAng="-5400000"/>
                <a:lnTo>
                  <a:pt x="0" y="19302"/>
                </a:lnTo>
                <a:arcTo wR="3600" hR="3600" stAng="10800000" swAng="-5400000"/>
                <a:lnTo>
                  <a:pt x="18000" y="229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3"/>
          <p:cNvSpPr/>
          <p:nvPr/>
        </p:nvSpPr>
        <p:spPr>
          <a:xfrm>
            <a:off x="3110040" y="2155680"/>
            <a:ext cx="1135080" cy="1224000"/>
          </a:xfrm>
          <a:custGeom>
            <a:avLst/>
            <a:gdLst>
              <a:gd name="textAreaLeft" fmla="*/ 55080 w 1135080"/>
              <a:gd name="textAreaRight" fmla="*/ 1080000 w 1135080"/>
              <a:gd name="textAreaTop" fmla="*/ 55080 h 1224000"/>
              <a:gd name="textAreaBottom" fmla="*/ 1168920 h 1224000"/>
            </a:gdLst>
            <a:ahLst/>
            <a:rect l="textAreaLeft" t="textAreaTop" r="textAreaRight" b="textAreaBottom"/>
            <a:pathLst>
              <a:path w="21600" h="23292">
                <a:moveTo>
                  <a:pt x="3600" y="0"/>
                </a:moveTo>
                <a:arcTo wR="3600" hR="3600" stAng="16200000" swAng="-5400000"/>
                <a:lnTo>
                  <a:pt x="0" y="19692"/>
                </a:lnTo>
                <a:arcTo wR="3600" hR="3600" stAng="10800000" swAng="-5400000"/>
                <a:lnTo>
                  <a:pt x="18000" y="23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>
            <a:off x="4375080" y="2357280"/>
            <a:ext cx="1130400" cy="1152720"/>
          </a:xfrm>
          <a:custGeom>
            <a:avLst/>
            <a:gdLst>
              <a:gd name="textAreaLeft" fmla="*/ 55080 w 1130400"/>
              <a:gd name="textAreaRight" fmla="*/ 1075320 w 1130400"/>
              <a:gd name="textAreaTop" fmla="*/ 55080 h 1152720"/>
              <a:gd name="textAreaBottom" fmla="*/ 1097640 h 1152720"/>
            </a:gdLst>
            <a:ahLst/>
            <a:rect l="textAreaLeft" t="textAreaTop" r="textAreaRight" b="textAreaBottom"/>
            <a:pathLst>
              <a:path w="21600" h="22026">
                <a:moveTo>
                  <a:pt x="3600" y="0"/>
                </a:moveTo>
                <a:arcTo wR="3600" hR="3600" stAng="16200000" swAng="-5400000"/>
                <a:lnTo>
                  <a:pt x="0" y="18426"/>
                </a:lnTo>
                <a:arcTo wR="3600" hR="3600" stAng="10800000" swAng="-5400000"/>
                <a:lnTo>
                  <a:pt x="18000" y="22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5"/>
          <p:cNvSpPr/>
          <p:nvPr/>
        </p:nvSpPr>
        <p:spPr>
          <a:xfrm>
            <a:off x="5653080" y="2151000"/>
            <a:ext cx="1152360" cy="113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6"/>
          <p:cNvSpPr/>
          <p:nvPr/>
        </p:nvSpPr>
        <p:spPr>
          <a:xfrm>
            <a:off x="6861240" y="2311560"/>
            <a:ext cx="1079280" cy="115236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62">
                <a:moveTo>
                  <a:pt x="3600" y="0"/>
                </a:moveTo>
                <a:arcTo wR="3600" hR="3600" stAng="16200000" swAng="-5400000"/>
                <a:lnTo>
                  <a:pt x="0" y="19462"/>
                </a:lnTo>
                <a:arcTo wR="3600" hR="3600" stAng="10800000" swAng="-5400000"/>
                <a:lnTo>
                  <a:pt x="18000" y="23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7"/>
          <p:cNvSpPr/>
          <p:nvPr/>
        </p:nvSpPr>
        <p:spPr>
          <a:xfrm>
            <a:off x="8010360" y="4338720"/>
            <a:ext cx="1008360" cy="1165320"/>
          </a:xfrm>
          <a:custGeom>
            <a:avLst/>
            <a:gdLst>
              <a:gd name="textAreaLeft" fmla="*/ 48960 w 1008360"/>
              <a:gd name="textAreaRight" fmla="*/ 959400 w 1008360"/>
              <a:gd name="textAreaTop" fmla="*/ 48960 h 1165320"/>
              <a:gd name="textAreaBottom" fmla="*/ 1116360 h 1165320"/>
            </a:gdLst>
            <a:ahLst/>
            <a:rect l="textAreaLeft" t="textAreaTop" r="textAreaRight" b="textAreaBottom"/>
            <a:pathLst>
              <a:path w="21600" h="24961">
                <a:moveTo>
                  <a:pt x="3600" y="0"/>
                </a:moveTo>
                <a:arcTo wR="3600" hR="3600" stAng="16200000" swAng="-5400000"/>
                <a:lnTo>
                  <a:pt x="0" y="21361"/>
                </a:lnTo>
                <a:arcTo wR="3600" hR="3600" stAng="10800000" swAng="-5400000"/>
                <a:lnTo>
                  <a:pt x="18000" y="249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8"/>
          <p:cNvSpPr/>
          <p:nvPr/>
        </p:nvSpPr>
        <p:spPr>
          <a:xfrm>
            <a:off x="395280" y="4278240"/>
            <a:ext cx="1152360" cy="116532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165320"/>
              <a:gd name="textAreaBottom" fmla="*/ 1109160 h 1165320"/>
            </a:gdLst>
            <a:ahLst/>
            <a:rect l="textAreaLeft" t="textAreaTop" r="textAreaRight" b="textAreaBottom"/>
            <a:pathLst>
              <a:path w="21600" h="21843">
                <a:moveTo>
                  <a:pt x="3600" y="0"/>
                </a:moveTo>
                <a:arcTo wR="3600" hR="3600" stAng="16200000" swAng="-5400000"/>
                <a:lnTo>
                  <a:pt x="0" y="18243"/>
                </a:lnTo>
                <a:arcTo wR="3600" hR="3600" stAng="10800000" swAng="-5400000"/>
                <a:lnTo>
                  <a:pt x="18000" y="218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9"/>
          <p:cNvSpPr/>
          <p:nvPr/>
        </p:nvSpPr>
        <p:spPr>
          <a:xfrm>
            <a:off x="1763640" y="3711600"/>
            <a:ext cx="12240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0"/>
          <p:cNvSpPr/>
          <p:nvPr/>
        </p:nvSpPr>
        <p:spPr>
          <a:xfrm>
            <a:off x="3200400" y="4437000"/>
            <a:ext cx="1044720" cy="1165320"/>
          </a:xfrm>
          <a:custGeom>
            <a:avLst/>
            <a:gdLst>
              <a:gd name="textAreaLeft" fmla="*/ 50760 w 1044720"/>
              <a:gd name="textAreaRight" fmla="*/ 993960 w 1044720"/>
              <a:gd name="textAreaTop" fmla="*/ 50760 h 1165320"/>
              <a:gd name="textAreaBottom" fmla="*/ 1114560 h 1165320"/>
            </a:gdLst>
            <a:ahLst/>
            <a:rect l="textAreaLeft" t="textAreaTop" r="textAreaRight" b="textAreaBottom"/>
            <a:pathLst>
              <a:path w="21600" h="24093">
                <a:moveTo>
                  <a:pt x="3600" y="0"/>
                </a:moveTo>
                <a:arcTo wR="3600" hR="3600" stAng="16200000" swAng="-5400000"/>
                <a:lnTo>
                  <a:pt x="0" y="20493"/>
                </a:lnTo>
                <a:arcTo wR="3600" hR="3600" stAng="10800000" swAng="-5400000"/>
                <a:lnTo>
                  <a:pt x="18000" y="24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1"/>
          <p:cNvSpPr/>
          <p:nvPr/>
        </p:nvSpPr>
        <p:spPr>
          <a:xfrm>
            <a:off x="4375080" y="3708360"/>
            <a:ext cx="1130400" cy="1211400"/>
          </a:xfrm>
          <a:custGeom>
            <a:avLst/>
            <a:gdLst>
              <a:gd name="textAreaLeft" fmla="*/ 55080 w 1130400"/>
              <a:gd name="textAreaRight" fmla="*/ 1075320 w 1130400"/>
              <a:gd name="textAreaTop" fmla="*/ 55080 h 1211400"/>
              <a:gd name="textAreaBottom" fmla="*/ 1156320 h 1211400"/>
            </a:gdLst>
            <a:ahLst/>
            <a:rect l="textAreaLeft" t="textAreaTop" r="textAreaRight" b="textAreaBottom"/>
            <a:pathLst>
              <a:path w="21600" h="23147">
                <a:moveTo>
                  <a:pt x="3600" y="0"/>
                </a:moveTo>
                <a:arcTo wR="3600" hR="3600" stAng="16200000" swAng="-5400000"/>
                <a:lnTo>
                  <a:pt x="0" y="19547"/>
                </a:lnTo>
                <a:arcTo wR="3600" hR="3600" stAng="10800000" swAng="-5400000"/>
                <a:lnTo>
                  <a:pt x="18000" y="23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2"/>
          <p:cNvSpPr/>
          <p:nvPr/>
        </p:nvSpPr>
        <p:spPr>
          <a:xfrm>
            <a:off x="5672160" y="4321080"/>
            <a:ext cx="1152360" cy="118296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182960"/>
              <a:gd name="textAreaBottom" fmla="*/ 1126800 h 1182960"/>
            </a:gdLst>
            <a:ahLst/>
            <a:rect l="textAreaLeft" t="textAreaTop" r="textAreaRight" b="textAreaBottom"/>
            <a:pathLst>
              <a:path w="21600" h="22173">
                <a:moveTo>
                  <a:pt x="3600" y="0"/>
                </a:moveTo>
                <a:arcTo wR="3600" hR="3600" stAng="16200000" swAng="-5400000"/>
                <a:lnTo>
                  <a:pt x="0" y="18573"/>
                </a:lnTo>
                <a:arcTo wR="3600" hR="3600" stAng="10800000" swAng="-5400000"/>
                <a:lnTo>
                  <a:pt x="18000" y="22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3"/>
          <p:cNvSpPr/>
          <p:nvPr/>
        </p:nvSpPr>
        <p:spPr>
          <a:xfrm>
            <a:off x="8026560" y="2133720"/>
            <a:ext cx="1008000" cy="11412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141200"/>
              <a:gd name="textAreaBottom" fmla="*/ 1092240 h 1141200"/>
            </a:gdLst>
            <a:ahLst/>
            <a:rect l="textAreaLeft" t="textAreaTop" r="textAreaRight" b="textAreaBottom"/>
            <a:pathLst>
              <a:path w="21600" h="24453">
                <a:moveTo>
                  <a:pt x="3600" y="0"/>
                </a:moveTo>
                <a:arcTo wR="3600" hR="3600" stAng="16200000" swAng="-5400000"/>
                <a:lnTo>
                  <a:pt x="0" y="20853"/>
                </a:lnTo>
                <a:arcTo wR="3600" hR="3600" stAng="10800000" swAng="-5400000"/>
                <a:lnTo>
                  <a:pt x="18000" y="244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5"/>
          <p:cNvSpPr/>
          <p:nvPr/>
        </p:nvSpPr>
        <p:spPr>
          <a:xfrm>
            <a:off x="6873840" y="3500280"/>
            <a:ext cx="1152720" cy="11671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167120"/>
              <a:gd name="textAreaBottom" fmla="*/ 1110960 h 1167120"/>
            </a:gdLst>
            <a:ahLst/>
            <a:rect l="textAreaLeft" t="textAreaTop" r="textAreaRight" b="textAreaBottom"/>
            <a:pathLst>
              <a:path w="21600" h="21870">
                <a:moveTo>
                  <a:pt x="3600" y="0"/>
                </a:moveTo>
                <a:arcTo wR="3600" hR="3600" stAng="16200000" swAng="-5400000"/>
                <a:lnTo>
                  <a:pt x="0" y="18270"/>
                </a:lnTo>
                <a:arcTo wR="3600" hR="3600" stAng="10800000" swAng="-5400000"/>
                <a:lnTo>
                  <a:pt x="18000" y="2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444680" cy="160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"/>
          <p:cNvPicPr/>
          <p:nvPr/>
        </p:nvPicPr>
        <p:blipFill>
          <a:blip r:embed="rId2"/>
          <a:stretch/>
        </p:blipFill>
        <p:spPr>
          <a:xfrm>
            <a:off x="1763640" y="189000"/>
            <a:ext cx="1427400" cy="160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"/>
          <p:cNvPicPr/>
          <p:nvPr/>
        </p:nvPicPr>
        <p:blipFill>
          <a:blip r:embed="rId3"/>
          <a:stretch/>
        </p:blipFill>
        <p:spPr>
          <a:xfrm>
            <a:off x="3056040" y="189000"/>
            <a:ext cx="1487520" cy="160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" descr=""/>
          <p:cNvPicPr/>
          <p:nvPr/>
        </p:nvPicPr>
        <p:blipFill>
          <a:blip r:embed="rId4"/>
          <a:stretch/>
        </p:blipFill>
        <p:spPr>
          <a:xfrm>
            <a:off x="4314960" y="201600"/>
            <a:ext cx="142704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"/>
          <p:cNvPicPr/>
          <p:nvPr/>
        </p:nvPicPr>
        <p:blipFill>
          <a:blip r:embed="rId5"/>
          <a:stretch/>
        </p:blipFill>
        <p:spPr>
          <a:xfrm>
            <a:off x="7716960" y="333360"/>
            <a:ext cx="1427040" cy="160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"/>
          <p:cNvPicPr/>
          <p:nvPr/>
        </p:nvPicPr>
        <p:blipFill>
          <a:blip r:embed="rId6"/>
          <a:stretch/>
        </p:blipFill>
        <p:spPr>
          <a:xfrm>
            <a:off x="5700600" y="201600"/>
            <a:ext cx="1511280" cy="160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"/>
          <p:cNvPicPr/>
          <p:nvPr/>
        </p:nvPicPr>
        <p:blipFill>
          <a:blip r:embed="rId7"/>
          <a:stretch/>
        </p:blipFill>
        <p:spPr>
          <a:xfrm>
            <a:off x="6788160" y="766800"/>
            <a:ext cx="15112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 разделит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4992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Даль"/>
          <p:cNvPicPr/>
          <p:nvPr/>
        </p:nvPicPr>
        <p:blipFill>
          <a:blip r:embed="rId1"/>
          <a:srcRect l="12415" t="-2342" r="15174" b="0"/>
          <a:stretch/>
        </p:blipFill>
        <p:spPr>
          <a:xfrm>
            <a:off x="345960" y="403200"/>
            <a:ext cx="2786040" cy="4608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345960" y="5300640"/>
            <a:ext cx="29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Владимир 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10800000">
            <a:off x="3132000" y="549360"/>
            <a:ext cx="6012000" cy="5904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Делить – разлаг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на части, дроб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раздробля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делать раз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Делить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Число на друго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узнавать, 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раз одно содерж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Georgia"/>
              </a:rPr>
              <a:t>в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utoShape 7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28200" cy="305424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1476360" y="2637000"/>
            <a:ext cx="338472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8 : 4 = 12</a:t>
            </a:r>
            <a:endParaRPr b="1" i="1" lang="en-US" sz="32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468360" y="4365720"/>
            <a:ext cx="25192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дел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1476360" y="5084640"/>
            <a:ext cx="251928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де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4356000" y="4653000"/>
            <a:ext cx="251964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1874880" y="3322800"/>
            <a:ext cx="60120" cy="1126800"/>
          </a:xfrm>
          <a:custGeom>
            <a:avLst/>
            <a:gdLst/>
            <a:ahLst/>
            <a:rect l="l" t="t" r="r" b="b"/>
            <a:pathLst>
              <a:path w="38" h="710">
                <a:moveTo>
                  <a:pt x="38" y="0"/>
                </a:moveTo>
                <a:lnTo>
                  <a:pt x="0" y="71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3119400" y="3429000"/>
            <a:ext cx="157320" cy="1722600"/>
          </a:xfrm>
          <a:custGeom>
            <a:avLst/>
            <a:gdLst/>
            <a:ahLst/>
            <a:rect l="l" t="t" r="r" b="b"/>
            <a:pathLst>
              <a:path w="99" h="1085">
                <a:moveTo>
                  <a:pt x="0" y="0"/>
                </a:moveTo>
                <a:lnTo>
                  <a:pt x="99" y="108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4487760" y="3429000"/>
            <a:ext cx="1319400" cy="1265400"/>
          </a:xfrm>
          <a:custGeom>
            <a:avLst/>
            <a:gdLst/>
            <a:ahLst/>
            <a:rect l="l" t="t" r="r" b="b"/>
            <a:pathLst>
              <a:path w="831" h="797">
                <a:moveTo>
                  <a:pt x="0" y="0"/>
                </a:moveTo>
                <a:lnTo>
                  <a:pt x="831" y="797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7"/>
          <p:cNvSpPr txBox="1"/>
          <p:nvPr/>
        </p:nvSpPr>
        <p:spPr>
          <a:xfrm>
            <a:off x="4356000" y="587700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i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Рисунок 11" descr="Картинки по запросу клипарт повар скачать бесплатно"/>
          <p:cNvPicPr/>
          <p:nvPr/>
        </p:nvPicPr>
        <p:blipFill>
          <a:blip r:embed="rId2"/>
          <a:stretch/>
        </p:blipFill>
        <p:spPr>
          <a:xfrm>
            <a:off x="6875640" y="4243320"/>
            <a:ext cx="2066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ение числа на произведен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7093080" y="3444840"/>
            <a:ext cx="1560240" cy="293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0667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900000" y="18900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Деление чис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на произ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28760" y="2857680"/>
            <a:ext cx="85136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324000" y="242604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2 : (3 х 2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79280" y="354672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2 : (3 х 2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79280" y="465912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2 : (3 х 2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427640" y="242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12:6 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6659640" y="242100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4284720" y="35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(12:3):2 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7236000" y="3645000"/>
            <a:ext cx="151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:2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8532720" y="35002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211640" y="465300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=(12:2):3 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7093080" y="4724280"/>
            <a:ext cx="14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:3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"/>
          <p:cNvSpPr/>
          <p:nvPr/>
        </p:nvSpPr>
        <p:spPr>
          <a:xfrm>
            <a:off x="8459640" y="4653000"/>
            <a:ext cx="5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95280" y="1145520"/>
            <a:ext cx="43927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90 : ( 5 х 2 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150 : ( 6 х 5 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600 : ( 50 х 2 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97164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Решите  удобным способ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356000" y="112536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90:10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6372360" y="1125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211640" y="292428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(150:5):6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875640" y="292428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0:6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8459640" y="2924280"/>
            <a:ext cx="51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140360" y="4653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600:100 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6804000" y="4653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0"/>
          <p:cNvSpPr/>
          <p:nvPr/>
        </p:nvSpPr>
        <p:spPr>
          <a:xfrm>
            <a:off x="7956720" y="458136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7:11:18Z</dcterms:created>
  <dc:creator>MAMA</dc:creator>
  <dc:description/>
  <dc:language>en-US</dc:language>
  <cp:lastModifiedBy>Юля</cp:lastModifiedBy>
  <dcterms:modified xsi:type="dcterms:W3CDTF">2017-02-06T17:13:08Z</dcterms:modified>
  <cp:revision>36</cp:revision>
  <dc:subject/>
  <dc:title>Слайд 1</dc:title>
</cp:coreProperties>
</file>