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2EA-0C0A-4638-9478-7562F8BB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F7F-6C63-430A-B560-8AF096A8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20D-1DA3-48A7-8572-9A152F20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393-7A1C-4E1D-AF0C-0C036A13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ADF7-903C-44E2-BF17-AC84BFD0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7963-ACB6-469B-A25E-C7C1E41B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0C9-FD58-4CAA-9D57-D0F60D45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3F6B-2E1A-4C09-A7A9-1B798A0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C9BC-69EB-430D-828D-44020572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6E18-2B46-4440-949E-73947722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8394-405E-45D3-9BCA-922B48F2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ACB-DF92-4A67-A2DD-C8308D2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3AD9-5B79-4AA7-AF61-288FE74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B225-EB72-472F-A472-18B7BC60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69F-11D1-4659-A6B8-16EEEE4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52F-279B-4610-94CD-63C29C14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C465-AF68-478C-85AA-302BFE72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4DD-AC45-484F-976C-1FDB86A0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D08-D097-4381-9B06-2FF7CDB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CB5-8BB0-47A5-BD22-490BE70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684-55F8-41DF-B22E-8293C10D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F32-D1F4-4987-9849-2A4B78C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1EF-E0CE-42FC-A2DF-492CEB9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372-9331-4439-B172-DFBD4F7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D236-3EA7-41EC-B3BB-7817BF8A2B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55D8-D93A-499C-95BF-5F8D55127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42920" y="549360"/>
            <a:ext cx="712944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ambria"/>
              </a:rPr>
              <a:t>К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ambria"/>
              <a:ea typeface="Cambr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63640" y="2681280"/>
            <a:ext cx="5473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Матв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ла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95640" y="162864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 атаман 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6120" y="0"/>
            <a:ext cx="624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31680"/>
            <a:ext cx="84978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0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3:28:02Z</dcterms:created>
  <dc:creator>user</dc:creator>
  <dc:description/>
  <dc:language>en-US</dc:language>
  <cp:lastModifiedBy>user</cp:lastModifiedBy>
  <dcterms:modified xsi:type="dcterms:W3CDTF">2012-09-07T13:57:48Z</dcterms:modified>
  <cp:revision>2</cp:revision>
  <dc:subject/>
  <dc:title>Слайд 1</dc:title>
</cp:coreProperties>
</file>