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6BE-6AD2-4C06-8BC4-A38A9EEA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E1B-28B0-4C99-A029-CCA9753E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342-5044-463B-A360-C91664B5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650-57AD-4532-BE6A-0E7CE709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CE8-7F37-4A61-B5D4-53DB2E71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034-ACEE-45FA-9946-5E41BA56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BB8E-6E40-4FD2-9E03-BE70855C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B00-BA02-4C73-ACAE-EC39612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ABF-5DF9-4DFB-A6BD-FE9FB02C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58C0-170F-4784-AF54-F6AD596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0B8-1EB6-4BF0-BD22-8A3F3DE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07F-7C9B-4488-A859-978C6B6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4AEB-EEF0-483A-8A1A-44727E2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33D9-0ADA-4E1D-98A3-BDDEAEF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B28-CD34-459D-99F6-198EB10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753D-38A6-4035-B96D-809874C1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0B0-E0D5-4D16-A5DE-3A952247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3C-DCEB-4448-80C7-F16C1C74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9F6-DFBC-4EAB-9F79-18CFEBB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7DE-0CB8-4D8E-B043-E6EBC0AC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8BD-F1F4-4451-9B5B-7FBD2FAB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99A-33B8-4CBB-B149-DD47CB7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D35-9807-4B19-B615-0F389C5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4AD-374C-4867-8029-E86A5F07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A71-2D4A-4451-85ED-E15315FF37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D00-9551-4795-8231-8615222D7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42920" y="549360"/>
            <a:ext cx="712944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ambria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ambria"/>
              <a:ea typeface="Cambr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63640" y="2681280"/>
            <a:ext cx="5473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атв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ла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95640" y="162864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 атаман 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6120" y="0"/>
            <a:ext cx="624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1680"/>
            <a:ext cx="84978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0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3:28:02Z</dcterms:created>
  <dc:creator>user</dc:creator>
  <dc:description/>
  <dc:language>en-US</dc:language>
  <cp:lastModifiedBy>user</cp:lastModifiedBy>
  <dcterms:modified xsi:type="dcterms:W3CDTF">2012-09-07T13:57:48Z</dcterms:modified>
  <cp:revision>2</cp:revision>
  <dc:subject/>
  <dc:title>Слайд 1</dc:title>
</cp:coreProperties>
</file>