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2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86B0-5619-404D-B43D-F88FADDD1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1435-47DA-4078-B7A2-6F13235BF5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11A2-5C9A-407A-BA9A-5710EFE09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BDC2-A642-4966-B787-7F452B8CDF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A952-DAB3-4CDE-9292-F244F3D166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77EF-0B87-46D3-8870-A69930826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C0D37-5EF8-422F-92CE-4BC9E236C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CF20-D844-4B4E-AC1A-6424DDE0D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EB458-3649-4A65-B798-1CF98871B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6D76-3987-41B4-8035-3B130AEF4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587EB-F62C-4D4F-8AC2-1091123A2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A0C2-EAF5-470C-988C-6E78AFC157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46377E-A731-4A08-B74A-ACCAFBE60F80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5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5640" y="25092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Monotype Corsiva"/>
              </a:rPr>
              <a:t>Урок окружающего мира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Monotype Corsiva"/>
              </a:rPr>
              <a:t>1</a:t>
            </a:r>
            <a:r>
              <a:rPr b="1" lang="ru-RU" sz="6000" spc="-1" strike="noStrike">
                <a:solidFill>
                  <a:srgbClr val="006600"/>
                </a:solidFill>
                <a:latin typeface="Monotype Corsiva"/>
              </a:rPr>
              <a:t> класс (1-4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3101" r="1597" b="68"/>
          <a:stretch/>
        </p:blipFill>
        <p:spPr>
          <a:xfrm>
            <a:off x="5940360" y="3789360"/>
            <a:ext cx="2368440" cy="244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20700000">
            <a:off x="1243080" y="2057040"/>
            <a:ext cx="6964200" cy="228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istral"/>
              </a:rPr>
              <a:t>Моя семья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  <p:sp>
        <p:nvSpPr>
          <p:cNvPr id="45" name=""/>
          <p:cNvSpPr/>
          <p:nvPr/>
        </p:nvSpPr>
        <p:spPr>
          <a:xfrm>
            <a:off x="285840" y="5000760"/>
            <a:ext cx="678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гуашева Светлана Асланби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БОУ СОШ №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75320" y="189000"/>
            <a:ext cx="812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Monotype Corsiva"/>
              </a:rPr>
              <a:t>Игра </a:t>
            </a:r>
            <a:r>
              <a:rPr b="1" lang="ru-RU" sz="5400" spc="-1" strike="noStrike">
                <a:solidFill>
                  <a:srgbClr val="cc0099"/>
                </a:solidFill>
                <a:latin typeface="Monotype Corsiva"/>
              </a:rPr>
              <a:t>«Кто кому кто 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267480" y="1989000"/>
            <a:ext cx="8290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- Зара, кто тебе Исл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- Дана, ты кто для ма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- Айдамир, кто называет тебя сын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- У меня есть сын. К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- У мамы есть сестра. Кто она т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143840" y="1428840"/>
            <a:ext cx="164304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28840" cy="1071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4461" r="1952" b="0"/>
          <a:stretch/>
        </p:blipFill>
        <p:spPr>
          <a:xfrm>
            <a:off x="684360" y="2205000"/>
            <a:ext cx="3024000" cy="3095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932360" y="2565360"/>
            <a:ext cx="3816360" cy="2887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76720" y="2997360"/>
            <a:ext cx="207648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cc3300"/>
                </a:solidFill>
                <a:latin typeface="Arial"/>
              </a:rPr>
              <a:t>7 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87280" y="333360"/>
            <a:ext cx="7056720" cy="1544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Отгадай ребус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179280" y="1844640"/>
          <a:ext cx="8642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844640"/>
                    <a:ext cx="8642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983600" y="260280"/>
            <a:ext cx="4516560" cy="1312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Monotype Corsiva"/>
              </a:rPr>
              <a:t>Кто это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9640" y="3645000"/>
          <a:ext cx="3456000" cy="23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3645000"/>
                    <a:ext cx="345600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84360" y="1125360"/>
            <a:ext cx="2735280" cy="206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5724360" y="4894200"/>
          <a:ext cx="2160720" cy="196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4894200"/>
                    <a:ext cx="216072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558880" y="260280"/>
            <a:ext cx="400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Monotype Corsiva"/>
              </a:rPr>
              <a:t>Моя семь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1052640"/>
            <a:ext cx="3311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емья живет в согласии, её всегда ждет уд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ящая семья и землю превратит в золо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лад, там и 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 семья вместе, так и душа на 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dur="indefinite" nodeType="clickEffect" fill="hold">
                      <p:stCondLst>
                        <p:cond delay="0"/>
                      </p:stCondLst>
                      <p:childTnLst>
                        <p:par>
                          <p:cTn id="9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75120" y="9795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58000" y="1700280"/>
            <a:ext cx="622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Ласкает, но не мо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Греет, но не солнц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6360" y="3357720"/>
            <a:ext cx="622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Monotype Corsiva"/>
              </a:rPr>
              <a:t>Говорит: «Спокойной ночи»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Monotype Corsiva"/>
              </a:rPr>
              <a:t>но не ради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476280"/>
            <a:ext cx="432108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гадай загад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5229360"/>
            <a:ext cx="237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Ма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56000" y="333360"/>
            <a:ext cx="3456000" cy="109944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СЕМЬ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1628640"/>
            <a:ext cx="2927520" cy="1922760"/>
          </a:xfrm>
          <a:prstGeom prst="rect">
            <a:avLst/>
          </a:prstGeom>
          <a:solidFill>
            <a:srgbClr val="00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33cc"/>
                </a:solidFill>
                <a:latin typeface="Monotype Corsiva"/>
              </a:rPr>
              <a:t>бабуш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5589720"/>
            <a:ext cx="2771640" cy="1922760"/>
          </a:xfrm>
          <a:prstGeom prst="rect">
            <a:avLst/>
          </a:prstGeom>
          <a:solidFill>
            <a:srgbClr val="339933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Monotype Corsiva"/>
              </a:rPr>
              <a:t>дедуш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59640" y="2133720"/>
            <a:ext cx="2093760" cy="192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Monotype Corsiva"/>
              </a:rPr>
              <a:t>ма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7080" y="4005360"/>
            <a:ext cx="1727280" cy="1922760"/>
          </a:xfrm>
          <a:prstGeom prst="rect">
            <a:avLst/>
          </a:prstGeom>
          <a:solidFill>
            <a:srgbClr val="cc99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3399"/>
                </a:solidFill>
                <a:latin typeface="Monotype Corsiva"/>
              </a:rPr>
              <a:t>пап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4581360"/>
            <a:ext cx="2182680" cy="1922760"/>
          </a:xfrm>
          <a:prstGeom prst="rect">
            <a:avLst/>
          </a:prstGeom>
          <a:solidFill>
            <a:srgbClr val="ffccff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Monotype Corsiva"/>
              </a:rPr>
              <a:t>доч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95640" y="3716280"/>
            <a:ext cx="1563840" cy="19227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Monotype Corsiva"/>
              </a:rPr>
              <a:t>сы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635280" y="1626840"/>
            <a:ext cx="1728720" cy="7952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940360" y="1627200"/>
            <a:ext cx="1800" cy="38908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6082920" y="1627200"/>
            <a:ext cx="795240" cy="2811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692360" y="1626840"/>
            <a:ext cx="3959280" cy="29559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716360" y="1627200"/>
            <a:ext cx="1079640" cy="20908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370200" y="1626840"/>
            <a:ext cx="1443240" cy="5079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89120" y="907920"/>
            <a:ext cx="6791760" cy="496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Monotype Corsiva"/>
              </a:rPr>
              <a:t>Очень люблю, когда вс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Monotype Corsiva"/>
              </a:rPr>
              <a:t>собираютс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Monotype Corsiva"/>
              </a:rPr>
              <a:t>Белою скатерть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Monotype Corsiva"/>
              </a:rPr>
              <a:t>стол накрываетс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Monotype Corsiva"/>
              </a:rPr>
              <a:t>Бабушка с мамою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Monotype Corsiva"/>
              </a:rPr>
              <a:t>папа и 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Monotype Corsiva"/>
              </a:rPr>
              <a:t>Мы называемся вместе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СЕМЬ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9688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79280" y="0"/>
          <a:ext cx="4103640" cy="372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0"/>
                    <a:ext cx="4103640" cy="37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 txBox="1"/>
          <p:nvPr/>
        </p:nvSpPr>
        <p:spPr>
          <a:xfrm rot="20220000">
            <a:off x="898200" y="2349000"/>
            <a:ext cx="6507000" cy="161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8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пасибо за работу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8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6:36:54Z</dcterms:created>
  <dc:creator>1</dc:creator>
  <dc:description/>
  <dc:language>en-US</dc:language>
  <cp:lastModifiedBy>Admin</cp:lastModifiedBy>
  <dcterms:modified xsi:type="dcterms:W3CDTF">2015-11-26T14:56:26Z</dcterms:modified>
  <cp:revision>39</cp:revision>
  <dc:subject/>
  <dc:title>Слайд 1</dc:title>
</cp:coreProperties>
</file>