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A5E3-A268-4A0E-99E3-273DA3E40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C5B2-F322-4C8C-88B6-96BD7987A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CB33-8A43-4433-93A1-8F49315EE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F693-B11D-411B-9935-E2B7346362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36C7-338E-4E7E-B19A-0B220FBB7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66E4-ED82-42FB-93F1-257A7CF46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BDEB-67C8-4EAE-8E33-08CA39270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61B6-60D3-44E7-908E-AEF08BE5C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59EF-AA4C-4AA9-B0DE-6B632593D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1979-9BB3-4B9F-AF46-AAA244EF3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669A-AEAD-4FC5-B6C0-C02C497FA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54FE-FD6B-453F-BB6E-4AD9FCFA6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2EE37E-2689-4991-A78C-290676368A2A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25092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Урок окружающего мира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1</a:t>
            </a: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 класс (1-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3101" r="1597" b="68"/>
          <a:stretch/>
        </p:blipFill>
        <p:spPr>
          <a:xfrm>
            <a:off x="5940360" y="3789360"/>
            <a:ext cx="2368440" cy="244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700000">
            <a:off x="1243080" y="2057040"/>
            <a:ext cx="696420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Моя семья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5000760"/>
            <a:ext cx="678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гуашева Светлана Асланби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СОШ №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75320" y="189000"/>
            <a:ext cx="812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Игра </a:t>
            </a:r>
            <a:r>
              <a:rPr b="1" lang="ru-RU" sz="5400" spc="-1" strike="noStrike">
                <a:solidFill>
                  <a:srgbClr val="cc0099"/>
                </a:solidFill>
                <a:latin typeface="Monotype Corsiva"/>
              </a:rPr>
              <a:t>«Кто кому кто 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67480" y="1989000"/>
            <a:ext cx="8290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Зара, кто тебе Ис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Дана, ты кто для ма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Айдамир, кто называет тебя сы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У меня есть сын. К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- У мамы есть сестра. Кто она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143840" y="1428840"/>
            <a:ext cx="16430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28840" cy="107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4461" r="1952" b="0"/>
          <a:stretch/>
        </p:blipFill>
        <p:spPr>
          <a:xfrm>
            <a:off x="684360" y="2205000"/>
            <a:ext cx="302400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381636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2997360"/>
            <a:ext cx="207648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cc3300"/>
                </a:solidFill>
                <a:latin typeface="Arial"/>
              </a:rPr>
              <a:t>7 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87280" y="333360"/>
            <a:ext cx="7056720" cy="1544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Отгадай ребу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79280" y="1844640"/>
          <a:ext cx="8642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44640"/>
                    <a:ext cx="8642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983600" y="260280"/>
            <a:ext cx="4516560" cy="1312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Monotype Corsiva"/>
              </a:rPr>
              <a:t>Кто это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3645000"/>
          <a:ext cx="3456000" cy="23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645000"/>
                    <a:ext cx="345600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4360" y="1125360"/>
            <a:ext cx="2735280" cy="20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5724360" y="4894200"/>
          <a:ext cx="2160720" cy="19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894200"/>
                    <a:ext cx="216072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58880" y="260280"/>
            <a:ext cx="400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Моя 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1052640"/>
            <a:ext cx="331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емья живет в согласии, её всегда ждет у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ящая семья и землю превратит в золо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лад, там и 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 семья вместе, так и душа на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nodeType="clickEffect" fill="hold">
                      <p:stCondLst>
                        <p:cond delay="0"/>
                      </p:stCondLst>
                      <p:childTnLst>
                        <p:par>
                          <p:cTn id="9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75120" y="9795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8000" y="1700280"/>
            <a:ext cx="622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Ласкает, но не мо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Греет, но не солн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357720"/>
            <a:ext cx="62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otype Corsiva"/>
              </a:rPr>
              <a:t>Говорит: «Спокойной ночи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Monotype Corsiva"/>
              </a:rPr>
              <a:t>но не ради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476280"/>
            <a:ext cx="432108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гадай загад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522936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Ма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56000" y="333360"/>
            <a:ext cx="3456000" cy="109944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ЕМ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1628640"/>
            <a:ext cx="2927520" cy="1922760"/>
          </a:xfrm>
          <a:prstGeom prst="rect">
            <a:avLst/>
          </a:prstGeom>
          <a:solidFill>
            <a:srgbClr val="00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33cc"/>
                </a:solidFill>
                <a:latin typeface="Monotype Corsiva"/>
              </a:rPr>
              <a:t>баб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589720"/>
            <a:ext cx="2771640" cy="1922760"/>
          </a:xfrm>
          <a:prstGeom prst="rect">
            <a:avLst/>
          </a:prstGeom>
          <a:solidFill>
            <a:srgbClr val="3399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Monotype Corsiva"/>
              </a:rPr>
              <a:t>дед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2133720"/>
            <a:ext cx="209376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ма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4005360"/>
            <a:ext cx="1727280" cy="1922760"/>
          </a:xfrm>
          <a:prstGeom prst="rect">
            <a:avLst/>
          </a:prstGeom>
          <a:solidFill>
            <a:srgbClr val="cc99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Monotype Corsiva"/>
              </a:rPr>
              <a:t>па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581360"/>
            <a:ext cx="2182680" cy="192276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Monotype Corsiva"/>
              </a:rPr>
              <a:t>д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3716280"/>
            <a:ext cx="1563840" cy="19227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Monotype Corsiva"/>
              </a:rPr>
              <a:t>сы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635280" y="1626840"/>
            <a:ext cx="1728720" cy="7952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0360" y="1627200"/>
            <a:ext cx="1800" cy="38908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082920" y="1627200"/>
            <a:ext cx="795240" cy="2811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692360" y="1626840"/>
            <a:ext cx="3959280" cy="29559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16360" y="1627200"/>
            <a:ext cx="1079640" cy="20908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370200" y="1626840"/>
            <a:ext cx="1443240" cy="5079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89120" y="907920"/>
            <a:ext cx="6791760" cy="496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Очень люблю, когда вс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собираю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Белою скатерть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стол накрывае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Бабушка с мамо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папа и 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Monotype Corsiva"/>
              </a:rPr>
              <a:t>Мы называемся вместе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ЕМЬ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9688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0"/>
          <a:ext cx="4103640" cy="37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0"/>
                    <a:ext cx="410364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 txBox="1"/>
          <p:nvPr/>
        </p:nvSpPr>
        <p:spPr>
          <a:xfrm rot="20220000">
            <a:off x="898200" y="2349000"/>
            <a:ext cx="6507000" cy="16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8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работу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8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36:54Z</dcterms:created>
  <dc:creator>1</dc:creator>
  <dc:description/>
  <dc:language>en-US</dc:language>
  <cp:lastModifiedBy>Admin</cp:lastModifiedBy>
  <dcterms:modified xsi:type="dcterms:W3CDTF">2015-11-26T14:56:26Z</dcterms:modified>
  <cp:revision>39</cp:revision>
  <dc:subject/>
  <dc:title>Слайд 1</dc:title>
</cp:coreProperties>
</file>