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F4B-EACE-4D0F-835A-25A05BB1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B41-FD01-41E5-BD77-D66BCF50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087-322E-4B95-A4AB-1614E3CB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3BA-4641-4966-A530-EA9DD16A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029C-CF2C-4DF8-9B16-858BD7BD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38FE-2426-4010-92AC-3F7D1F24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EFA0-9EF9-4DE6-AF87-36D5115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41D5-7903-495D-9A92-1104F131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D5F7-F671-4784-96F8-79CD40E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7A08-B879-4EEB-8A6C-E18BD794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EC7C-01E2-4888-94C8-8562FB8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463-5E36-4425-A364-FDC8D2B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F3EE-A652-40FC-9736-765F987A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B10-9DEB-4CA9-BA57-778C443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01F3-0D31-46B5-B2CC-D8D2C379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23A5-F6F1-46E8-9472-78651B58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E069-99FA-4C5B-88F9-B5D6341F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CA41-8ECD-4AFB-A2A2-AAAD3142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4177-99C8-4BEA-A1E1-F388E41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DB18-4A24-4A86-ABD4-7DC25105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1B82-222B-4209-A335-5D0421C3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044A-8EE6-497C-AB31-7DC588BB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AB4-11D4-4B30-80E4-A8B0B77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031C-5AA2-465E-919B-B827C9D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433F-C495-41F5-AE7B-E26D2BE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986C-23F0-4A9C-A761-8689B92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93A8-4AEF-492E-B974-28C2AAD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FFC2-C9F2-4B46-92B3-91DE091F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C0A2-8121-40D8-9970-85935F14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B514-9619-498F-9A90-0B7DB922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DFB3-0364-465C-857D-AFBAA36B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534A-67F8-4F16-B9A1-EC52C394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6FF5-1AB9-4A81-B62D-001AF057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7DE-478D-45B2-BE51-28A645B3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865F-2303-485A-8944-C9438791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A7B0-03D9-47E8-9673-7A6D7550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91FC-1431-443C-96DC-30424B50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6ADD-0093-4B07-973C-0AEE0BBF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8722-E419-48DA-9F3F-EE12ACC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BC93-866B-49CA-B9BD-0D98533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5EA6-5FD4-435D-BA5A-486608C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E387-BD2A-4733-9BF4-3B32F4D3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1CA2A-7CA0-4A88-976A-630F2989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BC3-6F98-4374-93BA-33BB5205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C3D-4E43-432A-B2E4-B3D21C0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7A4-33DD-495F-975D-DDF9499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A95-9404-4BB9-99E1-CA97D89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F50-1B5B-4128-8D02-306510CA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902-A368-4F90-A627-4B3DE18AD1F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9B0E-E695-452C-8C71-FF2589F76B6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CA3D-CE40-4C21-93F6-D3A1B5816E5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D0A2-7092-47F6-91ED-FA24920488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487440"/>
            <a:ext cx="8443800" cy="2590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8560" y="3214440"/>
            <a:ext cx="6357960" cy="244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: старший воспитатель МАДОУ детского сада № 11 Центра развития ребенка  Садыкова Е.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2014 год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зентации должно использоваться не более трех гармонирующих друг с другом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и фон, и шрифт). Подобрать их правильно помогают таблицы безопасных цвет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ает в этом и программ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orPicke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быстрая и легкая в использовании. Она дает коды нужных цветов, которые нужно просто подставить при выборе цв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кст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 в его полноценном виде на слайде должен представляться крайне редко, тольк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этого никак не избеж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чтительнее короткие фразы, несущие в себе основной смысл (существительное – глагол), вводные слова, наречия, прилагательные – только в случае необходим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учше представлять информацию в виде таблиц, схем, спис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проявления псих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99"/>
          <p:cNvSpPr/>
          <p:nvPr/>
        </p:nvSpPr>
        <p:spPr>
          <a:xfrm>
            <a:off x="214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4"/>
          <p:cNvSpPr/>
          <p:nvPr/>
        </p:nvSpPr>
        <p:spPr>
          <a:xfrm>
            <a:off x="1285920" y="3643200"/>
            <a:ext cx="221436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МОЦИОН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0" y="4500720"/>
            <a:ext cx="1928880" cy="20714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ощу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сприя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амя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об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9"/>
          <p:cNvSpPr/>
          <p:nvPr/>
        </p:nvSpPr>
        <p:spPr>
          <a:xfrm>
            <a:off x="428616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9"/>
          <p:cNvSpPr/>
          <p:nvPr/>
        </p:nvSpPr>
        <p:spPr>
          <a:xfrm>
            <a:off x="7072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100008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50004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1500120" y="2357280"/>
            <a:ext cx="357120" cy="1285920"/>
          </a:xfrm>
          <a:prstGeom prst="downArrow">
            <a:avLst>
              <a:gd name="adj1" fmla="val 50000"/>
              <a:gd name="adj2" fmla="val 4356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4"/>
          <p:cNvSpPr/>
          <p:nvPr/>
        </p:nvSpPr>
        <p:spPr>
          <a:xfrm>
            <a:off x="0" y="2786040"/>
            <a:ext cx="228600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9"/>
          <p:cNvSpPr/>
          <p:nvPr/>
        </p:nvSpPr>
        <p:spPr>
          <a:xfrm>
            <a:off x="428760" y="3429000"/>
            <a:ext cx="357120" cy="1071720"/>
          </a:xfrm>
          <a:prstGeom prst="downArrow">
            <a:avLst>
              <a:gd name="adj1" fmla="val 50000"/>
              <a:gd name="adj2" fmla="val 4355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9"/>
          <p:cNvSpPr/>
          <p:nvPr/>
        </p:nvSpPr>
        <p:spPr>
          <a:xfrm>
            <a:off x="2928960" y="4286160"/>
            <a:ext cx="285840" cy="571680"/>
          </a:xfrm>
          <a:prstGeom prst="downArrow">
            <a:avLst>
              <a:gd name="adj1" fmla="val 50000"/>
              <a:gd name="adj2" fmla="val 4354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2500200" y="4857840"/>
            <a:ext cx="1500480" cy="7858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эмо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9"/>
          <p:cNvSpPr/>
          <p:nvPr/>
        </p:nvSpPr>
        <p:spPr>
          <a:xfrm>
            <a:off x="778680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4"/>
          <p:cNvSpPr/>
          <p:nvPr/>
        </p:nvSpPr>
        <p:spPr>
          <a:xfrm>
            <a:off x="6929280" y="2786040"/>
            <a:ext cx="1928880" cy="1071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направл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емперам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харак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785808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4929120" y="1214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4"/>
          <p:cNvSpPr/>
          <p:nvPr/>
        </p:nvSpPr>
        <p:spPr>
          <a:xfrm>
            <a:off x="4214880" y="2786040"/>
            <a:ext cx="1928880" cy="17146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устойчи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о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ъем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4929120" y="2357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спользование картинок, иллюстр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ллюстрации, картинки нужно располагать так, чтобы сопровождающий текст  находил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артинк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ображение на картинке всегда должно «смотреть» на слайд, а не в другую сторо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на слайде два изображения, они не должны «отворачиваться» друг от друга (как исключение случай, где это «отворачивание» оправдано ситуацией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ртинка ни в коем случае не должна иметь размытый вид, быть непропорционально растянут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пример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8"/>
          <p:cNvSpPr/>
          <p:nvPr/>
        </p:nvSpPr>
        <p:spPr>
          <a:xfrm>
            <a:off x="2643120" y="2000160"/>
            <a:ext cx="2160720" cy="719280"/>
          </a:xfrm>
          <a:prstGeom prst="rightArrow">
            <a:avLst>
              <a:gd name="adj1" fmla="val 50000"/>
              <a:gd name="adj2" fmla="val 751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величив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500040" y="1785960"/>
            <a:ext cx="1832040" cy="1376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http://www.stroiniashka.ru/statii/eshe_str/poh/30/c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89240" cy="30718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0"/>
          <p:cNvSpPr/>
          <p:nvPr/>
        </p:nvSpPr>
        <p:spPr>
          <a:xfrm rot="18918000">
            <a:off x="2957040" y="3601800"/>
            <a:ext cx="2000520" cy="701640"/>
          </a:xfrm>
          <a:prstGeom prst="leftArrow">
            <a:avLst>
              <a:gd name="adj1" fmla="val 50000"/>
              <a:gd name="adj2" fmla="val 712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71680" y="5000760"/>
            <a:ext cx="35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азмытая, плохо распознаваемая карт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71360" y="2425680"/>
            <a:ext cx="86979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ФИЗИЧЕСКИЕ И ПСИХОФИЗИОЛОГИЧЕСКИЕ ХАРАКТЕРИСТИКИ ЦВЕТОВ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785880" y="1928880"/>
            <a:ext cx="253512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3429000" y="2108520"/>
            <a:ext cx="5500800" cy="1372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ЕЛЕНЫ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уменьшает кровяное давление и расширяет капилляры, успокаивает, снимает напряжение, облегчает невралгии и мигрени, используется при лечении астмы, ларингита и др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8" descr="http://www.stroiniashka.ru/statii/eshe_str/poh/30/c4.jpg"/>
          <p:cNvPicPr/>
          <p:nvPr/>
        </p:nvPicPr>
        <p:blipFill>
          <a:blip r:embed="rId2"/>
          <a:stretch/>
        </p:blipFill>
        <p:spPr>
          <a:xfrm>
            <a:off x="857160" y="4214880"/>
            <a:ext cx="2567160" cy="1928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071960" y="4537440"/>
            <a:ext cx="4572000" cy="13726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И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дляет сердечную активность, действует седативно, успокаивающее действие может перейти в тормозящее, депрессию. Синие лучи применяют при лечении воспалительных заболеваний глаз, ветрянке, скарлатине и 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5" descr="http://www.stroiniashka.ru/statii/eshe_str/poh/30/c1.jpg"/>
          <p:cNvPicPr/>
          <p:nvPr/>
        </p:nvPicPr>
        <p:blipFill>
          <a:blip r:embed="rId1"/>
          <a:stretch/>
        </p:blipFill>
        <p:spPr>
          <a:xfrm>
            <a:off x="500040" y="928800"/>
            <a:ext cx="2514600" cy="18018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3071880" y="1179720"/>
            <a:ext cx="557208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ТЫЙ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изирующий, бодрящий, согревающий, увеличивающий мышечную активность, стимулирующий деятельность ЦНС, оказывает лечебное воздействие при заболеваниях пищеварительного тракта, печени, почек, ревматизм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All Users\Документы\Мои рисунки\Образцы рисунков\Закат.jpg"/>
          <p:cNvPicPr/>
          <p:nvPr/>
        </p:nvPicPr>
        <p:blipFill>
          <a:blip r:embed="rId2"/>
          <a:stretch/>
        </p:blipFill>
        <p:spPr>
          <a:xfrm>
            <a:off x="714240" y="3500280"/>
            <a:ext cx="2428920" cy="18226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3429000" y="3506040"/>
            <a:ext cx="5500800" cy="137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АСНЫ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ревающий, активный, энергичный, проникающий, тепловой, активизирует все функции организма; используется для лечения ветряной оспы, скарлатины, кори и ряда кожных заболеваний; на короткое время увеличивает мускульное напряжение, повышает кровяное давление, ускоряет ритм дых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2286000" y="5643720"/>
            <a:ext cx="4572000" cy="916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ариантов подбора цвета шрифта множество – восприятие текста меня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им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имация – вещь очень коварная. Ее излишнее использование часто приводит к тому, что слушатели начинают следить за сменой эффектов, упуская то, что сообщает выступающий на слайде и устн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учается, что на разных компьютерах эти эффекты просто перестают работ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ть анимацию надо очень дозировано, помня о том, что не она главная в показываемой рабо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феры применения мультимедийных презентаций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визитной карточки учре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е консультации, круглых столов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ьских собраний, педагогических сове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имущества программы мультимедийных презент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и 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werpoint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й интерактивный  способ представления  и хранения информ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рамма  доступна для освоения и дальнейшей работы с н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а дает возможность постоянно дополнять и обновлять  информацию, экономит пространство при архивации и хранении  практических материал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лгоритм создания презентации для начинающи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орм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места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дактирование текст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размер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мещ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рису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Как создать презентацию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УСК-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«Все программы» - «Microsoft Office» - «Microsoft PowerPoint 2010»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ограмма автоматически создаст первый титульный слайд и предложит вам ввести в него заголовок и подзаголовок презентации. Для этого щелкните мышью в соответствующих полях и введите тек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Рисунок 2" descr="http://24ikt.ru/html/2/pic/index_clip_image002_0000.jpg"/>
          <p:cNvPicPr/>
          <p:nvPr/>
        </p:nvPicPr>
        <p:blipFill>
          <a:blip r:embed="rId1"/>
          <a:stretch/>
        </p:blipFill>
        <p:spPr>
          <a:xfrm>
            <a:off x="395280" y="2197080"/>
            <a:ext cx="80643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Рисунок 63" descr="http://24ikt.ru/html/2/pic/Image48.GIF"/>
          <p:cNvPicPr/>
          <p:nvPr/>
        </p:nvPicPr>
        <p:blipFill>
          <a:blip r:embed="rId1"/>
          <a:stretch/>
        </p:blipFill>
        <p:spPr>
          <a:xfrm>
            <a:off x="0" y="30240"/>
            <a:ext cx="9144000" cy="70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создать новый слайд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ТРОКА МЕНЮ (ВСТАВКА)- СОЗДАТЬ СЛАЙ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лайды можно вставлять не только текст, но и изображения, клипы, таблицы и диаграммы. Для этого достаточно лишь щелкнуть по иконке нужного объекта на слайде, открыть папку с картинкой или таблицей и дважды кликнуть по ней левой кнопкой мышки. Все объекты на слайде (текст, изображения и т.п.) помещены в специальные рамки. Для изменения размера, цвета, начертания шрифта и других опций текста просто щелкните по рамке с нужным текстом и выберите требуемые настройки на панели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струментов «Шрифт»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Microsoft PowerPoint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титульном листе указывается название презентации, её автор. Можно уточнить должность автора, место работы 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также текущий г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головки всех слайдов желательно выполнять в едином стиле: цвет, шрифт, размер, начерт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онце заголовков  точка не стави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ер и цвет шрифта подбираются так, чтобы написанное было хорошо ви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черкивание не используе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фические изображения должны быть четкими, хорошего каче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, схемы и изображения размещаются по усмотрению ав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тапы создания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типа оформ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новых слайдов  и их наполн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разметк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эффектов  анимации при демонстраци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стройка презент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варительный просмотр с помощью мультимедийного обору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щественной организации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фирмы, акционерного общества, корпорации и т.п.). Целями такой презентации являются: создание имиджа фирмы среди деловых круг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товар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и такой презентации ясны: создание знания о новой марке, товаре или услуге на целевом рынке, ознакомление потребителей с новыми возможностями това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роект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этого вида презентации — информирование людей о каком-либо проекте, определение обратной реакции к проекту, поиск заинтересованных в поддержке разработки и 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ъема и содержания выполненных работ (отчет)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знакомить, предоставить определенной узкой группе людей результаты раб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лана будущих работ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ая презентация аналогична предыдущему виду презентаций, только объект здесь будущие работы организации или лич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360360" y="0"/>
            <a:ext cx="8497800" cy="24447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6000" y="2999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оздатель презентации (второе окошечко)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располагается в правом нижнем углу слайда 1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Указывается ФИО,  кем и где работает автор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235728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та создания презентации (третье окошечко): необязательно. Внизу в центре 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73080" y="384120"/>
            <a:ext cx="8978760" cy="2279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647440" y="2637000"/>
            <a:ext cx="58849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я выполнена педагогом-психологом МАДОУ детского сада № 11 Центра развития ребенка г. Гусева Седавных Галиной Евгеньев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1680" y="1526760"/>
            <a:ext cx="848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иль решает всё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грамотно подобранный фон, неудобный для глаза шрифт может снизить интерес к информации до миниму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 должен соответствовать теме презента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льный фон – спокойные, сдержанные холодные тона, допустимы и теплые цвета, но, в таком случае, надо особо подбирать цвет шрифта – черный воспринимается хуже. Никакой анимации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ы-картинки имеют ряд недостатк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они мешают воспринимать основной текс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«тяжелы» по весу, что мешает нормальному открытию презентации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(избежать этого можно, осветлив, размыв  и облегчив такой фон в специальных программах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5:07:00Z</dcterms:created>
  <dc:creator>---</dc:creator>
  <dc:description/>
  <dc:language>en-US</dc:language>
  <cp:lastModifiedBy>Sad11</cp:lastModifiedBy>
  <dcterms:modified xsi:type="dcterms:W3CDTF">2017-01-23T06:57:32Z</dcterms:modified>
  <cp:revision>24</cp:revision>
  <dc:subject/>
  <dc:title>Использование мультимедийных презентаций в дошкольном учреждении</dc:title>
</cp:coreProperties>
</file>