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321-BA6B-4A0F-9FED-2CA95106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C8D-6041-4923-9603-BC3329A6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01C-AD4F-4448-AF1A-B5D20C44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33B-B10A-4890-854C-0870294B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734A-B943-436A-A781-353FAA81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A412-AF94-4AC3-B3D9-13D7E66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00F-B6D2-448B-A073-448F3DC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2CF-F807-4CED-BDAB-7CC2974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F86D-69E2-43F8-871E-BD15C8F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F49-A2A7-402F-AD93-AE0C7430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8B79-B7B5-4870-9C0F-96B46CB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C52-34DF-4EF2-84AD-9CFCB51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0DB3-CF3B-4AF0-8449-23E020F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5464-4D86-4B32-8ABC-7C8EFAA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3AC-9C7B-41DB-8F2E-C3478687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3DEE-C134-42D1-9B2C-90361B39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0188-D6E7-48BA-A9BD-6AA5C69D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5F9C-CCBD-4A97-98F2-053C81E3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745B-D8B2-4AFE-A577-605BBDD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7042-CBCD-47B8-882F-55E6080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E924-0BE9-4FD2-9D9B-5DE81194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333F-B617-4FFA-BD78-14F96BA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1C0-AF3C-4F9A-B87C-C707E05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2CCC-99AF-4903-82D8-E56B8E3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6CFC-15F2-4F0F-973B-FEA155D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4BBE-987F-489D-BFDF-049ADA5E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391D-7134-4591-9F3A-5837292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584C-1B63-4F7B-BDBB-E1C35BC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2A65-667E-4E84-9507-E7A43D56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F601-5F03-47C8-B131-BBC2145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7A26-C480-4EB2-8BA6-4AE3441B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08C3-AD9B-4FB9-99BD-FB19B19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515A-1C7B-4609-881F-E20C00BA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16B-4511-4D62-8E78-CE2F8C6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87E3-1C8E-428A-A7A5-683E83E4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2912-0B0C-4C78-9591-D1A4CC7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968E-DFDF-40C5-8EAE-98DCDCBB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980C-65AE-4215-894C-1EBD391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76B2-BA71-4C7D-807F-08EAED6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5D49-155C-4E20-8C1B-6A70565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C13B-28A1-4360-B099-AF14E7EB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34FC8-DC2F-4ED6-A4A4-9019C0C1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8AD6-7A3D-4F59-90DC-753CD539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67B-5F7C-49C8-BD4C-00183352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CE5-1402-4295-8EB7-56511484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8EA-6F17-44C7-8B1A-DB202A8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C9F-6D81-4145-BC33-B14EAA1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1FF-2AC6-4A40-B69A-287D06D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189-FD66-4870-8392-16D08A49B7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76AE-836A-437F-9F6D-7F046138750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A88-0952-4C6B-94F3-B1B861CD43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FC3-13F3-4D49-85D5-BB05F06BF2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487440"/>
            <a:ext cx="844380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8560" y="3214440"/>
            <a:ext cx="6357960" cy="244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втор: старший воспитатель МАДОУ детского сада № 11 Центра развития ребенка  Садыкова Е.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1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nstantia"/>
              </a:rPr>
              <a:t>2014 год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зентации должно использоваться не более трех гармонирующих друг с другом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и фон, и шрифт). Подобрать их правильно помогают таблицы безопасных цве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ет в этом и программ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Picke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быстрая и легкая в использовании. Она дает коды нужных цветов, которые нужно просто подставить при выборе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ст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 в его полноценном виде на слайде должен представляться крайне редко, толь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этого никак не избеж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чтительнее короткие фразы, несущие в себе основной смысл (существительное – глагол), вводные слова, наречия, прилагательные – только в случае необход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учше представлять информацию в виде таблиц, схем, спис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проявления псих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214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4"/>
          <p:cNvSpPr/>
          <p:nvPr/>
        </p:nvSpPr>
        <p:spPr>
          <a:xfrm>
            <a:off x="1285920" y="3643200"/>
            <a:ext cx="221436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0" y="4500720"/>
            <a:ext cx="1928880" cy="20714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ощу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сприя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памя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об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9"/>
          <p:cNvSpPr/>
          <p:nvPr/>
        </p:nvSpPr>
        <p:spPr>
          <a:xfrm>
            <a:off x="428616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9"/>
          <p:cNvSpPr/>
          <p:nvPr/>
        </p:nvSpPr>
        <p:spPr>
          <a:xfrm>
            <a:off x="7072200" y="1643040"/>
            <a:ext cx="1571760" cy="642960"/>
          </a:xfrm>
          <a:prstGeom prst="rect">
            <a:avLst/>
          </a:prstGeom>
          <a:solidFill>
            <a:srgbClr val="99ff33">
              <a:alpha val="90000"/>
            </a:srgbClr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100008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50004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1500120" y="2357280"/>
            <a:ext cx="357120" cy="1285920"/>
          </a:xfrm>
          <a:prstGeom prst="downArrow">
            <a:avLst>
              <a:gd name="adj1" fmla="val 50000"/>
              <a:gd name="adj2" fmla="val 4356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4"/>
          <p:cNvSpPr/>
          <p:nvPr/>
        </p:nvSpPr>
        <p:spPr>
          <a:xfrm>
            <a:off x="0" y="2786040"/>
            <a:ext cx="2286000" cy="642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9"/>
          <p:cNvSpPr/>
          <p:nvPr/>
        </p:nvSpPr>
        <p:spPr>
          <a:xfrm>
            <a:off x="428760" y="3429000"/>
            <a:ext cx="357120" cy="1071720"/>
          </a:xfrm>
          <a:prstGeom prst="downArrow">
            <a:avLst>
              <a:gd name="adj1" fmla="val 50000"/>
              <a:gd name="adj2" fmla="val 4355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9"/>
          <p:cNvSpPr/>
          <p:nvPr/>
        </p:nvSpPr>
        <p:spPr>
          <a:xfrm>
            <a:off x="2928960" y="4286160"/>
            <a:ext cx="285840" cy="571680"/>
          </a:xfrm>
          <a:prstGeom prst="downArrow">
            <a:avLst>
              <a:gd name="adj1" fmla="val 50000"/>
              <a:gd name="adj2" fmla="val 43546"/>
            </a:avLst>
          </a:prstGeom>
          <a:solidFill>
            <a:srgbClr val="d90985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500200" y="4857840"/>
            <a:ext cx="1500480" cy="7858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эмо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в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9"/>
          <p:cNvSpPr/>
          <p:nvPr/>
        </p:nvSpPr>
        <p:spPr>
          <a:xfrm>
            <a:off x="7786800" y="1214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4"/>
          <p:cNvSpPr/>
          <p:nvPr/>
        </p:nvSpPr>
        <p:spPr>
          <a:xfrm>
            <a:off x="6929280" y="2786040"/>
            <a:ext cx="1928880" cy="1071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направл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емперам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харак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7858080" y="2357280"/>
            <a:ext cx="214200" cy="360360"/>
          </a:xfrm>
          <a:prstGeom prst="downArrow">
            <a:avLst>
              <a:gd name="adj1" fmla="val 50000"/>
              <a:gd name="adj2" fmla="val 43570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9"/>
          <p:cNvSpPr/>
          <p:nvPr/>
        </p:nvSpPr>
        <p:spPr>
          <a:xfrm>
            <a:off x="4929120" y="1214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0f6fc6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4"/>
          <p:cNvSpPr/>
          <p:nvPr/>
        </p:nvSpPr>
        <p:spPr>
          <a:xfrm>
            <a:off x="4214880" y="2786040"/>
            <a:ext cx="1928880" cy="1714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устойч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со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ъем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4929120" y="2357280"/>
            <a:ext cx="214560" cy="360360"/>
          </a:xfrm>
          <a:prstGeom prst="downArrow">
            <a:avLst>
              <a:gd name="adj1" fmla="val 50000"/>
              <a:gd name="adj2" fmla="val 43497"/>
            </a:avLst>
          </a:prstGeom>
          <a:solidFill>
            <a:srgbClr val="7030a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спользование картинок, иллюстр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ллюстрации, картинки нужно располагать так, чтобы сопровождающий текст  находил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артинк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ображение на картинке всегда должно «смотреть» на слайд, а не в другую сторо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на слайде два изображения, они не должны «отворачиваться» друг от друга (как исключение случай, где это «отворачивание» оправдано ситуацией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ртинка ни в коем случае не должна иметь размытый вид, быть непропорционально растянут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пример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8"/>
          <p:cNvSpPr/>
          <p:nvPr/>
        </p:nvSpPr>
        <p:spPr>
          <a:xfrm>
            <a:off x="2643120" y="2000160"/>
            <a:ext cx="2160720" cy="719280"/>
          </a:xfrm>
          <a:prstGeom prst="rightArrow">
            <a:avLst>
              <a:gd name="adj1" fmla="val 50000"/>
              <a:gd name="adj2" fmla="val 751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величи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500040" y="1785960"/>
            <a:ext cx="1832040" cy="137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" descr="http://www.stroiniashka.ru/statii/eshe_str/poh/30/c3.jpg"/>
          <p:cNvPicPr/>
          <p:nvPr/>
        </p:nvPicPr>
        <p:blipFill>
          <a:blip r:embed="rId2"/>
          <a:stretch/>
        </p:blipFill>
        <p:spPr>
          <a:xfrm>
            <a:off x="4857840" y="1857240"/>
            <a:ext cx="4089240" cy="30718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0"/>
          <p:cNvSpPr/>
          <p:nvPr/>
        </p:nvSpPr>
        <p:spPr>
          <a:xfrm rot="18918000">
            <a:off x="2957040" y="3601800"/>
            <a:ext cx="2000520" cy="701640"/>
          </a:xfrm>
          <a:prstGeom prst="leftArrow">
            <a:avLst>
              <a:gd name="adj1" fmla="val 50000"/>
              <a:gd name="adj2" fmla="val 712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71680" y="5000760"/>
            <a:ext cx="35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азмытая, плохо распознаваемая карт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1360" y="2425680"/>
            <a:ext cx="86979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ФИЗИЧЕСКИЕ И ПСИХОФИЗИОЛОГИЧЕСКИЕ ХАРАКТЕРИСТИКИ ЦВЕТОВ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Рисунок 7" descr="http://www.stroiniashka.ru/statii/eshe_str/poh/30/c3.jpg"/>
          <p:cNvPicPr/>
          <p:nvPr/>
        </p:nvPicPr>
        <p:blipFill>
          <a:blip r:embed="rId1"/>
          <a:stretch/>
        </p:blipFill>
        <p:spPr>
          <a:xfrm>
            <a:off x="785880" y="1928880"/>
            <a:ext cx="253512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3429000" y="2108520"/>
            <a:ext cx="5500800" cy="1372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ЕЛЕНЫ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уменьшает кровяное давление и расширяет капилляры, успокаивает, снимает напряжение, облегчает невралгии и мигрени, используется при лечении астмы, ларингита и др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8" descr="http://www.stroiniashka.ru/statii/eshe_str/poh/30/c4.jpg"/>
          <p:cNvPicPr/>
          <p:nvPr/>
        </p:nvPicPr>
        <p:blipFill>
          <a:blip r:embed="rId2"/>
          <a:stretch/>
        </p:blipFill>
        <p:spPr>
          <a:xfrm>
            <a:off x="857160" y="4214880"/>
            <a:ext cx="2567160" cy="1928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071960" y="4537440"/>
            <a:ext cx="4572000" cy="13726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НИЙ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дляет сердечную активность, действует седативно, успокаивающее действие может перейти в тормозящее, депрессию. Синие лучи применяют при лечении воспалительных заболеваний глаз, ветрянке, скарлатине и 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http://www.stroiniashka.ru/statii/eshe_str/poh/30/c1.jpg"/>
          <p:cNvPicPr/>
          <p:nvPr/>
        </p:nvPicPr>
        <p:blipFill>
          <a:blip r:embed="rId1"/>
          <a:stretch/>
        </p:blipFill>
        <p:spPr>
          <a:xfrm>
            <a:off x="500040" y="928800"/>
            <a:ext cx="2514600" cy="18018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3071880" y="1179720"/>
            <a:ext cx="557208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ТЫЙ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изирующий, бодрящий, согревающий, увеличивающий мышечную активность, стимулирующий деятельность ЦНС, оказывает лечебное воздействие при заболеваниях пищеварительного тракта, печени, почек, ревматизме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All Users\Документы\Мои рисунки\Образцы рисунков\Закат.jpg"/>
          <p:cNvPicPr/>
          <p:nvPr/>
        </p:nvPicPr>
        <p:blipFill>
          <a:blip r:embed="rId2"/>
          <a:stretch/>
        </p:blipFill>
        <p:spPr>
          <a:xfrm>
            <a:off x="714240" y="3500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3429000" y="3506040"/>
            <a:ext cx="5500800" cy="137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АСНЫЙ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ревающий, активный, энергичный, проникающий, тепловой, активизирует все функции организма; используется для лечения ветряной оспы, скарлатины, кори и ряда кожных заболеваний; на короткое время увеличивает мускульное напряжение, повышает кровяное давление, ускоряет ритм дых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2286000" y="5643720"/>
            <a:ext cx="4572000" cy="916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ариантов подбора цвета шрифта множество – восприятие текста меня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им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имация – вещь очень коварная. Ее излишнее использование часто приводит к тому, что слушатели начинают следить за сменой эффектов, упуская то, что сообщает выступающий на слайде и устн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учается, что на разных компьютерах эти эффекты просто перестают работа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ть анимацию надо очень дозировано, помня о том, что не она главная в показываемой рабо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феры применения мультимедийных презентаци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визитной карточки учрежд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дение консультации, круглых столов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ьских собраний, педагогических сове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имущества программы мультимедийных презент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и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werpoint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й интерактивный  способ представления  и хранения информ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а  доступна для освоения и дальнейшей работы с н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а дает возможность постоянно дополнять и обновлять  информацию, экономит пространство при архивации и хранении  практических материал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оритм создания презентации для начинающи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формл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места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слай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дактирование текст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размера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щ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адпис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рису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Как создать презентацию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К-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«Все программы» - «Microsoft Office» - «Microsoft PowerPoint 2010».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ограмма автоматически создаст первый титульный слайд и предложит вам ввести в него заголовок и подзаголовок презентации. Для этого щелкните мышью в соответствующих полях и введите тек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Рисунок 2" descr="http://24ikt.ru/html/2/pic/index_clip_image002_0000.jpg"/>
          <p:cNvPicPr/>
          <p:nvPr/>
        </p:nvPicPr>
        <p:blipFill>
          <a:blip r:embed="rId1"/>
          <a:stretch/>
        </p:blipFill>
        <p:spPr>
          <a:xfrm>
            <a:off x="395280" y="2197080"/>
            <a:ext cx="80643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Рисунок 63" descr="http://24ikt.ru/html/2/pic/Image48.GIF"/>
          <p:cNvPicPr/>
          <p:nvPr/>
        </p:nvPicPr>
        <p:blipFill>
          <a:blip r:embed="rId1"/>
          <a:stretch/>
        </p:blipFill>
        <p:spPr>
          <a:xfrm>
            <a:off x="0" y="3024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к создать новый слайд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ТРОКА МЕНЮ (ВСТАВКА)- СОЗДАТЬ СЛАЙ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лайды можно вставлять не только текст, но и изображения, клипы, таблицы и диаграммы. Для этого достаточно лишь щелкнуть по иконке нужного объекта на слайде, открыть папку с картинкой или таблицей и дважды кликнуть по ней левой кнопкой мышки. Все объекты на слайде (текст, изображения и т.п.) помещены в специальные рамки. Для изменения размера, цвета, начертания шрифта и других опций текста просто щелкните по рамке с нужным текстом и выберите требуемые настройки на панели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струментов «Шрифт»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Microsoft PowerPoint.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титульном листе указывается название презентации, её автор. Можно уточнить должность автора, место работы 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также текущий г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головки всех слайдов желательно выполнять в едином стиле: цвет, шрифт, размер, начерт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онце заголовков  точка не стави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мер и цвет шрифта подбираются так, чтобы написанное было хорошо видн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ебования к оформлению презент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черкивание не использует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фические изображения должны быть четкими, хорошего качест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кст, схемы и изображения размещаются по усмотрению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тапы создания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типа оформ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авление новых слайдов  и их наполн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бор разметк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ние эффектов  анимации при демонстрации слайд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тройка презен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ый просмотр с помощью мультимедийного обору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щественной организации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фирмы, акционерного общества, корпорации и т.п.). Целями такой презентации являются: создание имиджа фирмы среди деловых круг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товар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и такой презентации ясны: создание знания о новой марке, товаре или услуге на целевом рынке, ознакомление потребителей с новыми возможностями това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роекта</a:t>
            </a: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этого вида презентации — информирование людей о каком-либо проекте, определение обратной реакции к проекту, поиск заинтересованных в поддержке разработки и 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объема и содержания выполненных работ (отчет).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знакомить, предоставить определенной узкой группе людей результаты рабо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f6fc6"/>
                </a:solidFill>
                <a:latin typeface="Constantia"/>
              </a:rPr>
              <a:t>Презентация плана будущих работ</a:t>
            </a:r>
            <a:r>
              <a:rPr b="0" lang="ru-RU" sz="2000" spc="-1" strike="noStrike">
                <a:solidFill>
                  <a:srgbClr val="0f6fc6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ая презентация аналогична предыдущему виду презентаций, только объект здесь будущие работы организации или лич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360360" y="0"/>
            <a:ext cx="8497800" cy="2444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600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Создатель презентации (второе окошечко)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располагается в правом нижнем углу слайда 1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Указывается ФИО,  кем и где работает автор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2357280" y="5429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та создания презентации (третье окошечко): необязательно. Внизу в центре 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73080" y="384120"/>
            <a:ext cx="8978760" cy="2279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647440" y="2637000"/>
            <a:ext cx="58849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зентация выполнена педагогом-психологом МАДОУ детского сада № 11 Центра развития ребенка г. Гусева Седавных Галиной Евгеньев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иль презент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1680" y="1526760"/>
            <a:ext cx="848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иль решает всё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грамотно подобранный фон, неудобный для глаза шрифт может снизить интерес к информации до миниму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 должен соответствовать теме презент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льный фон – спокойные, сдержанные холодные тона, допустимы и теплые цвета, но, в таком случае, надо особо подбирать цвет шрифта – черный воспринимается хуже. Никакой анимаци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ны-картинки имеют ряд недостатк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70c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они мешают воспринимать основной текс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«тяжелы» по весу, что мешает нормальному открытию презентации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175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(избежать этого можно, осветлив, размыв  и облегчив такой фон в специальных программах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5:07:00Z</dcterms:created>
  <dc:creator>---</dc:creator>
  <dc:description/>
  <dc:language>en-US</dc:language>
  <cp:lastModifiedBy>Sad11</cp:lastModifiedBy>
  <dcterms:modified xsi:type="dcterms:W3CDTF">2017-01-23T06:57:32Z</dcterms:modified>
  <cp:revision>24</cp:revision>
  <dc:subject/>
  <dc:title>Использование мультимедийных презентаций в дошкольном учреждении</dc:title>
</cp:coreProperties>
</file>