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77E5-7492-4DF5-9B7C-FA22D574F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6C3E-7FFA-414D-BE55-321D4316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C486-8F49-4DB4-85C4-154816F14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0128-4C37-48FD-ABD9-D1A836AF3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9BC2-B08B-4D83-A39D-762A73003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163C-A25F-490E-BA23-B85AA3CE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AF65-0E3E-492A-B558-34D63BEF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F8E0-DDC3-44FA-9A04-EAE6C217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2CCF-5AA6-435D-BDD5-FDD65902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D64C-4D48-4F0A-83BE-9888D6DC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F65D-4DDC-4E91-BD22-1DDFF54D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9A03-DA53-44D2-BB57-79412BE7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5AF8-6092-421C-831E-80C5A5AA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C148-4830-4B5B-8464-6D1BE4A5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75E5-3389-4586-A2AF-91453FEE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2F79-DDE9-4052-ACDB-984D34983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0329-CBB7-46D5-BE4E-E00A48AAD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5263B-2BD2-40B6-B7A2-26D91CEDE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21010-0372-41F3-90C0-C86129E5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58239-61E4-44F9-B638-2999F873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0FD1F-147D-42D0-B84F-2422004B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61D3F-C945-4B99-B2EC-B538AC1F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55C8-EC08-40CD-A62C-C2EB9CE9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B3AD2-FDD5-4CA3-A5DC-FBD5E7CC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6759F-9399-4531-B106-F4E60737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30D3C-0706-42B5-BB3C-BFD8CC4B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A8861-CF16-48C1-8282-4BADF123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B933F-0074-4DE4-84B5-7E230755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A29D5-0868-467E-8138-1AC0851E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52EF3-DDA7-416B-BDCC-2CEA81479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CDB0D-E942-48A8-9887-9B4EBD08C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26782-3D88-4832-9FB5-B3B597A1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35A14-E646-4F17-A96E-CA4D17D6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E459-536A-4E26-A35D-2361F261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905D8-86E5-4C1B-A8D0-131DF57A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EB20B-892F-4615-9143-6E58670D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F4D31-6620-43B4-B6C7-64A591E7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6B492-2E7B-4279-8C00-9C81419A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F3F58-9541-4348-BCDC-63D37EE0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10B64-7653-4E29-80DE-E029E1B8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BDE93-12ED-4F90-B710-21B6FC15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B5FEF-B0AE-4D26-867C-E64AE07C9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C56CE-6114-4487-A79D-8404051A6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6A1F-C20F-401F-B585-94642FED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E981-12D3-4721-AF60-7BA2D0C9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BE50-DDD2-4E78-B1AA-C96C4691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F2B8-F467-4C60-A023-9C8291FC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AAC5-3AA5-4B32-98BB-A5D88678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F9B2-CA46-4BE1-93E3-252D609BEC4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58E6-4515-451A-AD35-A9BC9651787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F01D-48AD-40A6-AA2A-1BF01478212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2ADB-161D-45A5-8834-2B43A631411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328680" y="487440"/>
            <a:ext cx="8443800" cy="25905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428560" y="3214440"/>
            <a:ext cx="6357960" cy="2446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Автор: старший воспитатель МАДОУ детского сада № 11 Центра развития ребенка  Садыкова Е.В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1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onstantia"/>
              </a:rPr>
              <a:t>2014 год</a:t>
            </a: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5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5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тиль презентаци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презентации должно использоваться не более трех гармонирующих друг с другом цве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в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(и фон, и шрифт). Подобрать их правильно помогают таблицы безопасных цвето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могает в этом и программа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lorPicker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быстрая и легкая в использовании. Она дает коды нужных цветов, которые нужно просто подставить при выборе цвет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екст презентаци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кст в его полноценном виде на слайде должен представляться крайне редко, тольк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гда этого никак не избежа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дпочтительнее короткие фразы, несущие в себе основной смысл (существительное – глагол), вводные слова, наречия, прилагательные – только в случае необходим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Лучше представлять информацию в виде таблиц, схем, списк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пример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Формы проявления психик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Rectangle 99"/>
          <p:cNvSpPr/>
          <p:nvPr/>
        </p:nvSpPr>
        <p:spPr>
          <a:xfrm>
            <a:off x="214200" y="1643040"/>
            <a:ext cx="1571760" cy="642960"/>
          </a:xfrm>
          <a:prstGeom prst="rect">
            <a:avLst/>
          </a:prstGeom>
          <a:solidFill>
            <a:srgbClr val="99ff33">
              <a:alpha val="90000"/>
            </a:srgbClr>
          </a:solidFill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ОЦЕ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04"/>
          <p:cNvSpPr/>
          <p:nvPr/>
        </p:nvSpPr>
        <p:spPr>
          <a:xfrm>
            <a:off x="1285920" y="3643200"/>
            <a:ext cx="2214360" cy="6429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ЭМОЦИОН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ОЛЕ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1"/>
          <p:cNvSpPr/>
          <p:nvPr/>
        </p:nvSpPr>
        <p:spPr>
          <a:xfrm>
            <a:off x="0" y="4500720"/>
            <a:ext cx="1928880" cy="2071440"/>
          </a:xfrm>
          <a:prstGeom prst="rect">
            <a:avLst/>
          </a:pr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ощущ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восприят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памя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мышл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воображ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реч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вним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99"/>
          <p:cNvSpPr/>
          <p:nvPr/>
        </p:nvSpPr>
        <p:spPr>
          <a:xfrm>
            <a:off x="4286160" y="1643040"/>
            <a:ext cx="1571760" cy="642960"/>
          </a:xfrm>
          <a:prstGeom prst="rect">
            <a:avLst/>
          </a:prstGeom>
          <a:solidFill>
            <a:srgbClr val="99ff33">
              <a:alpha val="90000"/>
            </a:srgbClr>
          </a:solidFill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ОСТО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99"/>
          <p:cNvSpPr/>
          <p:nvPr/>
        </p:nvSpPr>
        <p:spPr>
          <a:xfrm>
            <a:off x="7072200" y="1643040"/>
            <a:ext cx="1571760" cy="642960"/>
          </a:xfrm>
          <a:prstGeom prst="rect">
            <a:avLst/>
          </a:prstGeom>
          <a:solidFill>
            <a:srgbClr val="99ff33">
              <a:alpha val="90000"/>
            </a:srgbClr>
          </a:solidFill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9"/>
          <p:cNvSpPr/>
          <p:nvPr/>
        </p:nvSpPr>
        <p:spPr>
          <a:xfrm>
            <a:off x="1000080" y="1214280"/>
            <a:ext cx="214200" cy="360360"/>
          </a:xfrm>
          <a:prstGeom prst="downArrow">
            <a:avLst>
              <a:gd name="adj1" fmla="val 50000"/>
              <a:gd name="adj2" fmla="val 43570"/>
            </a:avLst>
          </a:prstGeom>
          <a:solidFill>
            <a:srgbClr val="0f6fc6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9"/>
          <p:cNvSpPr/>
          <p:nvPr/>
        </p:nvSpPr>
        <p:spPr>
          <a:xfrm>
            <a:off x="500040" y="2357280"/>
            <a:ext cx="214200" cy="360360"/>
          </a:xfrm>
          <a:prstGeom prst="downArrow">
            <a:avLst>
              <a:gd name="adj1" fmla="val 50000"/>
              <a:gd name="adj2" fmla="val 43570"/>
            </a:avLst>
          </a:prstGeom>
          <a:solidFill>
            <a:srgbClr val="7030a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9"/>
          <p:cNvSpPr/>
          <p:nvPr/>
        </p:nvSpPr>
        <p:spPr>
          <a:xfrm>
            <a:off x="1500120" y="2357280"/>
            <a:ext cx="357120" cy="1285920"/>
          </a:xfrm>
          <a:prstGeom prst="downArrow">
            <a:avLst>
              <a:gd name="adj1" fmla="val 50000"/>
              <a:gd name="adj2" fmla="val 43560"/>
            </a:avLst>
          </a:prstGeom>
          <a:solidFill>
            <a:srgbClr val="7030a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04"/>
          <p:cNvSpPr/>
          <p:nvPr/>
        </p:nvSpPr>
        <p:spPr>
          <a:xfrm>
            <a:off x="0" y="2786040"/>
            <a:ext cx="2286000" cy="6429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ЗНАВА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9"/>
          <p:cNvSpPr/>
          <p:nvPr/>
        </p:nvSpPr>
        <p:spPr>
          <a:xfrm>
            <a:off x="428760" y="3429000"/>
            <a:ext cx="357120" cy="1071720"/>
          </a:xfrm>
          <a:prstGeom prst="downArrow">
            <a:avLst>
              <a:gd name="adj1" fmla="val 50000"/>
              <a:gd name="adj2" fmla="val 43556"/>
            </a:avLst>
          </a:prstGeom>
          <a:solidFill>
            <a:srgbClr val="d90985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9"/>
          <p:cNvSpPr/>
          <p:nvPr/>
        </p:nvSpPr>
        <p:spPr>
          <a:xfrm>
            <a:off x="2928960" y="4286160"/>
            <a:ext cx="285840" cy="571680"/>
          </a:xfrm>
          <a:prstGeom prst="downArrow">
            <a:avLst>
              <a:gd name="adj1" fmla="val 50000"/>
              <a:gd name="adj2" fmla="val 43546"/>
            </a:avLst>
          </a:prstGeom>
          <a:solidFill>
            <a:srgbClr val="d90985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1"/>
          <p:cNvSpPr/>
          <p:nvPr/>
        </p:nvSpPr>
        <p:spPr>
          <a:xfrm>
            <a:off x="2500200" y="4857840"/>
            <a:ext cx="1500480" cy="785880"/>
          </a:xfrm>
          <a:prstGeom prst="rect">
            <a:avLst/>
          </a:pr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эмо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во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9"/>
          <p:cNvSpPr/>
          <p:nvPr/>
        </p:nvSpPr>
        <p:spPr>
          <a:xfrm>
            <a:off x="7786800" y="1214280"/>
            <a:ext cx="214200" cy="360360"/>
          </a:xfrm>
          <a:prstGeom prst="downArrow">
            <a:avLst>
              <a:gd name="adj1" fmla="val 50000"/>
              <a:gd name="adj2" fmla="val 43570"/>
            </a:avLst>
          </a:prstGeom>
          <a:solidFill>
            <a:srgbClr val="0f6fc6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04"/>
          <p:cNvSpPr/>
          <p:nvPr/>
        </p:nvSpPr>
        <p:spPr>
          <a:xfrm>
            <a:off x="6929280" y="2786040"/>
            <a:ext cx="1928880" cy="1071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направлен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темперамен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характе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9"/>
          <p:cNvSpPr/>
          <p:nvPr/>
        </p:nvSpPr>
        <p:spPr>
          <a:xfrm>
            <a:off x="7858080" y="2357280"/>
            <a:ext cx="214200" cy="360360"/>
          </a:xfrm>
          <a:prstGeom prst="downArrow">
            <a:avLst>
              <a:gd name="adj1" fmla="val 50000"/>
              <a:gd name="adj2" fmla="val 43570"/>
            </a:avLst>
          </a:prstGeom>
          <a:solidFill>
            <a:srgbClr val="7030a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9"/>
          <p:cNvSpPr/>
          <p:nvPr/>
        </p:nvSpPr>
        <p:spPr>
          <a:xfrm>
            <a:off x="4929120" y="1214280"/>
            <a:ext cx="214560" cy="360360"/>
          </a:xfrm>
          <a:prstGeom prst="downArrow">
            <a:avLst>
              <a:gd name="adj1" fmla="val 50000"/>
              <a:gd name="adj2" fmla="val 43497"/>
            </a:avLst>
          </a:prstGeom>
          <a:solidFill>
            <a:srgbClr val="0f6fc6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04"/>
          <p:cNvSpPr/>
          <p:nvPr/>
        </p:nvSpPr>
        <p:spPr>
          <a:xfrm>
            <a:off x="4214880" y="2786040"/>
            <a:ext cx="1928880" cy="17146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устойчи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нтере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сомн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творче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дъем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9"/>
          <p:cNvSpPr/>
          <p:nvPr/>
        </p:nvSpPr>
        <p:spPr>
          <a:xfrm>
            <a:off x="4929120" y="2357280"/>
            <a:ext cx="214560" cy="360360"/>
          </a:xfrm>
          <a:prstGeom prst="downArrow">
            <a:avLst>
              <a:gd name="adj1" fmla="val 50000"/>
              <a:gd name="adj2" fmla="val 43497"/>
            </a:avLst>
          </a:prstGeom>
          <a:solidFill>
            <a:srgbClr val="7030a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Использование картинок, иллюстраций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ллюстрации, картинки нужно располагать так, чтобы сопровождающий текст  находил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под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картинкой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зображение на картинке всегда должно «смотреть» на слайд, а не в другую сторон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Если на слайде два изображения, они не должны «отворачиваться» друг от друга (как исключение случай, где это «отворачивание» оправдано ситуацией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артинка ни в коем случае не должна иметь размытый вид, быть непропорционально растянуто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1" action="ppaction://hlinksldjump"/>
              </a:rPr>
              <a:t>Например</a:t>
            </a:r>
            <a:r>
              <a:rPr b="0" lang="ru-RU" sz="2400" spc="-1" strike="noStrike">
                <a:solidFill>
                  <a:srgbClr val="0f6fc6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AutoShape 8"/>
          <p:cNvSpPr/>
          <p:nvPr/>
        </p:nvSpPr>
        <p:spPr>
          <a:xfrm>
            <a:off x="2643120" y="2000160"/>
            <a:ext cx="2160720" cy="719280"/>
          </a:xfrm>
          <a:prstGeom prst="rightArrow">
            <a:avLst>
              <a:gd name="adj1" fmla="val 50000"/>
              <a:gd name="adj2" fmla="val 751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увеличива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Рисунок 7" descr="http://www.stroiniashka.ru/statii/eshe_str/poh/30/c3.jpg"/>
          <p:cNvPicPr/>
          <p:nvPr/>
        </p:nvPicPr>
        <p:blipFill>
          <a:blip r:embed="rId1"/>
          <a:stretch/>
        </p:blipFill>
        <p:spPr>
          <a:xfrm>
            <a:off x="500040" y="1785960"/>
            <a:ext cx="1832040" cy="137628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7" descr="http://www.stroiniashka.ru/statii/eshe_str/poh/30/c3.jpg"/>
          <p:cNvPicPr/>
          <p:nvPr/>
        </p:nvPicPr>
        <p:blipFill>
          <a:blip r:embed="rId2"/>
          <a:stretch/>
        </p:blipFill>
        <p:spPr>
          <a:xfrm>
            <a:off x="4857840" y="1857240"/>
            <a:ext cx="4089240" cy="307188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10"/>
          <p:cNvSpPr/>
          <p:nvPr/>
        </p:nvSpPr>
        <p:spPr>
          <a:xfrm rot="18918000">
            <a:off x="2957040" y="3601800"/>
            <a:ext cx="2000520" cy="701640"/>
          </a:xfrm>
          <a:prstGeom prst="leftArrow">
            <a:avLst>
              <a:gd name="adj1" fmla="val 50000"/>
              <a:gd name="adj2" fmla="val 712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571680" y="5000760"/>
            <a:ext cx="3527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размытая, плохо распознаваемая карти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171360" y="2425680"/>
            <a:ext cx="869796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004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СИХОФИЗИЧЕСКИЕ И ПСИХОФИЗИОЛОГИЧЕСКИЕ ХАРАКТЕРИСТИКИ ЦВЕТОВ</a:t>
            </a:r>
            <a:br>
              <a:rPr sz="45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5" name="Рисунок 7" descr="http://www.stroiniashka.ru/statii/eshe_str/poh/30/c3.jpg"/>
          <p:cNvPicPr/>
          <p:nvPr/>
        </p:nvPicPr>
        <p:blipFill>
          <a:blip r:embed="rId1"/>
          <a:stretch/>
        </p:blipFill>
        <p:spPr>
          <a:xfrm>
            <a:off x="785880" y="1928880"/>
            <a:ext cx="2535120" cy="190476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6"/>
          <p:cNvSpPr/>
          <p:nvPr/>
        </p:nvSpPr>
        <p:spPr>
          <a:xfrm>
            <a:off x="3429000" y="2108520"/>
            <a:ext cx="5500800" cy="13726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ЗЕЛЕНЫЙ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уменьшает кровяное давление и расширяет капилляры, успокаивает, снимает напряжение, облегчает невралгии и мигрени, используется при лечении астмы, ларингита и др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исунок 8" descr="http://www.stroiniashka.ru/statii/eshe_str/poh/30/c4.jpg"/>
          <p:cNvPicPr/>
          <p:nvPr/>
        </p:nvPicPr>
        <p:blipFill>
          <a:blip r:embed="rId2"/>
          <a:stretch/>
        </p:blipFill>
        <p:spPr>
          <a:xfrm>
            <a:off x="857160" y="4214880"/>
            <a:ext cx="2567160" cy="192888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4071960" y="4537440"/>
            <a:ext cx="4572000" cy="137268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СИНИЙ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медляет сердечную активность, действует седативно, успокаивающее действие может перейти в тормозящее, депрессию. Синие лучи применяют при лечении воспалительных заболеваний глаз, ветрянке, скарлатине и д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Рисунок 5" descr="http://www.stroiniashka.ru/statii/eshe_str/poh/30/c1.jpg"/>
          <p:cNvPicPr/>
          <p:nvPr/>
        </p:nvPicPr>
        <p:blipFill>
          <a:blip r:embed="rId1"/>
          <a:stretch/>
        </p:blipFill>
        <p:spPr>
          <a:xfrm>
            <a:off x="500040" y="928800"/>
            <a:ext cx="2514600" cy="18018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2"/>
          <p:cNvSpPr/>
          <p:nvPr/>
        </p:nvSpPr>
        <p:spPr>
          <a:xfrm>
            <a:off x="3071880" y="1179720"/>
            <a:ext cx="5572080" cy="1372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ЖЕЛТЫЙ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онизирующий, бодрящий, согревающий, увеличивающий мышечную активность, стимулирующий деятельность ЦНС, оказывает лечебное воздействие при заболеваниях пищеварительного тракта, печени, почек, ревматизме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C:\Documents and Settings\All Users\Документы\Мои рисунки\Образцы рисунков\Закат.jpg"/>
          <p:cNvPicPr/>
          <p:nvPr/>
        </p:nvPicPr>
        <p:blipFill>
          <a:blip r:embed="rId2"/>
          <a:stretch/>
        </p:blipFill>
        <p:spPr>
          <a:xfrm>
            <a:off x="714240" y="3500280"/>
            <a:ext cx="2428920" cy="182268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4"/>
          <p:cNvSpPr/>
          <p:nvPr/>
        </p:nvSpPr>
        <p:spPr>
          <a:xfrm>
            <a:off x="3429000" y="3506040"/>
            <a:ext cx="5500800" cy="1372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РАСНЫЙ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гревающий, активный, энергичный, проникающий, тепловой, активизирует все функции организма; используется для лечения ветряной оспы, скарлатины, кори и ряда кожных заболеваний; на короткое время увеличивает мускульное напряжение, повышает кровяное давление, ускоряет ритм дых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10"/>
          <p:cNvSpPr/>
          <p:nvPr/>
        </p:nvSpPr>
        <p:spPr>
          <a:xfrm>
            <a:off x="2286000" y="5643720"/>
            <a:ext cx="4572000" cy="9169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Вариантов подбора цвета шрифта множество – восприятие текста меняетс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нимац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00040" y="17146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нимация – вещь очень коварная. Ее излишнее использование часто приводит к тому, что слушатели начинают следить за сменой эффектов, упуская то, что сообщает выступающий на слайде и устно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лучается, что на разных компьютерах эти эффекты просто перестают работат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пользовать анимацию надо очень дозировано, помня о том, что не она главная в показываемой работ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феры применения мультимедийных презентаций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683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здание визитной карточки учрежде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ведение консультации, круглых столов,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одительских собраний, педагогических совет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реимущества программы мультимедийных презентаций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зентации в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werpoint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временный интерактивный  способ представления  и хранения информац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грамма  доступна для освоения и дальнейшей работы с не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на дает возможность постоянно дополнять и обновлять  информацию, экономит пространство при архивации и хранении  практических материало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Алгоритм создания презентации для начинающих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формлен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менение места слайд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бавление слайд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даление слайд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дактирование текста надпис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менение размера надпис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еремещение надпис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даление надпис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бавление рисун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Arial"/>
              </a:rPr>
              <a:t>Как создать презентацию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УСК-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«Все программы» - «Microsoft Office» - «Microsoft PowerPoint 2010».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Программа автоматически создаст первый титульный слайд и предложит вам ввести в него заголовок и подзаголовок презентации. Для этого щелкните мышью в соответствующих полях и введите текс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5" name="Рисунок 2" descr="http://24ikt.ru/html/2/pic/index_clip_image002_0000.jpg"/>
          <p:cNvPicPr/>
          <p:nvPr/>
        </p:nvPicPr>
        <p:blipFill>
          <a:blip r:embed="rId1"/>
          <a:stretch/>
        </p:blipFill>
        <p:spPr>
          <a:xfrm>
            <a:off x="395280" y="2197080"/>
            <a:ext cx="806436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7" name="Рисунок 63" descr="http://24ikt.ru/html/2/pic/Image48.GIF"/>
          <p:cNvPicPr/>
          <p:nvPr/>
        </p:nvPicPr>
        <p:blipFill>
          <a:blip r:embed="rId1"/>
          <a:stretch/>
        </p:blipFill>
        <p:spPr>
          <a:xfrm>
            <a:off x="0" y="30240"/>
            <a:ext cx="9144000" cy="70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Как создать новый слайд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09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СТРОКА МЕНЮ (ВСТАВКА)- СОЗДАТЬ СЛАЙД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слайды можно вставлять не только текст, но и изображения, клипы, таблицы и диаграммы. Для этого достаточно лишь щелкнуть по иконке нужного объекта на слайде, открыть папку с картинкой или таблицей и дважды кликнуть по ней левой кнопкой мышки. Все объекты на слайде (текст, изображения и т.п.) помещены в специальные рамки. Для изменения размера, цвета, начертания шрифта и других опций текста просто щелкните по рамке с нужным текстом и выберите требуемые настройки на панели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нструментов «Шрифт»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 Microsoft PowerPoint.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Требования к оформлению презентаци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 титульном листе указывается название презентации, её автор. Можно уточнить должность автора, место работы ,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 также текущий год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головки всех слайдов желательно выполнять в едином стиле: цвет, шрифт, размер, начертан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конце заголовков  точка не ставитс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мер и цвет шрифта подбираются так, чтобы написанное было хорошо видно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Требования к оформлению презентаци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черкивание не используетс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рафические изображения должны быть четкими, хорошего качеств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кст, схемы и изображения размещаются по усмотрению автор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Этапы создания презентаци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бор типа оформле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бавление новых слайдов  и их наполнен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бор разметки слайд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здание эффектов  анимации при демонстрации слайд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стройка презентац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дварительный просмотр с помощью мультимедийного оборудова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иды презентаци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57120" y="14284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f6fc6"/>
                </a:solidFill>
                <a:latin typeface="Constantia"/>
              </a:rPr>
              <a:t>Презентация общественной организации</a:t>
            </a:r>
            <a:r>
              <a:rPr b="0" lang="ru-RU" sz="20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фирмы, акционерного общества, корпорации и т.п.). Целями такой презентации являются: создание имиджа фирмы среди деловых круг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f6fc6"/>
                </a:solidFill>
                <a:latin typeface="Constantia"/>
              </a:rPr>
              <a:t>Презентация товара</a:t>
            </a:r>
            <a:r>
              <a:rPr b="1" lang="ru-RU" sz="2000" spc="-1" strike="noStrike">
                <a:solidFill>
                  <a:srgbClr val="0f6fc6"/>
                </a:solidFill>
                <a:latin typeface="Constantia"/>
              </a:rPr>
              <a:t>.</a:t>
            </a:r>
            <a:r>
              <a:rPr b="0" lang="ru-RU" sz="20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Цели такой презентации ясны: создание знания о новой марке, товаре или услуге на целевом рынке, ознакомление потребителей с новыми возможностями товар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f6fc6"/>
                </a:solidFill>
                <a:latin typeface="Constantia"/>
              </a:rPr>
              <a:t>Презентация проекта</a:t>
            </a:r>
            <a:r>
              <a:rPr b="1" lang="ru-RU" sz="2000" spc="-1" strike="noStrike">
                <a:solidFill>
                  <a:srgbClr val="0f6fc6"/>
                </a:solidFill>
                <a:latin typeface="Constantia"/>
              </a:rPr>
              <a:t>.</a:t>
            </a:r>
            <a:r>
              <a:rPr b="0" lang="ru-RU" sz="20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Цель этого вида презентации — информирование людей о каком-либо проекте, определение обратной реакции к проекту, поиск заинтересованных в поддержке разработки и реализации проект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f6fc6"/>
                </a:solidFill>
                <a:latin typeface="Constantia"/>
              </a:rPr>
              <a:t>Презентация объема и содержания выполненных работ (отчет).</a:t>
            </a:r>
            <a:r>
              <a:rPr b="0" lang="ru-RU" sz="20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Цель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знакомить, предоставить определенной узкой группе людей результаты работ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f6fc6"/>
                </a:solidFill>
                <a:latin typeface="Constantia"/>
              </a:rPr>
              <a:t>Презентация плана будущих работ</a:t>
            </a:r>
            <a:r>
              <a:rPr b="0" lang="ru-RU" sz="2000" spc="-1" strike="noStrike">
                <a:solidFill>
                  <a:srgbClr val="0f6fc6"/>
                </a:solidFill>
                <a:latin typeface="Constantia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акая презентация аналогична предыдущему виду презентаций, только объект здесь будущие работы организации или личност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2" descr=""/>
          <p:cNvPicPr/>
          <p:nvPr/>
        </p:nvPicPr>
        <p:blipFill>
          <a:blip r:embed="rId1"/>
          <a:stretch/>
        </p:blipFill>
        <p:spPr>
          <a:xfrm>
            <a:off x="360360" y="0"/>
            <a:ext cx="8497800" cy="244476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2286000" y="2999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 Antiqua"/>
              </a:rPr>
              <a:t>Создатель презентации (второе окошечко)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 Antiqua"/>
              </a:rPr>
              <a:t>располагается в правом нижнем углу слайда 1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 Antiqua"/>
              </a:rPr>
              <a:t>Указывается ФИО,  кем и где работает автор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Прямоугольник 3"/>
          <p:cNvSpPr/>
          <p:nvPr/>
        </p:nvSpPr>
        <p:spPr>
          <a:xfrm>
            <a:off x="2357280" y="54291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Дата создания презентации (третье окошечко): необязательно. Внизу в центре  слай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2" descr=""/>
          <p:cNvPicPr/>
          <p:nvPr/>
        </p:nvPicPr>
        <p:blipFill>
          <a:blip r:embed="rId1"/>
          <a:stretch/>
        </p:blipFill>
        <p:spPr>
          <a:xfrm>
            <a:off x="73080" y="384120"/>
            <a:ext cx="8978760" cy="22798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2647440" y="2637000"/>
            <a:ext cx="5884920" cy="201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зентация выполнена педагогом-психологом МАДОУ детского сада № 11 Центра развития ребенка г. Гусева Седавных Галиной Евгеньевн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тиль презентаци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1680" y="1526760"/>
            <a:ext cx="8485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тиль решает всё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грамотно подобранный фон, неудобный для глаза шрифт может снизить интерес к информации до минимум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он должен соответствовать теме презентаци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ормальный фон – спокойные, сдержанные холодные тона, допустимы и теплые цвета, но, в таком случае, надо особо подбирать цвет шрифта – черный воспринимается хуже. Никакой анимации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оны-картинки имеют ряд недостатков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756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70c0"/>
                </a:solidFill>
                <a:latin typeface="Book Antiqu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Book Antiqua"/>
              </a:rPr>
              <a:t>они мешают воспринимать основной текст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1756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Book Antiqua"/>
              </a:rPr>
              <a:t>«тяжелы» по весу, что мешает нормальному открытию презентации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175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Book Antiqua"/>
              </a:rPr>
              <a:t>(избежать этого можно, осветлив, размыв  и облегчив такой фон в специальных программах)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15:07:00Z</dcterms:created>
  <dc:creator>---</dc:creator>
  <dc:description/>
  <dc:language>en-US</dc:language>
  <cp:lastModifiedBy>Sad11</cp:lastModifiedBy>
  <dcterms:modified xsi:type="dcterms:W3CDTF">2017-01-23T06:57:32Z</dcterms:modified>
  <cp:revision>24</cp:revision>
  <dc:subject/>
  <dc:title>Использование мультимедийных презентаций в дошкольном учреждении</dc:title>
</cp:coreProperties>
</file>