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167-E87C-4A9D-B221-3C8B2047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C58-4FB7-4FBF-8048-B328A89B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35D-CD41-4719-B2C6-25B56533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F75-D7DF-46B8-B1DA-1B0AAFFD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B88-8B0C-4447-8788-706CABD1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0CD-A9B0-4C37-9FE2-6A9B58EA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CAD-5613-462B-8863-5FA462CA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DA3-DB80-4681-AE72-D010891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39F-B08B-4697-AA0E-FD3F4B7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E05-C233-4A32-8CEB-20AE095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88C-8043-4979-A83A-6F51FF42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50E-816B-412D-85A2-8DB198F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D3E-2DA6-472B-AD63-FDDE5DA6F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urite board g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ogradov Dan 6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board game is chec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rs is a game for two players. The aim of the game is to capture all opponent's checkers. The game is lost by the player who cannot make a single move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TA-3369_checkers"/>
          <p:cNvPicPr/>
          <p:nvPr/>
        </p:nvPicPr>
        <p:blipFill>
          <a:blip r:embed="rId1"/>
          <a:stretch/>
        </p:blipFill>
        <p:spPr>
          <a:xfrm>
            <a:off x="5364000" y="4365720"/>
            <a:ext cx="3384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urite board game is ch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s is a game for two players. The aim of the game is to tap your  opponents king. White is always first to move and players take turns moving one piece at a time. Each type of piece has its own moves. The game runs at a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?id=4f418e267a25cb79e59ffa8bf49bf5ad&amp;n=33&amp;h=215&amp;w=341"/>
          <p:cNvPicPr/>
          <p:nvPr/>
        </p:nvPicPr>
        <p:blipFill>
          <a:blip r:embed="rId1"/>
          <a:stretch/>
        </p:blipFill>
        <p:spPr>
          <a:xfrm>
            <a:off x="4932360" y="3933720"/>
            <a:ext cx="3247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he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layer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me for two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in by trapping your opponents k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game is to capture all opponent's check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09:19:40Z</dcterms:created>
  <dc:creator>XLAM</dc:creator>
  <dc:description/>
  <dc:language>en-US</dc:language>
  <cp:lastModifiedBy>teacher</cp:lastModifiedBy>
  <dcterms:modified xsi:type="dcterms:W3CDTF">2017-01-16T07:59:26Z</dcterms:modified>
  <cp:revision>14</cp:revision>
  <dc:subject/>
  <dc:title>Слайд 1</dc:title>
</cp:coreProperties>
</file>