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162-9FA8-4654-BAA3-7ECAC1DC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1CA-7BAB-496F-98C7-6A3D7D26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C3C-3263-4EB1-9DA5-98CB773E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E20-5D1A-4E04-95BE-7152362D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A89-34DD-4818-8853-BCEBC617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B3F-91D8-4EB8-A61B-F2C49DBE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CE7-1963-416A-9BBD-0031DBCA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C25-93DC-4F88-861B-1158925C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E2A-0127-4F6D-88AA-790CE35D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49D-D846-4466-87F3-104BE36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32C-E15E-4E3F-A5D8-2FD7D702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B0B-3E9D-4382-97A9-56F79654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EFE8-3DCC-4539-8EC0-6EE0BB2BC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urite board g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nogradov Dan 6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urite board game is chec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ers is a game for two players. The aim of the game is to capture all opponent's checkers. The game is lost by the player who cannot make a single move on th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RTA-3369_checkers"/>
          <p:cNvPicPr/>
          <p:nvPr/>
        </p:nvPicPr>
        <p:blipFill>
          <a:blip r:embed="rId1"/>
          <a:stretch/>
        </p:blipFill>
        <p:spPr>
          <a:xfrm>
            <a:off x="5364000" y="4365720"/>
            <a:ext cx="3384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vourite board game is ch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s is a game for two players. The aim of the game is to tap your  opponents king. White is always first to move and players take turns moving one piece at a time. Each type of piece has its own moves. The game runs at a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?id=4f418e267a25cb79e59ffa8bf49bf5ad&amp;n=33&amp;h=215&amp;w=341"/>
          <p:cNvPicPr/>
          <p:nvPr/>
        </p:nvPicPr>
        <p:blipFill>
          <a:blip r:embed="rId1"/>
          <a:stretch/>
        </p:blipFill>
        <p:spPr>
          <a:xfrm>
            <a:off x="4932360" y="3933720"/>
            <a:ext cx="32479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he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layer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me for two 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in by trapping your opponents ki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game is to capture all opponent's check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09:19:40Z</dcterms:created>
  <dc:creator>XLAM</dc:creator>
  <dc:description/>
  <dc:language>en-US</dc:language>
  <cp:lastModifiedBy>teacher</cp:lastModifiedBy>
  <dcterms:modified xsi:type="dcterms:W3CDTF">2017-01-16T07:59:26Z</dcterms:modified>
  <cp:revision>14</cp:revision>
  <dc:subject/>
  <dc:title>Слайд 1</dc:title>
</cp:coreProperties>
</file>