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238-7221-4B9A-8D0C-543F648E8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87A-FDAA-47EC-9F61-CCA14DC2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8CC-6692-4D7B-906C-4898D24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38D-6264-4FD6-897D-D1B729D6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4AA-5DF4-44EB-B236-7CA7625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D1A-F8E6-4894-93A2-9FC20D8F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320-D22A-489F-99A5-EE2C04AC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10C-5D7E-445B-AA5B-50E3DC62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CA1-B109-444B-BE27-683DEDF7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C80-3950-44CF-A397-801DA64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DDA-638F-4FB5-9ECD-01C5B8A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84B-59A1-4369-9CB7-AA416A0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84E-C8FE-4971-8A01-A0B494E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6C8-C903-4A44-8236-5570120D6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33520" y="457200"/>
            <a:ext cx="8001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ОСОБЕННЫЕ ДЕТИ</a:t>
            </a:r>
            <a:endParaRPr b="1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2895840" cy="37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743200" cy="1965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лассификация нарушений развития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о характер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. Глухие (неслышащ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. Слабослыша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. Позднооглохш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 Незряч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5. Слабовидя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6. С нарушениями функций опорно-двигательного аппар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7 С нарушениям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8. С нарушениями интеллекта (умственно-отстал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9. С задержкой психическ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0. С нарушениями речи (в том числе тяжёлы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1. Со сложными недостатками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Под УО понимается стойко выраженное снижение познавательной деятельности, являющееся следствием органического поражения центральной нервной системы, которое возникает в результате наследственно-обусловленной неполноценности мозга или органического поражения его на ранних этапах онтогенезе (внутриутробно или в первые 3 года жизни)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Основную часть детей с УО составляют дети-олигофрены.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У них выражены нарушения познавательных процессов, эмоционально-волевой сферы, моторики, личности в цел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мственная отст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Факторы способствующие развитию УО во   внутриутробном периоде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инфекционные вирусные (краснуха, корь, ветряная оспа, грипп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родовые травмы, асфикси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патологическая наследствен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нарушения хромосомного набора (например, болезнь Дауна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хронические соматические болезни матери (например, сахарный диабет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интоксикация лекарственными препаратам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алкоголизм матери или отца (или обоих родителей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-несовместимость матери и плода по резус-фактору.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ЗАДЕРЖКА ПСИХИЧЕСКОГО РАЗВИТИЯ (ЗПР)</a:t>
            </a: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Это незрелость психических функций, вызванная замедленным созреванием головного мозга под влиянием неблагоприятных факторов, что приводит к отставанию психической деятельности.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ПР является сложным нарушением и у детей страдают разные компоненты психической, психологической, физ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ЧИНЫ ВОЗНИКНОВЕНИЯ ЗПР: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минимальные (слабовыраженные) органические повреждения центральной нервной системы, возникающие в результате воздействия патогенетических  факторов во внутриутробном, природовом, раннем периоде жизни ребёнка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функциональная недостаточность центральной нервной системы, возникающая в результате воздействия патогенетических факторов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хронические соматические заболевания, перенесённые в раннем детстве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трессовые психотравмирующие факторы (дисгармоничные отношения в семье, развод, смена места жительства, смерть, тяжёлая болезнь значимого человека, рождение второго ребёнка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длительная депривация (педагогическая запущенность детей, пребывание в доме ребёнка дл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Детям дошкольного возраста с ЗПР рекомендуется посещать дошкольные учреждения компенсирующего, комбинированного вида или группы кратковременного пребывания для детей с отклонениями в развитии, где решаются диагностические, воспитательные и коррекционно-развивающие, образовательные и оздоровительные задачи. </a:t>
            </a: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оррекционно-развивающая работа В ДОУ  и школах ведётся при участии семьи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553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33520"/>
            <a:ext cx="73915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ходства между УО и ЗПР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дети не воспринимаются никакие требова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т интереса к учебному процессу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т подчинения правилам поведе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не справляются с освоением письма, счёта, чтения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испытывают проблемы при звуко-буквенном анализ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зличия между УО и ЗПР: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задержка определяется в отделах нервной системы, при УО поражения коры больших полушарий головного мозга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в случае адекватной своевременной психолого-педагогической коррекционной работе может наступить полная обратимость симптома. При УО такого не возникает.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характерна большая сила нервных процессов – возбуждения и торможения, высокая подвижность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Моторика при ЗПР в большинстве случаев достигает высокого уровня развития. Движения отличаются ловкостью, скоординированы, целенаправленны, четки. При УО моторика недоразвита, движения неловки, замедленны. Низкий уровень переключаемости с одного движения на другое. 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ри ЗПР нет грубых нарушений произношения, лексики, грамматики. Словарный запас больше. При УО имеются грубые дефекты речи, бедность словаря, трудности в понимании текста и при формулировании мыслей. Отсутствует стремление к пониманию.</a:t>
            </a:r>
            <a:br>
              <a:rPr sz="1600"/>
            </a:b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у детей с ЗПР нарушений в игровой деятельности нет: они активны и самостоятельны. У детей с УО игры носят элементарный, стереотипный, подражательный характер. Они не умеют брать на себя роли, их игры бессюжетны;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познавательная деятельность у детей с ЗПР относительно сохранна. Способность к обобщению на границе нормы. У детей с УО познавательная деятельность недоразвита.</a:t>
            </a:r>
            <a:br>
              <a:rPr sz="16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-моторика, речь, пространственные и зрительные представления у детей с ЗПР сохранны. У детей олигофренов недоразвиты все стороны психик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рушения речи</a:t>
            </a:r>
            <a:br>
              <a:rPr sz="24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чь –это процесс практического применения человеком языка в целях общения с другими людь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ЙСТВА РЕЧИ:</a:t>
            </a:r>
            <a:br>
              <a:rPr sz="2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держательность (количество выраженных в речи мыслей, чувств и их соответствием действительност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Понятность (зависит от правильности построения предложений и постановки ударений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словах, лексических значений слов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Выразительность (зависимость от эмоциональной насыщенност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Воздейственность (степень влияние речи субъекта на мысли, чувства, поведение, волю других люд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словия необходимые для формирования речи: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хранность центральной нервной системы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сохранность зрительной и слуховой систем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наличие активной языковой среды.</a:t>
            </a: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Виды нарушений развития речи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общее недоразвитие речи (ОНР);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фонетико-фонематическое недоразвитие(ФФН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563868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Проблемами особых детей занимается специальная психология, которая изучает людей с различными отклонениями от нормального психического развития, связанными с врождёнными или приобретёнными деф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В специальной психологии есть понятие аномальные дети – нуждающиеся в специальных условиях обучения и воспитания вследствие имеющихся физических и психических откло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атегории аномальны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я интеллекта (ЗПР – задержка психического развития, умственная отстало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письма и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зрения (слепые, ослепшие, слабовидя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е слуха (глухие, оглохшие, слабослыша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рушения опорно-двигатель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Эмоциональные нарушения и нарушения поведения (неврозы, психопатии, патологическое формирование личности, патологические реакци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Начальные проявления психических заболеваний (шизофрения, эпилепсия, аути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Сложные дефек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Эмоциональные нарушения и нарушения поведения   (психопатии, неврозы, патологические реакции, патологическое формирование личности,  акцентуации)</a:t>
            </a:r>
            <a:br>
              <a:rPr sz="2400"/>
            </a:br>
            <a:br>
              <a:rPr sz="2400"/>
            </a:br>
            <a:r>
              <a:rPr b="0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сихопатия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рождённая или приобретённая в раннем детстве аномалия характера, приводящая к дисгармоничному формированию личности и нарушению социальной адаптаци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Критерии психопатии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тотальность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обратимость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клонность к дезадаптации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ИЧИНЫ ВОЗНИКНОВЕНИЯ ПСИХОПАТИИ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биологическая неполноценность мозга (в результате наследственности или органических повреждений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благоприятное социальное окружени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дисфункциональные отношения в родительской семь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отклоняющиеся от нормы типы вос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НЕВРОЗЫ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Это «группа пограничных психических заболеваний, характеризующаяся нерезко выраженными нарушениями психической деятельности, вызванных воздействием психотравмирующих обстоятельств»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и данном диагнозе отсутствуют поражения головного мозга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Проявления носят эмоциональный характер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ИЧИНА ВОЗНИКНОВЕНИЯ НЕВРОЗО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 наличие в сознании личности психологического конфликта, вызванного психотравмирующими раздражителями или ситуациями с которыми он не в состоянии справиться. Физиологический механизм невроза – срыв высшей нервной деятельности в результате перенапряжения или сбоя нервны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лагоприятная почва для развития неврозов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педагогическая неграмотность родителей в сочетании с их психологической незрелостью, что выражается в неправильном типе воспитания, проецировании своих психологических проблем на ребёнка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индивидуальные особенности личности, например, впечатлительность, мнительность, тревожность;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-возникновение стрессогенной ситуации (смена места жительства, учёба, рождение второго ребёнка, длительная разлука с матерью. В младенчестве это может быть резкий неожиданный звук, помещение в ясли или больницу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Неврозы чаще случаются у мальчиков, чем у девочек. Возраст от 3 до 6 и школьный наиболее уязв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ИДЫ НЕВРОЗОВ:</a:t>
            </a:r>
            <a:br>
              <a:rPr sz="2000"/>
            </a:b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-неврастения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(самая распространённая форма неврозов, характеризуется повышенным уровнем раздражительности и истощаемостью психических процессов, а также вследствие интеллектуальных, физических или психологических перегрузок)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Основные симптомы неврастении: раздражительная слабость, несдержанность эмоций, отсутствие чувства отдыха после сна, резкое снижение работоспособности, нарушение сна, вегетативные нарушения (сердцебиение, холодность рук и ног, боли в области сердца). Вторичные симптомы: приступы головной боли, повышенная чувствительность ко всем внешним раздражителям (яркий свет, громкий звук), прикосновения к кож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истерический невроз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это состояние возникающее в результате психической травмы и характеризующееся разнообразными, меняющимися проявлениями). Чаще возникает у девочек. Возникают при наличие в характере истерических черт, впечатлительности, повышенной чувствительности, инфантилизме, эгоцентризме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имптомы возникают сразу после психотравмирующего фактора: обиды, ссоры, физического насил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вроз навязчивых состояний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(наиболее редкий вид, возникающий равно как у мужчин, так и у женщин. Чаще всего наблюдается у людей мыслительного типа или с тревожно-мнительными чертами. Это фобии (навязчивые страхи), обсесии (навязчивые мысли), импульсии (навязчивые действия)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АТОЛОГИЧЕСКИЕ РЕАКЦИИ</a:t>
            </a:r>
            <a:br>
              <a:rPr sz="24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Это дезадаптивное поведение, имеющее психогенное происхождение, возникающее в ситуациях, являющимися для ребёнка или воспринимаемых ребёнком как фрустирующие, и продолжающиеся от нескольких часов до нескольких дней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                              Причины патологических реакций: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дисфункциональные отношения в семье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конфликтные отношения со сверстниками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 конфликт с педагогом;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результате данных причин у детей появляется многообразие различных реакций: активный протест, конфликтные отношения с родителями, агрессия, отказ от общения, игр, пищи, подражание в поведении какому-либо значимому лицу ( например, поп-звезде), скрывание своих слабых ме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ЗАИКАНИЕ</a:t>
            </a:r>
            <a:br>
              <a:rPr sz="28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Это нарушение темпо-ритмической организации речи, обусловленное судорожным состоянием мышц речевого аппарата (повторение звуков, слогов, слов, удлинения звуков, обрыв слов, вставки). Проявляется в определённых ситуациях, в результате чего возникает реакция избегания таких ситуаций и ограничения общения.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В большинстве случаев возникает у детей в возрасте от 2 до 6 лет в результате поражения определённых структур центральной нервной системы, изменений речевой нагрузки, психо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иперактивные дети</a:t>
            </a:r>
            <a:br>
              <a:rPr sz="24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Находится в постоянном движении и просто не может себя контролировать, т.е. даже если он устал, то продолжает двигаться, а выбившись из сил плачет, закатывает истерик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Быстро и много говорит, глотает слова, перебивает, не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дослушивает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Задает много вопросов, но редко выслушивает на них ответы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Невозможно уложить спать, а если спит, то урывками, беспокойно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 него частые кишечные расстройства, не редкость также аллергические реакции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ебёнок неуправляемый, абсолютно не реагирует на запреты, ограничения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 любых условиях (дома, в магазине, гостях) ведёт себя одинаково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сто провоцирует конфликты, не контролирует свою агрессию – дерётся, кусается, толкается, пускает в ход палки, камни и т.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авила работы с гиперактивными детьми: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аботать с ребёнком в начале дня, а не вечеро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меньшить рабочую нагрузку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елить работу на более короткие, но более частые периоды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физкультминутки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Быть драматичным, экспрессивным педагогом, интересным для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Снизить требования к аккуратности в начале работы, чтобы сформировать чувство успех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осадить ребёнка во время занятий рядом со взрослы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физический контакт (прикосновения, поглаживания, массаж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Учит выражать свои эмоции (но не разрушительным способом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оговариваться с ребёнком о тех или иных действиях заране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Давать короткие и конкретные инструкции (не более 10 слов)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Использовать гибкую систему поощрения и наказания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оощрять ребёнка сразу же, не откладывая на будущее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редоставлять ребёнку возможность выбор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Оставаться спокойным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Завести собаку и выгуливать обоих в любую погоду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Работу с гиперактивным ребёнком ведите индивидуально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ще хвалите ребёнка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Чаще говорите «да», чем «нет»;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Не навязывайте жёстких правил. </a:t>
            </a:r>
            <a:br>
              <a:rPr sz="18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утичный ребёнок</a:t>
            </a:r>
            <a:br>
              <a:rPr sz="28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лово «аутизм» - от латинского «сам», означает отрыв от реальности, отгороженность от мир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арианты РДА (ранний детский аутизм):</a:t>
            </a:r>
            <a:br>
              <a:rPr sz="20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РДА при различных заболеваниях нервной системы (двигательная недостаточность ребёнка, нарушения внимания, памяти, задержка речевого и интеллектуального развития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сихогенный аутизм (на фоне отсутствия материнской ласки, неправильном воспитании, на фоне первичных нарушений: слепые-слабовидящие, глухие-слабослышащие,тяжелые речевые нарушения)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РДА шизофренической этиологии (выраженная отрешённость от мира, слабая контактность с окружающим миром, полное погружение в мир болезненных фантазий, бредовые образования, галлюцинации)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ри обменных заболеваниях;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ри хромосомной патолог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ети с диагнозом РДА должны  обучаются по специальным программам.</a:t>
            </a:r>
            <a:br>
              <a:rPr sz="1800"/>
            </a:b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СЛОВИЯ ДЛЯ РАЗВИТИЯ НОРМАЛЬНОЙ        ЛИЧНОСТИ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(автор П.Ф. Лесгафт)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Ребёнок должен расти в атмосфере любви, тогда он научится любить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Значимые близкие должны быть для него эталоном нравственности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Отношение к труду в семье должно быть радостным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Необходимо исключить из жизни ребёнка лакомства, азартные игры, табак, беспорядочную еду, а также роскошь и нищету, поскольку роскошь развращает, а нищета – унижает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Чередовать труд с игрой, игру с учением, рисование с лепкой, причём занятия должен выбирать сам ребёнок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Равномерно чередовать психическое напряжение с расслаблением, не допуская перегрузок;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 Контролировать окружение сверстников, исключая из него безнравственных детей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90720" y="304920"/>
            <a:ext cx="7238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СИХИЧЕСКОЕ РАЗВИТИ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сихическое развитие – это закономерное изменение психических процессов в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БИОЛОГИЧЕСКИЕ ПРИЧИНЫ ВРОЖДЁННЫХ АНОМА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натальная патологи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патогенные агенты действующие на развивающийся плод во внутриутробный период (токсикозы, интоксикации ядовитыми, лекарственными, гармональными препаратами, физические и психические травмы; внутренние болезни беременной, голодание или неправильное питание матери; инфекционные болезни, резус- несовместимость или групповая несовместимость крови матери и плод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нетические (наследственные) поражения организм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наследственное нарушение обмена веществ, изменения числа или структуры хромосом, мутации. Наследуются некоторые формы олигофрении, отдельные психические заболевания, определённые типы глухоты и нарушения зрения, ранний детский аутиз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олучение детьми с ограниченными возможностями образования является одним из основных и неотъемлемых условий успешной социализации, обеспечения их полноценного участия в жизни общества, эффективной самореализации в различных видах профессиональной и соци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Ребёнок – это главное чудо природы, ребёнок-инвалид – это ангел, посланный с небес для того, чтобы не зачерствели наши ду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Натальные (природовые) нарушения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(механические травмы плода при затяжных или стремительных род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стнатальные (послеродовые) нарушения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(перенесённые в младенчестве и раннем детстве инфекционные болезни нервной системы. Например, последствия менингита (воспаление мозговых оболочек) – глухота или задержка психического развития, двигательные на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бщие заболевания (грипп, отит, корь, ветряная оспа) могут вызвать вторичные воспалительные заболевания мозга, давая осложнения на центральную нервную систему и анализаторы. У детей с нарушениями кишечного всасывания начинают проявляться нервно-психические отклонения (повышенная нервная возбудимость, нарушения сна и т.д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335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БИОЛОГИЧЕСКИЕ ПРИЧИНЫ ПРИОБРЕТЁННЫХ АНОМАЛ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еблагоприятная социальная среда 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влияет на психологическое развитие ребёнка, которое впоследствии приводит к возникновению иных аномалий, например, снижение интеллектуальных темпов развития, неврозы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Социальные факторы, негативно влияющие на развитие индивида: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объективные и субъективны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бъектив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ОЦИАЛЬНЫЕ ПРИЧИНЫ ПРИОБРЕТЁННЫХ АНОМАЛИЙ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743200"/>
            <a:ext cx="419112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оциально-эконом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итуация в ст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вой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экономические кризи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олитические 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952880"/>
            <a:ext cx="342900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пециф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заимоотношени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одительской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819520"/>
            <a:ext cx="4800600" cy="2819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трессовы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офессиональ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ненормированный рабочий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рофессии повышенного ри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профессии с высо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ровнем эмоц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пряжения (врачи, педаго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сихоло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убъективные факторы:</a:t>
            </a:r>
            <a:br>
              <a:rPr sz="2000"/>
            </a:b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особенности темперамента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войства темперамента определённые как «трудные» :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ысокий или низкий уровень ак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упрямство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отвлекаемость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низкий уровень адап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наличие тенденций к избеганию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преобладание сниженного фона настроения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страх новых ситуаций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высокий уровень поисковой активности,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- высокий уровень креативност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«Трудность» данных свойств заключается в трудностях, которые испытывают окружающие  при взаимодействии с их носителем: необходимость поиска новых нестандартных способов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заимодействия с ними.</a:t>
            </a:r>
            <a:br>
              <a:rPr sz="1600"/>
            </a:br>
            <a:br>
              <a:rPr sz="1800"/>
            </a:b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войства психиче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устойчивой личности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оптимизм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(жизнерадостные люди наиболее психически устойчивы)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контроль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(люди с высоким уровнем локус-контроля, видящие большинство событий как результат их собственных действий, следовательно обладающие высоким чувством контроля над своей жизнью, отличаются более высокой стрессовоустойчивостью)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адекватная самооценка,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«неустойчивое равновесие»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равновесие между ценностными установками и поступками челове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 Е П Р И В А Ц И Я- (лишение)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-длительное неудовлетворение основных психических потребностей человек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       ВИДЫ ДЕПРИВАЦИИ: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1. Сенсор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зрительные,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тактильные, слуховые стимулы)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2. Эмоциональ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лишение тёплой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 эмоционально значимой связи с близким лицом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 или разрыв уже существующей связи)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3. Социальная депривация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(лишение ребёнка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озможности приобщения к общественным 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нормам и ценностям, усвоения самостоятельных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социальных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олей)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4. Когнитивная деприваци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перегрузка ребёнка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недиференцированными внешними стимулами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 результате неорганизованности и хаотичности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структуры внешнего мира без чёткого упорядочи-</a:t>
            </a:r>
            <a:br>
              <a:rPr sz="2000"/>
            </a:b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       вания и смысла).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</a:t>
            </a: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СНОВНЫЕ УСЛОВИЯ ФОРМИРОВАНИЯ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ПСИХИЧЕСКИ ЗДОРОВОЙ ЛИЧНОСТИ: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индивидуальные качества личности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оптимизм, контроль, самооценка, «неустойчивое равновесие», приобретаемые как в процессе воспитания субъекта, и так и самостоятельного осмысления субъектом бытия и себя в нём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социально обусловленная ситуация развития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наличие положительно эмоционального фона в родительской семье, способность взрослых предъявлять ребёнку требования соответствующие го индивидуальным и возрастным особенностям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характер взаимоотношений ребёнка с матерью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 характер супружеских взаимоотношений в родительской семье.</a:t>
            </a:r>
            <a:br>
              <a:rPr sz="18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05:40:0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