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239C-D523-4CDF-9814-387F074F6A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D33-E202-4495-9D26-DCF9D28B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E356-5EB2-4B86-A341-FF81C455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901-CE7C-46B0-B748-193D94AE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D414-BEB5-48EA-AC92-CE4FFCD8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550-2F54-4A0E-80C3-EAADA67F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2F5-01F7-409E-8A34-34292D4A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E48-4F2E-4C34-83E8-02F34805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B25-3969-4AC1-B5E2-7AD5C9FE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8D3B-E14B-4C15-87CF-751C4CC6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390-76D0-4C18-A44E-9260931C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7F1E-7FC6-47E4-B69B-BDE21E86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667E-6151-4822-B6AE-0ABA378A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71B0-D37E-457B-8F78-96A445AA3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533520" y="457200"/>
            <a:ext cx="8001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ОСОБЕННЫЕ ДЕТИ</a:t>
            </a:r>
            <a:endParaRPr b="1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124080" y="2819520"/>
            <a:ext cx="2895840" cy="3733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172200" y="1752480"/>
            <a:ext cx="2743200" cy="1965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28600" y="1752480"/>
            <a:ext cx="27432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Классификация нарушений развития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по характеру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1. Глухие (неслышащ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2. Слабослышащ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3. Позднооглохш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4. Незряч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5. Слабовидящ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6. С нарушениями функций опорно-двигательного аппара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7 С нарушениями эмоционально-волевой сфе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8. С нарушениями интеллекта (умственно-отстал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9. С задержкой психического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10. С нарушениями речи (в том числе тяжёлы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11. Со сложными недостатками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Под УО понимается стойко выраженное снижение познавательной деятельности, являющееся следствием органического поражения центральной нервной системы, которое возникает в результате наследственно-обусловленной неполноценности мозга или органического поражения его на ранних этапах онтогенезе (внутриутробно или в первые 3 года жизни)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Основную часть детей с УО составляют дети-олигофрены.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У них выражены нарушения познавательных процессов, эмоционально-волевой сферы, моторики, личности в целом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3808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Умственная отстал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Факторы способствующие развитию УО во   внутриутробном периоде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-инфекционные вирусные (краснуха, корь, ветряная оспа, грипп)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-родовые травмы, асфиксия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-патологическая наследственность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-нарушения хромосомного набора (например, болезнь Дауна)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-хронические соматические болезни матери (например, сахарный диабет)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-интоксикация лекарственными препаратами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-алкоголизм матери или отца (или обоих родителей)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-несовместимость матери и плода по резус-фактору.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ЗАДЕРЖКА ПСИХИЧЕСКОГО РАЗВИТИЯ (ЗПР)</a:t>
            </a:r>
            <a:br>
              <a:rPr sz="28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Это незрелость психических функций, вызванная замедленным созреванием головного мозга под влиянием неблагоприятных факторов, что приводит к отставанию психической деятельности.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ЗПР является сложным нарушением и у детей страдают разные компоненты психической, психологической, физ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РИЧИНЫ ВОЗНИКНОВЕНИЯ ЗПР:</a:t>
            </a: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минимальные (слабовыраженные) органические повреждения центральной нервной системы, возникающие в результате воздействия патогенетических  факторов во внутриутробном, природовом, раннем периоде жизни ребёнка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функциональная недостаточность центральной нервной системы, возникающая в результате воздействия патогенетических факторов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хронические соматические заболевания, перенесённые в раннем детстве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стрессовые психотравмирующие факторы (дисгармоничные отношения в семье, развод, смена места жительства, смерть, тяжёлая болезнь значимого человека, рождение второго ребёнка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длительная депривация (педагогическая запущенность детей, пребывание в доме ребёнка длительн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Детям дошкольного возраста с ЗПР рекомендуется посещать дошкольные учреждения компенсирующего, комбинированного вида или группы кратковременного пребывания для детей с отклонениями в развитии, где решаются диагностические, воспитательные и коррекционно-развивающие, образовательные и оздоровительные задачи. </a:t>
            </a:r>
            <a:br>
              <a:rPr sz="2000"/>
            </a:b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Коррекционно-развивающая работа В ДОУ  и школах ведётся при участии семьи ребё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55308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533520"/>
            <a:ext cx="739152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Сходства между УО и ЗПР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дети не воспринимаются никакие требования;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нет интереса к учебному процессу;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нет подчинения правилам поведения;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не справляются с освоением письма, счёта, чтения;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испытывают проблемы при звуко-буквенном анализе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Различия между УО и ЗПР: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-при ЗПР задержка определяется в отделах нервной системы, при УО поражения коры больших полушарий головного мозга;</a:t>
            </a:r>
            <a:br>
              <a:rPr sz="1600"/>
            </a:b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-при ЗПР в случае адекватной своевременной психолого-педагогической коррекционной работе может наступить полная обратимость симптома. При УО такого не возникает.</a:t>
            </a:r>
            <a:br>
              <a:rPr sz="1600"/>
            </a:b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-при ЗПР характерна большая сила нервных процессов – возбуждения и торможения, высокая подвижность;</a:t>
            </a:r>
            <a:br>
              <a:rPr sz="1600"/>
            </a:b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-Моторика при ЗПР в большинстве случаев достигает высокого уровня развития. Движения отличаются ловкостью, скоординированы, целенаправленны, четки. При УО моторика недоразвита, движения неловки, замедленны. Низкий уровень переключаемости с одного движения на другое. </a:t>
            </a:r>
            <a:br>
              <a:rPr sz="1600"/>
            </a:b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-при ЗПР нет грубых нарушений произношения, лексики, грамматики. Словарный запас больше. При УО имеются грубые дефекты речи, бедность словаря, трудности в понимании текста и при формулировании мыслей. Отсутствует стремление к пониманию.</a:t>
            </a:r>
            <a:br>
              <a:rPr sz="1600"/>
            </a:b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у детей с ЗПР нарушений в игровой деятельности нет: они активны и самостоятельны. У детей с УО игры носят элементарный, стереотипный, подражательный характер. Они не умеют брать на себя роли, их игры бессюжетны;</a:t>
            </a:r>
            <a:br>
              <a:rPr sz="1600"/>
            </a:b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-познавательная деятельность у детей с ЗПР относительно сохранна. Способность к обобщению на границе нормы. У детей с УО познавательная деятельность недоразвита.</a:t>
            </a:r>
            <a:br>
              <a:rPr sz="1600"/>
            </a:b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-моторика, речь, пространственные и зрительные представления у детей с ЗПР сохранны. У детей олигофренов недоразвиты все стороны психик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рушения речи</a:t>
            </a:r>
            <a:br>
              <a:rPr sz="24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Речь –это процесс практического применения человеком языка в целях общения с другими людьм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ВОЙСТВА РЕЧИ:</a:t>
            </a:r>
            <a:br>
              <a:rPr sz="20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Содержательность (количество выраженных в речи мыслей, чувств и их соответствием действительности);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Понятность (зависит от правильности построения предложений и постановки ударений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 словах, лексических значений слов;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Выразительность (зависимость от эмоциональной насыщенности);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Воздейственность (степень влияние речи субъекта на мысли, чувства, поведение, волю других люде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словия необходимые для формирования речи: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сохранность центральной нервной системы;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сохранность зрительной и слуховой систем;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наличие активной языковой среды.</a:t>
            </a:r>
            <a:br>
              <a:rPr sz="20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иды нарушений развития речи: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-общее недоразвитие речи (ОНР);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-фонетико-фонематическое недоразвитие(ФФН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8001000" cy="5638680"/>
          </a:xfrm>
          <a:prstGeom prst="rect">
            <a:avLst/>
          </a:prstGeom>
          <a:solidFill>
            <a:srgbClr val="ffff99"/>
          </a:solidFill>
          <a:ln w="9360">
            <a:solidFill>
              <a:srgbClr val="99ff33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Blackadder ITC"/>
              </a:rPr>
              <a:t>Проблемами особых детей занимается специальная психология, которая изучает людей с различными отклонениями от нормального психического развития, связанными с врождёнными или приобретёнными дефек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Blackadder ITC"/>
              </a:rPr>
              <a:t>В специальной психологии есть понятие аномальные дети – нуждающиеся в специальных условиях обучения и воспитания вследствие имеющихся физических и психических откло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Blackadder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Категории аномальны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Нарушения интеллекта (ЗПР – задержка психического развития, умственная отсталост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Нарушение письма и ре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Нарушение зрения (слепые, ослепшие, слабовидящи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Нарушение слуха (глухие, оглохшие, слабослышащи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Нарушения опорно-двигательного аппара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Эмоциональные нарушения и нарушения поведения (неврозы, психопатии, патологическое формирование личности, патологические реакци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Начальные проявления психических заболеваний (шизофрения, эпилепсия, аутизм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Сложные дефек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Эмоциональные нарушения и нарушения поведения   (психопатии, неврозы, патологические реакции, патологическое формирование личности,  акцентуации)</a:t>
            </a:r>
            <a:br>
              <a:rPr sz="2400"/>
            </a:br>
            <a:br>
              <a:rPr sz="2400"/>
            </a:br>
            <a:r>
              <a:rPr b="0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Психопатия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врождённая или приобретённая в раннем детстве аномалия характера, приводящая к дисгармоничному формированию личности и нарушению социальной адаптации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                                            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Критерии психопатии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тотальность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необратимость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склонность к дезадаптации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ПРИЧИНЫ ВОЗНИКНОВЕНИЯ ПСИХОПАТИИ: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биологическая неполноценность мозга (в результате наследственности или органических повреждений)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неблагоприятное социальное окружение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дисфункциональные отношения в родительской семье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отклоняющиеся от нормы типы вос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НЕВРОЗЫ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Это «группа пограничных психических заболеваний, характеризующаяся нерезко выраженными нарушениями психической деятельности, вызванных воздействием психотравмирующих обстоятельств».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При данном диагнозе отсутствуют поражения головного мозга.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Проявления носят эмоциональный характер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РИЧИНА ВОЗНИКНОВЕНИЯ НЕВРОЗОВ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- наличие в сознании личности психологического конфликта, вызванного психотравмирующими раздражителями или ситуациями с которыми он не в состоянии справиться. Физиологический механизм невроза – срыв высшей нервной деятельности в результате перенапряжения или сбоя нервных проце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Благоприятная почва для развития неврозов: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-педагогическая неграмотность родителей в сочетании с их психологической незрелостью, что выражается в неправильном типе воспитания, проецировании своих психологических проблем на ребёнка;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-индивидуальные особенности личности, например, впечатлительность, мнительность, тревожность;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-возникновение стрессогенной ситуации (смена места жительства, учёба, рождение второго ребёнка, длительная разлука с матерью. В младенчестве это может быть резкий неожиданный звук, помещение в ясли или больницу)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Неврозы чаще случаются у мальчиков, чем у девочек. Возраст от 3 до 6 и школьный наиболее уязви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ИДЫ НЕВРОЗОВ:</a:t>
            </a:r>
            <a:br>
              <a:rPr sz="2000"/>
            </a:br>
            <a:r>
              <a:rPr b="0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-неврастения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 (самая распространённая форма неврозов, характеризуется повышенным уровнем раздражительности и истощаемостью психических процессов, а также вследствие интеллектуальных, физических или психологических перегрузок).</a:t>
            </a:r>
            <a:br>
              <a:rPr sz="1600"/>
            </a:b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Основные симптомы неврастении: раздражительная слабость, несдержанность эмоций, отсутствие чувства отдыха после сна, резкое снижение работоспособности, нарушение сна, вегетативные нарушения (сердцебиение, холодность рук и ног, боли в области сердца). Вторичные симптомы: приступы головной боли, повышенная чувствительность ко всем внешним раздражителям (яркий свет, громкий звук), прикосновения к кож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истерический невроз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(это состояние возникающее в результате психической травмы и характеризующееся разнообразными, меняющимися проявлениями). Чаще возникает у девочек. Возникают при наличие в характере истерических черт, впечатлительности, повышенной чувствительности, инфантилизме, эгоцентризме.</a:t>
            </a:r>
            <a:br>
              <a:rPr sz="1600"/>
            </a:b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Симптомы возникают сразу после психотравмирующего фактора: обиды, ссоры, физического насилия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невроз навязчивых состояний</a:t>
            </a:r>
            <a:br>
              <a:rPr sz="1600"/>
            </a:b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(наиболее редкий вид, возникающий равно как у мужчин, так и у женщин. Чаще всего наблюдается у людей мыслительного типа или с тревожно-мнительными чертами. Это фобии (навязчивые страхи), обсесии (навязчивые мысли), импульсии (навязчивые действия)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ПАТОЛОГИЧЕСКИЕ РЕАКЦИИ</a:t>
            </a:r>
            <a:br>
              <a:rPr sz="24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Это дезадаптивное поведение, имеющее психогенное происхождение, возникающее в ситуациях, являющимися для ребёнка или воспринимаемых ребёнком как фрустирующие, и продолжающиеся от нескольких часов до нескольких дней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                                  Причины патологических реакций: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- дисфункциональные отношения в семье;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- конфликтные отношения со сверстниками;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- конфликт с педагогом;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результате данных причин у детей появляется многообразие различных реакций: активный протест, конфликтные отношения с родителями, агрессия, отказ от общения, игр, пищи, подражание в поведении какому-либо значимому лицу ( например, поп-звезде), скрывание своих слабых мес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ЗАИКАНИЕ</a:t>
            </a:r>
            <a:br>
              <a:rPr sz="28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Это нарушение темпо-ритмической организации речи, обусловленное судорожным состоянием мышц речевого аппарата (повторение звуков, слогов, слов, удлинения звуков, обрыв слов, вставки). Проявляется в определённых ситуациях, в результате чего возникает реакция избегания таких ситуаций и ограничения общения.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В большинстве случаев возникает у детей в возрасте от 2 до 6 лет в результате поражения определённых структур центральной нервной системы, изменений речевой нагрузки, психотрав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Гиперактивные дети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Находится в постоянном движении и просто не может себя контролировать, т.е. даже если он устал, то продолжает двигаться, а выбившись из сил плачет, закатывает истерики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Быстро и много говорит, глотает слова, перебивает, не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дослушивает. 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Задает много вопросов, но редко выслушивает на них ответы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Невозможно уложить спать, а если спит, то урывками, беспокойно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У него частые кишечные расстройства, не редкость также аллергические реакции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Ребёнок неуправляемый, абсолютно не реагирует на запреты, ограничения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В любых условиях (дома, в магазине, гостях) ведёт себя одинаково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Часто провоцирует конфликты, не контролирует свою агрессию – дерётся, кусается, толкается, пускает в ход палки, камни и т.д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равила работы с гиперактивными детьми:</a:t>
            </a: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Работать с ребёнком в начале дня, а не вечером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Уменьшить рабочую нагрузку ребёнка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Делить работу на более короткие, но более частые периоды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Использовать физкультминутки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Быть драматичным, экспрессивным педагогом, интересным для ребёнка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Снизить требования к аккуратности в начале работы, чтобы сформировать чувство успеха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Посадить ребёнка во время занятий рядом со взрослым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Использовать физический контакт (прикосновения, поглаживания, массаж)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Учит выражать свои эмоции (но не разрушительным способом)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Договариваться с ребёнком о тех или иных действиях заранее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Давать короткие и конкретные инструкции (не более 10 слов)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Использовать гибкую систему поощрения и наказания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Поощрять ребёнка сразу же, не откладывая на будущее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Предоставлять ребёнку возможность выбора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Оставаться спокойным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Завести собаку и выгуливать обоих в любую погоду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Работу с гиперактивным ребёнком ведите индивидуально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Чаще хвалите ребёнка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Чаще говорите «да», чем «нет»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Не навязывайте жёстких правил. </a:t>
            </a:r>
            <a:br>
              <a:rPr sz="18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Аутичный ребёнок</a:t>
            </a:r>
            <a:br>
              <a:rPr sz="28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Слово «аутизм» - от латинского «сам», означает отрыв от реальности, отгороженность от мир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арианты РДА (ранний детский аутизм):</a:t>
            </a:r>
            <a:br>
              <a:rPr sz="20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 РДА при различных заболеваниях нервной системы (двигательная недостаточность ребёнка, нарушения внимания, памяти, задержка речевого и интеллектуального развития);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 психогенный аутизм (на фоне отсутствия материнской ласки, неправильном воспитании, на фоне первичных нарушений: слепые-слабовидящие, глухие-слабослышащие,тяжелые речевые нарушения)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 РДА шизофренической этиологии (выраженная отрешённость от мира, слабая контактность с окружающим миром, полное погружение в мир болезненных фантазий, бредовые образования, галлюцинации);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 при обменных заболеваниях;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 при хромосомной патологи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Дети с диагнозом РДА должны  обучаются по специальным программам.</a:t>
            </a:r>
            <a:br>
              <a:rPr sz="1800"/>
            </a:br>
            <a:br>
              <a:rPr sz="18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СЛОВИЯ ДЛЯ РАЗВИТИЯ НОРМАЛЬНОЙ        ЛИЧНОСТИ: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(автор П.Ф. Лесгафт)</a:t>
            </a: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- Ребёнок должен расти в атмосфере любви, тогда он научится любить;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-Значимые близкие должны быть для него эталоном нравственности;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- Отношение к труду в семье должно быть радостным;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- Необходимо исключить из жизни ребёнка лакомства, азартные игры, табак, беспорядочную еду, а также роскошь и нищету, поскольку роскошь развращает, а нищета – унижает;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- Чередовать труд с игрой, игру с учением, рисование с лепкой, причём занятия должен выбирать сам ребёнок;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- Равномерно чередовать психическое напряжение с расслаблением, не допуская перегрузок;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- Контролировать окружение сверстников, исключая из него безнравственных детей.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990720" y="304920"/>
            <a:ext cx="7238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ПСИХИЧЕСКОЕ РАЗВИТИЕ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сихическое развитие – это закономерное изменение психических процессов во вре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БИОЛОГИЧЕСКИЕ ПРИЧИНЫ ВРОЖДЁННЫХ АНОМАЛ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енатальная патология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(патогенные агенты действующие на развивающийся плод во внутриутробный период (токсикозы, интоксикации ядовитыми, лекарственными, гармональными препаратами, физические и психические травмы; внутренние болезни беременной, голодание или неправильное питание матери; инфекционные болезни, резус- несовместимость или групповая несовместимость крови матери и плод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енетические (наследственные) поражения организм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(наследственное нарушение обмена веществ, изменения числа или структуры хромосом, мутации. Наследуются некоторые формы олигофрении, отдельные психические заболевания, определённые типы глухоты и нарушения зрения, ранний детский аутизм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Получение детьми с ограниченными возможностями образования является одним из основных и неотъемлемых условий успешной социализации, обеспечения их полноценного участия в жизни общества, эффективной самореализации в различных видах профессиональной и социа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Ребёнок – это главное чудо природы, ребёнок-инвалид – это ангел, посланный с небес для того, чтобы не зачерствели наши ду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-Натальные (природовые) нарушения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(механические травмы плода при затяжных или стремительных рода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остнатальные (послеродовые) нарушения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(перенесённые в младенчестве и раннем детстве инфекционные болезни нервной системы. Например, последствия менингита (воспаление мозговых оболочек) – глухота или задержка психического развития, двигательные нару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Общие заболевания (грипп, отит, корь, ветряная оспа) могут вызвать вторичные воспалительные заболевания мозга, давая осложнения на центральную нервную систему и анализаторы. У детей с нарушениями кишечного всасывания начинают проявляться нервно-психические отклонения (повышенная нервная возбудимость, нарушения сна и т.д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5335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БИОЛОГИЧЕСКИЕ ПРИЧИНЫ ПРИОБРЕТЁННЫХ АНОМАЛ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Неблагоприятная социальная среда 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влияет на психологическое развитие ребёнка, которое впоследствии приводит к возникновению иных аномалий, например, снижение интеллектуальных темпов развития, неврозы.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Социальные факторы, негативно влияющие на развитие индивида: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объективные и субъективные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бъективные 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0"/>
            <a:ext cx="810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ОЦИАЛЬНЫЕ ПРИЧИНЫ ПРИОБРЕТЁННЫХ АНОМАЛИЙ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743200"/>
            <a:ext cx="4191120" cy="2362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Социально-эконом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ситуация в стра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вой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экономические кризис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политические ре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4952880"/>
            <a:ext cx="3429000" cy="1905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Специф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взаимоотношений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родительской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2819520"/>
            <a:ext cx="4800600" cy="2819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Стрессовые фа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рофессиональной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ненормированный рабочий де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профессии повышенного рис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профессии с высок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уровнем эмоцион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напряжения (врачи, педаго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сихолог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убъективные факторы:</a:t>
            </a:r>
            <a:br>
              <a:rPr sz="2000"/>
            </a:b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особенности темперамента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Свойства темперамента определённые как «трудные» :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высокий или низкий уровень активности,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упрямство,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отвлекаемость,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низкий уровень адаптивности,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наличие тенденций к избеганию,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преобладание сниженного фона настроения,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страх новых ситуаций,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высокий уровень поисковой активности,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высокий уровень креативности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«Трудность» данных свойств заключается в трудностях, которые испытывают окружающие  при взаимодействии с их носителем: необходимость поиска новых нестандартных способов 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взаимодействия с ними.</a:t>
            </a:r>
            <a:br>
              <a:rPr sz="1600"/>
            </a:br>
            <a:br>
              <a:rPr sz="1800"/>
            </a:b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Свойства психическ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устойчивой личности:</a:t>
            </a: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 оптимизм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(жизнерадостные люди наиболее психически устойчивы),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контроль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(люди с высоким уровнем локус-контроля, видящие большинство событий как результат их собственных действий, следовательно обладающие высоким чувством контроля над своей жизнью, отличаются более высокой стрессовоустойчивостью),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адекватная самооценка,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 «неустойчивое равновесие»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(равновесие между ценностными установками и поступками челове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 Е П Р И В А Ц И Я- (лишение)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-длительное неудовлетворение основных психических потребностей человека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                      ВИДЫ ДЕПРИВАЦИИ: 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           1. Сенсорная депривация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(зрительные, 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       тактильные, слуховые стимулы)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          2. Эмоциональная депривация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(лишение тёплой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        эмоционально значимой связи с близким лицом 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        или разрыв уже существующей связи)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           3. Социальная депривация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(лишение ребёнка 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       возможности приобщения к общественным 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       нормам и ценностям, усвоения самостоятельных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       социальных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ролей) 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          4. Когнитивная депривация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(перегрузка ребёнка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       недиференцированными внешними стимулами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       в результате неорганизованности и хаотичности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       структуры внешнего мира без чёткого упорядочи-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       вания и смысла). 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СНОВНЫЕ УСЛОВИЯ ФОРМИРОВАНИЯ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        ПСИХИЧЕСКИ ЗДОРОВОЙ ЛИЧНОСТИ:</a:t>
            </a:r>
            <a:br>
              <a:rPr sz="2400"/>
            </a:br>
            <a:br>
              <a:rPr sz="24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 индивидуальные качества личности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(оптимизм, контроль, самооценка, «неустойчивое равновесие», приобретаемые как в процессе воспитания субъекта, и так и самостоятельного осмысления субъектом бытия и себя в нём)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 социально обусловленная ситуация развития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(наличие положительно эмоционального фона в родительской семье, способность взрослых предъявлять ребёнку требования соответствующие го индивидуальным и возрастным особенностям)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 характер взаимоотношений ребёнка с матерью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 характер супружеских взаимоотношений в родительской семье.</a:t>
            </a:r>
            <a:br>
              <a:rPr sz="1800"/>
            </a:br>
            <a:br>
              <a:rPr sz="2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13T05:40:0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