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19.gif" ContentType="image/gif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gif" ContentType="image/gif"/>
  <Override PartName="/ppt/media/image1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2E17-BA7E-427D-9AA7-85B8203D45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6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Исходя из того, что дети с ЗПРР быстро истощаются, следует оформить кабинет, где проходит консультирование, так  чтобы он был   более удобен для них. Подушки, и ( или) мягкие модули кресло-мешок помогут  ребенку расслабиться и почувствовать себя в более непринужденной обстановке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0159-18A9-43AC-93A8-909E07662EC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условно, что у детей с ЗПРР одной из причин их эмоциональных и поведенческих проблем яляются   органические и функциональные нарушения центральной нервной системы ребенка . В отношении таких детей часто звучит недовольство их  непоседливостью, невнимательностью, импульсивностью, отсутствием целеустремленности, нежеланием подождать, приложить усилие, проявить терпение…. В основе этих жалоб нередко лежат необоснованно завышенные  с точки зрения возрастных возможностей и индивидуальных особенностей требования к произвольному управлению ,  контролю за поведением и даже психическим процесса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изкий  уровень психолого-педагогической компетенции родителей: незнание или сознательное игнорирование родителями возрастных норм, психо-физических особенностей ребенка и необходимых условий развития является одной из причин обращений к психологу. Желание иметь удобного, послушного ребенка, или  ребенка, который был бы лучше других, превосходил бы других детей, приводят к общему следствию – завышению требований к детям. Детей 3-4 лет пытаются учить чтению, водят в многочисленные кружки, секции. Шестилетних – одновременно обучают музыке, иностранным языкам, исправлению дефектов речи у логопед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занятиях ребенок  5-6 лет отсиживает уроки, получает задание на дом, вечерами со скандалом родители с детьми делают уроки, а потом ругают за плохие оценк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 бывает наоборот, родители  воспитывают ребенка в духе вседозволенности, оправдываясь его нездоровьем. И тогда у  ребенка в результате применения неправильных видов воспитания  ( непоследовательность родителей,  чрезмерное количество ограничений или постоянное потворство негативному поведению) не формируются нормы поведения  принятые в социуме, что ведет к социальной дезадаптации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Жалобы со стороны родителей часто бывают связаны с различными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личностными проблемами самих родителе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,  незрелостью родителей, тяготящихся заботой о детях, загруженных своими  делами и проблемам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временные дети очень часто страдают  от дефицита совместной деятельности и общения с родителями. Неудовлетворенность в общении провоцирует  у дошкольников разные проявления бессознательного протеста, в том числе агрессию,негативизм, непослушание, капризность, которые интерпретируются родителями, как проявления «дурного характера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9C77-6FF7-45D9-8010-17DEA5FD317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ая особенность дошкольного возраста, заключается в том,  что многие психологические характеристики ребенка носят латентный, неявный характер, их проявления маскируются под чисто детское, под вполне естественные для этого возраста черты незрел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целью диагностического блока является клинико-психологическое изучение индивидуальных особенностей ребенка, анализ факторов, способствующих его эмоциональному неблагополучию, нарушению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473C-504B-420F-B74B-D9AA46E401A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ирование родителей об особенностях и закономерностях развития ребенка в данном возраст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йчивая реабилитация в глазах родителей типичных для дошкольников видов деятельности, раскрытия реальных опасностей неумелого форсирования развития за счет перенапряжения психологических и физиологических резервов ребенка.  В ряде случаев, чтобы снять необоснованную тревожность у родителей и тенденцию к предъявлению сверх требований, оказывается достаточ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й оценки развития ребенка с указанием на сильные и слабые его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приходится проводить работу, направленную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у родителей адекватного отношения и толерантности к ребенку, обучение специальным навыкам общения с ребен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 также направлена 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збавление от психотравмирующих факторов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х, как  неблагополучие детско- родительских отношений , конфликтные отношения между другими членами семьи, насилие в семь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их случаях работа ведется с семьей . Особенно важно помочь членам семьи наладить общий психологический климат,  и выстроить совместно с родителями стратегию психологически правильного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623C-EC31-4A4B-93A0-0CE8D030DC6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рганизовать консультирование населения по телефону. Для этого необходимо выделить специальную телефонную линию, специальное консультационное время, которое бы входило в рабочие часы специалистов (можно организовать график дежурств на телефоне), и организовать рекламную поддержку этой услуге центр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одители детей с ЗПРР, понимая, что их дети отличаются от других, часто пребывают в состоянии растерянности и повышенной тревожности, как правило сами нуждаются в психологической поддержке. Помимо обычных консультаций с психологом,  было бы неплохо организовать Родительский клуб, где родители могли бы поделиться своими тревогами, сомнениями, опасениями, а так же поделиться  позитивным опытом решения тех или иных проблем, высказать свои пожелания по поводу организации различных занятий для своих детей у нас в центре, и обменяться информацией о других учреждениях медицинских, образовательных, развлекательных, которые были полезны их детям и могут пригодиться другим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акое общение снижает уровень тревоги и настраивает на конструктивную работу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скольку в рамках консультирования специалист может выявить проблемы, обозначить пути их решения, а  по разным причинам не все родители с детьми могут посещать занятия , на сайте ЦДиК «Южный» организованны специальные страницы ( разделы по специалистам). На этих страницах для родителей дан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комендуемая литература для детей, тетради, которые можно использовать для занятий с детьми; развивающие игры, игрушки . Мы предлагаем  на территории Центра организовать продажу соответствующих пособий, книг, игр и т.д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317-F6E2-4AD1-AE5B-10DC9CDCB89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консультации могли бы стать более живыми, наглядными и эффективными, если бы мы могли использовать видеозаписи. Например, можно записать взаимодействие родителя с ребенком на видео, а потом вместе с ними просмотреть записанный материал, параллельно анализируя имевшие место паттерны взаимодействия и соответствующие реакции вербального и невербального характера всех участников. Это так же могло бы повысить мотивацию клиентов на прохождение 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уществления данного предложения необходимы записывающая и воспроизводящая аппа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920C-D6C2-4285-945E-8B6799DFE7B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00B-A54F-41FB-B27E-9C1DD608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1F4-6573-4CBE-8B67-C304A7ED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F8E0C-F35D-468D-8E5D-CFBD2D16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45BBF-F731-4DF5-A489-208B1384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3E8CD-A80E-4D0D-AD16-85469E0F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0FEEB-F35D-44E7-A251-09AAB4A3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6FF29-A9B3-452D-8B1E-07524EBE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34B5D-E0B3-45DD-BDC6-B756CD9D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F3F67-AA3A-46CF-A1CB-63DB3CC7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E2E08-EC76-4A30-816F-D1495B1C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5FFD7-0BD6-4442-BF0C-0BE5BD96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74D07-2A47-449B-86F0-88E831F7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DB9-282B-44A2-B504-712A4D47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5DD63-DBA8-47A5-A779-60C1BA69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09D97-F034-44CF-9931-80A21D4F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51F61-BCA0-4748-B48C-B52A6FEA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5B7EA-F959-42FD-90EB-B1AD6132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D57B8-8C59-429F-A761-4DCCB4B5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EC1F5-377E-4591-BD8F-C1C513F0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A663B-D0BA-42B9-AF4E-F1CB247C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4DF9E-780B-4040-B533-0A18C88B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2DCF3-0192-4221-8A6C-06F14B28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E211D-CBE7-42BE-8D72-D573676C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68C-6FFF-4001-9E60-14E60C39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FAD25-43C0-4483-8A13-D7EAF8E3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85CE6-51A0-4AC4-86AF-061AF242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27CE4-3B96-414D-B5C0-36D2D414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0A369-FBC2-4EDE-B621-C68684C1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5059C-0291-427C-A754-6F604B6A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DE367-82C1-46F7-A428-324E6376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7E38A-83E9-4A18-9A56-A570A414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BA310-68E0-4647-926C-C3C1F01C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EBBAA-FA51-4E8B-9DDA-57DBAEB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1025A-BE07-4728-B2FF-B7BA4D9F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1BB9-9B0E-4C2B-A4E3-A91AD13A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26D80-2EDA-4B8D-B25B-544F7A5A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23662-0865-4831-8011-B0ACD51E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3D064-7DE2-41D9-9E0E-123221C3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7B543-A609-42D9-84FC-4441E0EB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BA328-D692-4EFF-BB64-015CCF6B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A70FE-BBAA-468B-A414-325757FE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C30C0-29A9-4F35-8F26-BAC2D3F0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BEAEE-3C9E-4DB0-83E2-155DD313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7652C-7F08-4F17-ADE4-6DBDB9BF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CEFAC-013E-4DFB-971A-3684D25A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5418-3A34-48D4-BC03-27F7D8E9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B0204-7835-4F5D-90ED-0A413822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A8C32-083C-4A81-B73B-040D0E52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C2E9B-C5DE-4BE1-A888-158DB57E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56EA9-96BA-4699-878F-220BB468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2CE44-2DF4-46CE-8274-41FCB0C3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9A8D-6530-496A-BD3D-00A65E0B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B5F0-8B7D-4962-A04C-93B3F011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AE53-C6A6-4872-ADDA-ABB92EDF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CA46-AFE8-491E-8A4A-96C656F3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918E-33DC-4A2C-8918-E0EEE98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151-3FAB-4A87-B993-FC5FF1BA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03F4-8B38-48CB-9BEA-3F8C57D4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59B3-013A-47B2-8CBD-DEE1A8C3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4354-04AA-4BDF-A968-11BEB3D9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E486-4C84-4E4C-9DDD-FA024285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26E5-BDD2-427D-A9AF-AC0AC9BE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0EFB0-9591-4B1E-981D-159FD332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839C-3F2B-4088-B73C-6C7A9146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0B2C-7B40-4DB8-8DE0-3E01FE80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6B9C8-1232-4DE6-9F24-B67E55AC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3E7E-4DAD-47A2-BBA6-07152DCA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DA8-8CE9-407D-AE3C-A78160B2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A294D-CB69-4413-BF2D-EE226BD4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0C75F-A442-4AB3-9D32-81239F8B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AD8C-11EF-4CEF-AB25-DCFF906F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756E-AF26-4A20-8896-46B15D39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C0E1-90F4-4547-9743-4287A018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6ADA-EC6E-4779-8A15-14321CBF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C569-57E9-4E7F-B531-BF8FC23C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6DA4-2E6F-4E03-BD62-17EABF3B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AB775-2AC2-4A4D-AF8B-4055EF56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CDEB2-EFD4-4AC6-822A-CA35010E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F5B-D021-4F38-A52D-A1E34861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1C7C4-30A0-454B-A012-D059FEF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F1760-BCBF-4126-BB54-3E669859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6D68E-3D0B-4364-819E-B7FF55CD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86FBC-23BF-49F8-B298-ADABFB06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12E91-6B05-4438-A369-ADC90556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DA1E8-3D03-4672-8D95-92A45C4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C9C59-1C66-4C20-9E84-4C71C58D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9CED-D101-4A4C-8906-B0CB1593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A859-AA2B-46F0-A054-32ACBCE7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9FB88-848D-4B5B-8CC1-0E7DC2A9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2C5-2935-4451-9FC8-1B13323F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52F0-AAF7-4D50-BE0D-5B13F05D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1672D-22DE-43DE-8F58-61501EC2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F052B-3040-4486-AF84-B85B6916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D5E2C-3B7D-43BC-8E4C-196AD552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723BB-0DB1-4A18-8941-BA5C79CF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86C61-05E7-4CBE-B35A-06766877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43A81-E724-48B5-8F99-354252F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7E8C7-6010-456B-91ED-7701FAB4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2885C-00B5-4046-8048-A4A3DCA5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8B5AD-5377-493A-88DD-9E98042E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5A4-D1A6-4F82-AEB8-2A605CE8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53ED-B7FF-49BF-AD99-F7D4115F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3BF70-F2F6-4AC8-8400-F7C86655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75AE9-3BE2-4B05-9473-B0787DFB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B854-657F-4065-B164-1CA76772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32016-6035-4E7B-8018-34F29B9B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E6D7D-7BF9-4FC4-BE3A-40FC82E2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BF024-560E-48AD-A25A-23B1FC8B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32CBF-7E89-4601-8768-443EF853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62F03-CA53-471C-A864-1F6D06E5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706A4-7487-4562-A4C6-757D6822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802-3882-4A98-A210-7E2A13EF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E7EBA-2F80-422E-BF78-EECAB484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26330-4240-41F9-906B-4D5358F7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70EA8-2952-4A45-AC94-93C35092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0A356-6BEC-4613-A2E4-D9C05448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50CF2-2083-4B75-A45C-08897840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B32C9-BDFF-4A17-902C-7863E022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E79A5-98A7-49EA-84C5-7DD21C2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7E192-E2F9-4DDD-B6E3-147655F7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5E0D5-C324-4AF2-A267-87A2E584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C2A2D-5F80-464F-8B2D-F76EF36D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64A-1521-4B7D-A292-2837853C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D1394-F779-430E-8BB4-9E20D58A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B9AB9-BA0B-4029-BE1E-5A2FBACF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D1CEC-F83A-4BD0-B098-B0ADBD0E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42DDC-35C0-47A6-9A9C-ABCCF012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9FD2D-7E51-4963-B5EE-4B889CCB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81B16-6D48-49C7-A04F-F5ABB57C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3E2C1-2DB0-47D3-B001-A4D93B13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158B4-E770-4B04-ACD0-4D29A967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37A39-C557-44AF-8701-ACC79DB1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45704-6F7A-4392-83A3-5B13C097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EB2-93AA-495E-9976-01316A75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94F01-7506-462B-96AB-B4B51863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B9479-AD03-4A7F-A722-E6230D1D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83331-4A29-4EC4-A895-4B1CAA48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86695-A30F-4D30-AD3E-55DBAA64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9729B-7192-40F8-B7D6-01540BE9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AE1C2-9276-4A78-A0EF-AAB66C04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33CFE-E5A0-4938-B400-EADE4F23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68834-43F1-47B9-BB68-D80D2BBD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1732F-6925-416F-B1F4-2A01D40E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A8DEE-D3E2-4A17-9A3A-1921FEEC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1765-37C9-4264-B006-7BE78FC972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8000" y="517680"/>
                  <a:ext cx="431640" cy="695160"/>
                </a:xfrm>
                <a:custGeom>
                  <a:avLst/>
                  <a:gdLst>
                    <a:gd name="textAreaLeft" fmla="*/ 0 w 431640"/>
                    <a:gd name="textAreaRight" fmla="*/ 432000 w 4316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4520" y="28080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4360" y="14212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5480"/>
                  <a:ext cx="290520" cy="228600"/>
                </a:xfrm>
                <a:custGeom>
                  <a:avLst/>
                  <a:gdLst>
                    <a:gd name="textAreaLeft" fmla="*/ 0 w 290520"/>
                    <a:gd name="textAreaRight" fmla="*/ 290880 w 2905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8520" y="210960"/>
                  <a:ext cx="287280" cy="21888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7AC4-BEDD-4BF1-B409-1DB4F02249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12BE-B481-4F01-917A-93C57864A0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10F4-7F70-4F14-A9BE-599EAB3E1D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9BF2-B039-46B2-83F3-EBE9A9245D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E0FD-75DC-4940-B433-635E7488BD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55B4-1CA6-407C-9E04-1F1DC17ECB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E86C-32AC-4C7B-822E-FAF669572E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B7F2-571D-444C-B7D4-98E4256782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D8F6-CC79-43D4-AE27-52950A6BB6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CA49-0AA3-446F-A0F2-24F02615DD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012C-3E32-4ECC-ACB6-829DC264F6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57200" y="14288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Психологическое консультирование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при работе с семьями детей с ЗПР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23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Comic Sans MS"/>
              </a:rPr>
              <a:t>Кузьмина Е.А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Comic Sans MS"/>
              </a:rPr>
              <a:t>Герасимова Н.Е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Comic Sans MS"/>
              </a:rPr>
              <a:t>Шитякова В.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Comic Sans MS"/>
              </a:rPr>
              <a:t>2012-2013 уч.го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Оснащение кабинета психолог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0" name="Picture 2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4572000" cy="3314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F:\картинки из мультиков\557.jpg"/>
          <p:cNvPicPr/>
          <p:nvPr/>
        </p:nvPicPr>
        <p:blipFill>
          <a:blip r:embed="rId3"/>
          <a:stretch/>
        </p:blipFill>
        <p:spPr>
          <a:xfrm>
            <a:off x="5286240" y="1643040"/>
            <a:ext cx="3343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Жалобы родител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1" name="Содержимое 3"/>
          <p:cNvGraphicFramePr/>
          <p:nvPr/>
        </p:nvGraphicFramePr>
        <p:xfrm>
          <a:off x="0" y="928800"/>
          <a:ext cx="9001080" cy="57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2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28800"/>
                    <a:ext cx="9001080" cy="57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TextBox 4"/>
          <p:cNvSpPr/>
          <p:nvPr/>
        </p:nvSpPr>
        <p:spPr>
          <a:xfrm>
            <a:off x="3051000" y="6072120"/>
            <a:ext cx="28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отношения в семь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6299280" y="5500800"/>
            <a:ext cx="292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проблемы общен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со сверстника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0" y="1071720"/>
            <a:ext cx="328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эмоциональные проблем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(плаксивость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неуверенност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в себ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импульсивность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56520" y="4786200"/>
            <a:ext cx="315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проблемы</a:t>
            </a:r>
            <a:r>
              <a:rPr b="0" lang="ru-RU" sz="18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поведен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(гиперактивность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непослушани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вранье, грубость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a0aff"/>
                </a:solidFill>
                <a:latin typeface="Comic Sans MS"/>
              </a:rPr>
              <a:t>агрессия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687096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Причины жало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56760" y="1828440"/>
            <a:ext cx="85726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Органические и функциональные нарушения нервной систем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Завышенные требования родителей к ребе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Низкий уровень психолого-педагогической компетен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Личностные проблемы самих родителе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9" name="Рисунок 3" descr="c102.gif"/>
          <p:cNvPicPr/>
          <p:nvPr/>
        </p:nvPicPr>
        <p:blipFill>
          <a:blip r:embed="rId2"/>
          <a:stretch/>
        </p:blipFill>
        <p:spPr>
          <a:xfrm>
            <a:off x="6929280" y="464328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3"/>
          <a:stretch/>
        </p:blipFill>
        <p:spPr>
          <a:xfrm>
            <a:off x="6500880" y="0"/>
            <a:ext cx="264312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-214560" y="285480"/>
            <a:ext cx="9644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Основные методы психологического обследов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85840" y="1571760"/>
            <a:ext cx="63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Изучение документ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Метод бесед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Изучение результатов деятельности дет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Метод наблюд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Метод экспери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Метод тестиро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Анализ катамнестических сведений о ребенке и его семье после коррекционной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3" name="Picture 3" descr=""/>
          <p:cNvPicPr/>
          <p:nvPr/>
        </p:nvPicPr>
        <p:blipFill>
          <a:blip r:embed="rId1"/>
          <a:stretch/>
        </p:blipFill>
        <p:spPr>
          <a:xfrm>
            <a:off x="5207040" y="1928880"/>
            <a:ext cx="350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5" descr="F:\картинки из мультиков\homepict555.jpg"/>
          <p:cNvPicPr/>
          <p:nvPr/>
        </p:nvPicPr>
        <p:blipFill>
          <a:blip r:embed="rId1"/>
          <a:stretch/>
        </p:blipFill>
        <p:spPr>
          <a:xfrm>
            <a:off x="3429000" y="2428920"/>
            <a:ext cx="3333600" cy="2362320"/>
          </a:xfrm>
          <a:prstGeom prst="rect">
            <a:avLst/>
          </a:prstGeom>
          <a:ln w="0">
            <a:noFill/>
          </a:ln>
        </p:spPr>
      </p:pic>
      <p:pic>
        <p:nvPicPr>
          <p:cNvPr id="585" name="Содержимое 3" descr=""/>
          <p:cNvPicPr/>
          <p:nvPr/>
        </p:nvPicPr>
        <p:blipFill>
          <a:blip r:embed="rId2"/>
          <a:stretch/>
        </p:blipFill>
        <p:spPr>
          <a:xfrm>
            <a:off x="-19080" y="1036800"/>
            <a:ext cx="9182160" cy="562608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роективные метод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0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15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Направления психологического консультирования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13840" y="1856880"/>
            <a:ext cx="89298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a0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aff"/>
                </a:solidFill>
                <a:latin typeface="Comic Sans MS"/>
              </a:rPr>
              <a:t>Информирование об особенностях и закономерностях развития ребенка в данном возрас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Aft>
                <a:spcPts val="1199"/>
              </a:spcAft>
              <a:buClr>
                <a:srgbClr val="0a0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aff"/>
                </a:solidFill>
                <a:latin typeface="Comic Sans MS"/>
              </a:rPr>
              <a:t>Объективная оценка особенностей развития ребенка с указанием на сильные и слабые сторон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Aft>
                <a:spcPts val="1199"/>
              </a:spcAft>
              <a:buClr>
                <a:srgbClr val="0a0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aff"/>
                </a:solidFill>
                <a:latin typeface="Comic Sans MS"/>
              </a:rPr>
              <a:t>Формирование у родителей адекватного отношения и толерантности к ребенк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Aft>
                <a:spcPts val="1199"/>
              </a:spcAft>
              <a:buClr>
                <a:srgbClr val="0a0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aff"/>
                </a:solidFill>
                <a:latin typeface="Comic Sans MS"/>
              </a:rPr>
              <a:t>Избавление от психотравмирующих фактор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Aft>
                <a:spcPts val="1199"/>
              </a:spcAft>
              <a:buClr>
                <a:srgbClr val="0a0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aff"/>
                </a:solidFill>
                <a:latin typeface="Comic Sans MS"/>
              </a:rPr>
              <a:t>Выработка адекватных форм пове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a0a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aff"/>
                </a:solidFill>
                <a:latin typeface="Comic Sans MS"/>
              </a:rPr>
              <a:t>Преодоление трудностей общ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9" name="Picture 6" descr=""/>
          <p:cNvPicPr/>
          <p:nvPr/>
        </p:nvPicPr>
        <p:blipFill>
          <a:blip r:embed="rId2"/>
          <a:stretch/>
        </p:blipFill>
        <p:spPr>
          <a:xfrm>
            <a:off x="6643800" y="4929120"/>
            <a:ext cx="250020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Методы и техники психокорре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440" y="1828800"/>
            <a:ext cx="395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Индивидуальны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Бесе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Игровая терап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ПИ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Терапия детско-родительского взаимодейств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Терапия семейных отнош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Содержимое 2"/>
          <p:cNvSpPr/>
          <p:nvPr/>
        </p:nvSpPr>
        <p:spPr>
          <a:xfrm>
            <a:off x="5072040" y="4143240"/>
            <a:ext cx="38577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Групповы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Имитационно-игровые метод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(сюжетно-ролевые игры, сказкотерапия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Тренинг навыков общ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4"/>
                </a:solidFill>
                <a:latin typeface="Comic Sans MS"/>
              </a:rPr>
              <a:t>Обучающий тренинг для родителе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928800" y="4500720"/>
            <a:ext cx="2923920" cy="19285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F:\картинки из мультиков\559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14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68706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редложения по организации консультаций родител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6" name="Picture 6" descr="53861_20080108101246"/>
          <p:cNvPicPr/>
          <p:nvPr/>
        </p:nvPicPr>
        <p:blipFill>
          <a:blip r:embed="rId1"/>
          <a:stretch/>
        </p:blipFill>
        <p:spPr>
          <a:xfrm>
            <a:off x="142920" y="2500200"/>
            <a:ext cx="3048120" cy="2286000"/>
          </a:xfrm>
          <a:prstGeom prst="rect">
            <a:avLst/>
          </a:prstGeom>
          <a:ln w="44280">
            <a:solidFill>
              <a:srgbClr val="ccff33"/>
            </a:solidFill>
            <a:miter/>
          </a:ln>
        </p:spPr>
      </p:pic>
      <p:pic>
        <p:nvPicPr>
          <p:cNvPr id="597" name="Picture 4" descr="inst_cl_20ruc_"/>
          <p:cNvPicPr/>
          <p:nvPr/>
        </p:nvPicPr>
        <p:blipFill>
          <a:blip r:embed="rId2"/>
          <a:stretch/>
        </p:blipFill>
        <p:spPr>
          <a:xfrm>
            <a:off x="5072040" y="2428920"/>
            <a:ext cx="3834000" cy="2286000"/>
          </a:xfrm>
          <a:prstGeom prst="rect">
            <a:avLst/>
          </a:prstGeom>
          <a:ln w="50760">
            <a:solidFill>
              <a:srgbClr val="ccff33"/>
            </a:solidFill>
            <a:miter/>
          </a:ln>
        </p:spPr>
      </p:pic>
      <p:pic>
        <p:nvPicPr>
          <p:cNvPr id="598" name="Picture 10" descr="photo31"/>
          <p:cNvPicPr/>
          <p:nvPr/>
        </p:nvPicPr>
        <p:blipFill>
          <a:blip r:embed="rId3"/>
          <a:stretch/>
        </p:blipFill>
        <p:spPr>
          <a:xfrm>
            <a:off x="3000240" y="4000680"/>
            <a:ext cx="2143440" cy="2689200"/>
          </a:xfrm>
          <a:prstGeom prst="rect">
            <a:avLst/>
          </a:prstGeom>
          <a:ln w="44280">
            <a:solidFill>
              <a:srgbClr val="000000"/>
            </a:solidFill>
            <a:miter/>
          </a:ln>
        </p:spPr>
      </p:pic>
      <p:sp>
        <p:nvSpPr>
          <p:cNvPr id="599" name="TextBox 5"/>
          <p:cNvSpPr/>
          <p:nvPr/>
        </p:nvSpPr>
        <p:spPr>
          <a:xfrm>
            <a:off x="76680" y="2000160"/>
            <a:ext cx="38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Консультации по телефон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TextBox 6"/>
          <p:cNvSpPr/>
          <p:nvPr/>
        </p:nvSpPr>
        <p:spPr>
          <a:xfrm>
            <a:off x="4559400" y="192888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Организация родительского клуб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Box 7"/>
          <p:cNvSpPr/>
          <p:nvPr/>
        </p:nvSpPr>
        <p:spPr>
          <a:xfrm>
            <a:off x="5167800" y="500076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родажа пособ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2"/>
          <a:stretch/>
        </p:blipFill>
        <p:spPr>
          <a:xfrm>
            <a:off x="6462720" y="428760"/>
            <a:ext cx="2681280" cy="2225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2"/>
          <p:cNvSpPr/>
          <p:nvPr/>
        </p:nvSpPr>
        <p:spPr>
          <a:xfrm>
            <a:off x="-50004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Использование технических средств в процессе консультирова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Rectangle 16"/>
          <p:cNvSpPr/>
          <p:nvPr/>
        </p:nvSpPr>
        <p:spPr>
          <a:xfrm>
            <a:off x="539640" y="2205000"/>
            <a:ext cx="8390160" cy="1295280"/>
          </a:xfrm>
          <a:prstGeom prst="rect">
            <a:avLst/>
          </a:prstGeom>
          <a:solidFill>
            <a:srgbClr val="00b2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овместный анализ психолога с родителя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особенностей взаимодействия с ребенк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17"/>
          <p:cNvSpPr/>
          <p:nvPr/>
        </p:nvSpPr>
        <p:spPr>
          <a:xfrm>
            <a:off x="4140360" y="3716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826920" y="4581360"/>
            <a:ext cx="8031240" cy="1800360"/>
          </a:xfrm>
          <a:prstGeom prst="ellipse">
            <a:avLst/>
          </a:prstGeom>
          <a:solidFill>
            <a:srgbClr val="00b2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овышения мотивации клиентов 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рохождение терап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7" name="Рисунок 7" descr="a17.gif"/>
          <p:cNvPicPr/>
          <p:nvPr/>
        </p:nvPicPr>
        <p:blipFill>
          <a:blip r:embed="rId3"/>
          <a:stretch/>
        </p:blipFill>
        <p:spPr>
          <a:xfrm>
            <a:off x="5715000" y="321480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F:\картинки из мультиков\558.jpg"/>
          <p:cNvPicPr/>
          <p:nvPr/>
        </p:nvPicPr>
        <p:blipFill>
          <a:blip r:embed="rId4"/>
          <a:stretch/>
        </p:blipFill>
        <p:spPr>
          <a:xfrm>
            <a:off x="571680" y="3214800"/>
            <a:ext cx="28573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6:39:37Z</dcterms:created>
  <dc:creator>Andrei A</dc:creator>
  <dc:description/>
  <dc:language>en-US</dc:language>
  <cp:lastModifiedBy>Наташа</cp:lastModifiedBy>
  <dcterms:modified xsi:type="dcterms:W3CDTF">2016-10-01T09:54:57Z</dcterms:modified>
  <cp:revision>48</cp:revision>
  <dc:subject/>
  <dc:title>Слайд 1</dc:title>
</cp:coreProperties>
</file>