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19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gif" ContentType="image/gif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54C5-F44C-4518-BC60-86181AAEBE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сходя из того, что дети с ЗПРР быстро истощаются, следует оформить кабинет, где проходит консультирование, так  чтобы он был   более удобен для них. Подушки, и ( или) мягкие модули кресло-мешок помогут  ребенку расслабиться и почувствовать себя в более непринужденной обстановке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A7C0-602B-4DFD-98D9-9D197B0BFBF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условно, что у детей с ЗПРР одной из причин их эмоциональных и поведенческих проблем яляются   органические и функциональные нарушения центральной нервной системы ребенка . В отношении таких детей часто звучит недовольство их  непоседливостью, невнимательностью, импульсивностью, отсутствием целеустремленности, нежеланием подождать, приложить усилие, проявить терпение…. В основе этих жалоб нередко лежат необоснованно завышенные  с точки зрения возрастных возможностей и индивидуальных особенностей требования к произвольному управлению ,  контролю за поведением и даже психическим процесс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изкий  уровень психолого-педагогической компетенции родителей: незнание или сознательное игнорирование родителями возрастных норм, психо-физических особенностей ребенка и необходимых условий развития является одной из причин обращений к психологу. Желание иметь удобного, послушного ребенка, или  ребенка, который был бы лучше других, превосходил бы других детей, приводят к общему следствию – завышению требований к детям. Детей 3-4 лет пытаются учить чтению, водят в многочисленные кружки, секции. Шестилетних – одновременно обучают музыке, иностранным языкам, исправлению дефектов речи у логопе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занятиях ребенок  5-6 лет отсиживает уроки, получает задание на дом, вечерами со скандалом родители с детьми делают уроки, а потом ругают за плохие оценк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 бывает наоборот, родители  воспитывают ребенка в духе вседозволенности, оправдываясь его нездоровьем. И тогда у  ребенка в результате применения неправильных видов воспитания  ( непоследовательность родителей,  чрезмерное количество ограничений или постоянное потворство негативному поведению) не формируются нормы поведения  принятые в социуме, что ведет к социальной дезадаптации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Жалобы со стороны родителей часто бывают связаны с различными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личностными проблемами самих родителе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 незрелостью родителей, тяготящихся заботой о детях, загруженных своими  делами и проблемам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е дети очень часто страдают  от дефицита совместной деятельности и общения с родителями. Неудовлетворенность в общении провоцирует  у дошкольников разные проявления бессознательного протеста, в том числе агрессию,негативизм, непослушание, капризность, которые интерпретируются родителями, как проявления «дурного характера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0C1D-A299-422A-9526-A5E7D4D9819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ая особенность дошкольного возраста, заключается в том,  что многие психологические характеристики ребенка носят латентный, неявный характер, их проявления маскируются под чисто детское, под вполне естественные для этого возраста черты незрел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целью диагностического блока является клинико-психологическое изучение индивидуальных особенностей ребенка, анализ факторов, способствующих его эмоциональному неблагополучию, нарушению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7B6-0FA3-4C55-9E08-70332324607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ирование родителей об особенностях и закономерностях развития ребенка в данном возраст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йчивая реабилитация в глазах родителей типичных для дошкольников видов деятельности, раскрытия реальных опасностей неумелого форсирования развития за счет перенапряжения психологических и физиологических резервов ребенка.  В ряде случаев, чтобы снять необоснованную тревожность у родителей и тенденцию к предъявлению сверх требований, оказывается доста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й оценки развития ребенка с указанием на сильные и слабые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риходится проводить работу, направленную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у родителей адекватного отношения и толерантности к ребенку, обучение специальным навыкам общения с ребе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также направлена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бавление от психотравмирующих фактор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х, как  неблагополучие детско- родительских отношений , конфликтные отношения между другими членами семьи, насилие в семь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их случаях работа ведется с семьей . Особенно важно помочь членам семьи наладить общий психологический климат,  и выстроить совместно с родителями стратегию психологически правильного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26D-13E7-4B0C-97AE-DD284DEEDC9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ганизовать консультирование населения по телефону. Для этого необходимо выделить специальную телефонную линию, специальное консультационное время, которое бы входило в рабочие часы специалистов (можно организовать график дежурств на телефоне), и организовать рекламную поддержку этой услуге центр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одители детей с ЗПРР, понимая, что их дети отличаются от других, часто пребывают в состоянии растерянности и повышенной тревожности, как правило сами нуждаются в психологической поддержке. Помимо обычных консультаций с психологом,  было бы неплохо организовать Родительский клуб, где родители могли бы поделиться своими тревогами, сомнениями, опасениями, а так же поделиться  позитивным опытом решения тех или иных проблем, высказать свои пожелания по поводу организации различных занятий для своих детей у нас в центре, и обменяться информацией о других учреждениях медицинских, образовательных, развлекательных, которые были полезны их детям и могут пригодиться други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акое общение снижает уровень тревоги и настраивает на конструктивную работ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скольку в рамках консультирования специалист может выявить проблемы, обозначить пути их решения, а  по разным причинам не все родители с детьми могут посещать занятия , на сайте ЦДиК «Южный» организованны специальные страницы ( разделы по специалистам). На этих страницах для родителей да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комендуемая литература для детей, тетради, которые можно использовать для занятий с детьми; развивающие игры, игрушки . Мы предлагаем  на территории Центра организовать продажу соответствующих пособий, книг, игр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4D61-7C5C-4EBE-86D9-6EAF327F83D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консультации могли бы стать более живыми, наглядными и эффективными, если бы мы могли использовать видеозаписи. Например, можно записать взаимодействие родителя с ребенком на видео, а потом вместе с ними просмотреть записанный материал, параллельно анализируя имевшие место паттерны взаимодействия и соответствующие реакции вербального и невербального характера всех участников. Это так же могло бы повысить мотивацию клиентов на прохождение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данного предложения необходимы записывающая и воспроизводящая 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753F-1472-4B3B-9435-D40DB8769BC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F2B-E7A7-4B58-BE8B-780D0836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6E4-3193-4A14-88C1-A70557D0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03E0B-E911-47E6-AF99-680AA771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8B8B8-F2AA-4F21-9171-E9DB825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CF08-4D99-4627-AA50-C021EDE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2E91C-9F37-49F7-9A30-9CD8FD54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4E2B9-8DDA-40B4-936A-03B08C1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F33DD-68AB-4138-ACE2-0B7DD32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4E12-85F0-4759-B5A7-388149F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AC81A-E1FA-4FE4-B5CA-6C786CDA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79FB2-55B4-4131-A486-A159346F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31EEB-BB6B-4D19-82F8-011F026E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D4F-1870-4926-BF9E-FEF96C3E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3811-6AFE-4697-BA58-70BE82F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9ED74-BA2F-4062-B722-AC606E3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0980-CE3E-4E71-8703-CDA3D04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CDF78-7FBA-4F0F-96DF-AC82FCA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D0454-B338-4045-A0AF-939D393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3704-B355-44F5-B50F-84D7B1C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2C13A-BBA6-4BB6-BE81-1FD9D6B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90D68-296D-41AD-AD7A-16E0B68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FFE31-F02F-4DBD-B5F3-2AD3E76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67591-CE6A-43F4-A3C7-593CCAAE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D4E-7A5C-49D8-A1CD-FADF3C18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4DBA3-EBB6-4FF5-9FEE-24ED908C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846AE-82F7-4591-80EA-1579E004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46403-8B35-43B8-9E66-847BD7E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0C6C5-24C2-4A0C-A0F6-A962DFE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1E15E-620A-49DE-A811-EDECD8D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8627A-C111-47B4-B184-5BC3A5C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85292-BEBE-4E24-85BF-A6E8772F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C0D3A-227C-4A1B-96A4-096EB547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5546A-51CF-4F4F-B85E-DF5FB7A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9B516-5DEE-4905-B6C5-1EA0801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8E0D-B4B7-40D8-832E-AE583A10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559FB-EE8C-49E4-8EA3-F11DBC8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0F9C7-D53E-4C82-BFE9-B8CA8CA1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C093B-3B27-4930-AC64-35307297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30896-CD4A-4DAC-ACA3-1F786770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16126-308C-4664-83FE-4E94FA8A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36649-A80C-460A-BC79-0217FBB4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D1E13-0907-4D6C-A3D0-D116F4A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B815A-CC19-4763-B1C9-3C54D77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41E61-4EDA-4A7B-804F-400F92CB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94FAC-376B-467E-912C-646DEB5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21D8-3CE7-436A-A7C4-27A416E2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ADE9-5FF0-453E-A1B1-CB759B7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F6E67-3140-4D7E-A3BD-A5616F47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CE48C-3244-4BDE-9D06-E81D496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8647B-29BA-4D30-A8AF-EF7964D8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CCDA3-4F6C-4368-B862-0D476425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A85F-E423-4043-AF0E-CED158F5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644C-AD41-4CF3-AA6E-89A3216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23FF-EBF5-41D5-9E9A-DE4F0CE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0C9-9B71-4E2A-925D-A3781D92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69D5-4749-4E86-8DD3-5ECE3BDF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3B7-BEC3-47B3-A05B-3294D780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112D-44F7-455D-8033-E7E28894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FB96-9F15-4C3A-A766-0DA9BCEB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AE4-7A81-45A2-8819-7C943007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EAD-0BA3-4C73-945D-7A00D808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33B5-55FC-49CB-90A7-55374427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6260-0EC4-4BC7-9109-A5C014FE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AAA5-AF9D-4195-82AC-7028727B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8818-74B5-4D04-9030-03BC02CE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DCCA-B6D2-43E4-9293-589946CA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590B-08AB-4735-AD93-6DB5D6B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A9A-4AD9-4EA7-8645-108375E2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01F2-2125-468D-99F6-F53F9E0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3865-7455-4756-B14B-57D6EC04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49C8-0C1A-4FD7-B6AE-3DF9206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FED8-FC09-4532-A6B2-42B8B00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3786-5067-49B5-8DF5-D401F9B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5BB2-E2DF-477F-8780-0FDA30A9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6D7B-A464-43D3-AF9A-B18E1C23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B983-58E6-4B98-B974-58AA3273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6BE7-D586-46BC-B3DA-D5461F67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C027-2AFD-4753-9D84-334D9DCC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2FE-9214-4640-B6E7-64276BB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DC03-708D-4621-80CF-B1682EBF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7FB7-20F1-4E9E-AA62-F4CB0D0D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F96C-AC46-4D9A-BA37-636ED75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1C6E-7500-4EB2-B148-6C1AB91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5A57-6944-4231-82CE-7E04C8AF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6065-59A0-4346-91CE-D44146A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43F2-591B-4295-AB30-29007AB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DF26-1456-4728-BC69-8DDECF8F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21CB-CCE0-4B3D-89EA-F8FF102F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1562-F3D8-4B75-BF15-0B534AF1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D75-888D-48A7-A8EC-E55C1C9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C3A9-944C-4FA9-A9DF-3D80DAD8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E350-D397-49E2-812F-7A1B3EF1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64B5-397A-4345-9E5F-EE6B3A4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4C4C3-FFBD-4D32-BBE3-E4A1C7D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DF3C-3201-4C48-9961-3EBEF6D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34CA-C61C-4DC0-8B80-3D7C18E1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4F19-38A6-435B-9770-01D7342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1998-B827-4C8B-8D81-0B8AEAE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3BA3F-31D4-4814-B254-C8554F3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3393-7175-4FCA-A0F2-96494672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BEA-1558-486E-AB43-DC8F2E5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AC84-9F25-4807-8DCF-005D05D8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E670E-56BA-4984-B6A5-2A8A29B3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4822-762E-43B0-B8BA-B87D7377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553C-02F9-4596-B8E6-F4DDAA10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21EFF-0984-43F6-9C6B-708BCB8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7FA6B-2B75-44BA-A06A-923978D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3550-68FD-48C1-B348-DC53B693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2D47-06B7-44F7-B48E-1C4EBBA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FAAB-2F6E-4738-8930-F507D6D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4FBB-6453-4157-918B-8F0FCB4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CED-8AC1-4438-A8F0-14AF4A7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654E-376C-49DA-B0F4-0A10260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3639-2542-4E98-ABC4-96046EF5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46FD9-BE11-4F8E-A422-96E278E9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A7AF3-967B-4EB4-9A32-CC83AA4A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DD09E-AFFE-4D18-A03D-ABDB3A14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A75ED-BAF5-47BE-B4D4-02EF94F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2CA6-A24B-4E2F-AB9E-05012FA2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1FBA-8460-49DB-AA21-8CEF2998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C4F6-DF22-4D04-B694-96797E53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50162-24F2-45B1-94C9-6163A598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DC6-9A39-4BAA-807D-B085EB2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93555-8BB7-4F08-BAC5-426708E9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7391-1C94-4357-BAF8-5AC333D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DD06-9CC9-4F9C-9BF0-14D4AB8D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E950-F8F1-4853-BE5E-3C5FEF3C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02372-3942-422C-8C42-2E239C5D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F17C-57DD-40F2-9E99-93ECF95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F181F-9EDD-4CB6-9F2A-BB7B2519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2AE1-912F-429F-AEA2-92BD0401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8375-7B4A-4417-B0E8-BCDB6ED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1767-AF08-4719-8956-385A8FE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194-51BF-4461-B150-0D9E4BC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DF3E-8547-4C49-9B31-FC17F0F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C64C-99AE-4E16-82A6-26FF851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3EAA0-0F3A-48E7-89DC-AE07B80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81291-D9B7-4D96-9EB2-FC78FE7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C3CF-BEAD-4A6E-BEBE-7226B8C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FAE5F-FEF7-4E73-9BEE-95412993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52B5F-F61C-48D4-8464-C178B4BB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23E0-3057-4D30-87FB-A8344FB1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0BEDC-2695-4DCC-9402-E57EC30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3A00B-1BEE-4E30-BCC5-A40FC19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BBB-7995-49BC-8D60-88F3CF59B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custGeom>
                  <a:avLst/>
                  <a:gdLst>
                    <a:gd name="textAreaLeft" fmla="*/ 0 w 431640"/>
                    <a:gd name="textAreaRight" fmla="*/ 432000 w 4316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43EA-DDCD-4E9C-AA3F-6605DC676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FEF-4A31-4D18-B6AB-D711AA26E4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C292-DF1F-4D9B-907E-1A9109CA8D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244-8FC9-4834-93D7-CFEFB9F320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A6AA-3488-42F2-9ED9-11E2FB8EF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1788-E349-4C20-A3E0-5D2D44E34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641-3553-4B1F-A2F3-E87A01F7AF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6DA-F469-4702-BEB9-1537B74FA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0FD1-23C2-49F0-BBE5-D687474017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907D-3331-4A65-9479-EEEDFE0498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256-4E7D-4ADF-8B6A-005166B87C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57200" y="14288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сихологическое консультировани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ри работе с семьями детей с ЗПР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Кузьмина Е.А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Герасимова Н.Е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Шитякова В.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2012-2013 уч.го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Оснащение кабинета психолог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4572000" cy="3314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F:\картинки из мультиков\557.jpg"/>
          <p:cNvPicPr/>
          <p:nvPr/>
        </p:nvPicPr>
        <p:blipFill>
          <a:blip r:embed="rId3"/>
          <a:stretch/>
        </p:blipFill>
        <p:spPr>
          <a:xfrm>
            <a:off x="5286240" y="1643040"/>
            <a:ext cx="3343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Жалобы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1" name="Содержимое 3"/>
          <p:cNvGraphicFramePr/>
          <p:nvPr/>
        </p:nvGraphicFramePr>
        <p:xfrm>
          <a:off x="0" y="928800"/>
          <a:ext cx="9001080" cy="57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8800"/>
                    <a:ext cx="900108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extBox 4"/>
          <p:cNvSpPr/>
          <p:nvPr/>
        </p:nvSpPr>
        <p:spPr>
          <a:xfrm>
            <a:off x="3051000" y="607212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отношения в семь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6299280" y="5500800"/>
            <a:ext cx="29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проблемы общ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со сверстник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0" y="1071720"/>
            <a:ext cx="32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эмоциональные проблем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(плаксивос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неувереннос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в себ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импульсивность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6520" y="4786200"/>
            <a:ext cx="315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проблемы</a:t>
            </a:r>
            <a:r>
              <a:rPr b="0" lang="ru-RU" sz="18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повед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(гиперактивнос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непослушани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вранье, грубос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агрессия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687096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ричины жало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56760" y="1828440"/>
            <a:ext cx="85726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Органические и функциональные нарушения нервной сист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Завышенные требования родителей к реб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изкий уровень психолого-педагогической компетен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Личностные проблемы самих родител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9" name="Рисунок 3" descr="c102.gif"/>
          <p:cNvPicPr/>
          <p:nvPr/>
        </p:nvPicPr>
        <p:blipFill>
          <a:blip r:embed="rId2"/>
          <a:stretch/>
        </p:blipFill>
        <p:spPr>
          <a:xfrm>
            <a:off x="6929280" y="464328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214560" y="28548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сновные методы психологического об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85840" y="1571760"/>
            <a:ext cx="63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Изучение документ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бесе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Изучение результатов деятельности де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наблюд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экспери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тестир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Анализ катамнестических сведений о ребенке и его семье после коррекцион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5207040" y="1928880"/>
            <a:ext cx="350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F:\картинки из мультиков\homepict555.jpg"/>
          <p:cNvPicPr/>
          <p:nvPr/>
        </p:nvPicPr>
        <p:blipFill>
          <a:blip r:embed="rId1"/>
          <a:stretch/>
        </p:blipFill>
        <p:spPr>
          <a:xfrm>
            <a:off x="3429000" y="2428920"/>
            <a:ext cx="3333600" cy="2362320"/>
          </a:xfrm>
          <a:prstGeom prst="rect">
            <a:avLst/>
          </a:prstGeom>
          <a:ln w="0">
            <a:noFill/>
          </a:ln>
        </p:spPr>
      </p:pic>
      <p:pic>
        <p:nvPicPr>
          <p:cNvPr id="585" name="Содержимое 3" descr=""/>
          <p:cNvPicPr/>
          <p:nvPr/>
        </p:nvPicPr>
        <p:blipFill>
          <a:blip r:embed="rId2"/>
          <a:stretch/>
        </p:blipFill>
        <p:spPr>
          <a:xfrm>
            <a:off x="-19080" y="1036800"/>
            <a:ext cx="9182160" cy="562608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роективные метод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15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аправления психологического консультировани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13840" y="1856880"/>
            <a:ext cx="89298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Информирование об особенностях и закономерностях развития ребенка в данном возрас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Объективная оценка особенностей развития ребенка с указанием на сильные и слабые сторон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Формирование у родителей адекватного отношения и толерантности к ребенк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Избавление от психотравмирующих фактор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Выработка адекватных форм пове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Преодоление трудностей общ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2"/>
          <a:stretch/>
        </p:blipFill>
        <p:spPr>
          <a:xfrm>
            <a:off x="6643800" y="4929120"/>
            <a:ext cx="25002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Методы и техники психо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440" y="1828800"/>
            <a:ext cx="395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Индивидуальны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Бесе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Игровая терап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ПИ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Терапия детско-родительского взаимодейств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Терапия семейных отнош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Содержимое 2"/>
          <p:cNvSpPr/>
          <p:nvPr/>
        </p:nvSpPr>
        <p:spPr>
          <a:xfrm>
            <a:off x="5072040" y="4143240"/>
            <a:ext cx="38577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Групповы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Имитационно-игровые метод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(сюжетно-ролевые игры, сказкотерапия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Тренинг навыков общ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Обучающий тренинг для родителе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928800" y="4500720"/>
            <a:ext cx="2923920" cy="1928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F:\картинки из мультиков\559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14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68706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едложения по организации консультаций родит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6" name="Picture 6" descr="53861_20080108101246"/>
          <p:cNvPicPr/>
          <p:nvPr/>
        </p:nvPicPr>
        <p:blipFill>
          <a:blip r:embed="rId1"/>
          <a:stretch/>
        </p:blipFill>
        <p:spPr>
          <a:xfrm>
            <a:off x="142920" y="2500200"/>
            <a:ext cx="3048120" cy="2286000"/>
          </a:xfrm>
          <a:prstGeom prst="rect">
            <a:avLst/>
          </a:prstGeom>
          <a:ln w="44280">
            <a:solidFill>
              <a:srgbClr val="ccff33"/>
            </a:solidFill>
            <a:miter/>
          </a:ln>
        </p:spPr>
      </p:pic>
      <p:pic>
        <p:nvPicPr>
          <p:cNvPr id="597" name="Picture 4" descr="inst_cl_20ruc_"/>
          <p:cNvPicPr/>
          <p:nvPr/>
        </p:nvPicPr>
        <p:blipFill>
          <a:blip r:embed="rId2"/>
          <a:stretch/>
        </p:blipFill>
        <p:spPr>
          <a:xfrm>
            <a:off x="5072040" y="2428920"/>
            <a:ext cx="3834000" cy="2286000"/>
          </a:xfrm>
          <a:prstGeom prst="rect">
            <a:avLst/>
          </a:prstGeom>
          <a:ln w="50760">
            <a:solidFill>
              <a:srgbClr val="ccff33"/>
            </a:solidFill>
            <a:miter/>
          </a:ln>
        </p:spPr>
      </p:pic>
      <p:pic>
        <p:nvPicPr>
          <p:cNvPr id="598" name="Picture 10" descr="photo31"/>
          <p:cNvPicPr/>
          <p:nvPr/>
        </p:nvPicPr>
        <p:blipFill>
          <a:blip r:embed="rId3"/>
          <a:stretch/>
        </p:blipFill>
        <p:spPr>
          <a:xfrm>
            <a:off x="3000240" y="4000680"/>
            <a:ext cx="2143440" cy="268920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  <p:sp>
        <p:nvSpPr>
          <p:cNvPr id="599" name="TextBox 5"/>
          <p:cNvSpPr/>
          <p:nvPr/>
        </p:nvSpPr>
        <p:spPr>
          <a:xfrm>
            <a:off x="76680" y="2000160"/>
            <a:ext cx="38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онсультации по телефон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4559400" y="192888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Организация родительского клу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5167800" y="500076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одажа пособ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2"/>
          <a:stretch/>
        </p:blipFill>
        <p:spPr>
          <a:xfrm>
            <a:off x="6462720" y="428760"/>
            <a:ext cx="2681280" cy="2225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2"/>
          <p:cNvSpPr/>
          <p:nvPr/>
        </p:nvSpPr>
        <p:spPr>
          <a:xfrm>
            <a:off x="-50004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спользование технических средств в процессе консультир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539640" y="2205000"/>
            <a:ext cx="8390160" cy="1295280"/>
          </a:xfrm>
          <a:prstGeom prst="rect">
            <a:avLst/>
          </a:prstGeom>
          <a:solidFill>
            <a:srgbClr val="00b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вместный анализ психолога с родителя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собенностей взаимодействия с ребен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4140360" y="371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826920" y="4581360"/>
            <a:ext cx="8031240" cy="1800360"/>
          </a:xfrm>
          <a:prstGeom prst="ellipse">
            <a:avLst/>
          </a:prstGeom>
          <a:solidFill>
            <a:srgbClr val="00b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вышения мотивации клиентов 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рохождение терап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7" name="Рисунок 7" descr="a17.gif"/>
          <p:cNvPicPr/>
          <p:nvPr/>
        </p:nvPicPr>
        <p:blipFill>
          <a:blip r:embed="rId3"/>
          <a:stretch/>
        </p:blipFill>
        <p:spPr>
          <a:xfrm>
            <a:off x="5715000" y="32148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F:\картинки из мультиков\558.jpg"/>
          <p:cNvPicPr/>
          <p:nvPr/>
        </p:nvPicPr>
        <p:blipFill>
          <a:blip r:embed="rId4"/>
          <a:stretch/>
        </p:blipFill>
        <p:spPr>
          <a:xfrm>
            <a:off x="571680" y="3214800"/>
            <a:ext cx="28573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6:39:37Z</dcterms:created>
  <dc:creator>Andrei A</dc:creator>
  <dc:description/>
  <dc:language>en-US</dc:language>
  <cp:lastModifiedBy>Наташа</cp:lastModifiedBy>
  <dcterms:modified xsi:type="dcterms:W3CDTF">2016-10-01T09:54:57Z</dcterms:modified>
  <cp:revision>48</cp:revision>
  <dc:subject/>
  <dc:title>Слайд 1</dc:title>
</cp:coreProperties>
</file>