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E45-D1B5-4A2C-A382-5F4BB430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F2E-6C90-4A5F-9DC2-E45B0418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851-F4CB-40C8-B67A-2D589B1D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B8B-856E-4AD5-B1A6-24674182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53EC-F6C1-41E6-A762-5BA67C1C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5E66-F81A-4D16-91C1-CDBDAD5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7A98-0F44-4160-A4F2-425332DB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8158-5AA1-487C-9AD2-5CB5822F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AE39-1871-4779-88D6-91D658DA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5F88-9A94-4983-B92E-588D0465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CD9E-2A47-4FF9-8718-C6E69DB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D7A-B117-4D65-925F-844B1775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E36-71EE-48DA-B583-414F2E0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B919-E9E0-46BA-824A-932D3A0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15AD-A84D-47CD-8107-D009F99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F302-EF67-4E04-85D3-7984D42D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E35F-4BBA-4BCB-B3C9-7F26717B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AA8C-C37E-4007-9D7B-5F1B7284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C26C-4F75-4FFC-893C-27076739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802E-C399-47F3-A456-A4257CE8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0FB1-21FB-4645-A58C-04E35558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DA6A-B918-4D65-B1D0-48283503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AE6-402F-4FC6-A5BA-0407163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C850-B423-4113-91D8-F68B887A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14FFF-B1A4-4BDD-B93A-A278D37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D408-403F-4240-904B-438AEB8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9584-6D65-459A-A7C8-C74E79D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830C-D6E9-47DA-BCEF-D72B5433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FAB1-B2C8-490D-BC64-51D9F878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B796-EEAB-4DF5-B225-AD2F23C4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F3913-D942-4F2B-9307-C9EDC5C6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902A-8900-46B5-B19C-D165174C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620F-C2F7-4E8F-A768-4B6CC07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9BC-FC06-4C91-8446-BAA09192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5FFC-B0D2-455E-B648-8368DADB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C33A-DD66-4A58-ADC6-80010FF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5E4D-F685-43F9-B768-1348BAE9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F2211-57FD-4F03-817B-F0B1AC6F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4999-4565-421E-93E6-4CBC8542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A4FB-B2F6-4CF8-BFD0-A1400B1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9F64-1DFF-427E-AC4D-DD5C2A8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2ACC-3580-4CDD-9B20-9B5BA945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287F-817F-4D59-A7DC-77003EBD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577-BC08-427C-9A7A-F41EF119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252-0C09-4D71-8074-A59A7075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12B-2961-4238-ACB1-5D5B37EA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AF5-F5D4-4082-9500-575DA80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03A-70B5-4DE8-98E9-66C891F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6BE-8970-4013-B915-1EF4B82E84C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604C-2EF9-40B2-8F4F-C2188A10A18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72E8-AB1E-4251-8F8F-2BDB274544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5AE6-C2A3-4892-B68E-D853319E0AA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53880" y="695160"/>
            <a:ext cx="8637840" cy="2565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БОУ СОШ № 4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016 г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Работа учителей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ирование урока (целиком или фрагментарно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разработка системы уроков по теме или курсу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разработка спецкурса, программы исследования по определенной тем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составление контрольных материалов, тест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посещение уроков, внеклассных мероприятий, занятий спецкурсов, дополнительных занятий с последующим анализо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защита темы по самообразованию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 подготовка докладов по определенной проблем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Мероприятия, проводимые МО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ные олимпиа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ные неде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метные конкур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Результаты работы МО по русскому языку и литературе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усский медвежонок – 60 % детей участвуют в конкурсе, есть призеры, победите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гас – 30 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ГОС-тестирование по русскому языку и литературе – 30 % участников от всех ребят, есть победите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с сочинений о маме – победители муниципального ту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Учителя русского языка и литературы, английского языка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с «Мой лучший урок» – победитель 2016 год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авняя Валентина Владими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с «Мой лучший урок» – победитель 2008 года Веретнова Ольга Анато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бедитель конкурса «Лучшие учителя России» – 2008 год – Веретнова Ольга Анато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Результаты ГИА по русскому языку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00 % обученн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едняя оценка 4,26 балл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едний балл по школе 30, 42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БОУ СОШ № 44 ст. Северской в 2014-2015 учебном году по среднему баллу по предмету  русский язык вошла в десятку лучших школ района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Результаты ЕГЭ по русскому языку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ученность 100 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едний балл составляет –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63,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балл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Английский язык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ниципальный этап олимпиады по английскому языку – 4 призе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Британский бульдог» – 60 % участников, 5 призер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Эврика – шаг в науку» – призе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ждественские конкурсы по иностранным языка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ГОС-тестиров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лимпиада высшей пробы – 2015: призер 90 баллов из с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</a:rPr>
              <a:t>Просто мы работаем волшебниками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работаем стабиль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еативно, позитив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вим цели, достига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опять идем впере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азку былью сделать сможем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преграды одоле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 наших сорванц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ойдем огонь и во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дце детям отда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тепло души дар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иходим каждый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шу любимую школ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 мы работаем волшебникам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Состав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раненко Лариса Алексе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аликова Татьяна Александ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уреева Елена Александ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авняя Валентина Владими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ретнова Ольга Анато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олотухина Инна Игор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ереженко Анастасия Викторо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амурганова Кристина Витальев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I:\фото учителей\Безымянный 3.jpg"/>
          <p:cNvPicPr/>
          <p:nvPr/>
        </p:nvPicPr>
        <p:blipFill>
          <a:blip r:embed="rId1"/>
          <a:stretch/>
        </p:blipFill>
        <p:spPr>
          <a:xfrm>
            <a:off x="684360" y="3357720"/>
            <a:ext cx="1957320" cy="3070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I:\фото учителей\Рисунок1.jpg"/>
          <p:cNvPicPr/>
          <p:nvPr/>
        </p:nvPicPr>
        <p:blipFill>
          <a:blip r:embed="rId2"/>
          <a:stretch/>
        </p:blipFill>
        <p:spPr>
          <a:xfrm>
            <a:off x="3059280" y="1484280"/>
            <a:ext cx="2736720" cy="409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I:\фото учителей\Рисунок2.jpg"/>
          <p:cNvPicPr/>
          <p:nvPr/>
        </p:nvPicPr>
        <p:blipFill>
          <a:blip r:embed="rId3"/>
          <a:stretch/>
        </p:blipFill>
        <p:spPr>
          <a:xfrm>
            <a:off x="6084720" y="476280"/>
            <a:ext cx="2559240" cy="3832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I:\фото учителей\Рисунок3.jpg"/>
          <p:cNvPicPr/>
          <p:nvPr/>
        </p:nvPicPr>
        <p:blipFill>
          <a:blip r:embed="rId4"/>
          <a:stretch/>
        </p:blipFill>
        <p:spPr>
          <a:xfrm>
            <a:off x="611280" y="189000"/>
            <a:ext cx="200016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:\фото учителей\DSC01723.JPG"/>
          <p:cNvPicPr/>
          <p:nvPr/>
        </p:nvPicPr>
        <p:blipFill>
          <a:blip r:embed="rId1"/>
          <a:stretch/>
        </p:blipFill>
        <p:spPr>
          <a:xfrm>
            <a:off x="2077920" y="738360"/>
            <a:ext cx="2024280" cy="2700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I:\фото учителей\IMG_20151216_134955.jpg"/>
          <p:cNvPicPr/>
          <p:nvPr/>
        </p:nvPicPr>
        <p:blipFill>
          <a:blip r:embed="rId2"/>
          <a:stretch/>
        </p:blipFill>
        <p:spPr>
          <a:xfrm>
            <a:off x="395280" y="3573360"/>
            <a:ext cx="2881440" cy="288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I:\фото учителей\Рисунок4.jpg"/>
          <p:cNvPicPr/>
          <p:nvPr/>
        </p:nvPicPr>
        <p:blipFill>
          <a:blip r:embed="rId3"/>
          <a:stretch/>
        </p:blipFill>
        <p:spPr>
          <a:xfrm>
            <a:off x="3708360" y="3068640"/>
            <a:ext cx="2381400" cy="357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:\фото учителей\Рисунок5.jpg"/>
          <p:cNvPicPr/>
          <p:nvPr/>
        </p:nvPicPr>
        <p:blipFill>
          <a:blip r:embed="rId4"/>
          <a:stretch/>
        </p:blipFill>
        <p:spPr>
          <a:xfrm>
            <a:off x="6227640" y="1268280"/>
            <a:ext cx="2630520" cy="394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Что такое филология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илоло́г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(от 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др.-греч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φιλολογία, «любовь к слову») — совокупность наук, изучающих культуру народа, выраженную в языке и литературном творчеств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Цели работы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вершенствование профессионального мастерства педагогов в свете современных требований к обучению и воспитанию уча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вышение качества образования школьников через индивидуализацию обучения.    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Задачи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нормативной и методической документации по вопросам образования по русскому языку и литерату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новых образовательных технологий и внедрение их в учебную  деятель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над методической темой школы "Индивидуализация обучения как средство повышения качества образования сельских школьников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индивидуальных психологических и личностных качеств учеников и составление рабочих программ с учётом разноуровневости и вариативности в соответствии с федеральным компонентом образ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  комфортной и безопасной психологической среды в шк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 работы по изучению, обобщению и распространению опыта педагог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педагогов во внеклассной деятельности по предмету, организация и проведение недели литературы в шк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валификации педагогов через различные формы обу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Методическая тема МО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вершенствование компетенций учителя и обучающихся как средство повышения качества образ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</a:rPr>
              <a:t>Формы проведения заседаний МО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  лекц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семина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конференция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ворческая дискусс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методический фестиваль (по итогам методической работы за год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круглый стол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ярмарка методических идей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6:08:59Z</dcterms:created>
  <dc:creator>admin</dc:creator>
  <dc:description/>
  <dc:language>en-US</dc:language>
  <cp:lastModifiedBy>Владелец</cp:lastModifiedBy>
  <dcterms:modified xsi:type="dcterms:W3CDTF">2016-02-04T09:36:39Z</dcterms:modified>
  <cp:revision>25</cp:revision>
  <dc:subject/>
  <dc:title>Методическое объединение учителей филологического цикла</dc:title>
</cp:coreProperties>
</file>