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A66-B731-4252-84DA-926221FC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616-9FC9-40D6-990D-5FE9A000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B4C-2D10-485C-9B0B-6BC163DB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CCD-D43F-40A2-AC80-A3BF6840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E5AA-4C94-407B-86C9-67237A8E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1058-172A-4569-B204-6533579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ED8B-425B-4522-B96A-5007F2F9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6A78-44DE-442E-8465-378DB5D9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5712-3E9A-4088-93F1-73682543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A22D-31AC-4D4F-94BC-81D013A9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999A-1315-4202-BDAB-B34E43F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857-B934-4262-9E30-97BBD79E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B088-436C-47B7-8088-12E5704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EDCE-CE52-4FB1-8452-93E52B77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109A-0DB1-468D-9CBB-E115486F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23D0-1D25-40FB-BE20-81A435A1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4752-35D5-44D3-A3DC-E8C62E20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9667-412E-45B4-840E-2157A93C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36E1-DA22-4BE9-B6A1-4999777F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5BAC-0694-4FA1-80A9-D6BDC311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D007-D468-4286-8558-089003C1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A5FB-2470-44C3-B463-F0E0C7AA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990-0533-42C0-8A6B-1F99454C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7523-1D94-48C9-BBE7-D616BF67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B598-8F1E-46D0-AD4F-878177CF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9762-7E12-466D-A17E-CFB1589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1CF5-EE8F-4E9A-BC30-8D0C2DE0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C353-D35E-4650-B957-C203F774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7BD6-8576-42B3-8EB8-477961C0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0101-73B9-4AF1-B36F-97130017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1F66-F127-4D4C-B7BC-BEF421F8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C2F1-9152-48F5-866E-E96C2CC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44EE-E093-4789-BE64-4929C7EB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70F-48A6-4F3E-9E55-857A2419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2365-0BA0-469B-9DC4-0C80D5FA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D652B-F03A-4E8A-B705-F4CFEEC8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9785E-D170-4BD0-AF7E-E18D7BBA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DE51E-4DE9-4C47-BE69-89194376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73DE2-D600-4BDC-A74E-300B3B5F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9E223-6968-4415-B118-A386BE0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7EA7-8EC8-45E8-91D6-7E98F52B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1E0D-0394-411B-878D-0AFA2921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4826E-2F79-4F02-BAA9-72F1B766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BCB-B615-46EA-B66C-2BC0619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5BC-CA45-479E-95C4-B4198CD9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1BE-F204-40D1-94A7-E1D1C110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AF6-D4AA-4702-A080-8630D2D5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205-334E-4FCC-A72A-5AA0901D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4D5B-9FA0-45D4-B5D2-CE00B45E4EB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BD1E-C8FE-458D-93BB-90C0A455262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B47E-9D47-45CF-B0B8-1AF9C69E293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1743-DCE0-486C-8C40-84CEEE1BDBD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53880" y="695160"/>
            <a:ext cx="8637840" cy="2565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БОУ СОШ № 4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016 го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Работа учителей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ирование урока (целиком или фрагментарно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разработка системы уроков по теме или курсу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разработка спецкурса, программы исследования по определенной тем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 составление контрольных материалов, тест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 посещение уроков, внеклассных мероприятий, занятий спецкурсов, дополнительных занятий с последующим анализо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защита темы по самообразованию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 подготовка докладов по определенной проблем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Мероприятия, проводимые МО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метные олимпиа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метные неде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метные конкур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Результаты работы МО по русскому языку и литературе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усский медвежонок – 60 % детей участвуют в конкурсе, есть призеры, победите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гас – 30 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ГОС-тестирование по русскому языку и литературе – 30 % участников от всех ребят, есть победите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с сочинений о маме – победители муниципального т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Учителя русского языка и литературы, английского языка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с «Мой лучший урок» – победитель 2016 год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авняя Валентина Владими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с «Мой лучший урок» – победитель 2008 года Веретнова Ольга Анатоль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бедитель конкурса «Лучшие учителя России» – 2008 год – Веретнова Ольга Анатоль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Результаты ГИА по русскому языку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00 % обученн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едняя оценка 4,26 балл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едний балл по школе 30, 42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БОУ СОШ № 44 ст. Северской в 2014-2015 учебном году по среднему баллу по предмету  русский язык вошла в десятку лучших школ района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Результаты ЕГЭ по русскому языку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ученность 100 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едний балл составляет –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63,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балл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Английский язык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ниципальный этап олимпиады по английскому языку – 4 призе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Британский бульдог» – 60 % участников, 5 призер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Эврика – шаг в науку» – призе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ждественские конкурсы по иностранным языка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ГОС-тестиров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лимпиада высшей пробы – 2015: призер 90 баллов из с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</a:rPr>
              <a:t>Просто мы работаем волшебниками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работаем стабиль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еативно, позитив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вим цели, достига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опять идем впере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у былью сделать сможе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преграды одоле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и наших сорванц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ойдем огонь и вод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дце детям отда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епло души дар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иходим каждый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шу любимую школ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 мы работаем волшебникам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Состав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раненко Лариса Алексе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аликова Татьяна Александ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уреева Елена Александ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авняя Валентина Владими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ретнова Ольга Анатоль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олотухина Инна Игор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ереженко Анастасия Викто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амурганова Кристина Виталь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:\фото учителей\Безымянный 3.jpg"/>
          <p:cNvPicPr/>
          <p:nvPr/>
        </p:nvPicPr>
        <p:blipFill>
          <a:blip r:embed="rId1"/>
          <a:stretch/>
        </p:blipFill>
        <p:spPr>
          <a:xfrm>
            <a:off x="684360" y="3357720"/>
            <a:ext cx="1957320" cy="3070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I:\фото учителей\Рисунок1.jpg"/>
          <p:cNvPicPr/>
          <p:nvPr/>
        </p:nvPicPr>
        <p:blipFill>
          <a:blip r:embed="rId2"/>
          <a:stretch/>
        </p:blipFill>
        <p:spPr>
          <a:xfrm>
            <a:off x="3059280" y="1484280"/>
            <a:ext cx="2736720" cy="409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I:\фото учителей\Рисунок2.jpg"/>
          <p:cNvPicPr/>
          <p:nvPr/>
        </p:nvPicPr>
        <p:blipFill>
          <a:blip r:embed="rId3"/>
          <a:stretch/>
        </p:blipFill>
        <p:spPr>
          <a:xfrm>
            <a:off x="6084720" y="476280"/>
            <a:ext cx="2559240" cy="3832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I:\фото учителей\Рисунок3.jpg"/>
          <p:cNvPicPr/>
          <p:nvPr/>
        </p:nvPicPr>
        <p:blipFill>
          <a:blip r:embed="rId4"/>
          <a:stretch/>
        </p:blipFill>
        <p:spPr>
          <a:xfrm>
            <a:off x="611280" y="189000"/>
            <a:ext cx="2000160" cy="2997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:\фото учителей\DSC01723.JPG"/>
          <p:cNvPicPr/>
          <p:nvPr/>
        </p:nvPicPr>
        <p:blipFill>
          <a:blip r:embed="rId1"/>
          <a:stretch/>
        </p:blipFill>
        <p:spPr>
          <a:xfrm>
            <a:off x="2077920" y="738360"/>
            <a:ext cx="2024280" cy="2700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I:\фото учителей\IMG_20151216_134955.jpg"/>
          <p:cNvPicPr/>
          <p:nvPr/>
        </p:nvPicPr>
        <p:blipFill>
          <a:blip r:embed="rId2"/>
          <a:stretch/>
        </p:blipFill>
        <p:spPr>
          <a:xfrm>
            <a:off x="395280" y="3573360"/>
            <a:ext cx="2881440" cy="288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I:\фото учителей\Рисунок4.jpg"/>
          <p:cNvPicPr/>
          <p:nvPr/>
        </p:nvPicPr>
        <p:blipFill>
          <a:blip r:embed="rId3"/>
          <a:stretch/>
        </p:blipFill>
        <p:spPr>
          <a:xfrm>
            <a:off x="3708360" y="3068640"/>
            <a:ext cx="2381400" cy="3571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I:\фото учителей\Рисунок5.jpg"/>
          <p:cNvPicPr/>
          <p:nvPr/>
        </p:nvPicPr>
        <p:blipFill>
          <a:blip r:embed="rId4"/>
          <a:stretch/>
        </p:blipFill>
        <p:spPr>
          <a:xfrm>
            <a:off x="6227640" y="1268280"/>
            <a:ext cx="2630520" cy="394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Что такое филология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Филоло́г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(от 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Times New Roman"/>
                <a:hlinkClick r:id="rId1"/>
              </a:rPr>
              <a:t>др.-греч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φιλολογία, «любовь к слову») — совокупность наук, изучающих культуру народа, выраженную в языке и литературном творчеств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Цели работы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вершенствование профессионального мастерства педагогов в свете современных требований к обучению и воспитанию учащих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вышение качества образования школьников через индивидуализацию обучения.    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Задачи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нормативной и методической документации по вопросам образования по русскому языку и литерату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новых образовательных технологий и внедрение их в учебную  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 над методической темой школы "Индивидуализация обучения как средство повышения качества образования сельских школьников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индивидуальных психологических и личностных качеств учеников и составление рабочих программ с учётом разноуровневости и вариативности в соответствии с федеральным компонентом 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  комфортной и безопасной психологической среды в шко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работы по изучению, обобщению и распространению опыта педагог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педагогов во внеклассной деятельности по предмету, организация и проведение недели литературы в шко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квалификации педагогов через различные формы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Методическая тема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вершенствование компетенций учителя и обучающихся как средство повышения качества образ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Формы проведения заседаний МО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лекц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емина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конференция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ворческая дискусс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методический фестиваль (по итогам методической работы за год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круглый стол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ярмарка методических идей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16:08:59Z</dcterms:created>
  <dc:creator>admin</dc:creator>
  <dc:description/>
  <dc:language>en-US</dc:language>
  <cp:lastModifiedBy>Владелец</cp:lastModifiedBy>
  <dcterms:modified xsi:type="dcterms:W3CDTF">2016-02-04T09:36:39Z</dcterms:modified>
  <cp:revision>25</cp:revision>
  <dc:subject/>
  <dc:title>Методическое объединение учителей филологического цикла</dc:title>
</cp:coreProperties>
</file>