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747-71A7-4726-9C5D-3F7E682D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BA7-F752-4899-BB9A-48BFA34E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280-0A98-4923-8EC0-3FD7BF5C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21A-D538-471B-B033-0126DBDD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A7D-7CB7-4FC1-9E60-9DF041B5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134-E7D0-4CA7-B20B-31EFE382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1DF-C190-4045-A382-A6D83CEC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CC2-A984-436E-80F4-956A5E6B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9A5-32A2-410A-8A83-C0A50E2B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723-06B1-4774-B19F-EF25021E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0E6-2330-47A1-96A7-89D6D8EF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6CF-5C27-4569-B69E-90BD3722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DD54-00F7-4E8C-8E72-8CAA456A7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533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-га-г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35640" y="4723920"/>
            <a:ext cx="3457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по сказке Д.Бисс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 воспитатель: Крохалева Ю.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3648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он встретил кур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о-ко-ко, — закудахтали куры. — Ко-ко-ко!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етух добавил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у-ка-ре-ку-ууу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214200" y="1704960"/>
            <a:ext cx="5170680" cy="453240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5" descr=""/>
          <p:cNvPicPr/>
          <p:nvPr/>
        </p:nvPicPr>
        <p:blipFill>
          <a:blip r:embed="rId2"/>
          <a:stretch/>
        </p:blipFill>
        <p:spPr>
          <a:xfrm>
            <a:off x="5445000" y="3341520"/>
            <a:ext cx="32418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хоть бы кто-нибудь сказал мне “га-га-га”, — подумал Вилли. — Не с кем даже поговорить. Вот скука!”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Жжжжжжжжжж! — прожужжала пчел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и ворковали, утки крякали, а вороны каркали, сидя на верхушках деревьев. И никто, никто не сказал ему “га-га-га”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5" descr=""/>
          <p:cNvPicPr/>
          <p:nvPr/>
        </p:nvPicPr>
        <p:blipFill>
          <a:blip r:embed="rId1"/>
          <a:stretch/>
        </p:blipFill>
        <p:spPr>
          <a:xfrm>
            <a:off x="487440" y="2612880"/>
            <a:ext cx="4228920" cy="317196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4" descr=""/>
          <p:cNvPicPr/>
          <p:nvPr/>
        </p:nvPicPr>
        <p:blipFill>
          <a:blip r:embed="rId2"/>
          <a:stretch/>
        </p:blipFill>
        <p:spPr>
          <a:xfrm>
            <a:off x="5076720" y="2590920"/>
            <a:ext cx="37432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й Вилли даже заплакал, и слезы закапали с клюва на его хорошенькие красные лап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рыдал Вил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друг издалека послышалось родное “га-га-га”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на дороге появился автомобил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сказал автомобиль. Все английские автомобили говорят “га-га-га”, а вовсе не “би-би-би”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обрадовался Вил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сказал автомобиль и проехал мим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4" descr=""/>
          <p:cNvPicPr/>
          <p:nvPr/>
        </p:nvPicPr>
        <p:blipFill>
          <a:blip r:embed="rId1"/>
          <a:stretch/>
        </p:blipFill>
        <p:spPr>
          <a:xfrm>
            <a:off x="324000" y="3290760"/>
            <a:ext cx="2808000" cy="2975040"/>
          </a:xfrm>
          <a:prstGeom prst="rect">
            <a:avLst/>
          </a:prstGeom>
          <a:ln w="0">
            <a:noFill/>
          </a:ln>
        </p:spPr>
      </p:pic>
      <p:pic>
        <p:nvPicPr>
          <p:cNvPr id="76" name="Объект 5" descr=""/>
          <p:cNvPicPr/>
          <p:nvPr/>
        </p:nvPicPr>
        <p:blipFill>
          <a:blip r:embed="rId2"/>
          <a:stretch/>
        </p:blipFill>
        <p:spPr>
          <a:xfrm>
            <a:off x="3370320" y="2536920"/>
            <a:ext cx="56656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и сказке конец, а кто слушал молодец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на свете гусёнок, по имени Уильям. Но мама звала его всегда Вил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улять пора, Вилли! — говорила ему мама. — Зови остальных, га-га-га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ли очень любил гагагакать, сзывая всех на прогулк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Га-га-га! Га-га-га! Га-га-га! — так и пел он всю дорог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4" descr=""/>
          <p:cNvPicPr/>
          <p:nvPr/>
        </p:nvPicPr>
        <p:blipFill>
          <a:blip r:embed="rId1"/>
          <a:stretch/>
        </p:blipFill>
        <p:spPr>
          <a:xfrm>
            <a:off x="596880" y="1413000"/>
            <a:ext cx="3830760" cy="4968720"/>
          </a:xfrm>
          <a:prstGeom prst="rect">
            <a:avLst/>
          </a:prstGeom>
          <a:ln w="0">
            <a:noFill/>
          </a:ln>
        </p:spPr>
      </p:pic>
      <p:pic>
        <p:nvPicPr>
          <p:cNvPr id="46" name="Объект 5" descr=""/>
          <p:cNvPicPr/>
          <p:nvPr/>
        </p:nvPicPr>
        <p:blipFill>
          <a:blip r:embed="rId2"/>
          <a:stretch/>
        </p:blipFill>
        <p:spPr>
          <a:xfrm>
            <a:off x="5003640" y="332748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на прогулке он встретил котёнка. Симпатичного чёрного котёнка с белыми передними лапками. Вилли он очень понравил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сказал он котёнку. — Га-га-га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яу! — ответил котён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ли удивился. Что значит “мяу”? Он всегда думал, что кошки, как и гуси, говорят “га-га-га!”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шёл дальше. Щипал по дороге травку. День был чудесный. Светило солнце, и пели птиц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93600" y="2533680"/>
            <a:ext cx="4262400" cy="319572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5" descr=""/>
          <p:cNvPicPr/>
          <p:nvPr/>
        </p:nvPicPr>
        <p:blipFill>
          <a:blip r:embed="rId2"/>
          <a:stretch/>
        </p:blipFill>
        <p:spPr>
          <a:xfrm>
            <a:off x="4643280" y="2470320"/>
            <a:ext cx="43624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-га-га! — пел Вил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в-гав! — ответила собака, бежавшая по дорог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192240" y="3178080"/>
            <a:ext cx="3659040" cy="274500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5" descr=""/>
          <p:cNvPicPr/>
          <p:nvPr/>
        </p:nvPicPr>
        <p:blipFill>
          <a:blip r:embed="rId2"/>
          <a:stretch/>
        </p:blipFill>
        <p:spPr>
          <a:xfrm>
            <a:off x="4068720" y="1557360"/>
            <a:ext cx="47512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-го-го! — сказала лошад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-но! — крикнул молочник своей лошад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й Вилли не понял ни слова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166680" y="3513240"/>
            <a:ext cx="2943360" cy="220824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5" descr=""/>
          <p:cNvPicPr/>
          <p:nvPr/>
        </p:nvPicPr>
        <p:blipFill>
          <a:blip r:embed="rId2"/>
          <a:stretch/>
        </p:blipFill>
        <p:spPr>
          <a:xfrm>
            <a:off x="3265560" y="1484280"/>
            <a:ext cx="56991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ёл мимо фермер и крикнул Вилли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ивет, гусёнок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ответил Вил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611280" y="296064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5" descr=""/>
          <p:cNvPicPr/>
          <p:nvPr/>
        </p:nvPicPr>
        <p:blipFill>
          <a:blip r:embed="rId2"/>
          <a:stretch/>
        </p:blipFill>
        <p:spPr>
          <a:xfrm>
            <a:off x="3565440" y="1628640"/>
            <a:ext cx="532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пробежали дети. Один мальчик подбежал к Вилли и крикнул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ыш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ли огорчился. У него даже в горле пересохл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Я знаю, что я всего-навсего гусёнок. Но зачем же кричать мне “кыш”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5743440" y="3137040"/>
            <a:ext cx="3149640" cy="273996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5" descr="ДЕТИ ЛЕТОМ.jpg"/>
          <p:cNvPicPr/>
          <p:nvPr/>
        </p:nvPicPr>
        <p:blipFill>
          <a:blip r:embed="rId2"/>
          <a:stretch/>
        </p:blipFill>
        <p:spPr>
          <a:xfrm>
            <a:off x="457200" y="2205000"/>
            <a:ext cx="4762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уду он увидел золотую рыбку, но на все его “га-га-га” рыбка только хвостиком вильнула и не сказала ни сло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457200" y="260676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5" descr=""/>
          <p:cNvPicPr/>
          <p:nvPr/>
        </p:nvPicPr>
        <p:blipFill>
          <a:blip r:embed="rId2"/>
          <a:srcRect l="6885" t="0" r="0" b="0"/>
          <a:stretch/>
        </p:blipFill>
        <p:spPr>
          <a:xfrm>
            <a:off x="4489560" y="2276640"/>
            <a:ext cx="4197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ли пошёл дальше и встретил стадо кор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у-у-у! — сказали коровы. — Му-у-у-у-у-у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325440" y="1916280"/>
            <a:ext cx="5038560" cy="403380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5" descr=""/>
          <p:cNvPicPr/>
          <p:nvPr/>
        </p:nvPicPr>
        <p:blipFill>
          <a:blip r:embed="rId2"/>
          <a:stretch/>
        </p:blipFill>
        <p:spPr>
          <a:xfrm>
            <a:off x="5481720" y="2921040"/>
            <a:ext cx="31939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777</cp:lastModifiedBy>
  <dcterms:modified xsi:type="dcterms:W3CDTF">2017-02-06T06:41:31Z</dcterms:modified>
  <cp:revision>29</cp:revision>
  <dc:subject/>
  <dc:title>Шаблон презентации</dc:title>
</cp:coreProperties>
</file>