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0A3-1955-4AAF-9C49-AF602EE4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6BE-2A8B-47B8-8EEC-F2253BE1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463-AE63-4ECB-84C5-4583E70F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CBF-975A-4FBD-9060-2C58C923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84C-E35D-41C7-84B7-A8C62406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5BA-D58D-4375-AC79-D823C253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75B-15F3-4389-AB0F-C31DE20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943-1381-4D04-91D6-5430D972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EBB-DA38-48A5-888A-919360D4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EED-7C9E-4830-AF02-EDFB778B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09A-1DE3-4796-8FA0-91A37F9A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B3A-4700-4369-B2EC-11838490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3BF9-A3CB-44F8-9149-EE7DD18E9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РЕЧЕВОЕ НАСИЛИЕ 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КАК УГРОЗА ПСИХИЧЕСКОМУ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И ПСИХОЛОГИЧЕСКОМУ ЗДОРОВЬЮ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index(201)"/>
          <p:cNvPicPr/>
          <p:nvPr/>
        </p:nvPicPr>
        <p:blipFill>
          <a:blip r:embed="rId2"/>
          <a:stretch/>
        </p:blipFill>
        <p:spPr>
          <a:xfrm>
            <a:off x="2666880" y="3657600"/>
            <a:ext cx="3657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1"/>
          <p:cNvGrpSpPr/>
          <p:nvPr/>
        </p:nvGrpSpPr>
        <p:grpSpPr>
          <a:xfrm>
            <a:off x="2916000" y="2361960"/>
            <a:ext cx="3040560" cy="2922840"/>
            <a:chOff x="2916000" y="2361960"/>
            <a:chExt cx="3040560" cy="2922840"/>
          </a:xfrm>
        </p:grpSpPr>
        <p:sp>
          <p:nvSpPr>
            <p:cNvPr id="78" name="Oval 7"/>
            <p:cNvSpPr/>
            <p:nvPr/>
          </p:nvSpPr>
          <p:spPr>
            <a:xfrm rot="16200000">
              <a:off x="3709800" y="2666520"/>
              <a:ext cx="152388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"/>
            <p:cNvSpPr/>
            <p:nvPr/>
          </p:nvSpPr>
          <p:spPr>
            <a:xfrm rot="16042800">
              <a:off x="4082040" y="3666240"/>
              <a:ext cx="761760" cy="591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9"/>
            <p:cNvSpPr/>
            <p:nvPr/>
          </p:nvSpPr>
          <p:spPr>
            <a:xfrm rot="19004400">
              <a:off x="3048120" y="3906720"/>
              <a:ext cx="1523880" cy="9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"/>
            <p:cNvSpPr/>
            <p:nvPr/>
          </p:nvSpPr>
          <p:spPr>
            <a:xfrm rot="13252800">
              <a:off x="4319280" y="3962160"/>
              <a:ext cx="152388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WordArt 12"/>
          <p:cNvSpPr txBox="1"/>
          <p:nvPr/>
        </p:nvSpPr>
        <p:spPr>
          <a:xfrm>
            <a:off x="3276720" y="1981080"/>
            <a:ext cx="2590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ЭМОЦИИ (душа)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13"/>
          <p:cNvSpPr txBox="1"/>
          <p:nvPr/>
        </p:nvSpPr>
        <p:spPr>
          <a:xfrm>
            <a:off x="2057400" y="5029200"/>
            <a:ext cx="1371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РАЗУМ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5562720" y="5029200"/>
            <a:ext cx="1218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ТЕЛО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16"/>
          <p:cNvSpPr txBox="1"/>
          <p:nvPr/>
        </p:nvSpPr>
        <p:spPr>
          <a:xfrm>
            <a:off x="1905120" y="914400"/>
            <a:ext cx="5181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ТЕЛО-РАЗУМ-ДУША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17"/>
          <p:cNvSpPr txBox="1"/>
          <p:nvPr/>
        </p:nvSpPr>
        <p:spPr>
          <a:xfrm>
            <a:off x="3048120" y="380880"/>
            <a:ext cx="2819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РАВНОВЕСИЕ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5"/>
          <p:cNvGrpSpPr/>
          <p:nvPr/>
        </p:nvGrpSpPr>
        <p:grpSpPr>
          <a:xfrm>
            <a:off x="3276720" y="2133720"/>
            <a:ext cx="1904760" cy="3113640"/>
            <a:chOff x="3276720" y="2133720"/>
            <a:chExt cx="1904760" cy="3113640"/>
          </a:xfrm>
        </p:grpSpPr>
        <p:sp>
          <p:nvSpPr>
            <p:cNvPr id="89" name="Oval 6"/>
            <p:cNvSpPr/>
            <p:nvPr/>
          </p:nvSpPr>
          <p:spPr>
            <a:xfrm>
              <a:off x="3276720" y="2133720"/>
              <a:ext cx="1904760" cy="228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7"/>
            <p:cNvSpPr/>
            <p:nvPr/>
          </p:nvSpPr>
          <p:spPr>
            <a:xfrm>
              <a:off x="3962520" y="3962520"/>
              <a:ext cx="457200" cy="761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8"/>
            <p:cNvSpPr/>
            <p:nvPr/>
          </p:nvSpPr>
          <p:spPr>
            <a:xfrm rot="1948800">
              <a:off x="3580920" y="4190760"/>
              <a:ext cx="533520" cy="9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"/>
            <p:cNvSpPr/>
            <p:nvPr/>
          </p:nvSpPr>
          <p:spPr>
            <a:xfrm rot="19373400">
              <a:off x="4266720" y="4191120"/>
              <a:ext cx="533520" cy="9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WordArt 5"/>
          <p:cNvSpPr txBox="1"/>
          <p:nvPr/>
        </p:nvSpPr>
        <p:spPr>
          <a:xfrm>
            <a:off x="1905120" y="914400"/>
            <a:ext cx="5181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ТЕЛО-РАЗУМ-ДУША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10"/>
          <p:cNvSpPr txBox="1"/>
          <p:nvPr/>
        </p:nvSpPr>
        <p:spPr>
          <a:xfrm>
            <a:off x="2971800" y="1752480"/>
            <a:ext cx="2590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ЭМОЦИИ (душа)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95" name="WordArt 11"/>
          <p:cNvSpPr txBox="1"/>
          <p:nvPr/>
        </p:nvSpPr>
        <p:spPr>
          <a:xfrm>
            <a:off x="2057400" y="5029200"/>
            <a:ext cx="1371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РАЗУМ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96" name="WordArt 12"/>
          <p:cNvSpPr txBox="1"/>
          <p:nvPr/>
        </p:nvSpPr>
        <p:spPr>
          <a:xfrm>
            <a:off x="4952880" y="4952880"/>
            <a:ext cx="12193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ТЕЛО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16"/>
          <p:cNvSpPr txBox="1"/>
          <p:nvPr/>
        </p:nvSpPr>
        <p:spPr>
          <a:xfrm>
            <a:off x="2057400" y="457200"/>
            <a:ext cx="4952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НАРУШЕНИЕ БАЛАНСА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WordArt 5"/>
          <p:cNvSpPr txBox="1"/>
          <p:nvPr/>
        </p:nvSpPr>
        <p:spPr>
          <a:xfrm>
            <a:off x="1676520" y="685800"/>
            <a:ext cx="5790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ХЕМА "Я-СООБЩЕНИЯ"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600200" y="1905120"/>
            <a:ext cx="5562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Я (МНЕ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600200" y="2895480"/>
            <a:ext cx="5562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ПРИЧИНЫ ВОЗНИКНОВЕНИЯ РЕАКЦИИ ВЗРОСЛ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600200" y="3886200"/>
            <a:ext cx="5562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БЕЗОЦЕНОЧНАЯ ХАРАКТЕРИСТИКА ПОВЕ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РЕБЁНКА В БЕЗЛИЧНОЙ ФО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1600200" y="4876920"/>
            <a:ext cx="5562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ВОЗМОЖНЫЕ ПОСЛЕДСТВИЯ, ЕСЛИ РЕБЁН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НЕ ИЗМЕНИТ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43434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images"/>
          <p:cNvPicPr/>
          <p:nvPr/>
        </p:nvPicPr>
        <p:blipFill>
          <a:blip r:embed="rId1"/>
          <a:stretch/>
        </p:blipFill>
        <p:spPr>
          <a:xfrm>
            <a:off x="1447920" y="2286000"/>
            <a:ext cx="6400800" cy="4402080"/>
          </a:xfrm>
          <a:prstGeom prst="rect">
            <a:avLst/>
          </a:prstGeom>
          <a:ln w="0">
            <a:noFill/>
          </a:ln>
        </p:spPr>
      </p:pic>
      <p:sp>
        <p:nvSpPr>
          <p:cNvPr id="108" name="WordArt 8"/>
          <p:cNvSpPr txBox="1"/>
          <p:nvPr/>
        </p:nvSpPr>
        <p:spPr>
          <a:xfrm>
            <a:off x="2133720" y="533520"/>
            <a:ext cx="51051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УСТЬ ДЕТИ 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ДАРЯТ ВЗРОСЛЫМ 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ТОЛЬКО УЛЫБКИ!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ФОРМЫ ЖЕСТОКОГО ОБРАЩ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295280" y="3352680"/>
            <a:ext cx="2133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ФИЗ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486400" y="3352680"/>
            <a:ext cx="2133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ЕКСУ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666880" y="1600200"/>
            <a:ext cx="350532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ЕНЕБРЕЖЕНИЕ</a:t>
            </a:r>
            <a:br>
              <a:rPr sz="1800"/>
            </a:b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НОВНЫМИ НУЖ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048120" y="4495680"/>
            <a:ext cx="2743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СИХ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981080" y="304920"/>
            <a:ext cx="5410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СИХОЛОГИЧЕСКОЕ </a:t>
            </a:r>
            <a:endParaRPr b="1" lang="en-US" sz="14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НАСИЛИЕ </a:t>
            </a:r>
            <a:endParaRPr b="1" lang="en-US" sz="14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85800" y="1446840"/>
            <a:ext cx="5105520" cy="280764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Это последовательная неспособность родителя или лица, осуществляющего уход, обеспечить ребенку необходимую поддержку, внимание и привяза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Психологическое жестокое обращение - хронические паттерны поведения, такие, как унижение, оскорбление, издевательства и высмеивание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-Child_Abuse_198x300_579635620"/>
          <p:cNvPicPr/>
          <p:nvPr/>
        </p:nvPicPr>
        <p:blipFill>
          <a:blip r:embed="rId2"/>
          <a:stretch/>
        </p:blipFill>
        <p:spPr>
          <a:xfrm>
            <a:off x="6095880" y="2286000"/>
            <a:ext cx="2365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685800" y="6404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Формы психологического насил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09480" y="1354320"/>
            <a:ext cx="7925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Times New Roman"/>
              </a:rPr>
              <a:t>Отвержение </a:t>
            </a: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— вербальные и невербальные действия, демонстриру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неприятие ребенка, принижающие его достоинств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враждебное отношение к ребенку, умаление его ценности, унижение,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том числе публично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высмеивание ребенка за проявление естественных эмоций (любв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горя, печали и т.п.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превращение ребенка в «козла отпущения», постоянная критика в 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адрес, частые наказания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609480" y="3509280"/>
            <a:ext cx="8229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Times New Roman"/>
              </a:rPr>
              <a:t>Терроризирование </a:t>
            </a: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— угроза убить ребенка, причинить ему физиче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вред, поместить в опасное или страшное мест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помещение ребенка в непредсказуемые или хаотичные обстоятельст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оставление его в опасной ситу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нереалистичные ожидания от ребенка, постановка перед н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сверхсложных задач с угрозой наказать за невыполн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угроза совершения насилия над самим ребенк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угроза совершения насилия над тем, кого ребенок любит (включ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домашних животны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1086120" y="1297800"/>
            <a:ext cx="6977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Times New Roman"/>
              </a:rPr>
              <a:t>Изоляция </a:t>
            </a: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— последовательные действия, направленные на лишение реб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возможности встречаться и общаться со сверстниками или взрослыми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дома, так и вне ег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необоснованное ограничение свободного передвижения ребен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необоснованное ограничение или запрещение социальных конта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ребенка со сверстниками или взрослыми в его сре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008000" y="2976840"/>
            <a:ext cx="6799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Times New Roman"/>
              </a:rPr>
              <a:t>Эксплуатация/развращение</a:t>
            </a: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 — такие действия по отношению к ребенк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которые являются причиной развития у него дезадаптивного по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(саморазрушающего, антисоциального, криминального, девиантного и др.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побуждение к антисоциальному поведению: занятию проституци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порнографией; преступной деятельности; употреблению наркот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жестокости по отношению к други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формирование поведения, не соответствующего уровню 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ребенка (инфантилизм, вынужденное принятие на себя роли родителя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воспрепятствование естественному развитию ребенка; разлу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ребенка с близкими: лишение ребенка права иметь свои взгля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чувства, жел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914400" y="2139840"/>
            <a:ext cx="3733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Times New Roman"/>
              </a:rPr>
              <a:t>Игнорирование </a:t>
            </a: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— отсутствие эмоционального отклика на нужды ребен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его попытки к взаимодействию, лишение его эмоциональной стимуля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нежелание или неспособность взрослого взаимодействовать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ребенк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взаимодействие с ребенком только в случае крайней необходим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отсутствие проявлений привязанности к ребенку, любви, з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jestokoe_obraschenie"/>
          <p:cNvPicPr/>
          <p:nvPr/>
        </p:nvPicPr>
        <p:blipFill>
          <a:blip r:embed="rId2"/>
          <a:stretch/>
        </p:blipFill>
        <p:spPr>
          <a:xfrm>
            <a:off x="5562720" y="1828800"/>
            <a:ext cx="24238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постоянно печальный вид, длительно сохраняющееся подавленное состояние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беспокойство, тревожность, нарушение сна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агрессивность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склонность к уединению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неумение общаться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нервный тик, энурез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вредные привычки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задержка умственного развития, плохая успеваемость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различные соматические заболевания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проблемы с едой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излишняя уступчивость или осторожность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низкая самооценка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антиобщественное поведение вплоть до вандализма.</a:t>
            </a: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114300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РИЗНАКИ РЕЧЕВОГО И </a:t>
            </a:r>
            <a:endParaRPr b="1" lang="en-US" sz="16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СИХИЧЕСКОГО НАСИЛИЯ</a:t>
            </a:r>
            <a:endParaRPr b="1" lang="en-US" sz="16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pic>
        <p:nvPicPr>
          <p:cNvPr id="67" name="Picture 8" descr="1"/>
          <p:cNvPicPr/>
          <p:nvPr/>
        </p:nvPicPr>
        <p:blipFill>
          <a:blip r:embed="rId2"/>
          <a:stretch/>
        </p:blipFill>
        <p:spPr>
          <a:xfrm>
            <a:off x="6858000" y="4267080"/>
            <a:ext cx="1671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>
            <a:off x="1523880" y="685800"/>
            <a:ext cx="6019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РИЧИНЫ НАСИЛИЯ</a:t>
            </a:r>
            <a:endParaRPr b="1" lang="en-US" sz="20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1523880" y="2133720"/>
            <a:ext cx="2362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ЕМЕЙ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105520" y="2209680"/>
            <a:ext cx="23619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2971800" y="1295280"/>
            <a:ext cx="31240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609480" y="2971800"/>
            <a:ext cx="78487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1. Механическое перенесение в сегодняшний д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едагогических систем воспитания, традицио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ля Советского Союза. Педагогика того времени основыва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 «стирании» индивидуальности ребёнка, отличала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авторитариз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2. Психологическая неустойчивость педаг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едостаточный уровень психологиче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3. Профессиональная несостоятельность. Неум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и нежелание педагога с уважением отнестись к личности ребёнка и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обле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РЕЧЕВОЕ НАСИЛИЕ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угрозы в адрес ребёнка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замечания высказанные в оскорбительной форме, унижающие достоинство ребёнка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принижение его успехов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постоянная критика в адрес ребёнка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подавление инициативы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обвинения в адрес ребёнка (брань, крики)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наказания за неправильный ответ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некорректное высказывание о внешнем виде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насильственное вызывание ребёнка давать ответы на вопросы воспитателя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привилегированное отношение к заискивающим детям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отказ в утешении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негативная характеристика ребёнка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перекладывание на воспитанника ответственности за свои неудачи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открытое признание нелюбви и ненависти к ребё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14-01-14T04:03:3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