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A1A-9B64-41F5-9D6D-82D4B0C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BB2-E56D-4D11-9BBC-5486124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7AE-C188-42B5-BEB0-1A5129D8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08C-D9AB-4306-BEE6-54292268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254-DF81-425C-B96E-C56C4BC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5B80-8C10-45C6-8A13-DF406AB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E85-1029-4731-867B-984AA6F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89B0-AF01-4FAB-BCB3-7036BF82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B68B-1FA9-4FF0-912D-445F66A7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30A4-A16F-41BC-A32C-6934D4F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310-233E-4E4B-9ECD-E4A24EE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CB6-3C07-48FA-8401-B021AD0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0A8C-CA81-416E-9B39-4E81B30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025-D8EA-4127-B58E-EE70A89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9D30-166F-4F32-AEF2-723191A1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6A3-93AB-4C01-B876-B7AFF950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6208-4CD3-4DFF-90EB-2C6B4872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386-C973-4A04-9896-F3FB6381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D42-151A-4D0C-B510-E62CDEC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464-04FD-4252-BFFE-B8EF533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C39-52BE-4288-8D69-72C8C945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5FF-F74F-4DB3-A351-575E6D6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DB4-A21A-4FFC-8617-4DB9501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3D7-45D6-42B0-B775-3AD34DD0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6DB-7CFD-4A05-B572-AF07A99ACC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069-6095-4565-AB3F-3503D313C2E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zip/pedagogika/Igrovye-tekhnologii-v-nachalnoj-shkole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Применение игровых технологий на этапе закрепления новых знаний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Шелехова Екатерина Витальевна –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читель начальных классов МБОУ «Коневская СОШ»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687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ая литерату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nsportal.ru/nachalnaya-shkola/obshchepedagogicheskie-tekhnologii/2012/10/14/novye-pedagogicheskie-tekhnologi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www.prodlenka.org/metodicheskie-razrabotki/nachalnaja-shkola/integrirovannye-uroki/106402-ispolzovanie-igrovyh-tehnologij-v-nachalnoj-s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videouroki.net/filecom.php?fileid=9869257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900igr.net/zip/pedagogika/Igrovye-tekhnologii-v-nachalnoj-shkole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festival.1september.ru/articles/590324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611280" y="2349360"/>
            <a:ext cx="2808360" cy="1729080"/>
          </a:xfrm>
          <a:prstGeom prst="cloudCallout">
            <a:avLst>
              <a:gd name="adj1" fmla="val -52430"/>
              <a:gd name="adj2" fmla="val 134481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468360" y="2637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егрузка однообразным учебным материал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Picture 5" descr="L33"/>
          <p:cNvPicPr/>
          <p:nvPr/>
        </p:nvPicPr>
        <p:blipFill>
          <a:blip r:embed="rId3"/>
          <a:stretch/>
        </p:blipFill>
        <p:spPr>
          <a:xfrm>
            <a:off x="6934320" y="40464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 flipV="1" rot="10800000">
            <a:off x="177840" y="549000"/>
            <a:ext cx="705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блема современной школы – потеря многими учащимися интереса к учению. Почему это происходит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чины такого негативного явления неоднозначны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995640" y="2133720"/>
            <a:ext cx="3600720" cy="2305080"/>
          </a:xfrm>
          <a:prstGeom prst="cloudCallout">
            <a:avLst>
              <a:gd name="adj1" fmla="val -120768"/>
              <a:gd name="adj2" fmla="val 116254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совершенство методов, приемов и форм организации учебного процесс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4932360" y="4581360"/>
            <a:ext cx="4032360" cy="1582920"/>
          </a:xfrm>
          <a:prstGeom prst="cloudCallout">
            <a:avLst>
              <a:gd name="adj1" fmla="val -132717"/>
              <a:gd name="adj2" fmla="val 49097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356000" y="227664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932360" y="501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граниченные возможности для творческого самопроявления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Picture 11" descr="преподавание2"/>
          <p:cNvPicPr/>
          <p:nvPr/>
        </p:nvPicPr>
        <p:blipFill>
          <a:blip r:embed="rId4"/>
          <a:stretch/>
        </p:blipFill>
        <p:spPr>
          <a:xfrm>
            <a:off x="971640" y="4221000"/>
            <a:ext cx="252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9" name="Голос-0003.wma" descr=""/>
          <p:cNvPicPr/>
          <p:nvPr/>
        </p:nvPicPr>
        <p:blipFill>
          <a:blip r:embed="rId5"/>
          <a:stretch/>
        </p:blipFill>
        <p:spPr>
          <a:xfrm>
            <a:off x="-828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6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7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гровая деятельность используется в следующих случаях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ачестве самостоятельных технологий для освоения понятия, темы и даже раздела учебного предмета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элемент более обширной технологии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ачестве урока (занятия) и его части (введения, объяснения, закрепления, упражнения, контроля)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технология внеклассной работы.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В.А. Сухомли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«Игра – это огромное светлое окно, через которое в духовный мир ребёнка вливается живительный поток представлений, понятий об окружающем мире. Игра – это искра, зажигающая огонёк пытливости и любознательности»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о характеру педагогического процесса бываю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бучающие, тренировочные, контролирующие, обобщающ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знавательные, воспитательные, развивающ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епродуктивные, продуктивные, творческ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коммуникативные, диагностические, профориентационные, психотехнические и другие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о характеру игровой методик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делятся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а предметные, сюжетные, ролевые, деловые, имитационные, игры – драматизации.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В структуру игры как деятельности личности входят этапы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целеполага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планирова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реализации цел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анализа результатов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Ценность игры в психолого-педагогическом контексте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Игра выполняет важнейшие функции - формирует УУД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Активизация и интенсификация учебного процесса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Учебно-познавательная направленность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Эффективность сочетания с любым учебным материал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гровая технология строится как целостное образование, охватывающее определенную часть учебного процесса и объединенное общим содержанием, сюжетом, персонажем. Составление игровых технологий из отдельных игр и элементов — забота каждого учителя начальной школы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«Новая сказк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текст всем знакомой сказки вставьте как можно больше терминов (новой информации), услышанных сегодня во время работы нашей се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езентуйте получившийся результа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14:19:18Z</dcterms:created>
  <dc:creator>1</dc:creator>
  <dc:description/>
  <dc:language>en-US</dc:language>
  <cp:lastModifiedBy>1</cp:lastModifiedBy>
  <dcterms:modified xsi:type="dcterms:W3CDTF">2015-11-03T03:15:54Z</dcterms:modified>
  <cp:revision>7</cp:revision>
  <dc:subject/>
  <dc:title>Применение игровых технологий на этапе закрепления новых знаний</dc:title>
</cp:coreProperties>
</file>