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gif" ContentType="image/gi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197-298A-46BB-BBB4-D7AE6FFD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6F8-5434-4BD9-8E97-C67CAD0A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4FD-E8F1-4394-94D1-8A2C7749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EAE-FD6B-4D09-86D7-51260FF0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3E0B-8411-401B-B346-85D52B29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6683-3D26-4827-9E21-1C06D5C4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CAA1-5786-4EB7-9968-64C625C0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C6E9-D472-4CAE-86B5-657A4386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2979-1C0F-472C-9845-9C7781C8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1C46-5808-4D93-85A8-147D0E77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5C28-78F5-44E5-937C-82E33804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A3C-9595-4F8F-9539-7880C9E7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E863-DE41-43FA-8AFB-30DB2DA8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CF67-27BA-42E5-885E-121A04A9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1813-32EA-4D25-8F54-8EF64F22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315E-E2C3-41A4-B784-02030C66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A26D-F079-400B-951E-AAC6BDC0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690-E757-4917-B16B-53D66852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BA0-F6FF-4B3E-BA43-8E253800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D10-3B01-4531-B3BD-2FDC2F07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EF0-6147-4210-8D51-02E92343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342-B94D-4F73-AD54-1EA52D25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8FA-F57B-480B-9BDA-B5EC4CCC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8E1-33F7-4A4B-B3DF-5310E3F3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9AFC-5E21-4BC3-BA2C-8D22E4510DB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AA06-4F58-4FFC-8120-A7D04B997A6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zip/pedagogika/Igrovye-tekhnologii-v-nachalnoj-shkole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6193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Times New Roman"/>
              </a:rPr>
              <a:t>Применение игровых технологий на этапе закрепления новых знаний</a:t>
            </a:r>
            <a:endParaRPr b="1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Шелехова Екатерина Витальевна –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учитель начальных классов МБОУ «Коневская СОШ»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пасибо за внимание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1628640"/>
            <a:ext cx="46879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53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54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ьзуемая литератур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http://nsportal.ru/nachalnaya-shkola/obshchepedagogicheskie-tekhnologii/2012/10/14/novye-pedagogicheskie-tekhnologi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http://www.prodlenka.org/metodicheskie-razrabotki/nachalnaja-shkola/integrirovannye-uroki/106402-ispolzovanie-igrovyh-tehnologij-v-nachalnoj-s.htm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http://videouroki.net/filecom.php?fileid=9869257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http://900igr.net/zip/pedagogika/Igrovye-tekhnologii-v-nachalnoj-shkole.htm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http://festival.1september.ru/articles/590324/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611280" y="2349360"/>
            <a:ext cx="2808360" cy="1729080"/>
          </a:xfrm>
          <a:prstGeom prst="cloudCallout">
            <a:avLst>
              <a:gd name="adj1" fmla="val -52430"/>
              <a:gd name="adj2" fmla="val 134481"/>
            </a:avLst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468360" y="2637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егрузка однообразным учебным материал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2" name="Picture 5" descr="L33"/>
          <p:cNvPicPr/>
          <p:nvPr/>
        </p:nvPicPr>
        <p:blipFill>
          <a:blip r:embed="rId3"/>
          <a:stretch/>
        </p:blipFill>
        <p:spPr>
          <a:xfrm>
            <a:off x="6934320" y="404640"/>
            <a:ext cx="2209680" cy="22100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 flipV="1" rot="10800000">
            <a:off x="177840" y="549000"/>
            <a:ext cx="70596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блема современной школы – потеря многими учащимися интереса к учению. Почему это происходит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чины такого негативного явления неоднозначны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995640" y="2133720"/>
            <a:ext cx="3600720" cy="2305080"/>
          </a:xfrm>
          <a:prstGeom prst="cloudCallout">
            <a:avLst>
              <a:gd name="adj1" fmla="val -120768"/>
              <a:gd name="adj2" fmla="val 116254"/>
            </a:avLst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есовершенство методов, приемов и форм организации учебного процесса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4932360" y="4581360"/>
            <a:ext cx="4032360" cy="1582920"/>
          </a:xfrm>
          <a:prstGeom prst="cloudCallout">
            <a:avLst>
              <a:gd name="adj1" fmla="val -132717"/>
              <a:gd name="adj2" fmla="val 49097"/>
            </a:avLst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4356000" y="2276640"/>
            <a:ext cx="23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932360" y="5013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граниченные возможности для творческого самопроявления</a:t>
            </a:r>
            <a:r>
              <a:rPr b="1" i="1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8" name="Picture 11" descr="преподавание2"/>
          <p:cNvPicPr/>
          <p:nvPr/>
        </p:nvPicPr>
        <p:blipFill>
          <a:blip r:embed="rId4"/>
          <a:stretch/>
        </p:blipFill>
        <p:spPr>
          <a:xfrm>
            <a:off x="971640" y="4221000"/>
            <a:ext cx="2520720" cy="2160720"/>
          </a:xfrm>
          <a:prstGeom prst="rect">
            <a:avLst/>
          </a:prstGeom>
          <a:ln w="0">
            <a:noFill/>
          </a:ln>
        </p:spPr>
      </p:pic>
      <p:pic>
        <p:nvPicPr>
          <p:cNvPr id="179" name="Голос-0003.wma" descr=""/>
          <p:cNvPicPr/>
          <p:nvPr/>
        </p:nvPicPr>
        <p:blipFill>
          <a:blip r:embed="rId5"/>
          <a:stretch/>
        </p:blipFill>
        <p:spPr>
          <a:xfrm>
            <a:off x="-82872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6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7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Игровая деятельность используется в следующих случаях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 качестве самостоятельных технологий для освоения понятия, темы и даже раздела учебного предмета;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ак элемент более обширной технологии;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 качестве урока (занятия) и его части (введения, объяснения, закрепления, упражнения, контроля);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ак технология внеклассной работы.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Verdana"/>
              </a:rPr>
              <a:t>В.А. Сухомлинск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«Игра – это огромное светлое окно, через которое в духовный мир ребёнка вливается живительный поток представлений, понятий об окружающем мире. Игра – это искра, зажигающая огонёк пытливости и любознательности»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По характеру педагогического процесса бывают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обучающие, тренировочные, контролирующие, обобщающие; 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ознавательные, воспитательные, развивающие; 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епродуктивные, продуктивные, творческие; 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коммуникативные, диагностические, профориентационные, психотехнические и другие.</a:t>
            </a: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По характеру игровой методики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 делятся 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на предметные, сюжетные, ролевые, деловые, имитационные, игры – драматизации. 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В структуру игры как деятельности личности входят этапы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- целеполагани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- планировани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- реализации цел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- анализа результатов.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Ценность игры в психолого-педагогическом контексте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 Игра выполняет важнейшие функции - формирует УУД.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 Активизация и интенсификация учебного процесса.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. Учебно-познавательная направленность.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. Эффективность сочетания с любым учебным материал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гровая технология строится как целостное образование, охватывающее определенную часть учебного процесса и объединенное общим содержанием, сюжетом, персонажем. Составление игровых технологий из отдельных игр и элементов — забота каждого учителя начальной школы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«Новая сказка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 текст всем знакомой сказки вставьте как можно больше терминов (новой информации), услышанных сегодня во время работы нашей сек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езентуйте получившийся результа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2T14:19:18Z</dcterms:created>
  <dc:creator>1</dc:creator>
  <dc:description/>
  <dc:language>en-US</dc:language>
  <cp:lastModifiedBy>1</cp:lastModifiedBy>
  <dcterms:modified xsi:type="dcterms:W3CDTF">2015-11-03T03:15:54Z</dcterms:modified>
  <cp:revision>7</cp:revision>
  <dc:subject/>
  <dc:title>Применение игровых технологий на этапе закрепления новых знаний</dc:title>
</cp:coreProperties>
</file>