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3DCD-AF34-4B5E-91E1-ECB26B9F330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F80F-0D69-4BA6-A40F-8BF5FD220B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AFE-6AC3-4803-9147-6E468815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764-201F-40DB-AD2D-CCDE38EA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537-422F-46FE-B24C-BE95E776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D3B-D7F3-4B0F-812D-C72B25E2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44F3-EF50-424F-A7A6-1BCC6EF2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DDE4-E517-431F-8960-2C5A283D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272A-108A-4424-8FAB-4C9138F3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0DF9-C6F2-4690-8C26-F8196D8F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98CA-2907-4F21-BD9D-E232F475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86D9-D6C2-4F16-AD97-5225D6D6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6695-9C9A-4CDD-B3CC-ED7D002D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523-DB9A-429D-B695-CA750BBE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6046-B332-4183-860C-F51703D3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B09D-E37C-4F74-BFAB-CC045969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3596-D570-46F0-AC85-BA86AF1D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6FC7-9678-4F18-B272-0FEDBB29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4A60-AD2F-4DA5-B1B3-F644429F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F04DE-511A-4E8F-8D49-A3A0C090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19A7C-BEB0-4A73-A197-5A444E25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2116-A664-46E5-8742-E79820DE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AD64A-9CA5-4771-9872-6BC52561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8C311-E924-4C06-9739-C49CC70D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5B0-B23F-46CD-97F7-7D17A51F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E2317-BAAD-4A1D-A9B1-09C040AC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42F89-CA4A-44B3-A2B8-7783E612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85D8-4D30-44DC-8CAE-7D7922E3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593F-DFFC-4919-B424-5D192FA7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61C8-7454-4C86-AB6B-E476D4B8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548CB-BAEF-4726-AEF8-BBFDF3D1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0EFB-9628-44E7-A8E7-C2A64E18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38D61-0169-48B9-9BBF-197A78CF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68F4E-A2BA-48DF-99A1-AD7E9F01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88118-9157-4363-BCC9-278FA3FB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AA6-AE35-4E50-B095-5382EEC9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6E1F8-4A3D-4890-807D-61A991EA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47FAF-2CB1-4452-95B9-FEA2231D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8516B-1522-4549-8192-DF661179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EA807-00AC-4BE9-8EC9-F452FEB7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9695A-1784-43E9-A9E0-B8AC68E6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D6AE5-2CDB-4A37-B8FE-804E9D33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997CD-D97A-453D-B0A4-47AB1873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AD47E-E061-444C-8D4F-47CCCEBD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845DC-72E7-4C9A-A466-F2195CAC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40D74-DF51-48A4-8142-42471722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0FB-1250-4E5B-8D28-563860F0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6EA78-97CC-4256-B520-CBF26C3C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2FA1-8076-4A1A-AB6A-B262925D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F66E5-239B-4B3E-A48C-CA63817F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C7EA9-622A-42DA-AB0E-23F047F1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4EF10-084D-463C-AC6F-50B93CA6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B3D74-B80B-42AA-B0AC-E5264B86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A33D2-6569-4AB2-95C5-13FE1E57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C8002-477B-4D49-ABB0-8A11AE0E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191C9-395A-487D-9F85-014B30F4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68E5E-ABB1-4C33-BA88-D1FC6C16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EF1-DE74-41B5-A63B-DEC54075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C5847-DAB0-4B5E-AE2D-5BBACD76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1776D-AAD7-437A-AD15-FC213711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9FFA1-AE9A-4D1A-B3E1-9483B39B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E8B10-FF49-4C52-8824-92536DE5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7DEEA-B1CA-4E51-861D-A2423D88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9229A-2DDB-469E-8D68-BF91EEFB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E5F28-A341-4EF2-B791-176A5B39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2ACC4-A9EF-4A88-BFB0-0FB207F9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9343F-4820-4FC7-BAF2-39AE94E6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495C3-2A06-4479-898B-BB350862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520-9B98-4F2A-82B0-8E8B23F1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6A6DF-737C-440A-9D07-3E2DAB58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55318-ED46-4C11-BD52-D92124C8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0D79B-190C-49BB-B759-2707F580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16735-D6FC-425F-8B39-992612DB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5D0CA-1A10-4F3F-B457-37D028EA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23BE4-500C-41C2-9208-E3353D26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EFB88-45C2-4D54-A205-A74968E7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0357A-483D-442E-9989-19375955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95FF9-92BD-4FDA-887A-E1434443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E3BFD-8314-463C-AF9D-E5C75D48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DC0-E8B5-431E-B199-F345DF24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C2268-FD9A-4162-9B6C-90ECDC82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3B13F-DBF5-45B5-8897-CB150DBE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F63F3-A6E0-4706-AF24-32A44230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9209C-BE77-4E82-B030-C429C69E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EABEF-0558-4F35-A1FF-8AA62C38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0857-B6E8-48AC-A0BF-6100C787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0B61-6A13-426E-AFE1-CB3D2684A6E2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DDE5-8F76-4D68-A548-9027C3215150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6555-F6F1-4143-877C-E47B109A729D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FC65-B07C-4AA5-9612-0596CFF0EDA6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9A9C-1799-47F8-BD30-533FE4B18CE7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8A5B-4C16-477C-9C62-3C4C0B5ED7C2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B298-5889-4F78-98C0-0E2F410B0DDE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G:\АРКТИКА\aurora1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ого бюджетного общеобразовательного учреждения города Москвы "Школа № 2101 "Филёвский образовательный центр"Подразделение № 12 Детский сад № 2061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8000" y="1196640"/>
            <a:ext cx="456552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казы детей о  рисунках с  белым медведем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ая группа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драя Л.С.</a:t>
            </a:r>
            <a:br>
              <a:rPr sz="2000"/>
            </a:br>
            <a:r>
              <a:rPr b="1" lang="ru-RU" sz="1600" spc="-1" strike="noStrike">
                <a:solidFill>
                  <a:srgbClr val="ffffff"/>
                </a:solidFill>
                <a:latin typeface="Candara"/>
              </a:rPr>
              <a:t>Москва, 2016</a:t>
            </a:r>
            <a:br>
              <a:rPr sz="1600"/>
            </a:b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5" name="Picture 5" descr="C:\Users\1\Pictures\Рисунок1.jpg"/>
          <p:cNvPicPr/>
          <p:nvPr/>
        </p:nvPicPr>
        <p:blipFill>
          <a:blip r:embed="rId2"/>
          <a:stretch/>
        </p:blipFill>
        <p:spPr>
          <a:xfrm>
            <a:off x="5148360" y="2492280"/>
            <a:ext cx="3800520" cy="2849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1" descr="C:\Users\1\Pictures\Космос\арктика\Рисунок5.jpg"/>
          <p:cNvPicPr/>
          <p:nvPr/>
        </p:nvPicPr>
        <p:blipFill>
          <a:blip r:embed="rId3"/>
          <a:stretch/>
        </p:blipFill>
        <p:spPr>
          <a:xfrm>
            <a:off x="5168880" y="4719600"/>
            <a:ext cx="915840" cy="6094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2" descr="C:\Users\1\Pictures\Космос\арктика\Рисунок11.jpg"/>
          <p:cNvPicPr/>
          <p:nvPr/>
        </p:nvPicPr>
        <p:blipFill>
          <a:blip r:embed="rId4"/>
          <a:stretch/>
        </p:blipFill>
        <p:spPr>
          <a:xfrm>
            <a:off x="6642000" y="4732200"/>
            <a:ext cx="812880" cy="609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3" descr="C:\Users\1\Pictures\Космос\арктика\Рисунок12.jpg"/>
          <p:cNvPicPr/>
          <p:nvPr/>
        </p:nvPicPr>
        <p:blipFill>
          <a:blip r:embed="rId5"/>
          <a:stretch/>
        </p:blipFill>
        <p:spPr>
          <a:xfrm>
            <a:off x="8074080" y="4732200"/>
            <a:ext cx="874800" cy="596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C:\Users\1\Pictures\Космос\арктика\Рисунок16.jpg"/>
          <p:cNvPicPr/>
          <p:nvPr/>
        </p:nvPicPr>
        <p:blipFill>
          <a:blip r:embed="rId6"/>
          <a:stretch/>
        </p:blipFill>
        <p:spPr>
          <a:xfrm>
            <a:off x="6084720" y="4694400"/>
            <a:ext cx="3079800" cy="21571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Нижний колонтитул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3" descr="D:\2015-2016\Планирование\Для Нины Израилевны\3 гр\EPSN72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Нижний колонтитул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2" descr="http://u.5klass.net:10/datas/okruzhajuschij-mir/Okhrana-zhivotnykh-3-klass/0017-017-Izdavna-ljudi-okhotjatsja-na-belykh-medvedej.jpg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Нижний колонтитул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Мудрой Л.С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2" descr="EPSN7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0456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ЯРОСЛАВ К нам в группу принесли картину, которую нарисовали Викина мама и бабушка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АРИНА На картине изображена белая медведица и 2 белых медвежонка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ЛЕНА  У медведей овальное тело, длинные ножки, хвостик, ушки, глазки, ротик и носик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КАТЯ Медведь весь белый, только черные у него глазки, носик и коготочк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ЛЕНА Медведи ходят по белому снегу их можно и не заметить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ВИКА Когда идут охотники они прячутся в комок и их не видно. Медведица смотрит на северное сияние а 2 медвежонка на воду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ЛЕНА Они смотрят на воду, потому, что там отражается северное сияние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ЯРОСЛАВ А может и на рыбки и медведи могут их поймать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ЮЛЯ ЮСУПОВА На небе северное сияние и оно так ярко светит, что медведица на него засмотрелась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ЛЕНА В северном сиянии есть фиолетовый, синий, зеленый голубой и розовый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АРИНА А еще чуть-чуть салатовый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ЛЕНА Это дружная семья медведей, потому, что они ходят вместе. Малыши с мамой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ВСЕ Всем нам нравиться картина про белых медведей, которую нарисовали Викины мама и бабушка.</a:t>
            </a:r>
            <a:r>
              <a:rPr b="0" i="1" lang="ru-RU" sz="1600" spc="-1" strike="noStrike">
                <a:solidFill>
                  <a:srgbClr val="6600cc"/>
                </a:solidFill>
                <a:latin typeface="Candara"/>
              </a:rPr>
              <a:t>                                                                                                                 </a:t>
            </a:r>
            <a:r>
              <a:rPr b="0" i="1" lang="ru-RU" sz="2000" spc="-1" strike="noStrike">
                <a:solidFill>
                  <a:srgbClr val="6600cc"/>
                </a:solidFill>
                <a:latin typeface="Candara"/>
              </a:rPr>
              <a:t>Белый медведь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Рассказ по картине «Белый медведь»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51920" y="1569600"/>
            <a:ext cx="4800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Меня зовут Юля Дворцова. Медведь идет за рыбкой, что бы её скушать. Он поднял лапу от нетерпения, потому, что он уже близко. У медвежонка есть папа, мама и две сестрички, они живут дружно. Он в семье самый старший, поэтому уже сам ходит на рыбалку помогать папе. Папа сегодня отдыхает дома, и мой Топтыжка сам пошел на рыбалку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Нижний колонтитул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резентация Мудрой Л.Х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Юля Дворцов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5" name="Picture 2" descr="EPSN7070"/>
          <p:cNvPicPr/>
          <p:nvPr/>
        </p:nvPicPr>
        <p:blipFill>
          <a:blip r:embed="rId1"/>
          <a:stretch/>
        </p:blipFill>
        <p:spPr>
          <a:xfrm>
            <a:off x="4724280" y="2819520"/>
            <a:ext cx="419112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удрая лора</dc:creator>
  <dc:description/>
  <dc:language>en-US</dc:language>
  <cp:lastModifiedBy>1</cp:lastModifiedBy>
  <dcterms:modified xsi:type="dcterms:W3CDTF">2017-02-06T06:24:03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