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2C69A-AAED-42F5-BF48-25F9B425C530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6822B-0C18-468E-935E-0FA712BDBBF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D0458-3E0B-486D-AA4E-4F312B31D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8F9C5-3943-462F-8F1C-833C4FADC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64D67-2AA0-4739-84CB-8B4203986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DAEC9-EBAA-4246-B580-31F1CF9E5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B665B-E9FC-493A-BD6C-781E3CD7F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C95B4-6F98-46C0-9519-7DEF13927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07F8D-BE14-4757-8A70-626AED37C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E69EF-E62B-42EF-B7B7-F617F0E7A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1F590-5870-4DDF-8C98-CC5DCC94C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E5663-8FBA-4425-9335-6E2D28AF9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CC5EA-1FEA-4331-89F8-D2E6A6871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22298-021E-4A02-9A56-5193CD956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BD7F2-3F04-4462-BD06-CF044A3F1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F9536-D10F-4F89-8957-F06F092D7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40E59-FD62-439A-AFBD-B1B130264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AE782-E5FD-4EE7-B1C4-9BF42F208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46E8C-3D08-47AF-AD8E-DAC42C377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73D19B-2859-418D-978E-77934428A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732CBB-946E-460F-831C-656A46351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8C51A2-82FC-46B4-AA97-80AC5BBFA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49068F-DCB0-42F6-A553-1AB69C389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E170E4-5EFC-42FB-AB2E-4F0EC4F33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86FC9-2DFC-4723-A4AF-889BA4BD5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A8A45E-025A-4FFB-920B-64C88FD55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3D4B75-F97D-42E4-B31E-87309F2DA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2D34EA-23BB-401C-8CFF-96A91C2EC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886F4A-E3A7-422E-A5EF-2CDAF1158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63A8B2-BDA4-4F19-A1A7-2DDA2D437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A69D1D-B2D8-4F5F-B52B-2465CDD0C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D513BB-C712-472B-9B0D-17B62C797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CF69E6-6B16-491F-947E-F97C1BD66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FA5FAE-40AC-43F0-AF73-4D17B6718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3D7EB3-3C27-428F-8BDB-C46BF8F6D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5B220-2C31-408A-ADCE-0FA815A29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8FC279-6A5D-4E1B-BC8B-7B792A280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F136A3-DB90-46E3-A82A-F099839D6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F95555-7133-4894-A62C-CCE7A535A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A38E3E-FB92-4106-85FA-1AA9E6312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411B5F-A54D-4B42-8FA6-AEF3D88DD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D9B558-FA18-4999-AFCC-EED45D8F8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853383-0AD6-4803-853A-264674F0B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E8EE29-89D8-4E6D-B35C-D72E8801A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8D0925-DE21-4232-8D35-3CA6608A9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4F102C-B0EE-456A-9ECC-56DD069D0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69AA5-AE3B-4DF0-8352-FD33865CE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F66D8C-A9F0-4786-995A-1EC1D3EEC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45A210-4ACA-4F61-B366-FD029C5E7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34AB8A-2BFD-4F8E-80A9-3B019E4FA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089442-6038-48C8-9188-943BFD42B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1F4B4C-EA07-44E9-83E8-D369CE931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3C5AD8-1459-495F-9721-7AB7EAA10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DA0E68-2EA6-4535-BE1D-5894EA597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E6F1A6-0C70-4318-BE30-8E76720BF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5FABEE-EC3D-4DCF-8A54-2E63BB0D7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B3A5B2-3AFA-4440-9A48-CB10E0578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301B8-0CB4-42C0-9260-4222BD11F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72EBD0-6264-497E-80D4-6D3C666F0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31A450-F04A-411F-B29D-CAA13BE69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D0A825-593A-479F-B8F7-02A9BE961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BBB569-D578-4A5F-A2DB-D1BFBA2DE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119777-AC03-46C8-911A-E347FF541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EB32D8-0670-4FEC-A325-A9FD8DD39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D7FE49-4CA6-48E0-8DEA-823E0ACF0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5DDE5E-73F7-490C-915C-F2070161E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8B256F-6255-4572-BBD5-A437F628A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25DE11-20D0-47B8-989D-BC6D23F8B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E0261-1FF3-4D5A-A950-D24955623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605002-2ED8-4023-900A-C11CE85FF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3E9C21-B35B-4C5C-A98B-A45197B99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0D70DF-3D47-4D57-B58B-2A918C5A5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4F7AD4-CB56-442F-9C33-87AA5E1AB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213C2E-ADD2-4F4F-86EC-42F4F588C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C44314-7548-4FEF-826C-5A918B370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3D99E6-B2B7-486B-8022-F72DA6566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896F73-0A58-4236-818F-1F0BD4431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3817C4-2EA9-4D51-8D8E-A227415F1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046E78-57B6-419D-A85F-965933190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3B2AE-B7FC-4618-9C20-A6F62016F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82C91D-C5B9-4CD9-9C33-46A83B4A5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AF8590-E4CF-4EAD-80E0-966B018BC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904758-6647-4D76-A12E-0FC0A19C1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80829A-CB29-4B12-9838-C5AEC837B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DB0B6F-45F6-4873-9F39-9F6541B0A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39033-90E8-4639-90E8-674F31212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Verdana"/>
              </a:rPr>
              <a:t>Презентация Нечаевой О.П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C0E8B-43BB-40AE-871A-ACBF2C5ADC8E}" type="slidenum">
              <a:rPr b="0" lang="ru-RU" sz="1000" spc="-1" strike="noStrike">
                <a:solidFill>
                  <a:srgbClr val="073e87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Verdana"/>
              </a:rPr>
              <a:t>Презентация Нечаевой О.П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A449B-D84A-4831-BD6A-E01A5C430F83}" type="slidenum">
              <a:rPr b="0" lang="ru-RU" sz="1000" spc="-1" strike="noStrike">
                <a:solidFill>
                  <a:srgbClr val="073e87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Verdana"/>
              </a:rPr>
              <a:t>Презентация Нечаевой О.П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0067F-F28F-4890-BD42-5AEE3453020C}" type="slidenum">
              <a:rPr b="0" lang="ru-RU" sz="1000" spc="-1" strike="noStrike">
                <a:solidFill>
                  <a:srgbClr val="073e87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Verdana"/>
              </a:rPr>
              <a:t>Презентация Нечаевой О.П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042B6-2696-4BBA-BF85-777CF5B401D2}" type="slidenum">
              <a:rPr b="0" lang="ru-RU" sz="1000" spc="-1" strike="noStrike">
                <a:solidFill>
                  <a:srgbClr val="073e87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Verdana"/>
              </a:rPr>
              <a:t>Презентация Нечаевой О.П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734A7-D4C3-4541-8528-158BBE141BFF}" type="slidenum">
              <a:rPr b="0" lang="ru-RU" sz="1000" spc="-1" strike="noStrike">
                <a:solidFill>
                  <a:srgbClr val="073e87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Verdana"/>
              </a:rPr>
              <a:t>Презентация Нечаевой О.П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4BD5A-7C77-4284-82FB-55F664F7A89F}" type="slidenum">
              <a:rPr b="0" lang="ru-RU" sz="1000" spc="-1" strike="noStrike">
                <a:solidFill>
                  <a:srgbClr val="073e87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Verdana"/>
              </a:rPr>
              <a:t>Презентация Нечаевой О.П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33053-A8F4-4910-8C2C-086A3F36AEAE}" type="slidenum">
              <a:rPr b="0" lang="ru-RU" sz="1000" spc="-1" strike="noStrike">
                <a:solidFill>
                  <a:srgbClr val="073e87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Picture 4" descr="G:\АРКТИКА\aurora13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18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осударственного бюджетного общеобразовательного учреждения города Москвы "Школа № 2101 "Филёвский образовательный центр"Подразделение № 12 Детский сад № 2061</a:t>
            </a:r>
            <a:endParaRPr b="0" lang="en-US" sz="2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108000" y="1196640"/>
            <a:ext cx="4565520" cy="512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4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ctr">
              <a:spcBef>
                <a:spcPts val="4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ctr">
              <a:spcBef>
                <a:spcPts val="4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ctr"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ссказы детей о  рисунках с  белым медведем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аршая группа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удрая Л.С.</a:t>
            </a:r>
            <a:br>
              <a:rPr sz="2000"/>
            </a:br>
            <a:r>
              <a:rPr b="1" lang="ru-RU" sz="1600" spc="-1" strike="noStrike">
                <a:solidFill>
                  <a:srgbClr val="ffffff"/>
                </a:solidFill>
                <a:latin typeface="Candara"/>
              </a:rPr>
              <a:t>Москва, 2016</a:t>
            </a:r>
            <a:br>
              <a:rPr sz="1600"/>
            </a:b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345" name="Picture 5" descr="C:\Users\1\Pictures\Рисунок1.jpg"/>
          <p:cNvPicPr/>
          <p:nvPr/>
        </p:nvPicPr>
        <p:blipFill>
          <a:blip r:embed="rId2"/>
          <a:stretch/>
        </p:blipFill>
        <p:spPr>
          <a:xfrm>
            <a:off x="5148360" y="2492280"/>
            <a:ext cx="3800520" cy="284976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11" descr="C:\Users\1\Pictures\Космос\арктика\Рисунок5.jpg"/>
          <p:cNvPicPr/>
          <p:nvPr/>
        </p:nvPicPr>
        <p:blipFill>
          <a:blip r:embed="rId3"/>
          <a:stretch/>
        </p:blipFill>
        <p:spPr>
          <a:xfrm>
            <a:off x="5168880" y="4719600"/>
            <a:ext cx="915840" cy="60948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12" descr="C:\Users\1\Pictures\Космос\арктика\Рисунок11.jpg"/>
          <p:cNvPicPr/>
          <p:nvPr/>
        </p:nvPicPr>
        <p:blipFill>
          <a:blip r:embed="rId4"/>
          <a:stretch/>
        </p:blipFill>
        <p:spPr>
          <a:xfrm>
            <a:off x="6642000" y="4732200"/>
            <a:ext cx="812880" cy="60984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13" descr="C:\Users\1\Pictures\Космос\арктика\Рисунок12.jpg"/>
          <p:cNvPicPr/>
          <p:nvPr/>
        </p:nvPicPr>
        <p:blipFill>
          <a:blip r:embed="rId5"/>
          <a:stretch/>
        </p:blipFill>
        <p:spPr>
          <a:xfrm>
            <a:off x="8074080" y="4732200"/>
            <a:ext cx="874800" cy="59688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4" descr="C:\Users\1\Pictures\Космос\арктика\Рисунок16.jpg"/>
          <p:cNvPicPr/>
          <p:nvPr/>
        </p:nvPicPr>
        <p:blipFill>
          <a:blip r:embed="rId6"/>
          <a:stretch/>
        </p:blipFill>
        <p:spPr>
          <a:xfrm>
            <a:off x="6084720" y="4694400"/>
            <a:ext cx="3079800" cy="215712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Нижний колонтитул 3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Verdana"/>
              </a:rPr>
              <a:t>Презентация Нечаевой О.П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1" name="Picture 3" descr="D:\2015-2016\Планирование\Для Нины Израилевны\3 гр\EPSN725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3" name="Нижний колонтитул 3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Verdana"/>
              </a:rPr>
              <a:t>Презентация Нечаевой О.П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55" name="Picture 2" descr="http://u.5klass.net:10/datas/okruzhajuschij-mir/Okhrana-zhivotnykh-3-klass/0017-017-Izdavna-ljudi-okhotjatsja-na-belykh-medvedej.jpg"/>
          <p:cNvPicPr/>
          <p:nvPr/>
        </p:nvPicPr>
        <p:blipFill>
          <a:blip r:embed="rId1"/>
          <a:stretch/>
        </p:blipFill>
        <p:spPr>
          <a:xfrm>
            <a:off x="0" y="-7632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7" name="Нижний колонтитул 3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Verdana"/>
              </a:rPr>
              <a:t>Презентация Мудрой Л.С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59" name="Picture 2" descr="EPSN703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 txBox="1"/>
          <p:nvPr/>
        </p:nvSpPr>
        <p:spPr>
          <a:xfrm>
            <a:off x="304560" y="144756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spcBef>
                <a:spcPts val="4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73e87"/>
                </a:solidFill>
                <a:latin typeface="Candara"/>
              </a:rPr>
              <a:t>ЯРОСЛАВ К нам в группу принесли картину, которую нарисовали Викина мама и бабушка.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253440" indent="-253440">
              <a:spcBef>
                <a:spcPts val="4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73e87"/>
                </a:solidFill>
                <a:latin typeface="Candara"/>
              </a:rPr>
              <a:t>АРИНА На картине изображена белая медведица и 2 белых медвежонка.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253440" indent="-253440">
              <a:spcBef>
                <a:spcPts val="4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73e87"/>
                </a:solidFill>
                <a:latin typeface="Candara"/>
              </a:rPr>
              <a:t>ЛЕНА  У медведей овальное тело, длинные ножки, хвостик, ушки, глазки, ротик и носик.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253440" indent="-253440">
              <a:spcBef>
                <a:spcPts val="4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73e87"/>
                </a:solidFill>
                <a:latin typeface="Candara"/>
              </a:rPr>
              <a:t>КАТЯ Медведь весь белый, только черные у него глазки, носик и коготочки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253440" indent="-253440">
              <a:spcBef>
                <a:spcPts val="4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73e87"/>
                </a:solidFill>
                <a:latin typeface="Candara"/>
              </a:rPr>
              <a:t>ЛЕНА Медведи ходят по белому снегу их можно и не заметить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253440" indent="-253440">
              <a:spcBef>
                <a:spcPts val="4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73e87"/>
                </a:solidFill>
                <a:latin typeface="Candara"/>
              </a:rPr>
              <a:t>ВИКА Когда идут охотники они прячутся в комок и их не видно. Медведица смотрит на северное сияние а 2 медвежонка на воду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253440" indent="-253440">
              <a:spcBef>
                <a:spcPts val="4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73e87"/>
                </a:solidFill>
                <a:latin typeface="Candara"/>
              </a:rPr>
              <a:t>ЛЕНА Они смотрят на воду, потому, что там отражается северное сияние.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253440" indent="-253440">
              <a:spcBef>
                <a:spcPts val="4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73e87"/>
                </a:solidFill>
                <a:latin typeface="Candara"/>
              </a:rPr>
              <a:t>ЯРОСЛАВ А может и на рыбки и медведи могут их поймать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253440" indent="-253440">
              <a:spcBef>
                <a:spcPts val="4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73e87"/>
                </a:solidFill>
                <a:latin typeface="Candara"/>
              </a:rPr>
              <a:t>ЮЛЯ ЮСУПОВА На небе северное сияние и оно так ярко светит, что медведица на него засмотрелась.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253440" indent="-253440">
              <a:spcBef>
                <a:spcPts val="4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73e87"/>
                </a:solidFill>
                <a:latin typeface="Candara"/>
              </a:rPr>
              <a:t>ЛЕНА В северном сиянии есть фиолетовый, синий, зеленый голубой и розовый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253440" indent="-253440">
              <a:spcBef>
                <a:spcPts val="4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73e87"/>
                </a:solidFill>
                <a:latin typeface="Candara"/>
              </a:rPr>
              <a:t>АРИНА А еще чуть-чуть салатовый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253440" indent="-253440">
              <a:spcBef>
                <a:spcPts val="4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73e87"/>
                </a:solidFill>
                <a:latin typeface="Candara"/>
              </a:rPr>
              <a:t>ЛЕНА Это дружная семья медведей, потому, что они ходят вместе. Малыши с мамой.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253440" indent="-253440"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73e87"/>
                </a:solidFill>
                <a:latin typeface="Candara"/>
              </a:rPr>
              <a:t>ВСЕ Всем нам нравиться картина про белых медведей, которую нарисовали Викины мама и бабушка.</a:t>
            </a:r>
            <a:r>
              <a:rPr b="0" i="1" lang="ru-RU" sz="1600" spc="-1" strike="noStrike">
                <a:solidFill>
                  <a:srgbClr val="6600cc"/>
                </a:solidFill>
                <a:latin typeface="Candara"/>
              </a:rPr>
              <a:t>                                                                                                                 </a:t>
            </a:r>
            <a:r>
              <a:rPr b="0" i="1" lang="ru-RU" sz="2000" spc="-1" strike="noStrike">
                <a:solidFill>
                  <a:srgbClr val="6600cc"/>
                </a:solidFill>
                <a:latin typeface="Candara"/>
              </a:rPr>
              <a:t>Белый медведь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53440" indent="-253440">
              <a:spcBef>
                <a:spcPts val="4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253440" indent="-253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 </a:t>
            </a:r>
            <a:br>
              <a:rPr sz="4400"/>
            </a:br>
            <a:r>
              <a:rPr b="0" lang="ru-RU" sz="3600" spc="-1" strike="noStrike">
                <a:solidFill>
                  <a:srgbClr val="ffffff"/>
                </a:solidFill>
                <a:latin typeface="Candara"/>
              </a:rPr>
              <a:t>Рассказ по картине «Белый медведь».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transition spd="med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 txBox="1"/>
          <p:nvPr/>
        </p:nvSpPr>
        <p:spPr>
          <a:xfrm>
            <a:off x="151920" y="1569600"/>
            <a:ext cx="4800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256320" indent="-256320"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73e87"/>
                </a:solidFill>
                <a:latin typeface="Candara"/>
              </a:rPr>
              <a:t>Меня зовут Юля Дворцова. Медведь идет за рыбкой, что бы её скушать. Он поднял лапу от нетерпения, потому, что он уже близко. У медвежонка есть папа, мама и две сестрички, они живут дружно. Он в семье самый старший, поэтому уже сам ходит на рыбалку помогать папе. Папа сегодня отдыхает дома, и мой Топтыжка сам пошел на рыбалку. 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256320" indent="-256320" algn="r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300" spc="-1" strike="noStrike">
                <a:solidFill>
                  <a:srgbClr val="6600cc"/>
                </a:solidFill>
                <a:latin typeface="Candara"/>
              </a:rPr>
              <a:t>        </a:t>
            </a:r>
            <a:endParaRPr b="0" lang="en-US" sz="33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3" name="Нижний колонтитул 5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Презентация Мудрой Л.Х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404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Юля Дворцова.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65" name="Picture 2" descr="EPSN7070"/>
          <p:cNvPicPr/>
          <p:nvPr/>
        </p:nvPicPr>
        <p:blipFill>
          <a:blip r:embed="rId1"/>
          <a:stretch/>
        </p:blipFill>
        <p:spPr>
          <a:xfrm>
            <a:off x="4724280" y="2819520"/>
            <a:ext cx="4191120" cy="31417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мудрая лора</dc:creator>
  <dc:description/>
  <dc:language>en-US</dc:language>
  <cp:lastModifiedBy>1</cp:lastModifiedBy>
  <dcterms:modified xsi:type="dcterms:W3CDTF">2017-02-06T06:24:03Z</dcterms:modified>
  <cp:revision>12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