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288B-8E87-432B-85FB-22FC79C52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9D54-B469-450A-B5E3-E5946F8F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89DE-ED62-41C2-8EBC-FFDE16688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ED64-79EE-42E5-927E-733F2CD53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D4D0-067F-4468-A5E9-333BCFC00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71655-3277-4F51-A398-FDCE65A6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4DC2-0895-42E2-9FEF-DD0C3BE5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8276-FACA-41ED-A0F6-BF10966E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A401A-37BE-40CA-9797-C87D1235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FDF6-7C39-471C-B648-7662E499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9FCD-04AC-4953-8CEC-CF89F5F4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28E0-17D2-4BC2-9D10-8B0F01D2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7045-D7D2-410D-A698-786EA1EA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3F62-4ABC-498C-A4B3-ED8C0883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CFF3-531F-477D-B40C-F5A4D301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4C12-F1B1-46D0-8F77-CBAF0F2A9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2FF8-1181-4A6F-9724-158023CC7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D0878-0D56-403E-97A7-138D910EC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502D9-222A-45D3-85AC-1D9090A3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F2107-B8A0-4B0C-AE63-D5155792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B570E-7C32-4EAF-BFB6-B72A376D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F4B04-2B85-4580-84D1-87B59729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AB8A-DF62-4D84-8F60-B71DDF6C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ED74D-8B67-4400-BA64-DD5F43E1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5FF83-0B40-40BF-9FFE-406E8615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EEAAC-0515-42C6-9126-84BC4AD5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B48AE-DC5A-4BDE-B1BB-D4616C91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F4FA6-5B63-45CC-B2A8-4314CF91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FAEE3-DCD5-47A4-9A3D-7044B32B5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27642-FB2A-466D-A022-A8D63A3B0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2CEFF-2EFF-48A7-843D-3B0B6CC4B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5A777-6D60-474C-B6C0-E4BF71FB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A628B-FEB3-4B3B-B589-964D0E32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B7CA-CDCC-49CC-8C43-D61006D0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BA364-2FBC-4188-9DA2-07BEFA9F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232E6-4176-4AC2-A5DD-66A8BDAB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7CFE7-2344-4004-87BE-3D7A49F2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77ED4-5CB9-4C07-84E9-133BB6F6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2F953-76D2-42CC-8BC6-3F38C17B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CC04C-8320-4E31-8754-9DFD441F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78C0B-EF8D-4992-8D69-2597A5FA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22189-0200-4192-AFB4-B94B79C29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4A31B-159F-4239-933E-87F2F8F6E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81FA7-1113-482C-B05C-6CE6954F7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0564-D7F4-4CBC-9E27-2C79AFF7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C8A31-9E81-495E-A933-D52FE829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2677B-EC89-4402-9555-D0B7469B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C470F-AA4E-4246-B6B6-3775FF3C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0A002-0BA5-4060-A345-2C296BE3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DC423-4F49-474D-ABD2-B526C586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EFEC6-8DE8-411E-9A64-C97AF3CC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D1319-82DA-4BB2-A2AF-99A0F50E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B2883-BD77-4786-8235-E054802F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24F1D-C6E4-47E0-A0E2-DBDA1BC8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4097D-FACC-4749-9E3F-3B17BBED4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F9B3-B137-43FF-B1DA-2E1881AF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7E0EA-16E9-4B27-939D-204EDD37A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F90B7-F567-46CB-BB03-7593B2E6B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6E29A-C83F-418B-ADE9-C3FA36D2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10489-7019-420A-83BF-E0F61078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AD66D-A9EA-467B-9B8D-23F107E0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4557D-3D92-40D0-84C1-8EC45CA4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83AFE-0455-4660-9725-DBB2D693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53D18-6BCF-405F-9082-6638D271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0C700-7FC1-4427-ADA7-358489BF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8DEBC-2568-48E6-A969-E57873AE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6B9B-B443-4F60-A3FB-BF766E09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D8BC1-E53F-4B33-98C1-728E16F1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A8DAB-F458-41E4-A649-10900B639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FF8A4-C1DD-4F4A-AD16-DAA561412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9F962-7E28-4940-BFFD-85A6591F6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E8729-9FE9-49D7-A4E8-F8EACA72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AD3BF-4E32-4850-9624-FDC7972D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FC70B-4C6F-4B62-957A-76EC372C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F3256-F0AA-4010-9629-82A8E77D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9B665-326D-4A10-8F4E-C817DE99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D8BE8-EC25-4055-9C06-1F572A38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F9F4-2DF9-480E-B7ED-0ACF02B3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2C1D0-BB5C-4F6E-9C16-DB77871E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0148E-85F7-4E18-962F-7DB62208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12C18-DDA8-44D7-A9CE-3EEA9643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9E20D-6584-4849-8FA4-C17DAC95C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0E545-5F6C-4B61-9DE3-BD70816D2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E61F-9A5C-41C7-9C82-12B1A313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Verdana"/>
              </a:rPr>
              <a:t>Презентация Нечаевой О.П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0A27-12B0-4A2A-94C2-C115BBD7BBB9}" type="slidenum">
              <a:rPr b="0" lang="ru-RU" sz="1000" spc="-1" strike="noStrike">
                <a:solidFill>
                  <a:srgbClr val="073e8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Verdana"/>
              </a:rPr>
              <a:t>Презентация Нечаевой О.П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B20C-263A-43DF-AA8E-E378733565A8}" type="slidenum">
              <a:rPr b="0" lang="ru-RU" sz="1000" spc="-1" strike="noStrike">
                <a:solidFill>
                  <a:srgbClr val="073e8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Verdana"/>
              </a:rPr>
              <a:t>Презентация Нечаевой О.П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B8DA-3B47-416E-BF2B-531533AA423E}" type="slidenum">
              <a:rPr b="0" lang="ru-RU" sz="1000" spc="-1" strike="noStrike">
                <a:solidFill>
                  <a:srgbClr val="073e8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Verdana"/>
              </a:rPr>
              <a:t>Презентация Нечаевой О.П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8987-AA24-4FE3-B087-6E3FCF585BAD}" type="slidenum">
              <a:rPr b="0" lang="ru-RU" sz="1000" spc="-1" strike="noStrike">
                <a:solidFill>
                  <a:srgbClr val="073e8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Verdana"/>
              </a:rPr>
              <a:t>Презентация Нечаевой О.П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94D6-4FF1-40E2-BC22-417199479F32}" type="slidenum">
              <a:rPr b="0" lang="ru-RU" sz="1000" spc="-1" strike="noStrike">
                <a:solidFill>
                  <a:srgbClr val="073e8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Verdana"/>
              </a:rPr>
              <a:t>Презентация Нечаевой О.П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2C54-D331-4A6C-A337-FCA69F1833E6}" type="slidenum">
              <a:rPr b="0" lang="ru-RU" sz="1000" spc="-1" strike="noStrike">
                <a:solidFill>
                  <a:srgbClr val="073e8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Verdana"/>
              </a:rPr>
              <a:t>Презентация Нечаевой О.П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47FF-2AA6-448F-B54D-12A1BACA3F14}" type="slidenum">
              <a:rPr b="0" lang="ru-RU" sz="1000" spc="-1" strike="noStrike">
                <a:solidFill>
                  <a:srgbClr val="073e8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51920" y="1294920"/>
            <a:ext cx="63248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Я нарисовала картину, где Лиса идет за Зайцем, что бы его съесть. Лиса будет прятаться, когда зайчик поскачет будет на него прыгать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АРИНА А почему у лисы большая шея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ЮЛЯ ДВОРЦОВА Что бы в кустах прятаться  и смотреть, где заяц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ЯРОСЛАВ     Почему такой пушистый хвост?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ЮЛЯ ДВОРЦОВА Что бы укрываться когда спит и укрывать Лисят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МИША Почему  кончик хвоста такой черный?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ЮЛЯ ДВОРЦОВА Потому что  у нее такая порода.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АНДРЕЙ ФРОЛОВ Зачем лиса вытянула когти?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ЮЛЯ ДВОРЦОВА Что бы схватить добычу и утащить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АНДРЕЙ ЧЕРНОБРОВКИН Почему лиса не может съесть зайца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ЮЛЯ ДВОРЦОВА Потому что она отнесет его лисятам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Юля Дворцова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7" name="Picture 3" descr="EPSN7061"/>
          <p:cNvPicPr/>
          <p:nvPr/>
        </p:nvPicPr>
        <p:blipFill>
          <a:blip r:embed="rId1"/>
          <a:stretch/>
        </p:blipFill>
        <p:spPr>
          <a:xfrm>
            <a:off x="6095880" y="2057400"/>
            <a:ext cx="2886120" cy="21686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" descr="EPSN7058"/>
          <p:cNvPicPr/>
          <p:nvPr/>
        </p:nvPicPr>
        <p:blipFill>
          <a:blip r:embed="rId2"/>
          <a:stretch/>
        </p:blipFill>
        <p:spPr>
          <a:xfrm>
            <a:off x="6126120" y="4495680"/>
            <a:ext cx="285588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152280" y="1569600"/>
            <a:ext cx="33530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У Зайчика праздник я дерево украсила красными лентам , не знаю кто получился за деревом, наверно человек.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КИРИЛЛ КРАСАВИН   облака похожи на кита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ДИЛАРА  похоже на оленя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ИЛЬЯ ХРЕНОВ  на черепаху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КСЮША на летающую тарелку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МАКСИМ как будто труба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 algn="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6600cc"/>
                </a:solidFill>
                <a:latin typeface="Candara"/>
              </a:rPr>
              <a:t>        </a:t>
            </a:r>
            <a:endParaRPr b="0" lang="en-US" sz="31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404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СОН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1" name="Picture 2" descr="EPSN7125"/>
          <p:cNvPicPr/>
          <p:nvPr/>
        </p:nvPicPr>
        <p:blipFill>
          <a:blip r:embed="rId1"/>
          <a:stretch/>
        </p:blipFill>
        <p:spPr>
          <a:xfrm>
            <a:off x="3809880" y="1684440"/>
            <a:ext cx="4892760" cy="36496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151920" y="1371600"/>
            <a:ext cx="4800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Меня зовут Катя, мне 5 лет. Мне нравиться, как рисуют художники анималисты, но сидеть в лесу мне родители не разрешают, это вообще запрещено, поэтому животных я рисую с картинок и фотографий. А еще мы с дядей иногда ходим в зоопарк. Еще мы с бабушкой ходим иногда в Филевский парк, там видели белок.  Белого медведя живьем не видела, но думаю, что он так выглядит.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ЯРОСЛАВ Почему он такой толстый?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КАТЯ   Он наел много жира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ЯРОСЛАВ зачем он его ел?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КАТЯ  Что бы ему было не холодно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 algn="r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cc"/>
                </a:solidFill>
                <a:latin typeface="Candara"/>
              </a:rPr>
              <a:t>     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Нижний колонтитул 5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Презентация Мудрой Л.Х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404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Кат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5" name="Picture 2" descr="EPSN7045"/>
          <p:cNvPicPr/>
          <p:nvPr/>
        </p:nvPicPr>
        <p:blipFill>
          <a:blip r:embed="rId1"/>
          <a:stretch/>
        </p:blipFill>
        <p:spPr>
          <a:xfrm>
            <a:off x="4724280" y="3124080"/>
            <a:ext cx="4238640" cy="3183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3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3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3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151920" y="685440"/>
            <a:ext cx="4800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Жил  был на свете медвежонок у него не было родителей. И пошел он искать родителей или друзей. И вот он встретил другого медвежонка, он сказал:  давай дружить.   А  тот был злой и нахальный   и сказал таким голосом, что бы тот не узнал, что он злой и нахальный и они подружились, но на самом деле он не был медвежонку другом и хотел его обидеть, и этот хороший медвежонок решил узнать ночью, что он шепчет.  И он услышал, как тот нашептывал своему плохому братику  у него вообще семья злая.  А утром он сказал  я знаю, что ты мне хочешь сделать, я вчера под ёлкой и тот плохой извинился и признался, что он плохой и семья у него плохая и просил прощения и сказал, что измениться и когда он изменился и вся его семья стала хорошей они стали настоящими друзьями.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 algn="r">
              <a:lnSpc>
                <a:spcPct val="6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6600cc"/>
                </a:solidFill>
                <a:latin typeface="Candara"/>
              </a:rPr>
              <a:t>        </a:t>
            </a:r>
            <a:endParaRPr b="0" lang="en-US" sz="31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Нижний колонтитул 5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Презентация Мудрой Л.Х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343040" y="15192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Марус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9" name="Picture 2" descr="EPSN7073"/>
          <p:cNvPicPr/>
          <p:nvPr/>
        </p:nvPicPr>
        <p:blipFill>
          <a:blip r:embed="rId1"/>
          <a:stretch/>
        </p:blipFill>
        <p:spPr>
          <a:xfrm>
            <a:off x="4906800" y="3581280"/>
            <a:ext cx="4026240" cy="3030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151920" y="1569600"/>
            <a:ext cx="4800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9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Меня зовут Ярослав, я хочу рассказать о картине Медведя. Картину написал не всем известный художник Ярослав Домбровский это я. На картине изображен медведь, который приготовился к прыжку. На соседнем айсберге орлы охотятся  на рыбу, а медведь притаился и хочет прыгнуть на двух лапах и поймать орла. Медведь знает, что орел может улететь, но когда он взлетит,  рыба упадет и медведю достанется рыба. И далеко есть домики полярников,  и они наблюдают за медвежьей охотой и они хотят или сфотографировать или нарисовать медведя с тем, кого он поймает.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9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Я мороженное ел и ничуть не заболел.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cc"/>
                </a:solidFill>
                <a:latin typeface="Candara"/>
              </a:rPr>
              <a:t>     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Нижний колонтитул 5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Презентация Мудрой Л.Х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404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Ярослав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3" name="Picture 2" descr="EPSN7053"/>
          <p:cNvPicPr/>
          <p:nvPr/>
        </p:nvPicPr>
        <p:blipFill>
          <a:blip r:embed="rId1"/>
          <a:stretch/>
        </p:blipFill>
        <p:spPr>
          <a:xfrm>
            <a:off x="4876920" y="2590920"/>
            <a:ext cx="420372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151920" y="1569600"/>
            <a:ext cx="4800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Меня зовут Арина, я нарисовала Зайца, Медведя и Лису. У Лисы пушистый хвост, у Зайца маленький, а у Медведя  хвост не вместился, потому. Что Медведь толстый и большой. Он очень хорошо подготовился к зиме, съел очень много рыбы и накопил большой слой жира. Задние ноги больше передних, потому, что лапы у него массивные им нужно носить большой вес, но недолго, потому, что  он уйдет в спячку, а когда проснется,  опять станет худым и стройным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 algn="r">
              <a:lnSpc>
                <a:spcPct val="7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6600cc"/>
                </a:solidFill>
                <a:latin typeface="Candara"/>
              </a:rPr>
              <a:t>        </a:t>
            </a:r>
            <a:endParaRPr b="0" lang="en-US" sz="33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Нижний колонтитул 5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Презентация Мудрой Л.Х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404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Арин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7" name="Picture 2" descr="EPSN7055"/>
          <p:cNvPicPr/>
          <p:nvPr/>
        </p:nvPicPr>
        <p:blipFill>
          <a:blip r:embed="rId1"/>
          <a:stretch/>
        </p:blipFill>
        <p:spPr>
          <a:xfrm>
            <a:off x="4770360" y="3575160"/>
            <a:ext cx="4373640" cy="3282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152280" y="1569600"/>
            <a:ext cx="33530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Меня зовут Миша Барановский на моей картине я изобразил белого медведя .  Он идет домой есть рыбу. Он очень хотел поесть пончик. Медведь взрослый, его семья дома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6600cc"/>
                </a:solidFill>
                <a:latin typeface="Candara"/>
              </a:rPr>
              <a:t>        </a:t>
            </a:r>
            <a:endParaRPr b="0" lang="en-US" sz="33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Нижний колонтитул 5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Презентация Мудрой Л.Х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404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Миш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1" name="Picture 2" descr="EPSN7074"/>
          <p:cNvPicPr/>
          <p:nvPr/>
        </p:nvPicPr>
        <p:blipFill>
          <a:blip r:embed="rId1"/>
          <a:stretch/>
        </p:blipFill>
        <p:spPr>
          <a:xfrm>
            <a:off x="3551400" y="2644920"/>
            <a:ext cx="5592600" cy="4195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152280" y="9140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ndara"/>
              </a:rPr>
              <a:t>Я нарисовал Волка, он получился злым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r">
              <a:lnSpc>
                <a:spcPct val="6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6600cc"/>
                </a:solidFill>
                <a:latin typeface="Candara"/>
              </a:rPr>
              <a:t>        </a:t>
            </a:r>
            <a:endParaRPr b="0" lang="en-US" sz="31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404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КИРИЛЛ К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4" name="Picture 2" descr="EPSN7133"/>
          <p:cNvPicPr/>
          <p:nvPr/>
        </p:nvPicPr>
        <p:blipFill>
          <a:blip r:embed="rId1"/>
          <a:stretch/>
        </p:blipFill>
        <p:spPr>
          <a:xfrm>
            <a:off x="1312920" y="1803240"/>
            <a:ext cx="6459480" cy="4843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удрая лора</dc:creator>
  <dc:description/>
  <dc:language>en-US</dc:language>
  <cp:lastModifiedBy>1</cp:lastModifiedBy>
  <dcterms:modified xsi:type="dcterms:W3CDTF">2017-02-06T06:24:41Z</dcterms:modified>
  <cp:revision>1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