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FA77-3E01-41C2-86A4-E2491C0B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DA8D-8FAB-4750-AE61-1A53840C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AE1-C052-4F9D-8AFB-7CF79817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BC7B-7AE1-4BB5-9AAA-8D9FD8A2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1672-FD3F-4B4C-81AA-7C615470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F446-19D6-4CC5-86A7-00A92B8B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86C2-4AB4-47E3-B3C1-DF9DC450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D373-1878-4B61-A9C0-CE0872E7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2E00-4FB6-4913-B8EA-213B2BDA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808C-97AD-4F78-BC31-3DE33C0A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56E4-84F2-4666-8528-701FA09A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8082-3226-4B56-B738-4E217E91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78A6-AAC0-4313-A028-8116F7DA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D07F-C422-4ED2-B519-A18A3F24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8502-0E69-464F-9076-52B0A295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EB69-E01F-4EEA-90DC-0D3DC480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8CAC-25B4-410D-B243-71D9E36D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DEECD-D5C8-41EA-9F58-C27A4D12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D0BB1-47A9-4F94-A49A-2125B8D9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34649-D19D-457F-983F-4184F131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8FB0D-1F7D-4E35-95DB-06348492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3749F-A873-4E5A-9C6B-DE520A9E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C777-D80F-43A2-98F8-1FFB8720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A52D2-2F11-4A76-B939-FF7B4917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0AFD3-2C5D-45D4-A04E-3D8EA2F6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C5759-A7F1-4240-B7FB-F1CF7E1E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B0EE0-9FB1-4133-9A2E-7A7E0DB5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27B3D-2639-4F6B-9212-D3AB92B1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5FF28-D3E9-4EB7-A3E3-FC083138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DFD47-FC89-4EFA-936F-B29E3D1D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F9AC4-9790-49F3-8DB1-EB99921B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25C65-2368-42E3-9341-799CB0ED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32992-0E9C-4C13-B20B-49110335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5459-2A89-4115-8223-F5022895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DBC23-67C4-4526-8933-FD3D6707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0F958-041E-4B82-889F-EF81C701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823A2-CAC0-495E-8078-9626552F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C5045-E453-4235-ADD4-93B142E0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F2F0A-79EF-4372-BF37-2E6E0EAF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6EF03-36E6-4C84-AFA0-8C2BC8A0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4F45E-9171-45D0-A56A-4A9AED42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965CA-D13D-4757-BFEE-4B8B7ADB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45D5A-2A59-4176-A909-E1458648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41A69-C638-45DC-A75E-B855E2A0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D83-3E01-4BF2-B059-2E529D8E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2B57C-65D8-4FCC-8F10-6A1083D7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DECF9-5336-4971-B600-4B680DDE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63DCC-D093-4CF3-902D-E5D9B679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C3B39-97B9-46CD-91A0-876C81CD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9C7AF-2CBD-4D0B-BF40-4473E8FD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ACE90-5B93-4BF4-BC63-E154359E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A640E-5E94-4EE2-8ACF-2D868455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4FA8D-4152-47CC-B19B-D291C590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231EA-D8E4-4224-AD9A-14631AC2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5564B-5DC0-4D89-9400-8AE26C39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127-86F8-49C9-A219-BBCD4DB1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48DE9-050D-4941-A705-3BF9BBB0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ACDA4-1979-4714-A62F-D9028B3F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9B906-3160-49EA-AC91-F4FD8F22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82621-0800-4C9C-8E1B-6E1332B5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F7140-0C29-44D5-99F0-CBE0DD68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883A2-DA82-46FA-BDBE-D4699F11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9BD76-5CD4-4F57-9667-452924DD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FC650-AEDF-4010-82C4-C1489FBD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D1D14-F7E3-4916-978C-51F23AD2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7D576-D75C-4294-8454-A79540EA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451-B4BB-4E88-A8BD-0DC03432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C2B5D-1EE3-49F5-AF94-43F5253A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E47F1-9C8F-4E84-A3C8-6185125D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59360-882E-48C8-9435-F62BDECA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40BCE-4438-409B-B0D3-798C0BFF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27119-0942-47E3-8396-28050483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5BD5B-187F-484D-A3A9-2E38375E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2A25D-C12B-4EEA-9CB0-3E78CCFF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8E03B-0B34-40C9-8EC6-6AAAC113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75671-FF6C-451C-9FF4-D17FA1DA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07A6E-B52C-4BEC-977E-8388867F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131-B5DF-4C74-A0CC-3BD8573C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C79D8-2E77-4B41-9BE0-DAA88FCD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EA748-CB76-4657-969B-7BAB5192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1D737-F296-48D5-BBBB-E28BC8B1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6D891-AB2A-4BEE-B29D-5EA6F2DC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52386-3D3F-4F29-A40E-B4D777F3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0BA7-9799-4D0E-A339-946D1F25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7459-F6A9-4FCE-821B-066278C0190A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830E-9656-4D61-800F-8F699392F7BA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6F46-9BB8-4F1F-9BDF-D39DD346981C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FBE2-3EBA-43AA-B845-70F463E0F662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C1C7-9882-43F6-A2DE-7B9D32CDF1AE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76DE-7C68-436E-A5C3-5C709FBC9FCA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1D44-C5E2-4B29-B6C5-D05FE20D33B7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51920" y="1294920"/>
            <a:ext cx="6324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Я нарисовала картину, где Лиса идет за Зайцем, что бы его съесть. Лиса будет прятаться, когда зайчик поскачет будет на него прыгать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АРИНА А почему у лисы большая шея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ЮЛЯ ДВОРЦОВА Что бы в кустах прятаться  и смотреть, где заяц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ЯРОСЛАВ     Почему такой пушистый хвост?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ЮЛЯ ДВОРЦОВА Что бы укрываться когда спит и укрывать Лисят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МИША Почему  кончик хвоста такой черный?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ЮЛЯ ДВОРЦОВА Потому что  у нее такая порода.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АНДРЕЙ ФРОЛОВ Зачем лиса вытянула когти?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ЮЛЯ ДВОРЦОВА Что бы схватить добычу и утащить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АНДРЕЙ ЧЕРНОБРОВКИН Почему лиса не может съесть зайца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ЮЛЯ ДВОРЦОВА Потому что она отнесет его лисятам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Юля Дворцова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7" name="Picture 3" descr="EPSN7061"/>
          <p:cNvPicPr/>
          <p:nvPr/>
        </p:nvPicPr>
        <p:blipFill>
          <a:blip r:embed="rId1"/>
          <a:stretch/>
        </p:blipFill>
        <p:spPr>
          <a:xfrm>
            <a:off x="6095880" y="2057400"/>
            <a:ext cx="2886120" cy="2168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EPSN7058"/>
          <p:cNvPicPr/>
          <p:nvPr/>
        </p:nvPicPr>
        <p:blipFill>
          <a:blip r:embed="rId2"/>
          <a:stretch/>
        </p:blipFill>
        <p:spPr>
          <a:xfrm>
            <a:off x="6126120" y="4495680"/>
            <a:ext cx="285588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52280" y="1569600"/>
            <a:ext cx="3353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У Зайчика праздник я дерево украсила красными лентам , не знаю кто получился за деревом, наверно человек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КИРИЛЛ КРАСАВИН   облака похожи на кита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ДИЛАРА  похоже на оленя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ИЛЬЯ ХРЕНОВ  на черепаху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КСЮША на летающую тарелку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МАКСИМ как будто труба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6600cc"/>
                </a:solidFill>
                <a:latin typeface="Candara"/>
              </a:rPr>
              <a:t>        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404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ОН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1" name="Picture 2" descr="EPSN7125"/>
          <p:cNvPicPr/>
          <p:nvPr/>
        </p:nvPicPr>
        <p:blipFill>
          <a:blip r:embed="rId1"/>
          <a:stretch/>
        </p:blipFill>
        <p:spPr>
          <a:xfrm>
            <a:off x="3809880" y="1684440"/>
            <a:ext cx="4892760" cy="3649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51920" y="137160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Меня зовут Катя, мне 5 лет. Мне нравиться, как рисуют художники анималисты, но сидеть в лесу мне родители не разрешают, это вообще запрещено, поэтому животных я рисую с картинок и фотографий. А еще мы с дядей иногда ходим в зоопарк. Еще мы с бабушкой ходим иногда в Филевский парк, там видели белок.  Белого медведя живьем не видела, но думаю, что он так выглядит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ЯРОСЛАВ Почему он такой толстый?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КАТЯ   Он наел много жира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ЯРОСЛАВ зачем он его ел?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КАТЯ  Что бы ему было не холодно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cc"/>
                </a:solidFill>
                <a:latin typeface="Candara"/>
              </a:rPr>
              <a:t> 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Нижний колонтитул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резентация Мудрой Л.Х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404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ат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2" descr="EPSN7045"/>
          <p:cNvPicPr/>
          <p:nvPr/>
        </p:nvPicPr>
        <p:blipFill>
          <a:blip r:embed="rId1"/>
          <a:stretch/>
        </p:blipFill>
        <p:spPr>
          <a:xfrm>
            <a:off x="4724280" y="3124080"/>
            <a:ext cx="4238640" cy="3183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51920" y="685440"/>
            <a:ext cx="4800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Жил  был на свете медвежонок у него не было родителей. И пошел он искать родителей или друзей. И вот он встретил другого медвежонка, он сказал:  давай дружить.   А  тот был злой и нахальный   и сказал таким голосом, что бы тот не узнал, что он злой и нахальный и они подружились, но на самом деле он не был медвежонку другом и хотел его обидеть, и этот хороший медвежонок решил узнать ночью, что он шепчет.  И он услышал, как тот нашептывал своему плохому братику  у него вообще семья злая.  А утром он сказал  я знаю, что ты мне хочешь сделать, я вчера под ёлкой и тот плохой извинился и признался, что он плохой и семья у него плохая и просил прощения и сказал, что измениться и когда он изменился и вся его семья стала хорошей они стали настоящими друзьями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r">
              <a:lnSpc>
                <a:spcPct val="6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6600cc"/>
                </a:solidFill>
                <a:latin typeface="Candara"/>
              </a:rPr>
              <a:t>        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Нижний колонтитул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резентация Мудрой Л.Х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43040" y="1519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Марус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9" name="Picture 2" descr="EPSN7073"/>
          <p:cNvPicPr/>
          <p:nvPr/>
        </p:nvPicPr>
        <p:blipFill>
          <a:blip r:embed="rId1"/>
          <a:stretch/>
        </p:blipFill>
        <p:spPr>
          <a:xfrm>
            <a:off x="4906800" y="3581280"/>
            <a:ext cx="4026240" cy="3030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51920" y="1569600"/>
            <a:ext cx="4800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Меня зовут Ярослав, я хочу рассказать о картине Медведя. Картину написал не всем известный художник Ярослав Домбровский это я. На картине изображен медведь, который приготовился к прыжку. На соседнем айсберге орлы охотятся  на рыбу, а медведь притаился и хочет прыгнуть на двух лапах и поймать орла. Медведь знает, что орел может улететь, но когда он взлетит,  рыба упадет и медведю достанется рыба. И далеко есть домики полярников,  и они наблюдают за медвежьей охотой и они хотят или сфотографировать или нарисовать медведя с тем, кого он поймает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Я мороженное ел и ничуть не заболел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cc"/>
                </a:solidFill>
                <a:latin typeface="Candara"/>
              </a:rPr>
              <a:t> 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Нижний колонтитул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резентация Мудрой Л.Х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404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Ярослав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3" name="Picture 2" descr="EPSN7053"/>
          <p:cNvPicPr/>
          <p:nvPr/>
        </p:nvPicPr>
        <p:blipFill>
          <a:blip r:embed="rId1"/>
          <a:stretch/>
        </p:blipFill>
        <p:spPr>
          <a:xfrm>
            <a:off x="4876920" y="2590920"/>
            <a:ext cx="420372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51920" y="1569600"/>
            <a:ext cx="4800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Меня зовут Арина, я нарисовала Зайца, Медведя и Лису. У Лисы пушистый хвост, у Зайца маленький, а у Медведя  хвост не вместился, потому. Что Медведь толстый и большой. Он очень хорошо подготовился к зиме, съел очень много рыбы и накопил большой слой жира. Задние ноги больше передних, потому, что лапы у него массивные им нужно носить большой вес, но недолго, потому, что  он уйдет в спячку, а когда проснется,  опять станет худым и стройным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 algn="r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6600cc"/>
                </a:solidFill>
                <a:latin typeface="Candara"/>
              </a:rPr>
              <a:t>        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Нижний колонтитул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резентация Мудрой Л.Х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404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Арин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Picture 2" descr="EPSN7055"/>
          <p:cNvPicPr/>
          <p:nvPr/>
        </p:nvPicPr>
        <p:blipFill>
          <a:blip r:embed="rId1"/>
          <a:stretch/>
        </p:blipFill>
        <p:spPr>
          <a:xfrm>
            <a:off x="4770360" y="3575160"/>
            <a:ext cx="4373640" cy="3282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52280" y="1569600"/>
            <a:ext cx="3353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Меня зовут Миша Барановский на моей картине я изобразил белого медведя .  Он идет домой есть рыбу. Он очень хотел поесть пончик. Медведь взрослый, его семья дом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6600cc"/>
                </a:solidFill>
                <a:latin typeface="Candara"/>
              </a:rPr>
              <a:t>        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Нижний колонтитул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резентация Мудрой Л.Х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404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Миш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Picture 2" descr="EPSN7074"/>
          <p:cNvPicPr/>
          <p:nvPr/>
        </p:nvPicPr>
        <p:blipFill>
          <a:blip r:embed="rId1"/>
          <a:stretch/>
        </p:blipFill>
        <p:spPr>
          <a:xfrm>
            <a:off x="3551400" y="2644920"/>
            <a:ext cx="5592600" cy="4195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52280" y="9140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ndara"/>
              </a:rPr>
              <a:t>Я нарисовал Волка, он получился злым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r">
              <a:lnSpc>
                <a:spcPct val="6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6600cc"/>
                </a:solidFill>
                <a:latin typeface="Candara"/>
              </a:rPr>
              <a:t>        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404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ИРИЛЛ 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4" name="Picture 2" descr="EPSN7133"/>
          <p:cNvPicPr/>
          <p:nvPr/>
        </p:nvPicPr>
        <p:blipFill>
          <a:blip r:embed="rId1"/>
          <a:stretch/>
        </p:blipFill>
        <p:spPr>
          <a:xfrm>
            <a:off x="1312920" y="1803240"/>
            <a:ext cx="6459480" cy="4843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удрая лора</dc:creator>
  <dc:description/>
  <dc:language>en-US</dc:language>
  <cp:lastModifiedBy>1</cp:lastModifiedBy>
  <dcterms:modified xsi:type="dcterms:W3CDTF">2017-02-06T06:24:41Z</dcterms:modified>
  <cp:revision>1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