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873-FE1C-4345-A212-B241CB56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FB1-FF72-4D10-AC1E-1C6C537D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FAD-A93F-44E3-BB1D-C38962B9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926-4EB6-4EA1-BFF7-98AABB38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D8CB-3534-471E-B1B2-E5EFCB9E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4D8E-8889-46D4-A166-EAFC2F9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FA48-7719-4840-B8FA-7952427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49E2-776A-438A-8AB3-600690A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96EF-D9A2-4743-94B4-344CBDC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4384-3D4F-4E31-953A-51FF5820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4E1-1D4C-4081-9567-6AC2A90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EDC-F815-4379-9C25-B6EF594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6589-1D62-4279-B837-577F4D4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D60-15EC-42AB-9822-1CC7B98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C45F-2518-4DCB-A0F7-31A18F8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0631-7DE8-48E9-8AB8-49DC1D6C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0498-766C-43C7-9824-2663589E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C50F-3276-4008-821C-1CD2B351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F7FD-87E1-4AD2-BB1A-F9A3769E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E548-6C33-4663-98B4-51253DF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3197-4345-4054-AF08-72102B5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9456-FA9A-479B-B45E-A34A2BF5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CE2-5C5B-438B-908D-55B6C38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122B-0352-4A62-A553-66F4312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E7E0-50E4-4152-BE75-E44BC1B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C468-9365-4A02-9246-4CBFA92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16D4-EE36-4587-99E3-DB7E173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2D36-2019-4EB8-977D-5CDB8715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B11A-A698-467D-9EE2-48F2F0AF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38E3-072F-4B34-8355-F357F91F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6BB6-F07F-4A78-967C-8B9E2781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C1D9C-E5FE-48B7-B5C9-90A4225F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C70F-6DD9-45CE-BE28-3C954DCA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40F-CF6A-4AA9-AA59-CC5B12AB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1D7F-E202-4524-83E7-0B174D3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E5E4-B05A-4F51-817B-101454A0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C03F-80C4-4FDA-8E3F-492EFDA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7F6F-C72F-4B34-99E1-35465198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AF04-B7F1-4699-BC7C-A6011CC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6F5F-0876-4C17-8E36-061C4BC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BF32-1C92-4DC1-937D-E75B041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A195-1D18-4844-9B08-9E1FE95E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E93E-FE91-43A0-BEA9-5C836175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9BA9-C410-4B33-A21E-9B33E0AE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569-9961-43E2-99C2-D947004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D375-5E0F-462A-B7CE-89E105D4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4C4B-D6DC-47B1-B15B-8E9906B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F411-DAC8-44A5-950F-93C8B565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3728-8756-40CE-BB7F-A3B14E3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36B4-2E7A-4AAC-821F-C446715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0AD3-53EA-4ED9-A89A-D827696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A38D-9EC0-4FAA-8173-082D18D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1605-353F-47E8-B599-F30282F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8F96-9DE2-445E-BF14-B23E6C3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2304-622E-4AE0-9F21-AC75DD10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D82-2307-4ECA-BFE4-B6B19A58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2611-C92A-4E1E-A918-952C43F5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7B94-DB4E-4996-8494-BFBD48AE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7A210-14B3-401F-801D-22051E51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4C38-DE41-4402-8034-0F74B7DC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A4CC-6FA9-403B-BDF9-9C0FC24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A797-CAF2-4994-ADA6-9256DFC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5E8D-B0F9-46A4-8336-2F88007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4C02-4CB0-4BB6-8A9C-1F60024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629CB-A96B-4966-9E90-D64EDB2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AE80-1549-4E89-8969-E0ED0AF3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A77-F13F-4788-B107-64A85BD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104A1-20EE-4AFE-A951-BF27622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EACA-144F-4665-B3B5-9649C0B9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1E49-CD2F-434C-A396-E846725C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C725D-D542-4E71-9D3D-712F3729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AADE-25D6-4023-A0E7-47DFAF2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1BF0-340F-4ACD-949C-13DB2063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7401-9F03-4128-9FA0-C539AD4A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20466-7894-45C0-A14D-4F7FC68D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296E1-3A1A-42AB-8C6B-7C4C857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FF38-445E-4FF9-A455-3365950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9A6-BD4E-42F2-B295-C8C45719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37342-3941-49F3-9976-FA4A3DC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CA5C-F759-46F5-BA7B-9B81597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821D-55E8-4AE5-86B4-9AA90FE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7368-AE0B-412A-B61D-730D7719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11E9-08C8-4736-BA97-0A815342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8B6-7A15-4A8B-96A5-393FB33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7F3-DEB7-4140-B340-903728674B6B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9A82-621E-4CC8-A622-C363A9EA65E9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892-5CFF-49DB-9E6E-6228307D4A5F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4FD0-0AE0-448F-925F-0190974DEAA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B7A-464D-49E6-BF3B-FBC4A0FE6DE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FC55-E769-4DF8-B0A5-2B0B515FE9A8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9BD-9C77-4DB8-AC89-C549F258DEAD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СЮША тонкие руки надо было утолщи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2" descr="EPSN7132"/>
          <p:cNvPicPr/>
          <p:nvPr/>
        </p:nvPicPr>
        <p:blipFill>
          <a:blip r:embed="rId1"/>
          <a:stretch/>
        </p:blipFill>
        <p:spPr>
          <a:xfrm>
            <a:off x="1219320" y="1828800"/>
            <a:ext cx="6497640" cy="4853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-3812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ИЛЬЯ ХРЕН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Танцующий миш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Идет снег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Дед мороз может быть принесет подар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Ему холодно он хочет домо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2" descr="EPSN7131"/>
          <p:cNvPicPr/>
          <p:nvPr/>
        </p:nvPicPr>
        <p:blipFill>
          <a:blip r:embed="rId1"/>
          <a:stretch/>
        </p:blipFill>
        <p:spPr>
          <a:xfrm>
            <a:off x="1371600" y="2209680"/>
            <a:ext cx="579132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ЛАНА 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лень встал на ноги и ест траву, а она все росла  и росла и у  него живот стал толстый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2" descr="EPSN7130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468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ИЛАРАУ зайца есть волосы, челка забавная. Ёлка стои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EPSN7126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АКСИМ Это дерево на дереве мед, а медведь лакомка он любит Мед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EPSN7137"/>
          <p:cNvPicPr/>
          <p:nvPr/>
        </p:nvPicPr>
        <p:blipFill>
          <a:blip r:embed="rId1"/>
          <a:stretch/>
        </p:blipFill>
        <p:spPr>
          <a:xfrm>
            <a:off x="1600200" y="2133720"/>
            <a:ext cx="6019920" cy="4511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2280" y="914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ndara"/>
              </a:rPr>
              <a:t>Лиса с мясом, курица. Она съела и оставила косточку, что бы собаки съел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СТ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Picture 2" descr="EPSN7129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56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6:26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