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AEA-1AC7-415B-99A8-278C4511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03B-7FB7-43E6-B53E-3F652533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9DC-6845-425A-B14F-40CBDAAC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01F-60A2-41E0-87B5-E9281BA5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6474-3A77-4DED-9412-8C68BD70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BCBF-E779-4015-8E37-624B1DA3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BA9E-54FB-45B7-AB51-FE6DD18E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2DA2-4EFE-46AE-AA9D-3C42DB71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4C7C-B665-4321-AA30-6D4DC4EA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4D3A-770A-4969-91DC-60CD0DE1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17A9-B2C3-4BA2-8097-B4EF8FD5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91C-755D-4DB5-A208-2E432A54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ACB-DF40-4DDA-BF5A-F36EE8D9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33B2-D0D1-4AA7-AF94-E7DB7888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2443-6434-4732-8B41-F64D30EB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879D-4165-4B27-B1AF-F27417A0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4D1-AE1D-4966-9523-6B8F75A2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7CC73-4806-4713-A110-4FE7C0DD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6812-7696-4287-93D1-EABBBC30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091A-7CC0-44FA-AB55-B2A710D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A996-7EA1-4A54-A2E1-A12EAA7E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7D33-2A07-4366-902F-C9DCA70D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64A-301E-4298-8BFD-FEA819A6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D3DF-F3CE-4816-8B59-E01E397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1448-42A0-4BE1-997A-0C3F325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BA70-B275-4F75-909A-43433FD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0DA4-A24D-4E6D-B231-7B67F6F0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3441-79C1-4469-B82E-AE8C1F91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7564-FAA7-4B5F-AAD8-33F48DF7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DA8D-B3F7-453C-BB1F-83DDCCE1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D99F-1CCC-49A9-BCFB-C2CDFA89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7DE61-5B42-434A-9AFF-2868BC37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BD02E-53EA-4B93-81E6-532D9BBA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EDE-9A51-4F06-8B1C-AB4EC83D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A013-AC26-4BC0-8F75-34B971CA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4B48-AF3F-441B-8E49-B7A839AC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C689-AF6F-47EE-91E5-6A2BBCD5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CF7BC-EA88-4493-A86E-7563AA2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A539-5774-46E9-8C86-7E94425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46A7-5AA9-430A-B72F-57697681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D9A4-1B32-478F-AC45-47907DB7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F5A5-B8DC-4A01-BDFC-2850DC08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9723-EF4C-4D14-80C4-8A7F53D6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DC42-2108-4F1C-96FD-8433F7B9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815-3C48-4EA9-8B98-8F251B6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55CD5-C2FD-4696-9D47-70806D8F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CF74-6D60-4339-B7AA-90B6D169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A260-44B9-441F-BBF7-C66948F4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CC14-9679-4DBD-9B1A-36BF6883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6878-C53B-41D8-9FAA-19BCD6F5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C37BF-7398-414E-A08C-4451DB01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5FE3F-7CF6-48CB-A259-B6D4870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5CC31-37A8-4938-8EA4-F66029FB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E9FEF-8E8D-4A62-8509-B0131695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31CF-18A8-49D5-AC3B-C3F12F6F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401-9A95-4915-B2E9-0C732F8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A5A80-ECCF-4DB3-97D7-58E65D82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927FB-CF62-4B9A-85A9-B23931D1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9706A-2317-4EF8-82E7-21F6B812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AE022-356E-4A77-9F8E-69E32731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C225-909D-47D0-8FF9-55204EE5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72210-64E4-4149-98C2-FF8C5D9F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7E2F-7C54-4539-8CC6-A26B342B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201A-AC4C-4628-8F19-CC5307D1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E36D2-7BC6-42E3-8FEA-BD49029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951EB-8EB1-4D82-89B2-CAD36663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710-46D3-4530-BEDA-A4581E04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0CBC9-6676-4472-886F-1E0B07EA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81BB-60CD-4822-8D76-25D6D667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4CAA3-C3A3-4D0E-9CD0-CD64629B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FCA24-FB8F-428A-9FAA-8F70435E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5F1EE-5C92-4F58-BBD8-70C76112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0DDB2-92E1-453E-9045-2FF7D887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6F3E9-5371-4026-AF2C-FA62EEF1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D90A9-A2C3-4D7F-8A04-F9B132B5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C57CB-9E8F-4EC9-9057-20AC492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0EA03-12FB-4EAE-977E-71E33A45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F54-12F6-442E-B782-A864515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4B22-ADF7-48B6-8876-84BFFB0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07CF1-9D05-4C29-BF83-7F0AC4A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2CE8-63B0-402E-9053-404AF262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75BC-E152-4780-A55D-B97AD641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04AD0-9CFF-4550-B843-F1F521AF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E13-17E6-445D-B92F-21FD452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AD6B-D797-4BEC-BD92-4B8E679CA060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F8A0-AD14-4DE0-B1EF-1674A4E69E7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8EEA-C6F4-4B4D-82AC-55F4F3B39CEC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58B3-2477-46B8-A37C-D79813CF4DF0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0C81-F314-4E9E-B300-259D27279727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7F21-23E4-4289-8936-7E94C02987FB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3B1-96AE-4842-8994-1FDB6656B617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СЮША тонкие руки надо было утолщи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2" descr="EPSN7132"/>
          <p:cNvPicPr/>
          <p:nvPr/>
        </p:nvPicPr>
        <p:blipFill>
          <a:blip r:embed="rId1"/>
          <a:stretch/>
        </p:blipFill>
        <p:spPr>
          <a:xfrm>
            <a:off x="1219320" y="1828800"/>
            <a:ext cx="6497640" cy="4853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-3812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ИЛЬЯ ХРЕН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Танцующий миш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Идет снег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Дед мороз может быть принесет подарок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Ему холодно он хочет домо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2" descr="EPSN7131"/>
          <p:cNvPicPr/>
          <p:nvPr/>
        </p:nvPicPr>
        <p:blipFill>
          <a:blip r:embed="rId1"/>
          <a:stretch/>
        </p:blipFill>
        <p:spPr>
          <a:xfrm>
            <a:off x="1371600" y="2209680"/>
            <a:ext cx="5791320" cy="433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ЛАНА 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Олень встал на ноги и ест траву, а она все росла  и росла и у  него живот стал толстый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2" descr="EPSN7130"/>
          <p:cNvPicPr/>
          <p:nvPr/>
        </p:nvPicPr>
        <p:blipFill>
          <a:blip r:embed="rId1"/>
          <a:stretch/>
        </p:blipFill>
        <p:spPr>
          <a:xfrm>
            <a:off x="1447920" y="1905120"/>
            <a:ext cx="6248160" cy="468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ИЛАРАУ зайца есть волосы, челка забавная. Ёлка стои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2" descr="EPSN7126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АКСИМ Это дерево на дереве мед, а медведь лакомка он любит Мед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EPSN7137"/>
          <p:cNvPicPr/>
          <p:nvPr/>
        </p:nvPicPr>
        <p:blipFill>
          <a:blip r:embed="rId1"/>
          <a:stretch/>
        </p:blipFill>
        <p:spPr>
          <a:xfrm>
            <a:off x="1600200" y="2133720"/>
            <a:ext cx="6019920" cy="4511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2280" y="914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ndara"/>
              </a:rPr>
              <a:t>Лиса с мясом, курица. Она съела и оставила косточку, что бы собаки съели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СТ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Picture 2" descr="EPSN7129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56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удрая лора</dc:creator>
  <dc:description/>
  <dc:language>en-US</dc:language>
  <cp:lastModifiedBy>1</cp:lastModifiedBy>
  <dcterms:modified xsi:type="dcterms:W3CDTF">2017-02-06T06:26:26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