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gif" ContentType="image/gif"/>
  <Override PartName="/ppt/media/image22.jpeg" ContentType="image/jpeg"/>
  <Override PartName="/ppt/media/image12.png" ContentType="image/png"/>
  <Override PartName="/ppt/media/image20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0.png" ContentType="image/png"/>
  <Override PartName="/ppt/media/image2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867-AE86-4F30-9FD9-72999208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1AC-5F7E-41FA-BFDA-2B73FC7B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D72-EAD4-4C6D-A0AE-4AB8A504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A71-880B-45D1-BF4C-15ACF66A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85BD-CD71-4485-AC51-7F8F6C2A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E5D0-80F5-4484-A159-32B79645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AC9E-F08B-4436-851D-AAA5FD50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79AB-76B6-473E-A400-DD18F2C3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A436-6444-4684-AAB5-BB278C9F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4A2E-D868-4DC8-A58F-ACF324B2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8E62-11E4-474E-B32C-E1E95042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82E-2BD2-47E3-A512-4AD59E0E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4941-CC65-4FF6-B471-A2250AC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6A6D-76B8-4BC8-BEDD-564AEC04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AC45-93E1-4EBC-9EBC-B0B63F87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2516-BA6D-4254-8E55-E82CCBEA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81C6-E92E-444C-BDC1-FAF130D2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4BE-A5B1-446D-ACF2-F0A95C93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11E-1794-4C93-A2D0-5A0DF840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3C6-0A4B-4B78-9F8E-6E2FC6D5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DFE-8F23-414A-858F-A3572639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531-9345-4CCF-B666-E520C676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535-6456-4E92-866B-C3A885C1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8FD-2A05-4FCA-94B7-136930BD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7317-24FF-42DA-B2C9-9BC9D196F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1473-37A6-45A8-90B1-1E760E0F85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F730-4747-4D21-8E87-8075F3B66B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00952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оверь,  дружок,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Готов  ли  ты  начать  урок?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се  на  месте, все  в  порядке: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нига,  ручки  и  тетрадки?</a:t>
            </a:r>
            <a:br>
              <a:rPr sz="40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2" descr="http://fantasyflash.ru/anime/book/image/book29.gif"/>
          <p:cNvPicPr/>
          <p:nvPr/>
        </p:nvPicPr>
        <p:blipFill>
          <a:blip r:embed="rId1"/>
          <a:stretch/>
        </p:blipFill>
        <p:spPr>
          <a:xfrm rot="20713800">
            <a:off x="6443280" y="4292280"/>
            <a:ext cx="2387520" cy="219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fantasyflash.ru/anime/book/image/book30.gif"/>
          <p:cNvPicPr/>
          <p:nvPr/>
        </p:nvPicPr>
        <p:blipFill>
          <a:blip r:embed="rId2"/>
          <a:stretch/>
        </p:blipFill>
        <p:spPr>
          <a:xfrm rot="1285200">
            <a:off x="539640" y="4292640"/>
            <a:ext cx="2165400" cy="188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i069.radikal.ru/0903/01/a2862c4df1f1.gif"/>
          <p:cNvPicPr/>
          <p:nvPr/>
        </p:nvPicPr>
        <p:blipFill>
          <a:blip r:embed="rId3"/>
          <a:stretch/>
        </p:blipFill>
        <p:spPr>
          <a:xfrm>
            <a:off x="3995640" y="443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s48.radikal.ru/i119/0904/62/e520382e4e4c.gif"/>
          <p:cNvPicPr/>
          <p:nvPr/>
        </p:nvPicPr>
        <p:blipFill>
          <a:blip r:embed="rId4"/>
          <a:stretch/>
        </p:blipFill>
        <p:spPr>
          <a:xfrm>
            <a:off x="179280" y="0"/>
            <a:ext cx="175284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http://s48.radikal.ru/i119/0904/62/e520382e4e4c.gif"/>
          <p:cNvPicPr/>
          <p:nvPr/>
        </p:nvPicPr>
        <p:blipFill>
          <a:blip r:embed="rId5"/>
          <a:stretch/>
        </p:blipFill>
        <p:spPr>
          <a:xfrm>
            <a:off x="179280" y="0"/>
            <a:ext cx="1752840" cy="141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fantasyflash.ru/anime/book/image/book29.gif"/>
          <p:cNvPicPr/>
          <p:nvPr/>
        </p:nvPicPr>
        <p:blipFill>
          <a:blip r:embed="rId6"/>
          <a:stretch/>
        </p:blipFill>
        <p:spPr>
          <a:xfrm rot="20713800">
            <a:off x="6443280" y="4292280"/>
            <a:ext cx="2387520" cy="2198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fantasyflash.ru/anime/book/image/book30.gif"/>
          <p:cNvPicPr/>
          <p:nvPr/>
        </p:nvPicPr>
        <p:blipFill>
          <a:blip r:embed="rId7"/>
          <a:stretch/>
        </p:blipFill>
        <p:spPr>
          <a:xfrm rot="1285200">
            <a:off x="539640" y="4292640"/>
            <a:ext cx="2165400" cy="188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fantasyflash.ru/anime/book/image/book30.gif"/>
          <p:cNvPicPr/>
          <p:nvPr/>
        </p:nvPicPr>
        <p:blipFill>
          <a:blip r:embed="rId8"/>
          <a:stretch/>
        </p:blipFill>
        <p:spPr>
          <a:xfrm rot="1285200">
            <a:off x="539640" y="4292640"/>
            <a:ext cx="2165400" cy="188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D7BD-B8B2-47FD-AAFA-7A75C91DA0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Б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рёза, заря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ка, в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сна, с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рока, со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л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нце, гн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здо, праз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ник, комн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та, сер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це, сне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г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, лоша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ь, тр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ва, бр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вн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9141-05FA-43D8-A181-7409D8D6CD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М.р.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3366ff"/>
                </a:solidFill>
                <a:latin typeface="Tahoma"/>
              </a:rPr>
              <a:t>–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3366ff"/>
                </a:solidFill>
                <a:latin typeface="Tahoma"/>
              </a:rPr>
              <a:t>праздник, сне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ahoma"/>
              </a:rPr>
              <a:t>Ж.р.</a:t>
            </a:r>
            <a:r>
              <a:rPr b="1" i="1" lang="ru-RU" sz="4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i="1" lang="ru-RU" sz="4800" spc="-1" strike="noStrike">
                <a:solidFill>
                  <a:srgbClr val="3366ff"/>
                </a:solidFill>
                <a:latin typeface="Tahoma"/>
              </a:rPr>
              <a:t> Берёза, зарядка, весна, сорока,</a:t>
            </a:r>
            <a:r>
              <a:rPr b="0" lang="ru-RU" sz="4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3366ff"/>
                </a:solidFill>
                <a:latin typeface="Tahoma"/>
              </a:rPr>
              <a:t>комната, тра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ahoma"/>
              </a:rPr>
              <a:t>Ср.р.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8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i="1" lang="ru-RU" sz="4800" spc="-1" strike="noStrike">
                <a:solidFill>
                  <a:srgbClr val="3366ff"/>
                </a:solidFill>
                <a:latin typeface="Tahoma"/>
              </a:rPr>
              <a:t>солнце, гнездо, сердце, облако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61F0-C668-47AA-B17B-9372A398DF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1800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ahoma"/>
              </a:rPr>
              <a:t>М. 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348000" y="33336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1403280" y="1413000"/>
            <a:ext cx="194472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3851280" y="1341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284720" y="1413000"/>
            <a:ext cx="23749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6012000" y="242100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6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Ср. 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6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6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2987640" y="242100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0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Ж.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20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6" descr="i?id=91583199-49-72"/>
          <p:cNvPicPr/>
          <p:nvPr/>
        </p:nvPicPr>
        <p:blipFill>
          <a:blip r:embed="rId1"/>
          <a:stretch/>
        </p:blipFill>
        <p:spPr>
          <a:xfrm>
            <a:off x="539640" y="4005360"/>
            <a:ext cx="1962360" cy="2232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2" name="Picture 18" descr="i?id=29002890-56-72"/>
          <p:cNvPicPr/>
          <p:nvPr/>
        </p:nvPicPr>
        <p:blipFill>
          <a:blip r:embed="rId2"/>
          <a:stretch/>
        </p:blipFill>
        <p:spPr>
          <a:xfrm>
            <a:off x="2987640" y="4005360"/>
            <a:ext cx="2160720" cy="2232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33" name="Picture 20" descr="i?id=516144736-59-72"/>
          <p:cNvPicPr/>
          <p:nvPr/>
        </p:nvPicPr>
        <p:blipFill>
          <a:blip r:embed="rId3"/>
          <a:stretch/>
        </p:blipFill>
        <p:spPr>
          <a:xfrm>
            <a:off x="6012000" y="4076640"/>
            <a:ext cx="2232000" cy="2160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34" name="Text Box 22"/>
          <p:cNvSpPr/>
          <p:nvPr/>
        </p:nvSpPr>
        <p:spPr>
          <a:xfrm>
            <a:off x="755640" y="2781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ahoma"/>
              </a:rPr>
              <a:t>м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971640" y="3284640"/>
            <a:ext cx="6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3327120" y="2781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Times New Roman"/>
              </a:rPr>
              <a:t>мо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3326040" y="33577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ahoma"/>
              </a:rPr>
              <a:t>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6443640" y="278136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Times New Roman"/>
              </a:rPr>
              <a:t>мо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6633720" y="342900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о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8"/>
          <p:cNvSpPr/>
          <p:nvPr/>
        </p:nvSpPr>
        <p:spPr>
          <a:xfrm>
            <a:off x="4648320" y="1828800"/>
            <a:ext cx="0" cy="4419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ови          шарик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1066680" y="1828800"/>
            <a:ext cx="7239240" cy="4419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1752480" y="2666880"/>
            <a:ext cx="2667240" cy="25146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4952880" y="2666880"/>
            <a:ext cx="2667240" cy="25146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1066680" y="4038480"/>
            <a:ext cx="7239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609480" y="37339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4343400" y="152388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1447920" y="37339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val 11"/>
          <p:cNvSpPr/>
          <p:nvPr/>
        </p:nvSpPr>
        <p:spPr>
          <a:xfrm>
            <a:off x="4648320" y="37339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4038480" y="5335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Bethoven_-_Dlya_Elizy_-_slushayu_pered_snom_tak_uspokaivaet_(xMusic.me).mp3" descr=""/>
          <p:cNvPicPr/>
          <p:nvPr/>
        </p:nvPicPr>
        <p:blipFill>
          <a:blip r:embed="rId1"/>
          <a:stretch/>
        </p:blipFill>
        <p:spPr>
          <a:xfrm>
            <a:off x="343080" y="5716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heel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20196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1.09827E-006 C 0.00834 -0.16902 0.19115 -0.3089 0.41164 -0.3089 C 0.63438 -0.3089 0.8125 -0.16902 0.8125 1.09827E-006 C 0.8125 0.1704 0.63403 0.30636 0.41216 0.30636 C 0.18976 0.30636 0.00834 0.16948 0.00834 1.09827E-006 Z">
                                      <p:cBhvr>
                                        <p:cTn id="196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1.84971E-006 C 0.00955 -0.17503 0.18629 -0.31838 0.40469 -0.31838 C 0.62361 -0.31723 0.8 -0.1748 0.8 -0.0007 C 0.8 0.17456 0.62309 0.31561 0.40504 0.31561 C 0.18629 0.31561 0.00834 0.17456 0.00834 1.84971E-006 Z">
                                      <p:cBhvr>
                                        <p:cTn id="199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0751E-006 L 0.80834 1.90751E-006 E">
                                      <p:cBhvr>
                                        <p:cTn id="202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834 1.90751E-006 L 0.00834 1.90751E-006 E">
                                      <p:cBhvr>
                                        <p:cTn id="205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2.48555E-006 L -0.00417 0.64925 E">
                                      <p:cBhvr>
                                        <p:cTn id="21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64925 L -1.11022E-016 0.01109 E">
                                      <p:cBhvr>
                                        <p:cTn id="216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2197 C 0.00417 -0.12231 0.06893 -0.20393 0.14809 -0.20532 C 0.22761 -0.20532 0.29167 -0.12255 0.29167 -0.02197 C 0.29167 0.0793 0.22761 0.16046 0.14809 0.16046 C 0.0691 0.16046 0.00486 0.07953 0.00417 -0.02197 Z">
                                      <p:cBhvr>
                                        <p:cTn id="224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2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2173 C 0.00399 -0.11954 0.06753 -0.19931 0.14566 -0.19931 C 0.22361 -0.19931 0.28733 -0.11954 0.28733 -0.0215 C 0.28733 0.0763 0.22361 0.15584 0.14566 0.15584 C 0.06753 0.15584 0.00399 0.0763 0.00399 -0.02173 Z">
                                      <p:cBhvr>
                                        <p:cTn id="227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2197 C 0.00417 -0.12231 0.06893 -0.20393 0.14809 -0.20532 C 0.22761 -0.20532 0.29167 -0.12255 0.29167 -0.02197 C 0.29167 0.0793 0.22761 0.16046 0.14809 0.16046 C 0.0691 0.16046 0.00486 0.07953 0.00417 -0.02197 Z">
                                      <p:cBhvr>
                                        <p:cTn id="235" dur="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3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2173 C 0.00399 -0.11954 0.06753 -0.19931 0.14566 -0.19931 C 0.22361 -0.19931 0.28733 -0.11954 0.28733 -0.0215 C 0.28733 0.0763 0.22361 0.15584 0.14566 0.15584 C 0.06753 0.15584 0.00399 0.0763 0.00399 -0.02173 Z">
                                      <p:cBhvr>
                                        <p:cTn id="238" dur="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20196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384A-F4F1-4775-B2D2-D4563247B9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Запомните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33cc33"/>
                </a:solidFill>
                <a:latin typeface="Tahoma"/>
              </a:rPr>
              <a:t>Имя существительное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 имеет</a:t>
            </a:r>
            <a:r>
              <a:rPr b="1" lang="ru-RU" sz="4800" spc="-1" strike="noStrike">
                <a:solidFill>
                  <a:srgbClr val="33cc33"/>
                </a:solidFill>
                <a:latin typeface="Tahoma"/>
              </a:rPr>
              <a:t> род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ff"/>
                </a:solidFill>
                <a:latin typeface="Tahoma"/>
              </a:rPr>
              <a:t>- </a:t>
            </a:r>
            <a:r>
              <a:rPr b="1" lang="ru-RU" sz="4800" spc="-1" strike="noStrike">
                <a:solidFill>
                  <a:srgbClr val="3366ff"/>
                </a:solidFill>
                <a:latin typeface="Tahoma"/>
              </a:rPr>
              <a:t>мужско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ff"/>
                </a:solidFill>
                <a:latin typeface="Tahoma"/>
              </a:rPr>
              <a:t>- женск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ff"/>
                </a:solidFill>
                <a:latin typeface="Tahoma"/>
              </a:rPr>
              <a:t>- средн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0044-E953-4315-B43F-C1B46BDF59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</a:rPr>
              <a:t>По родам существитель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НЕ ИЗМЕНЯЮТС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Каждое существительное может быть только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мужского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женского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или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реднего 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C1E3-3FCF-4AF9-845F-FF198BD0D2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ahoma"/>
              </a:rPr>
              <a:t>Кла</a:t>
            </a:r>
            <a:r>
              <a:rPr b="1" i="1" lang="en-US" sz="4400" spc="-1" strike="noStrike">
                <a:solidFill>
                  <a:srgbClr val="cc3300"/>
                </a:solidFill>
                <a:latin typeface="Tahoma"/>
              </a:rPr>
              <a:t>cc</a:t>
            </a:r>
            <a:r>
              <a:rPr b="1" i="1" lang="ru-RU" sz="4400" spc="-1" strike="noStrike">
                <a:solidFill>
                  <a:srgbClr val="6600cc"/>
                </a:solidFill>
                <a:latin typeface="Tahoma"/>
              </a:rPr>
              <a:t>, иней, пальто, герой, месяц, одежда, молоко, ягода, собака, картина, компьютер, Ро</a:t>
            </a:r>
            <a:r>
              <a:rPr b="1" i="1" lang="ru-RU" sz="4400" spc="-1" strike="noStrike">
                <a:solidFill>
                  <a:srgbClr val="cc3300"/>
                </a:solidFill>
                <a:latin typeface="Tahoma"/>
              </a:rPr>
              <a:t>сс</a:t>
            </a:r>
            <a:r>
              <a:rPr b="1" i="1" lang="ru-RU" sz="4400" spc="-1" strike="noStrike">
                <a:solidFill>
                  <a:srgbClr val="6600cc"/>
                </a:solidFill>
                <a:latin typeface="Tahoma"/>
              </a:rPr>
              <a:t>ия, облако, щавель, фамил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7D9-79E4-40F4-8C18-5B29764847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original"/>
          <p:cNvPicPr/>
          <p:nvPr/>
        </p:nvPicPr>
        <p:blipFill>
          <a:blip r:embed="rId1"/>
          <a:stretch/>
        </p:blipFill>
        <p:spPr>
          <a:xfrm>
            <a:off x="6012000" y="1557360"/>
            <a:ext cx="1547640" cy="1512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1873080" cy="1224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63" name="Picture 3" descr="1279816510_106434549_10----1279816510"/>
          <p:cNvPicPr/>
          <p:nvPr/>
        </p:nvPicPr>
        <p:blipFill>
          <a:blip r:embed="rId3"/>
          <a:stretch/>
        </p:blipFill>
        <p:spPr>
          <a:xfrm>
            <a:off x="2124000" y="189000"/>
            <a:ext cx="1871640" cy="16174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4" name="Picture 6" descr=""/>
          <p:cNvPicPr/>
          <p:nvPr/>
        </p:nvPicPr>
        <p:blipFill>
          <a:blip r:embed="rId4"/>
          <a:stretch/>
        </p:blipFill>
        <p:spPr>
          <a:xfrm>
            <a:off x="6659640" y="3213000"/>
            <a:ext cx="1871640" cy="1370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5" name="Picture 3" descr="1269845976_100329s-ant5"/>
          <p:cNvPicPr/>
          <p:nvPr/>
        </p:nvPicPr>
        <p:blipFill>
          <a:blip r:embed="rId5"/>
          <a:stretch/>
        </p:blipFill>
        <p:spPr>
          <a:xfrm>
            <a:off x="7740720" y="1557360"/>
            <a:ext cx="1187280" cy="1511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6" name="i-main-pic" descr="Описание: Картинка 10 из 64000"/>
          <p:cNvPicPr/>
          <p:nvPr/>
        </p:nvPicPr>
        <p:blipFill>
          <a:blip r:embed="rId6"/>
          <a:stretch/>
        </p:blipFill>
        <p:spPr>
          <a:xfrm>
            <a:off x="4140360" y="4437000"/>
            <a:ext cx="1641240" cy="2087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7" name="Picture 7" descr=""/>
          <p:cNvPicPr/>
          <p:nvPr/>
        </p:nvPicPr>
        <p:blipFill>
          <a:blip r:embed="rId7"/>
          <a:stretch/>
        </p:blipFill>
        <p:spPr>
          <a:xfrm>
            <a:off x="468360" y="189000"/>
            <a:ext cx="1469880" cy="18000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168" name="Picture 3" descr="6249_0"/>
          <p:cNvPicPr/>
          <p:nvPr/>
        </p:nvPicPr>
        <p:blipFill>
          <a:blip r:embed="rId8"/>
          <a:stretch/>
        </p:blipFill>
        <p:spPr>
          <a:xfrm>
            <a:off x="4284720" y="189000"/>
            <a:ext cx="1415880" cy="1584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9" name="Picture 20" descr="КОФЕ"/>
          <p:cNvPicPr/>
          <p:nvPr/>
        </p:nvPicPr>
        <p:blipFill>
          <a:blip r:embed="rId9"/>
          <a:stretch/>
        </p:blipFill>
        <p:spPr>
          <a:xfrm>
            <a:off x="2340000" y="2205000"/>
            <a:ext cx="1527120" cy="2016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0" name="Picture 24" descr="pic3"/>
          <p:cNvPicPr/>
          <p:nvPr/>
        </p:nvPicPr>
        <p:blipFill>
          <a:blip r:embed="rId10"/>
          <a:stretch/>
        </p:blipFill>
        <p:spPr>
          <a:xfrm>
            <a:off x="179280" y="3789360"/>
            <a:ext cx="1944720" cy="1295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71" name="Picture 26" descr="книга1"/>
          <p:cNvPicPr/>
          <p:nvPr/>
        </p:nvPicPr>
        <p:blipFill>
          <a:blip r:embed="rId11"/>
          <a:stretch/>
        </p:blipFill>
        <p:spPr>
          <a:xfrm>
            <a:off x="6516720" y="189000"/>
            <a:ext cx="2016000" cy="1152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2" name="Picture 27" descr="лиса"/>
          <p:cNvPicPr/>
          <p:nvPr/>
        </p:nvPicPr>
        <p:blipFill>
          <a:blip r:embed="rId12"/>
          <a:stretch/>
        </p:blipFill>
        <p:spPr>
          <a:xfrm>
            <a:off x="179280" y="2276640"/>
            <a:ext cx="1873440" cy="1290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3" name="Picture 28" descr="пальто"/>
          <p:cNvPicPr/>
          <p:nvPr/>
        </p:nvPicPr>
        <p:blipFill>
          <a:blip r:embed="rId13"/>
          <a:stretch/>
        </p:blipFill>
        <p:spPr>
          <a:xfrm>
            <a:off x="5940360" y="4724280"/>
            <a:ext cx="1322280" cy="18018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74" name="Picture 29" descr="кенгуру"/>
          <p:cNvPicPr/>
          <p:nvPr/>
        </p:nvPicPr>
        <p:blipFill>
          <a:blip r:embed="rId14"/>
          <a:stretch/>
        </p:blipFill>
        <p:spPr>
          <a:xfrm>
            <a:off x="2411280" y="4437000"/>
            <a:ext cx="1511280" cy="2089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5" name="Picture 33" descr="1458"/>
          <p:cNvPicPr/>
          <p:nvPr/>
        </p:nvPicPr>
        <p:blipFill>
          <a:blip r:embed="rId15"/>
          <a:stretch/>
        </p:blipFill>
        <p:spPr>
          <a:xfrm>
            <a:off x="4211640" y="2205000"/>
            <a:ext cx="1614600" cy="18003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76" name="Picture 34" descr="какао"/>
          <p:cNvPicPr/>
          <p:nvPr/>
        </p:nvPicPr>
        <p:blipFill>
          <a:blip r:embed="rId16"/>
          <a:stretch/>
        </p:blipFill>
        <p:spPr>
          <a:xfrm>
            <a:off x="7524720" y="4724280"/>
            <a:ext cx="1440000" cy="180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0920" y="25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61616"/>
                </a:solidFill>
                <a:latin typeface="Tahoma"/>
              </a:rPr>
              <a:t>кр</a:t>
            </a:r>
            <a:r>
              <a:rPr b="1" lang="ru-RU" sz="9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9600" spc="-1" strike="noStrike">
                <a:solidFill>
                  <a:srgbClr val="161616"/>
                </a:solidFill>
                <a:latin typeface="Tahoma"/>
              </a:rPr>
              <a:t>вать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761C-78F3-4130-9F86-6C5392E52E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C:\Users\Андрей\Desktop\фильм\i.jpg"/>
          <p:cNvPicPr/>
          <p:nvPr/>
        </p:nvPicPr>
        <p:blipFill>
          <a:blip r:embed="rId1"/>
          <a:stretch/>
        </p:blipFill>
        <p:spPr>
          <a:xfrm>
            <a:off x="1547640" y="2197080"/>
            <a:ext cx="6093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57E7-DC38-47E7-9A1C-40829AF7DB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Правило определения рода имени существительног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Заменяем имя существительное одним из местоимений: он, она, оно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Определяем род имени существительного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Если сложно, обращаемся  к словарю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2B84-4B28-4758-9A97-BFAB755FEE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Picture 6" descr="http://usmishka.at.ua/pics/docs/osanka.gif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264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95" name="Picture 6" descr="http://usmishka.at.ua/pics/docs/osanka.gif"/>
          <p:cNvPicPr/>
          <p:nvPr/>
        </p:nvPicPr>
        <p:blipFill>
          <a:blip r:embed="rId2"/>
          <a:stretch/>
        </p:blipFill>
        <p:spPr>
          <a:xfrm>
            <a:off x="250920" y="333360"/>
            <a:ext cx="8424720" cy="6264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96" name="Picture 6" descr="http://usmishka.at.ua/pics/docs/osanka.gif"/>
          <p:cNvPicPr/>
          <p:nvPr/>
        </p:nvPicPr>
        <p:blipFill>
          <a:blip r:embed="rId3"/>
          <a:stretch/>
        </p:blipFill>
        <p:spPr>
          <a:xfrm>
            <a:off x="250920" y="333360"/>
            <a:ext cx="8424720" cy="6264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97" name="Picture 6" descr="http://usmishka.at.ua/pics/docs/osanka.gif"/>
          <p:cNvPicPr/>
          <p:nvPr/>
        </p:nvPicPr>
        <p:blipFill>
          <a:blip r:embed="rId4"/>
          <a:stretch/>
        </p:blipFill>
        <p:spPr>
          <a:xfrm>
            <a:off x="250920" y="333360"/>
            <a:ext cx="8424720" cy="6264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04AD-D951-4C4F-87AD-D226A0F7B2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Запомни!!!</a:t>
            </a:r>
            <a:br>
              <a:rPr sz="60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Tahoma"/>
              </a:rPr>
              <a:t>Пони, какаду, шимпанзе, фламинго, кенгуру, кофе, шампунь, тюль –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мужского рода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Tahoma"/>
              </a:rPr>
              <a:t>Пальто, радио, шоссе, кино, метро, пианино, какао, эскимо, желе, меню –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реднего рода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DE24-E097-4421-8F96-095C91B06A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Женский род</a:t>
            </a: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 запомню 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И скажу: </a:t>
            </a:r>
            <a:r>
              <a:rPr b="1" i="1" lang="ru-RU" sz="4800" spc="-1" strike="noStrike">
                <a:solidFill>
                  <a:srgbClr val="009999"/>
                </a:solidFill>
                <a:latin typeface="Times New Roman"/>
              </a:rPr>
              <a:t>«Она – моя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И запомню род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мужско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И опять скажу: </a:t>
            </a:r>
            <a:r>
              <a:rPr b="1" i="1" lang="ru-RU" sz="4800" spc="-1" strike="noStrike">
                <a:solidFill>
                  <a:srgbClr val="009999"/>
                </a:solidFill>
                <a:latin typeface="Times New Roman"/>
              </a:rPr>
              <a:t>«Он - мой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Средний род</a:t>
            </a: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 – </a:t>
            </a:r>
            <a:r>
              <a:rPr b="1" i="1" lang="ru-RU" sz="4800" spc="-1" strike="noStrike">
                <a:solidFill>
                  <a:srgbClr val="009999"/>
                </a:solidFill>
                <a:latin typeface="Times New Roman"/>
              </a:rPr>
              <a:t>оно, моё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Это правило твоё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84360" y="476280"/>
            <a:ext cx="820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4C7A-4193-4457-BEAC-99D6AC6800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 в.</a:t>
            </a: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 –на тему «Огород» записать 5 существительных муж. рода, 5 сущ. ж.р., 5 сущ. ср. рода.</a:t>
            </a:r>
            <a:r>
              <a:rPr b="0" lang="ru-RU" sz="3200" spc="-1" strike="noStrike">
                <a:solidFill>
                  <a:srgbClr val="99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 в.</a:t>
            </a: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 – из орфографического словарика в конце учебника выписать 5 существительных муж. рода, 5 сущ. женского рода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5 сущ. среднего род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d"/>
                </a:solidFill>
                <a:latin typeface="Tahoma"/>
              </a:rPr>
              <a:t>Мне этот урок дал для жизни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d"/>
                </a:solidFill>
                <a:latin typeface="Tahoma"/>
              </a:rPr>
              <a:t>Урок показался интересным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d"/>
                </a:solidFill>
                <a:latin typeface="Tahoma"/>
              </a:rPr>
              <a:t>Я научился на уроке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1241-D091-482D-882A-6C087DF62A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CC72-6998-44D7-9FAB-ABA1B45592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cc"/>
                </a:solidFill>
                <a:latin typeface="Tahoma"/>
              </a:rPr>
              <a:t>Спасибо за работу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Три</a:t>
            </a:r>
            <a:r>
              <a:rPr b="1" lang="ru-RU" sz="4400" spc="-1" strike="noStrike" u="sng">
                <a:solidFill>
                  <a:srgbClr val="161616"/>
                </a:solidFill>
                <a:uFillTx/>
                <a:latin typeface="Tahoma"/>
              </a:rPr>
              <a:t>д</a:t>
            </a: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цат</a:t>
            </a:r>
            <a:r>
              <a:rPr b="1" lang="ru-RU" sz="4400" spc="-1" strike="noStrike" u="sng">
                <a:solidFill>
                  <a:srgbClr val="161616"/>
                </a:solidFill>
                <a:uFillTx/>
                <a:latin typeface="Tahoma"/>
              </a:rPr>
              <a:t>ь</a:t>
            </a: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 первое янв</a:t>
            </a:r>
            <a:r>
              <a:rPr b="1" lang="ru-RU" sz="4400" spc="-1" strike="noStrike" u="sng">
                <a:solidFill>
                  <a:srgbClr val="161616"/>
                </a:solidFill>
                <a:uFillTx/>
                <a:latin typeface="Tahoma"/>
              </a:rPr>
              <a:t>а</a:t>
            </a: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р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Кла</a:t>
            </a:r>
            <a:r>
              <a:rPr b="1" lang="ru-RU" sz="4400" spc="-1" strike="noStrike" u="sng">
                <a:solidFill>
                  <a:srgbClr val="161616"/>
                </a:solidFill>
                <a:uFillTx/>
                <a:latin typeface="Tahoma"/>
              </a:rPr>
              <a:t>сс</a:t>
            </a: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ная р</a:t>
            </a:r>
            <a:r>
              <a:rPr b="1" lang="ru-RU" sz="4400" spc="-1" strike="noStrike" u="sng">
                <a:solidFill>
                  <a:srgbClr val="161616"/>
                </a:solidFill>
                <a:uFillTx/>
                <a:latin typeface="Tahoma"/>
              </a:rPr>
              <a:t>а</a:t>
            </a: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бо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FD90-EA43-4A5D-808D-7F09655347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E386-BBD7-4320-BD11-EC191B7C04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ahoma"/>
              </a:rPr>
              <a:t>       </a:t>
            </a:r>
            <a:r>
              <a:rPr b="1" i="1" lang="ru-RU" sz="4800" spc="-1" strike="noStrike">
                <a:solidFill>
                  <a:srgbClr val="cc0000"/>
                </a:solidFill>
                <a:latin typeface="Tahoma"/>
              </a:rPr>
              <a:t>Лл   </a:t>
            </a:r>
            <a:br>
              <a:rPr sz="4800"/>
            </a:br>
            <a:br>
              <a:rPr sz="4800"/>
            </a:b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Лес, лесок, лесная, лесник.</a:t>
            </a:r>
            <a:br>
              <a:rPr sz="4400"/>
            </a:b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Учить – ум точи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8" descr="рис.8"/>
          <p:cNvPicPr/>
          <p:nvPr/>
        </p:nvPicPr>
        <p:blipFill>
          <a:blip r:embed="rId1"/>
          <a:stretch/>
        </p:blipFill>
        <p:spPr>
          <a:xfrm>
            <a:off x="-50760" y="260280"/>
            <a:ext cx="3803760" cy="453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Повторение изученного материал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9AFC-354E-4194-8787-C28A7C7534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50A7-669E-4BF9-B8B5-9C065EEC35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Б..рёза, заря..ка, в..сна, с..рока, со..нце, л..пить, гн..здо, праз..ник, комн..та, сер..це, сне.., лоша..ь, тр..ва, бр..вн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F7C5-5816-4CD2-858E-A415558A0F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Б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рёза, заря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ка, в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сна, с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рока, со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л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нце, л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пить, гн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здо, праз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ник, комн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та, сер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це, сне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г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, лоша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ь, тр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ва, бр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вн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рочитайте вопрос на с. 25 и сформулируйте тему урока и учебную задач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BCF1-5E51-4997-9B73-6F5F30B80B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1C86-2210-4000-94D4-3E39A4687E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Tahoma"/>
              </a:rPr>
              <a:t>Род имён существительных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04:38:21Z</dcterms:created>
  <dc:creator>МОУ ДПО взрослых "Центр инф-х технологий обучения"</dc:creator>
  <dc:description/>
  <dc:language>en-US</dc:language>
  <cp:lastModifiedBy>Андрей</cp:lastModifiedBy>
  <dcterms:modified xsi:type="dcterms:W3CDTF">2017-01-30T19:57:22Z</dcterms:modified>
  <cp:revision>107</cp:revision>
  <dc:subject/>
  <dc:title>Род имён существительных Урок русского языка в 3  классе</dc:title>
</cp:coreProperties>
</file>