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2DEC-15A9-4BAB-B7CC-C0F255953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E171-A49E-48D8-8A83-8481A5C53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3F4-1C1A-46E5-96FA-C265549B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A1C-2C18-49B7-8860-5596915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9E6-7DA7-47C5-B07B-8BC7C125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5CD-6951-442A-9F27-C7B20067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BE14-CD3E-4666-A26D-5CBAE6F7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598F-0E18-4A5B-A7D8-65F511C3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5C5E-1D4F-4AD6-8FAD-79BEAEBA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4DF1-0458-44B9-BC4C-C6D51226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597F-C4AE-4B17-8D98-9018254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7EDF-4554-4CA3-B3BA-711B48B4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F34F-84DD-48D2-93D2-D3BAFAD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36A-608A-43AB-B921-17A40D5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48F4-F07C-489B-A43E-D5C1694E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C1A6-D8A4-4BE3-BD62-8FC4CD8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A7C7-1144-476A-A060-A5BDEDF9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6380-DCAA-4C42-A8DC-E8E6986F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A967-57B4-4F7A-993B-DC9C2B9F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ABA7-A897-4BE3-9FAF-6E56AF3B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18EA-7638-4533-93D6-ED70F38A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D46B-F9FB-4FF0-B0FC-C79C597B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F883-E31E-40DC-86B8-F1745141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4FCC-228A-48DF-9E32-A1C17AA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FB5-A9C2-41D5-823C-D33C278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6804-9355-4B21-8EEA-DF88037C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7F06-C070-44EF-AEF2-017088E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E07A-F76F-4F14-9665-31D045C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65CB-83E1-4198-A203-6B52553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9ABC-5433-4698-98E9-74DACBD6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2F29-11BC-4988-A69A-D03C326A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B2BE-300A-490A-8E5D-A760778C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04FF-32EC-4B13-BFCA-503E12A2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6136-5154-448C-86AE-8ED635C5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21FA-2604-4300-AA92-1184843D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412-CE12-4D13-A682-D726DBE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F425-3AF8-4112-9A53-EF7F1FE8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E8C5-BECD-4438-8BC9-FFD1783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A69B-CA6C-4617-B581-3F73822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E920-EDD4-46E0-BC84-015ABB4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CFA3-5C05-47A4-99ED-AF03210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27E9-21ED-480C-B25D-2422A63D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C35F4-0EBF-43D0-AFD9-22FC7DA1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FA93-BD0B-4F2F-88B0-94B610D0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DB59-3F76-4107-B7B9-0EA48D24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4E5CA-A9F5-464C-995D-28AADC2D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6E7-757E-4020-B95F-40FD332C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7048F-891F-4E07-91EA-DE0BBEF0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15F6-B297-4CB2-A08F-0D8FB316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2724-C18D-40ED-934D-1650328A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368F-3F17-45C6-898F-8BA209F1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D01BD-9194-4643-8D33-A2FCBC99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ACC2-7362-4F22-9735-DFD1481C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75ECC-BEAE-41BA-9F39-4C1D8A0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A56ED-78D3-47B7-8C4E-F0827F3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04598-2BF2-41BF-B8A9-1187F9F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E550-2906-44C2-A1D1-7D4C406D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242-EB75-478A-864C-AFE6541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9846-9359-46A1-A78C-53774271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C2E4-C125-4564-995F-CB49A7A4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348BC-136E-43B7-A726-B7FAE605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8D97-BC8E-4718-8B20-ADFEE61F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0B01-4431-46AD-BFCB-A355E22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F024A-F65C-4027-8328-1CA6A9A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595C-C179-4914-BAD9-1E6CC4E9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1B26D-00FD-491F-86F7-FAA2E3E3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5839-6E64-4531-90BD-BFB0B6E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4033-6339-44E2-A25B-78D9D03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6D7-E6A1-4385-B620-4D0F436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8124-EB90-4E41-B1BD-FD5434D1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5D209-1D95-427E-B4B9-E596E236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55FA4-68AB-43DF-88E3-D74F6E50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9EBB-EB18-4C6E-8F31-F01D7790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9F4A8-06F7-445C-AAFB-BAE2536C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3158-3AC7-4648-B3B9-CA9B1C0F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4239F-173B-4B12-AB87-5F7D3498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297A4-82C9-4D77-B984-EA6D8AAD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0DF86-36EE-4B7F-A022-1BCA8C53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CDE61-5D23-4C31-96FD-E7A37C26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D68-A083-4B47-BC8B-128FD99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C0B9-6905-4CB7-980D-76FAF3B8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700C1-FBDF-4813-B435-B65CEA5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54C1F-68DF-494F-BB61-1DB54891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62E60-454E-4317-B5F5-EA2281AF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D899-D066-4098-8918-069AC7E0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B33-9D85-4617-909D-8B6BC4F5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0691-B72F-429C-9AEB-F8D35B8650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69DD-39A4-464C-838D-9E3AB408B7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60C5-8D6C-499B-BFEA-8C49F8061E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93A-4362-4D77-8367-014B0CE374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56E2-AF47-473D-8203-A2DEA8FC58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132C-0FA3-42A6-96F5-9E194B8E2C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135C-9860-4C44-9850-1802511275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s10714.vkontakte.ru/u150403415/-14/x_68f70433.jpg" TargetMode="External"/><Relationship Id="rId2" Type="http://schemas.openxmlformats.org/officeDocument/2006/relationships/hyperlink" Target="http://rebenok.by/pics/image/0109-300x270.png" TargetMode="External"/><Relationship Id="rId3" Type="http://schemas.openxmlformats.org/officeDocument/2006/relationships/hyperlink" Target="http://cs317718.vk.me/v317718158/3c71/oietUyr1Rdc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3" descr=""/>
          <p:cNvPicPr/>
          <p:nvPr/>
        </p:nvPicPr>
        <p:blipFill>
          <a:blip r:embed="rId1"/>
          <a:stretch/>
        </p:blipFill>
        <p:spPr>
          <a:xfrm>
            <a:off x="719280" y="712800"/>
            <a:ext cx="8448480" cy="279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32576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0080" y="691920"/>
            <a:ext cx="8683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асть,  в грязь,  не ударить,  в неб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цом,   пальц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99700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042560" y="189000"/>
            <a:ext cx="789156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Фразеологизм  -  устойчивое выраж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Попасть пальцем в неб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азать невпопад, не то, что следует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Не ударить в грязь лицом.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е опозоритьс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6156360" y="3544920"/>
            <a:ext cx="2987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4005360"/>
            <a:ext cx="2320920" cy="28526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абота над предложениям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64448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Сегодня были веселые старты, и мы …………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На уроке математики я неправильно объяснил решение задачи – …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6443640" y="3860640"/>
            <a:ext cx="2509920" cy="27813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Сегодня были веселые старты, и мы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не ударили в грязь лиц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На уроке математики я неправильно объяснил решение задачи –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</a:rPr>
              <a:t>попал пальцем в неб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Итог  уро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24000" y="14176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то мы вспоминали и повторяли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 Как  будем определять склонение имени существитель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6300720" y="3738600"/>
            <a:ext cx="26589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Оцени свою работу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1476360" y="1484280"/>
            <a:ext cx="1079640" cy="446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Овал 4" descr=""/>
          <p:cNvPicPr/>
          <p:nvPr/>
        </p:nvPicPr>
        <p:blipFill>
          <a:blip r:embed="rId1"/>
          <a:stretch/>
        </p:blipFill>
        <p:spPr>
          <a:xfrm>
            <a:off x="1463760" y="3730680"/>
            <a:ext cx="1077840" cy="1085760"/>
          </a:xfrm>
          <a:prstGeom prst="rect">
            <a:avLst/>
          </a:prstGeom>
          <a:ln w="0">
            <a:noFill/>
          </a:ln>
        </p:spPr>
      </p:pic>
      <p:pic>
        <p:nvPicPr>
          <p:cNvPr id="367" name="Овал 7" descr=""/>
          <p:cNvPicPr/>
          <p:nvPr/>
        </p:nvPicPr>
        <p:blipFill>
          <a:blip r:embed="rId2"/>
          <a:stretch/>
        </p:blipFill>
        <p:spPr>
          <a:xfrm>
            <a:off x="1463760" y="2646360"/>
            <a:ext cx="1077840" cy="1084320"/>
          </a:xfrm>
          <a:prstGeom prst="rect">
            <a:avLst/>
          </a:prstGeom>
          <a:ln w="0">
            <a:noFill/>
          </a:ln>
        </p:spPr>
      </p:pic>
      <p:sp>
        <p:nvSpPr>
          <p:cNvPr id="368" name="Овал 8"/>
          <p:cNvSpPr/>
          <p:nvPr/>
        </p:nvSpPr>
        <p:spPr>
          <a:xfrm>
            <a:off x="1547640" y="1628640"/>
            <a:ext cx="914400" cy="914400"/>
          </a:xfrm>
          <a:prstGeom prst="ellipse">
            <a:avLst/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2700360" y="2852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 не все понял(а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9"/>
          <p:cNvSpPr/>
          <p:nvPr/>
        </p:nvSpPr>
        <p:spPr>
          <a:xfrm>
            <a:off x="2837160" y="17733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ыло сложно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2564640" y="393372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 молодец! Я со всем справилась(ся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"/>
          <p:cNvPicPr/>
          <p:nvPr/>
        </p:nvPicPr>
        <p:blipFill>
          <a:blip r:embed="rId3"/>
          <a:stretch/>
        </p:blipFill>
        <p:spPr>
          <a:xfrm>
            <a:off x="6273720" y="4508640"/>
            <a:ext cx="2637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1042920" y="0"/>
            <a:ext cx="3529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8" descr=""/>
          <p:cNvPicPr/>
          <p:nvPr/>
        </p:nvPicPr>
        <p:blipFill>
          <a:blip r:embed="rId2"/>
          <a:stretch/>
        </p:blipFill>
        <p:spPr>
          <a:xfrm>
            <a:off x="1182600" y="3103560"/>
            <a:ext cx="7284960" cy="1133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3"/>
          <a:stretch/>
        </p:blipFill>
        <p:spPr>
          <a:xfrm>
            <a:off x="6659640" y="4199040"/>
            <a:ext cx="2268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Использованные</a:t>
            </a:r>
            <a:br>
              <a:rPr sz="3900"/>
            </a:b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 интернет-ресурс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0328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http://cs10714.vkontakte.ru/u150403415/-14/x_68f70433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http://rebenok.by/pics/image/0109-300x270.p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http://cs317718.vk.me/v317718158/3c71/oietUyr1Rdc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veselajashkola.ru/wp-content/uploads/2011/10/shkolnye_kartinki_ll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8b-mbou-1.ucoz.ru/12_5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www.ternoosch.narod.ru/images/1217821185_12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eleklim.ucoz.ru/_si/0/03233207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festival.1september.ru/articles/509621/img2.gif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www.psyhology-sch511.edusite.ru/images/0_84c1d_1408ba0c_xl.gif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fafka.ru/wp-content/uploads/2009/09/neznayka-big.p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ttp://img2.minibanda.ru/Notes/9/a/4/cache/9a45c050-9b74-49ba-a657-f87e89b06f6b-w500-h500.jp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83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097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Чистопис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979640" y="2282760"/>
            <a:ext cx="716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р     Ри   Ро   Рв    ро   ре   рм   ру   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Рита  и  Рома  дружно  играли  в  горо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6012000" y="3584520"/>
            <a:ext cx="2952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C:\Users\Учитель 11\Desktop\img2.gif"/>
          <p:cNvPicPr/>
          <p:nvPr/>
        </p:nvPicPr>
        <p:blipFill>
          <a:blip r:embed="rId1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5"/>
          <p:cNvSpPr/>
          <p:nvPr/>
        </p:nvSpPr>
        <p:spPr>
          <a:xfrm>
            <a:off x="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191412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7"/>
          <p:cNvSpPr/>
          <p:nvPr/>
        </p:nvSpPr>
        <p:spPr>
          <a:xfrm>
            <a:off x="357084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551484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9"/>
          <p:cNvSpPr/>
          <p:nvPr/>
        </p:nvSpPr>
        <p:spPr>
          <a:xfrm>
            <a:off x="7746840" y="6308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6910560" y="4060800"/>
            <a:ext cx="2233440" cy="27972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ловарная  раб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971640" y="1200240"/>
            <a:ext cx="8172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1f497d"/>
                </a:solidFill>
                <a:latin typeface="Times New Roman"/>
              </a:rPr>
              <a:t>Инженер,  интересный,  календарь, капуста,  карандаш, картина, картофель,  квартира,  килограмм,  километр,  класс, коллектив, командир, комбайн,  комната,  корабль,  корова,  космонавт,  кос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2792520" cy="3095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72314"/>
                </a:solidFill>
                <a:latin typeface="Corbel"/>
              </a:rPr>
              <a:t>Подумай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02920" y="1484280"/>
            <a:ext cx="69138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интересный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- </a:t>
            </a: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какой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интерес – </a:t>
            </a:r>
            <a:r>
              <a:rPr b="1" i="1" lang="ru-RU" sz="4400" spc="-1" strike="noStrike">
                <a:solidFill>
                  <a:srgbClr val="c00000"/>
                </a:solidFill>
                <a:latin typeface="Corbe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572314"/>
                </a:solidFill>
                <a:latin typeface="Corbel"/>
              </a:rPr>
              <a:t>Вспомни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03280" y="1052280"/>
            <a:ext cx="749952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Бедный                                  Старый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6227640" y="3625920"/>
            <a:ext cx="29163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1979640" cy="28954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БОР      ОДНОКОРЕННЫХ </a:t>
            </a:r>
            <a:br>
              <a:rPr sz="2800"/>
            </a:b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МЕН   СУЩЕСТВИТЕЛЬНЫХ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560" y="292428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дный –    беднота,  бедняк,  бед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ый –  старуха, старик, стар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Users\Учитель 11\Desktop\03233207.jpg"/>
          <p:cNvPicPr/>
          <p:nvPr/>
        </p:nvPicPr>
        <p:blipFill>
          <a:blip r:embed="rId1"/>
          <a:stretch/>
        </p:blipFill>
        <p:spPr>
          <a:xfrm>
            <a:off x="900000" y="17640"/>
            <a:ext cx="82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21:53:24Z</dcterms:created>
  <dc:creator>Учитель 11</dc:creator>
  <dc:description/>
  <dc:language>en-US</dc:language>
  <cp:lastModifiedBy>Учитель 11</cp:lastModifiedBy>
  <dcterms:modified xsi:type="dcterms:W3CDTF">2013-06-10T19:13:02Z</dcterms:modified>
  <cp:revision>29</cp:revision>
  <dc:subject/>
  <dc:title>Слайд 1</dc:title>
</cp:coreProperties>
</file>