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DFE0-CDA3-4974-9D36-4A2F28DBC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0514-3C07-4C71-A144-5BD73C093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76C-795D-4F3F-8A5D-F8FF0344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7A8-AADC-4274-925F-9A06B37D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084-F2B1-44FA-BBD3-C76CC09B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38F-F6BC-4431-A655-8FC80D08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1DED-1F2D-42DA-847E-F25B36E1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A837-CB11-466E-9567-979D127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F288-5334-4EBA-A178-7DB43465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FE7-250E-4A7A-AC97-72E42D11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1540-3062-4D1E-B892-977658F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C271-D8FE-4E56-887A-0DF48F18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9A5C-980B-484B-B5BD-AB8372B1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BE3-1FEF-4572-B28D-6DB68F16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9C4C-17D1-46C3-B1C0-3616E133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488-A7EC-4002-9EBC-3F2FB41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9878-1485-4A3A-A2FB-2AF72556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D230-A5C9-4608-B237-8B052FE9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701B-6037-4F7B-8C71-0CA91050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9A0D-52D2-4703-8ECA-E9B293D4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4F03-841E-4806-B8B3-5556DFF8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2083-0DBB-4BF9-9964-B66FE56F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8E20-97FC-40F9-9B5C-4B7E3E3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67D9-05B0-4CC8-837C-2DE43358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BA4-790D-41B6-A70E-1B9DA185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D3C9-97EB-4AA8-B8F8-FF8E7CE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9F2B-FC7A-4DF4-8A15-13F0240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6366-1FB8-4706-A69D-28C6E83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84EF-4A5E-4E78-B064-CD53B84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80C5-63F9-4196-8FBB-F83EE92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1007-12EC-4151-9812-8B1C45B3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E551-5FD3-4C84-9A7F-19D9B53D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FF08-E0B9-4B58-958E-446EA8CD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F7DA-F1AF-4313-A02B-EF720DEF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B9A8-AE94-40A9-9B9C-000E014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376-A9E5-4EA9-8C2C-1A5A65D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1BDF-FC26-41FB-B213-F4C4ED58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2118-EBB8-4C05-A381-53700A3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0176-A27B-4365-AB29-AEC7505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5D94-9BBC-4B7F-9208-32F8DBC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0CAE-DCA9-470B-9062-E734044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FC0C-3CB6-426E-824A-8776F2C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F00D-96B4-4A50-891B-3F5CEE81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732B-F75E-4000-8709-95DE0588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AEE3-3518-4491-A954-9FA2B83A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33C7-B7A4-48E4-BFB2-CDE334AB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0B0-F87D-43FE-9CE1-6ED5881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38F3-F34E-4AD2-9A6D-2DF3DD47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1ED1-F699-45A6-B0E7-745CD485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AC62-BA0C-4FFF-91DB-332231A3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426C-5A0F-4237-B236-E9AF4D3C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16C31-BC2E-4FA1-8D1F-5FB68052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C7FF-41F5-4873-A9DD-D6403B2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1273-B38E-4AA4-9E61-0C37B4E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CEC6-9D8A-4DF7-8C3C-E324170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610B-8A99-4BA7-85B7-AFF65337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575D-376F-4CC2-BDF6-7291AA2C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57B-0FA1-4284-81A0-A5DB536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A537-4A54-4A22-83EC-58AD0995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46DDB-FE7B-4D0B-A100-C9211A60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EF93-BFB0-4038-BC10-1B328C8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5050-E073-40F1-86E7-38A40A6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1208-46C8-413B-97B9-8E0AA50A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CD17-C7CA-4BE6-9435-A33EB77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06E9-0803-457A-974E-7B10D4D6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98F7-B09C-43D5-AB62-348B424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2930-1A39-4DEB-94FD-10DDEFED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3CD9-DCC5-455A-9FF2-749774F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7C9-8895-4242-B3F6-657C7CB0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3531-A645-4473-B02F-2C41851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0141-7D25-47C3-89E1-AF994568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7825-D024-4AB9-BBEA-ADC3F16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B979-63AC-462D-8C0B-C7010977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0521-9F4B-4E91-BCD0-84A5C6C8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8B3B-6D4F-486E-88A0-848EF3E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B3971-C6CE-46FF-9E5F-B5F45E99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3B823-A788-4970-B111-714109D0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594C-F169-4C7B-B0AD-CF064E16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3DB5-A0D9-44DB-889D-DB5F243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1D8-26C0-4402-A311-6D9B1950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3E5E-A479-4BC5-8AB0-4C26F2FD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141B-E948-4077-9857-B020167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597D3-E490-40D5-A754-BB0A6C6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D5CC-E95B-4FD3-B5FC-D9E0371E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0C7D-580A-4E0B-B0C2-3D593059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762-91A0-4221-B2C4-D6DC9AC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A99-2D9B-4454-9511-D7C968511F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7D06-698F-4F36-8A8B-395576C227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602D-E0ED-4FC0-B90D-9ADA703FE5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885-3970-4C8B-AB3D-9F64E38E7E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CA8-3DE3-48D1-90C5-9AC5EA8876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8E80-9646-4D87-A5C8-F9B82F5FF1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749-C127-45AB-B19F-18996557DD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s10714.vkontakte.ru/u150403415/-14/x_68f70433.jpg" TargetMode="External"/><Relationship Id="rId2" Type="http://schemas.openxmlformats.org/officeDocument/2006/relationships/hyperlink" Target="http://rebenok.by/pics/image/0109-300x270.png" TargetMode="External"/><Relationship Id="rId3" Type="http://schemas.openxmlformats.org/officeDocument/2006/relationships/hyperlink" Target="http://cs317718.vk.me/v317718158/3c71/oietUyr1Rdc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712800"/>
            <a:ext cx="8448480" cy="279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32576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0080" y="691920"/>
            <a:ext cx="8683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асть,  в грязь,  не ударить,  в неб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ом,   пальц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9970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042560" y="189000"/>
            <a:ext cx="789156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Фразеологизм  -  устойчивое выраж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Попасть пальцем в неб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азать невпопад, не то, что следует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Не ударить в грязь лицом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е опозоритьс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6156360" y="3544920"/>
            <a:ext cx="2987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4005360"/>
            <a:ext cx="2320920" cy="2852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абота над предложениям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64448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Сегодня были веселые старты, и мы …………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 уроке математики я неправильно объяснил решение задачи – …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6443640" y="3860640"/>
            <a:ext cx="2509920" cy="2781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Сегодня были веселые старты, и мы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не ударили в грязь лиц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 уроке математики я неправильно объяснил решение задачи –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попал пальцем в неб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Итог 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24000" y="14176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то мы вспоминали и повторя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Как  будем определять склонение имени существитель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6300720" y="3738600"/>
            <a:ext cx="26589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Оцени свою работу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1476360" y="1484280"/>
            <a:ext cx="1079640" cy="446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Овал 4" descr=""/>
          <p:cNvPicPr/>
          <p:nvPr/>
        </p:nvPicPr>
        <p:blipFill>
          <a:blip r:embed="rId1"/>
          <a:stretch/>
        </p:blipFill>
        <p:spPr>
          <a:xfrm>
            <a:off x="1463760" y="3730680"/>
            <a:ext cx="1077840" cy="1085760"/>
          </a:xfrm>
          <a:prstGeom prst="rect">
            <a:avLst/>
          </a:prstGeom>
          <a:ln w="0">
            <a:noFill/>
          </a:ln>
        </p:spPr>
      </p:pic>
      <p:pic>
        <p:nvPicPr>
          <p:cNvPr id="367" name="Овал 7" descr=""/>
          <p:cNvPicPr/>
          <p:nvPr/>
        </p:nvPicPr>
        <p:blipFill>
          <a:blip r:embed="rId2"/>
          <a:stretch/>
        </p:blipFill>
        <p:spPr>
          <a:xfrm>
            <a:off x="1463760" y="2646360"/>
            <a:ext cx="1077840" cy="1084320"/>
          </a:xfrm>
          <a:prstGeom prst="rect">
            <a:avLst/>
          </a:prstGeom>
          <a:ln w="0">
            <a:noFill/>
          </a:ln>
        </p:spPr>
      </p:pic>
      <p:sp>
        <p:nvSpPr>
          <p:cNvPr id="368" name="Овал 8"/>
          <p:cNvSpPr/>
          <p:nvPr/>
        </p:nvSpPr>
        <p:spPr>
          <a:xfrm>
            <a:off x="1547640" y="1628640"/>
            <a:ext cx="914400" cy="914400"/>
          </a:xfrm>
          <a:prstGeom prst="ellipse">
            <a:avLst/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2700360" y="2852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 не все понял(а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2837160" y="17733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ыло сложно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2564640" y="393372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 молодец! Я со всем справилась(ся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"/>
          <p:cNvPicPr/>
          <p:nvPr/>
        </p:nvPicPr>
        <p:blipFill>
          <a:blip r:embed="rId3"/>
          <a:stretch/>
        </p:blipFill>
        <p:spPr>
          <a:xfrm>
            <a:off x="6273720" y="4508640"/>
            <a:ext cx="2637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1042920" y="0"/>
            <a:ext cx="3529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8" descr=""/>
          <p:cNvPicPr/>
          <p:nvPr/>
        </p:nvPicPr>
        <p:blipFill>
          <a:blip r:embed="rId2"/>
          <a:stretch/>
        </p:blipFill>
        <p:spPr>
          <a:xfrm>
            <a:off x="1182600" y="3103560"/>
            <a:ext cx="7284960" cy="113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3"/>
          <a:stretch/>
        </p:blipFill>
        <p:spPr>
          <a:xfrm>
            <a:off x="6659640" y="4199040"/>
            <a:ext cx="2268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Использованные</a:t>
            </a: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 интернет-ресурс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0328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http://cs10714.vkontakte.ru/u150403415/-14/x_68f70433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http://rebenok.by/pics/image/0109-300x270.p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http://cs317718.vk.me/v317718158/3c71/oietUyr1Rdc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veselajashkola.ru/wp-content/uploads/2011/10/shkolnye_kartinki_ll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8b-mbou-1.ucoz.ru/12_5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www.ternoosch.narod.ru/images/1217821185_12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eleklim.ucoz.ru/_si/0/03233207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festival.1september.ru/articles/509621/img2.gi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www.psyhology-sch511.edusite.ru/images/0_84c1d_1408ba0c_xl.gi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fafka.ru/wp-content/uploads/2009/09/neznayka-big.p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img2.minibanda.ru/Notes/9/a/4/cache/9a45c050-9b74-49ba-a657-f87e89b06f6b-w500-h500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83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097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Чистопис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979640" y="2282760"/>
            <a:ext cx="716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р     Ри   Ро   Рв    ро   ре   рм   ру   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ита  и  Рома  дружно  играли  в  горо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6012000" y="3584520"/>
            <a:ext cx="2952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C:\Users\Учитель 11\Desktop\img2.gif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5"/>
          <p:cNvSpPr/>
          <p:nvPr/>
        </p:nvSpPr>
        <p:spPr>
          <a:xfrm>
            <a:off x="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191412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"/>
          <p:cNvSpPr/>
          <p:nvPr/>
        </p:nvSpPr>
        <p:spPr>
          <a:xfrm>
            <a:off x="357084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551484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9"/>
          <p:cNvSpPr/>
          <p:nvPr/>
        </p:nvSpPr>
        <p:spPr>
          <a:xfrm>
            <a:off x="774684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6910560" y="4060800"/>
            <a:ext cx="2233440" cy="27972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ловарная 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971640" y="1200240"/>
            <a:ext cx="8172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нженер,  интересный,  календарь, капуста,  карандаш, картина, картофель,  квартира,  килограмм,  километр,  класс, коллектив, командир, комбайн,  комната,  корабль,  корова,  космонавт,  кос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2792520" cy="3095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02920" y="1484280"/>
            <a:ext cx="69138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интересный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- </a:t>
            </a: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какой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интерес – </a:t>
            </a:r>
            <a:r>
              <a:rPr b="1" i="1" lang="ru-RU" sz="4400" spc="-1" strike="noStrike">
                <a:solidFill>
                  <a:srgbClr val="c00000"/>
                </a:solidFill>
                <a:latin typeface="Corbe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72314"/>
                </a:solidFill>
                <a:latin typeface="Corbel"/>
              </a:rPr>
              <a:t>Вспомни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03280" y="1052280"/>
            <a:ext cx="749952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Бедный                                  Старый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6227640" y="3625920"/>
            <a:ext cx="29163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1979640" cy="28954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БОР      ОДНОКОРЕННЫХ </a:t>
            </a: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МЕН   СУЩЕСТВИТЕЛЬНЫХ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дный –    беднота,  бедняк,  бед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ый –  старуха, старик, стар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Users\Учитель 11\Desktop\03233207.jpg"/>
          <p:cNvPicPr/>
          <p:nvPr/>
        </p:nvPicPr>
        <p:blipFill>
          <a:blip r:embed="rId1"/>
          <a:stretch/>
        </p:blipFill>
        <p:spPr>
          <a:xfrm>
            <a:off x="900000" y="17640"/>
            <a:ext cx="82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21:53:24Z</dcterms:created>
  <dc:creator>Учитель 11</dc:creator>
  <dc:description/>
  <dc:language>en-US</dc:language>
  <cp:lastModifiedBy>Учитель 11</cp:lastModifiedBy>
  <dcterms:modified xsi:type="dcterms:W3CDTF">2013-06-10T19:13:02Z</dcterms:modified>
  <cp:revision>29</cp:revision>
  <dc:subject/>
  <dc:title>Слайд 1</dc:title>
</cp:coreProperties>
</file>