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80A-641D-424E-BA64-34E57662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AC7-1692-4C55-84F5-4E06D72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2D3-AC61-4070-A76F-744D1E80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235-8BA5-4B62-BA08-B43E5E94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0DEB-B1C6-457F-B0AF-27E93E0C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B2B7-E575-4C0F-AFB6-93B3662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F26-2B22-4EA2-8B10-4836218B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EDC-1585-4303-8A50-DD82F2D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43C9-AC02-461A-A22E-02A2E4E7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0C3-AC63-42AE-8BEC-6EB91F5B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C519-8C48-4194-99C0-768F570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05B-BC89-4F56-9F95-A990340F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B35-DF6E-48CB-AB72-1E3F92F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9B4-07EC-4408-A45B-B2DAA67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E168-3492-40A1-B77C-D93B2B2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9598-BCCD-40DB-84CE-BC70F51E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9F40-566D-4F8F-8EB2-35E2524D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451A-141F-41FA-A54B-42712375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9860-4746-4E21-86ED-F9662F6F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55CA-6362-4B90-8F0F-3BBA41D2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EBA8-208C-491D-B5F0-5EEAC22B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D511-1909-4FA7-96AB-1236852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625-E1DD-4952-A32B-99617D8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351C-009F-4908-9656-995F19D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7828-48AC-4272-840B-EF2C512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44B6-171F-4F11-874B-F8A5019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C576-AF09-4F47-BECA-90BF7FF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56A6-FF3B-409C-B2C5-4E1DB8B2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5A8F-DC48-4874-B709-0C6779D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2822-4D33-4AC5-845F-B5A545FC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3DC4-4095-4720-9002-430A9F81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0A5D-78D1-4764-B65D-9A2CFCC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A4143-C4DB-46D1-8D13-9C8D3210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191-3611-4D85-8F85-70A0E65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B863-541F-4586-A7EA-E888D251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0373-8F78-43A3-A4A1-A7D6E659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A92F-63E5-46C0-A8A9-68B2174E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DEFF-0597-4894-8ECD-C4E1B17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428D-32DB-4A72-8393-3B76467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B8A8-0971-4471-B493-2829A11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77BD-C0E1-403C-9948-087269FD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1265-F2C8-4CF5-A72C-D60C05DC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D147-B4BB-4769-9675-4634D275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04DA-4AB5-48DC-B79C-95B35C8E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372-4BB7-4CA3-AC19-194CA92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A5FC-6300-4602-BB76-0D0D765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B658-1A73-4E74-8815-5E0BE1E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D3D4-9833-41D3-AD82-7D4DA2AE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A65C-DB73-4C12-8626-68C330C7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021E-6868-4C61-A87B-0966436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3E8D-C604-4D10-9D31-B1712B6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8628-D7C1-40AF-9681-1E7BB1C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BD9A-6E93-4B9B-8AB6-323F08E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33F1-BD25-4369-8720-6CBBE4C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4D6C-16BD-4B21-95B6-DD634DBA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5C3-30E4-4ED0-A34A-92F7808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B6D8A-0355-404C-9FE5-A7977B41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24D5-8928-40C7-99DF-E498C869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1778-7F8F-4D62-A07B-76F9268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8E34-A0D0-435B-A7CD-0C256EC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4B39-C524-44EC-B318-5064DC9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3EF0-D9D8-47EA-8AC5-994D8AF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64C3-0D15-4B4E-BDD5-1A255959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58AE-E9EA-4A23-BD96-3B153B54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C879-98F3-4917-B5E6-4344E95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2E1AD-8A3E-4246-8177-139AE98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AE6-3A5E-4298-AD2C-2017B3C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7BCA-6F8E-4727-812E-B6EF1091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99F8-F29E-4019-AF70-2050402C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0043-F9E2-44E7-BF75-AE3BD587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3CA-8C01-480E-BEF8-273BC67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36E-4397-447A-9646-F93C021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ED3C-245C-42A1-A590-027E48A65E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724-98A1-4A99-95A1-09C9038F770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D05-7C21-4BEA-B5A7-A77B30B33B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36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FF5-5088-47DD-8BEC-38A238E25CED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455-DBF8-4A1C-912F-1F9D067459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4A6-90EC-4627-A2DF-BA41F8122B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Стрелы Робин Гуда – миф или реальность?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 по страноведению, выполненная учащимся 6 «А» класса МОУ «Краснополянская» СО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новым Евг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изнь в ле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рузья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ленький Джон – веселый великан Мач – сын мель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глый монах Ту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оварищи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Замок ноттингемского шерифа. В XIX веке в нем был открыт художественный музей.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200"/>
            </a:br>
            <a:r>
              <a:rPr b="0" lang="ru-RU" sz="10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1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Ноттингемский замок"/>
          <p:cNvPicPr/>
          <p:nvPr/>
        </p:nvPicPr>
        <p:blipFill>
          <a:blip r:embed="rId1"/>
          <a:stretch/>
        </p:blipFill>
        <p:spPr>
          <a:xfrm>
            <a:off x="2743200" y="1600200"/>
            <a:ext cx="337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лавные дела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008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бель Робин Гуд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Считалось, что памятник Робин Гуду в Ноттингеме стоит на месте захоронения легендарного разбойника.</a:t>
            </a: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днее выяснилось, что он был похоронен под безымянным камнем у Кирклисского монастыря (Западный Йоркшир). Увы, могила была разграбле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Памятник Робин Гуду"/>
          <p:cNvPicPr/>
          <p:nvPr/>
        </p:nvPicPr>
        <p:blipFill>
          <a:blip r:embed="rId1"/>
          <a:stretch/>
        </p:blipFill>
        <p:spPr>
          <a:xfrm>
            <a:off x="1981080" y="2514600"/>
            <a:ext cx="57913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ришел к выводу, что Робин Гуд – это собирательный образ английского героя, который боролся за справедливость и помогал бедны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ой человек жил на самом де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рабо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нять, существовал ли в реальности такой человек или это вымышленный персонаж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ичард I Львиное Сердце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. </a:t>
            </a: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Richard the Lionhear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Ричард I Львиное Сердце"/>
          <p:cNvPicPr/>
          <p:nvPr/>
        </p:nvPicPr>
        <p:blipFill>
          <a:blip r:embed="rId1"/>
          <a:stretch/>
        </p:blipFill>
        <p:spPr>
          <a:xfrm>
            <a:off x="2971800" y="1676520"/>
            <a:ext cx="2857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то он – Робин Гуд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295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вая версия происхождения Робин Гу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читалось, что он был участником восстания против Генрих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1265 году (вождь восстания – Симон де Монфор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е поражения восстания – Робин Гуд и его сторонники ушли в ле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торая версия происхождения Робин Гу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роль Эдуар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зял на службу камердинером Робина Гуда в 1377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ллады часто называют его йоменом (свободным крестьянино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орма королевского лесничег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34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лагородный олень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Благородный олень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4-16T16:19:0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