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29B7-B1B5-49BC-ADFC-0A5DC665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28FC-ED2B-4E26-BCEC-1ADB3A64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AF9D-9B07-4B7D-992A-0B710424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38C-1A60-4377-8DA8-C4C0ED48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AA11-487F-4362-9158-0133A858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339F-D687-4198-9471-95CC2E58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E9DC-9D91-4E7A-AEB6-18D5C5E1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062E-F446-4E12-A2E7-A6D0050D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785F-9B54-47AF-ACD3-80D28AF2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6EE7-CF36-418B-B0B5-381A1CD8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CC95-1E63-4C96-9EC6-A617CD65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047F-4AFB-4384-BDE9-CA91FB6C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F2FC-0BF0-4D6C-851A-FF1654A8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E904-215B-4651-BD13-0D732E4A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641C-3853-41FB-A48E-18758B78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EF03-679A-4081-97CB-9886066A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234C-2B1C-4D26-B5D6-B76405AA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C2546-1803-41FD-996E-E8C59951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D8996-2B0D-4F37-8B6D-35450F57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8C01C-F882-4E6D-AE49-EF193748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EF5A3-770C-416A-AE04-F127FF44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FE683-345A-4689-AC60-3331D6A0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8E27-F02F-4300-A81B-BF2AF544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D8970-D207-4FE4-A43E-67C65BEE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4EB16-6D20-40A2-9B0E-6ABA60CC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1E683-F374-43D4-AB46-17A83BA7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D91DB-DFBF-455C-B79C-9E5764A2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E93D8-CB1C-4E96-AABE-02316FE7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BAE43-B15F-4A9C-84BB-928EAEF8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5B8CC-610F-4EC8-A092-BF9EBF28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E1537-0441-4B4A-9514-F94A597F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0072A-57BE-4F06-81FF-E088150A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154FE-0AC9-4206-A101-9DE3FFE2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6949-BFF4-4A4C-97FE-40B6F628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46C2D-B47E-4C0F-8102-7F5D655F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BAED0-21B2-4922-99AA-1B5DE6CE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8F220-72B1-46DE-932C-0685583A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79A4B-C5D8-45F0-A284-C6C933E1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ADDB5-4B7D-4C9F-8E01-0251F2EB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E165E-0861-4A27-B707-08018600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BB818-52C9-44F4-BA1F-9C0D9731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3B948-0421-4F8B-9E1D-3DF2DB80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35801-2EAA-4761-82D2-EC8815AB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16BF2-994E-4853-8EA3-889F6F4C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1367-2FBF-4B65-9850-04919FC0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E65C3-C538-4E37-A8A4-43AA21BE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06186-BD3F-4AC3-9B5B-1E613903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181DF-3A93-4D69-B9A3-F6C32B8D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8AC84-B18A-434B-BA43-CB747CD4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F8F02-B6A4-4318-8940-35F11D70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82351-A753-41C8-A762-54DFA174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FF14C-AD2B-4A13-875E-141D1C29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675C6-C0C7-486B-9CFC-56B1CD0C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6A23F-98D8-440C-AFB8-29840A46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37C7B-1CC0-47A4-9588-5A60291A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62F4-6C0E-4E2A-B597-1A72135E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9DC7D-29E2-48EB-A138-0A51FAF8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DC5B5-B25C-4B4F-8984-DBB3B748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F7AF2-0653-4540-993E-8F2956B7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F43E3-0068-412B-859D-5F0494CA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85708-BE5F-466E-8CD5-A12E4E7A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86E2D-24C1-4F47-BC9D-732EC3EE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6DC20-77D5-4F87-B266-BFE0D770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C5996-A5D0-443A-B632-8CA00AFC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7EA47-05EA-4919-BE54-169B039C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A7F5A-552B-4167-BF40-A1C274E3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36A5-887E-465C-B294-CDFA2DDD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C1D9C-7956-4923-AA57-AC646292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6171D-9541-4D9E-997C-A12AD4A7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17E1F-2FB2-4D2B-945A-62A7923D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D51E-8B92-456C-B81E-E9F82626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3171-F11F-472C-AA1C-0FC20E47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FC2C-B12A-43CD-87D9-F2B1822E80F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6B17-C4DA-4CAB-B86E-E04030CF6E2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9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33D1-B1AD-4824-88ED-BC32674CA2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36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118C-7AB6-470B-817F-B5BA0FB540D0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94CA-CC80-4F5F-BAA6-274D1467414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E008-56E9-4831-817D-4DAD86DF25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Стрелы Робин Гуда – миф или реальность?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тельская работа по страноведению, выполненная учащимся 6 «А» класса МОУ «Краснополянская» СОШ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новым Евгени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Жизнь в лес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47712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рузья Робин Гуд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ленький Джон – веселый великан Мач – сын мельн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еглый монах Ту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оварищи Робин Гуд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629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Замок ноттингемского шерифа. В XIX веке в нем был открыт художественный музей.</a:t>
            </a: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200"/>
            </a:br>
            <a:r>
              <a:rPr b="0" lang="ru-RU" sz="10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1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Ноттингемский замок"/>
          <p:cNvPicPr/>
          <p:nvPr/>
        </p:nvPicPr>
        <p:blipFill>
          <a:blip r:embed="rId1"/>
          <a:stretch/>
        </p:blipFill>
        <p:spPr>
          <a:xfrm>
            <a:off x="2743200" y="1600200"/>
            <a:ext cx="3375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лавные дела Робин Гуд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40080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Гибель Робин Гуд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93396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33"/>
                </a:solidFill>
                <a:latin typeface="Garamond"/>
              </a:rPr>
              <a:t>Считалось, что памятник Робин Гуду в Ноттингеме стоит на месте захоронения легендарного разбойника.</a:t>
            </a:r>
            <a:r>
              <a:rPr b="1" lang="ru-RU" sz="21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зднее выяснилось, что он был похоронен под безымянным камнем у Кирклисского монастыря (Западный Йоркшир). Увы, могила была разграблен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" descr="Памятник Робин Гуду"/>
          <p:cNvPicPr/>
          <p:nvPr/>
        </p:nvPicPr>
        <p:blipFill>
          <a:blip r:embed="rId1"/>
          <a:stretch/>
        </p:blipFill>
        <p:spPr>
          <a:xfrm>
            <a:off x="1981080" y="2514600"/>
            <a:ext cx="57913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заключе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пришел к выводу, что Робин Гуд – это собирательный образ английского героя, который боролся за справедливость и помогал бедным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ипотез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кой человек жил на самом дел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Цель работы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нять, существовал ли в реальности такой человек или это вымышленный персонаж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ичард I Львиное Сердце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нгл. </a:t>
            </a: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Richard the Lionheart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Ричард I Львиное Сердце"/>
          <p:cNvPicPr/>
          <p:nvPr/>
        </p:nvPicPr>
        <p:blipFill>
          <a:blip r:embed="rId1"/>
          <a:stretch/>
        </p:blipFill>
        <p:spPr>
          <a:xfrm>
            <a:off x="2971800" y="1676520"/>
            <a:ext cx="28576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то он – Робин Гуд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295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ервая версия происхождения Робин Гуд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читалось, что он был участником восстания против Генриха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1265 году (вождь восстания – Симон де Монфор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ле поражения восстания – Робин Гуд и его сторонники ушли в лес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Вторая версия происхождения Робин Гуд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роль Эдуард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зял на службу камердинером Робина Гуда в 1377 го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аллады часто называют его йоменом (свободным крестьянином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Форма королевского лесничег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2514600" y="1143000"/>
            <a:ext cx="3346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Благородный олень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Благородный олень"/>
          <p:cNvPicPr/>
          <p:nvPr/>
        </p:nvPicPr>
        <p:blipFill>
          <a:blip r:embed="rId1"/>
          <a:stretch/>
        </p:blipFill>
        <p:spPr>
          <a:xfrm>
            <a:off x="1828800" y="1676520"/>
            <a:ext cx="594360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5-04-16T16:19:0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