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9954-0C8E-40A1-A648-922C8E7C6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2E3-5632-4D26-A7F1-696951D67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1ED-8EA7-4A5B-AD56-4FCA45F4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850-3405-4C02-8A70-53A92E3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3FB-C14E-4B65-BC32-9815A78A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692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3736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692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3736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E05-4C49-4AB9-BEE1-16FE4D8C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4461-132D-4218-9EA9-FF1821D7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B9A-1EC7-4EDB-9414-3A9E4C5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CFB-9BD4-4600-B4A2-4A33C6F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8F7-038B-4228-81A2-AAB6DAE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8E3-2D11-4CEA-87F9-1B4FFF3A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7110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6B4D-6E59-4120-9CD3-DACB35D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07C-2F77-4166-B8FB-3986899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6B3-26D7-4D5D-B3C6-300E5B6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D19-DE00-4239-BC16-5F1595D1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0BC-C314-4E7F-9042-312BD1E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1323-8263-41FE-858D-2E61A06B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D3D1-C79D-4DD7-B2C1-A795F4F5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692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3736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692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3736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B0D-E965-4125-A9A4-5D2301DC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4A4-8262-4302-90A0-EFAFB044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43A-90E1-4C9A-8E45-8C208E6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AA9-57D5-4B6E-812D-6EC99A1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7110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38F-5963-4E6A-BAFA-614C092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10F-441D-482A-92FF-4895EDE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104-2836-4527-B638-A45C687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80D-C36D-47DF-BA24-D7575B9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F8E-2393-4571-90D8-41391CDDC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ACBC-C553-4535-B3A3-9FCF6C7D3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14000" y="3322800"/>
            <a:ext cx="44578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 </a:t>
            </a:r>
            <a:br>
              <a:rPr sz="1100"/>
            </a:b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    </a:t>
            </a:r>
            <a:br>
              <a:rPr sz="1100"/>
            </a:br>
            <a:br>
              <a:rPr sz="4800"/>
            </a:b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28800" y="5689440"/>
            <a:ext cx="38289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1604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70578130"/>
          <p:cNvPicPr/>
          <p:nvPr/>
        </p:nvPicPr>
        <p:blipFill>
          <a:blip r:embed="rId1"/>
          <a:stretch/>
        </p:blipFill>
        <p:spPr>
          <a:xfrm>
            <a:off x="1771560" y="1117440"/>
            <a:ext cx="571680" cy="897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685800" y="2014560"/>
            <a:ext cx="5383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удия дополнительного образовани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старшей групп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277920" y="2417760"/>
            <a:ext cx="6300720" cy="24433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8" descr=""/>
          <p:cNvPicPr/>
          <p:nvPr/>
        </p:nvPicPr>
        <p:blipFill>
          <a:blip r:embed="rId3"/>
          <a:stretch/>
        </p:blipFill>
        <p:spPr>
          <a:xfrm>
            <a:off x="1017720" y="6407280"/>
            <a:ext cx="505440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6595920" cy="86263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298440" y="566640"/>
            <a:ext cx="6035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 узнаёт мир с помощью манипуляций, то есть действий с различными предметами, которые позволяют ему узнать и изучить их свойства, при этом, познавая и свои творческие способности, изменить то, к чему прикасается. Одним из помощников ребёнка в этом важнейшем для его развития деле является –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я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это один из самых простых, увлекательных и эффективных видов художественной деятельности. Дети с удовольствием работают с бумагой, потому что она легко поддается обработке. Особенно привлекательны для детей нетрадиционные техники работы с бумагой, с нетрадиционным материалом: рванная, скомканная бумага, ватные диски, бумажные салфетки, фантики от конфет и т. д. Необычное сочетание материалов и инструментов, доступность, простота техники исполнения удовлетворяет в них исследовательскую потребность, пробуждает чувство радости, успеха, развивает трудовые умения и навыки. Позволяет детям  дошкольного возраста быстро достичь желаемого результата и вносит определенную новизну в творчество детей, делает его более увлекательным и интересным, что очень важно для работы с малыш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я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техника бумажная пластика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– это синтез разных видов изобразительной деятельности: лепки, аппликации, рисования, конструирования из бумаги. Изображения в бумажной пластике выполняются в полуобъемном варианте, все части и детали наклеиваются на картон, который служит цветовым фоном, что позволяет детям создавать яркие индивидуальные и коллективные ком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здавая красивые аппликации своими руками, видя результат своей работы, дети испытывают положительные эмоции. Работа с бумагой даёт возможность детям проявить терпение, упорство, фантазию и художественный вкус, проявить творческие способности, приобрести ручную умелость, которая позволяет им чувствовать себя самостоятельными. Все это благотворно влияет на формирование здоровой и гармонично развито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Цель работы студии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развитие ручной умелости у детей через укрепление мелкой моторики пальцев рук и организацию совместного изобразительного творчества детей и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845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чи студии дополнительного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формирование умения передавать простейший образ предметов, явлений окружающего мира посредством объемной аппликации; учить основным приемам в аппликационной технике «бумажная пластика» (обрывание, сминание, скатывание в комок, торцевание); умение работать с клейстером, приклеивать детали, присоединяя одну к другой; учить работать на заданном пространстве (накопление элементарного опыта в составлении композиции)обогащение сенсорных впечатлений (на уровне ощущений ребенок познает фактуру, плотность, цвет бумаги); развитие мелкой моторики, координации движений рук, глазомер; развитие речевых навыков; развитие творческой фантазии, эстетического и цветового восприятия; воспитание навыков аккуратной работы с бумагой; воспитание желания участвовать в создании индивидуальных и коллективных работ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грамма рассчитана для детей дошкольного возраста(5 год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обусловлено тем, что в данный возраст характеризуется            значительным ростом физических возможностей, особенно активным         развитием мелких мышц кистей рук, изменением психологической позиции и ощущением дошкольниками "взрослости”, желанием проявить свою индивидуальность и творческие способност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местная работа в студии проводятся 1 раз в неделю длительностью 25 минут во   второй половине дня. Длительность продуктивной деятельности с детьми может варьироваться в зависимости от ситуации и желания детей. Гибкая форма организации детского труда в досуговой деятельности позволяет учитывать индивидуальные особенности детей, желания, состояние здоровья, уровень овладения навыками, нахождение на определенном этапе реализации замысла и другие возможные факторы. Каждый ребенок работает на своем уровне сложности, начинает работу с того места, где закончи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бота проходит в форме совместной деятельности, игры, для обыгрывания определенного сюжета используются стихотворные формы, сказки, подвижные и пальчиковые игры, персонажи (игрушки и куклы из различных театров, изображения того или иного персонажа, который обыгрывается)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Основные формы и методы работ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ля достижения поставленных целей предусматривается отбор основных форм и методов деятельности. Особое место в программе занимают следующие формы и методы обуче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6840" y="8381520"/>
            <a:ext cx="6172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304920"/>
            <a:ext cx="6553440" cy="85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репродуктивн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воспроизводящ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объяснительно - иллюстративн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объяснение сопровождается демонстрацией наглядного материал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 метод проблемного изло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педагог ставит проблему и вместе с детьми ищет пути её реш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частично- поисков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актическ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проведении занятий используются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так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коллективны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ормы работ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ок реализации программы 7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жидаемые результат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 задач данной программы поможет детям овладеть  основными приемами в технике «бумажная пластика»: разрывать и сминать бумагу, скатывать в комок, торцевать, согласовывать свои усилия и действия, передавать образ предмета, явления окружающего мира. Освоению навыков работы с клейстером, и самое главное разовьют   умелость рук, мелкую моторику, когда движения обеих рук становятся более согласованными, а движения пальцев дифференциру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Итогом в реализации программы является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ставки детских работ в детском саду; составление альбома лучших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и и поделки из бумаги для детей 5-6лет-М: Стрекоза,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ишина Н.Н, Анистратова А.А.Поделки из кусочков бумаги – М.,Оникс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вилькоН. Волшебные салфетки - Обруч,2003,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ябко Н.Б. Занятия по изобразительной деятельности дошкольника – бумажная пластика. Учебно-практическое пособие – М., Педагогическое общество России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5434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304920"/>
            <a:ext cx="6400800" cy="85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Грибанова, М.В. Развитие творческой активности детей 3-7 лет средствами аппликативной деятельности / М.В. Грибанова. – Пермь: Пермский гос. пед. ун-т, 2013. – 16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Лыкова, И.А Аппликация из бумаги. Насекомые / И.А. Лыкова. – М.: ИД "Карапуз", 2014. – 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Лыкова, И.А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Нетрадиционные художественные техники / И.А. Лыкова // Научно-методический журнал «Цветной мир. Изобразительное творчество и дизайн в дет.саду и нач. школе». – 2015. - № 6. – С. 23-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Малышева, А.Н. Поварченкова, З.М. Занятия по аппликации в детском саду: 3-7 лет / А.Н. Малышева, З.М. Поварченкова. -  М.: Академия развития. 2013. – 15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Новикова, И.В. Работа с нетрадиционными материалами в детском саду. Поролон, ватные диски, ватные шарики, гофрированный картон /               И.В. Новикова. – Ярославль: Академия развития, 2012. – 2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Соловьёва, Н.Г. Знакомство детей дошкольного возраста с окружающим миром с помощью техники бумагопластика / Н.Г. Соловьёва. – М.: Айрис Пресс,2014.–230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26T05:45:2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