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288-4BA8-462B-B3D1-4416F01D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205-92CB-471E-9C5B-394AD412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BFF-2FD6-4199-A25B-EC6D1A55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408-DBC0-451F-AF09-E08250C5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C7A-0A61-442F-9129-04AA086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FBD-681E-4935-817A-4CF49788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AA6-E2CD-4F4B-B955-2639F38C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AD0-2ACF-4179-829E-021F346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938-F3D7-48AB-9771-AE94B1C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043-0D57-47BB-83B1-F006A63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2D-DE3F-4A7F-9F29-B950AB4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C6A-44E4-44C7-A1DF-076D2E52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433C-FEF4-4C0F-A763-4EBF5EEF6F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9120" y="4868640"/>
            <a:ext cx="86169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ал   Серов В.С. мастер п/о , высшая  категор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Прямоугольник 7" descr=""/>
          <p:cNvPicPr/>
          <p:nvPr/>
        </p:nvPicPr>
        <p:blipFill>
          <a:blip r:embed="rId1"/>
          <a:stretch/>
        </p:blipFill>
        <p:spPr>
          <a:xfrm>
            <a:off x="1706400" y="3071880"/>
            <a:ext cx="5956560" cy="976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677880" y="1989000"/>
            <a:ext cx="77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ДК 01.01. «Основы слесарно-сборочных   и          электромонтажных       рабо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01720" indent="-1701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857160" y="5716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ПОУ   СМТ «СОРМОВСКИЙ МЕХАНИЧЕСКИЙ ТЕХНИКУ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И ГЕРОЯ СОВЕТСКОГО СОЮЗА П.А.СЕМЕНОВА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ahoma"/>
              </a:rPr>
              <a:t>Разновидности сверл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А,Б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спиральные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В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с прямыми канавками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Г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перовое,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Д- 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ружейное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Е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однокромочное с внутренним отводом,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Ж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двухкромочное для глубокого сверления,                           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З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для кольцевого сверления, 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И-</a:t>
            </a:r>
            <a:r>
              <a:rPr b="0" lang="ru-RU" sz="2400" spc="-1" strike="noStrike">
                <a:solidFill>
                  <a:srgbClr val="66ff99"/>
                </a:solidFill>
                <a:latin typeface="Times New Roman"/>
              </a:rPr>
              <a:t> центровочно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PC010261"/>
          <p:cNvPicPr/>
          <p:nvPr/>
        </p:nvPicPr>
        <p:blipFill>
          <a:blip r:embed="rId2"/>
          <a:stretch/>
        </p:blipFill>
        <p:spPr>
          <a:xfrm>
            <a:off x="4427640" y="155736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ефекты при обработке отверстий, причины их появления и способы предупрежд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407960"/>
          <a:ext cx="8820360" cy="5456520"/>
        </p:xfrm>
        <a:graphic>
          <a:graphicData uri="http://schemas.openxmlformats.org/drawingml/2006/table">
            <a:tbl>
              <a:tblPr/>
              <a:tblGrid>
                <a:gridCol w="2079720"/>
                <a:gridCol w="3695760"/>
                <a:gridCol w="3044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 предуп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ос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адание стружки  под заготовки. Неправильные подкладк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ищать стол и заготовку от грязи и стружки. Исправить или заменить подкла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щение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од сверла в сторону. Неверная разметка при сверлении по размет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ить правильность заточки сверла. Правильно размечать заготовк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ышенный диаметр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ная длина режущих кромок. Смещение поперечной режущей кром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 переточить свер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глубины отверс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ая установка упора на глуби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чно установить упор на заданную глубину рез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573880" y="2087640"/>
            <a:ext cx="3570120" cy="4797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184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Правила безопасности при сверлен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5832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ледует убирать волосы под головной уб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еобходимо тщательно застегивать манжеты на рукав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апрещ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верлить незакрепленную заготов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2. Сильно нажимать на рычаг подачи свер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3. Наклоняться близко к месту сверления во избежание попадания стружки в гл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4. Сдувать струж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44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336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дание на урок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роизв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глухих отверс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сквозных отверс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верление хвостов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PC030271"/>
          <p:cNvPicPr/>
          <p:nvPr/>
        </p:nvPicPr>
        <p:blipFill>
          <a:blip r:embed="rId1"/>
          <a:stretch/>
        </p:blipFill>
        <p:spPr>
          <a:xfrm>
            <a:off x="4572000" y="2897280"/>
            <a:ext cx="457200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77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онтрольные вопро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13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чего применяется сверл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ое оборудование применяется для           свер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ие приемы сверления вы зна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 избежать дефектов при обработке отверсти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акие требования техники безопасности нужно    соблюдать при работе механизированными    инструментами для сверлени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5"/>
          <p:cNvSpPr txBox="1"/>
          <p:nvPr/>
        </p:nvSpPr>
        <p:spPr>
          <a:xfrm>
            <a:off x="250920" y="2997360"/>
            <a:ext cx="86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 внимание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877680"/>
            <a:ext cx="80028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Тема урок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Свер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IMG_2791"/>
          <p:cNvPicPr/>
          <p:nvPr/>
        </p:nvPicPr>
        <p:blipFill>
          <a:blip r:embed="rId1"/>
          <a:stretch/>
        </p:blipFill>
        <p:spPr>
          <a:xfrm>
            <a:off x="2405160" y="2247840"/>
            <a:ext cx="425448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Цель:</a:t>
            </a: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ормирование знаний и умений применения навыков сверл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128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чащиеся должны уме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ыполнять основные приемы свер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збегать дефектов при обработке отверс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облюдать правила безопасной работы при сверл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использовать теоретические знания на практ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Сверление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imes New Roman"/>
              </a:rPr>
              <a:t>называется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imes New Roman"/>
              </a:rPr>
              <a:t>образование отверстий в сплошно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834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але путем снят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ружки с помощью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рла, совершающег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ращательное 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тупательное движ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носительно своей ос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99"/>
                </a:solidFill>
                <a:latin typeface="Times New Roman"/>
              </a:rPr>
              <a:t>Сверление применяется для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2065320"/>
            <a:ext cx="742788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азмещения крепежных деталей  (винтов, болтов и т.д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нарезания внутренней резьб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улучшения качества отверстия с помощью зенкерования и разверты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1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37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Tahoma"/>
              </a:rPr>
              <a:t>Механизированное и ручное оборудование для сверления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770280" cy="4967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58920" y="1341360"/>
            <a:ext cx="208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тикально- сверлильный станок 2Н125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стольный вертикально- сверлильный станок 2М1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808360" cy="4967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1"/>
          <p:cNvSpPr/>
          <p:nvPr/>
        </p:nvSpPr>
        <p:spPr>
          <a:xfrm>
            <a:off x="3203640" y="2997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427640" y="4869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Механизированное и ручное оборудование для сверл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594972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Радиально-сверлильный            Электрическая дрель     Ручная дрель       станок 2Н5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3800" cy="424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C010254"/>
          <p:cNvPicPr/>
          <p:nvPr/>
        </p:nvPicPr>
        <p:blipFill>
          <a:blip r:embed="rId2"/>
          <a:stretch/>
        </p:blipFill>
        <p:spPr>
          <a:xfrm>
            <a:off x="4211640" y="1628640"/>
            <a:ext cx="476100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99"/>
                </a:solidFill>
                <a:latin typeface="Tahoma"/>
              </a:rPr>
              <a:t>Приемы сверле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6192720" cy="4969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3280" y="1483920"/>
            <a:ext cx="27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4d2b"/>
                </a:solidFill>
                <a:latin typeface="Arial Unicode MS"/>
              </a:rPr>
              <a:t>   </a:t>
            </a:r>
            <a:r>
              <a:rPr b="1" lang="ru-RU" sz="2400" spc="-1" strike="noStrike">
                <a:solidFill>
                  <a:srgbClr val="ff7c80"/>
                </a:solidFill>
                <a:latin typeface="Arial Unicode MS"/>
              </a:rPr>
              <a:t>Сверление      глухих отверстий на заданную глубин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 втулочному уп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 измерительной линей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99"/>
                </a:solidFill>
                <a:latin typeface="Tahoma"/>
              </a:rPr>
              <a:t>Приемы сверления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7c80"/>
                </a:solidFill>
                <a:latin typeface="Tahoma"/>
              </a:rPr>
              <a:t>Сверление отверстий               Сверление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плоскости, расположенной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А-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еполного отверстия с под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глом к другой плоскости                      помощью приставной</a:t>
            </a:r>
            <a:r>
              <a:rPr b="0" lang="ru-RU" sz="2000" spc="-1" strike="noStrike">
                <a:solidFill>
                  <a:srgbClr val="009999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лас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на цилиндрической поверхности</a:t>
            </a:r>
            <a:r>
              <a:rPr b="0" lang="ru-RU" sz="2000" spc="-1" strike="noStrike">
                <a:solidFill>
                  <a:srgbClr val="9eae0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Б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отверстия в угольнике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ff"/>
                </a:solidFill>
                <a:latin typeface="Tahoma"/>
              </a:rPr>
              <a:t>В-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полых дета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457200" y="2025720"/>
            <a:ext cx="4038480" cy="18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4976640" y="1981080"/>
            <a:ext cx="338148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9:51:06Z</dcterms:created>
  <dc:creator>Владимир</dc:creator>
  <dc:description/>
  <dc:language>en-US</dc:language>
  <cp:lastModifiedBy>777</cp:lastModifiedBy>
  <dcterms:modified xsi:type="dcterms:W3CDTF">2017-02-05T18:09:59Z</dcterms:modified>
  <cp:revision>34</cp:revision>
  <dc:subject/>
  <dc:title>сверление</dc:title>
</cp:coreProperties>
</file>