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60A7-3437-4474-BD09-CFC9C7AF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46DE-E66F-458B-BDD7-D4DBDF59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2E45-C7FA-4ED4-BF29-1B7D415C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EDFB-0F25-42C8-A6DC-598F4DDF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73A6-B566-4E2A-BCE0-644E58A7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2883-2FA0-41EF-AECB-423AEB5C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2684-C666-43EF-AD13-87B3250F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4E29-2FFA-4E23-9C6A-6ABE4538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A3D5-0720-4981-BEDE-A6A77C9A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6F78-9ED4-492F-8809-B7B15598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A882-0BCA-4C0B-929E-CBD7094B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FA38-CE16-466D-93B6-5B1761F8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0040" indent="-224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2560" indent="-2246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5080" indent="-224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5080" indent="-2246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5080" indent="-2246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D87E-E4BC-45F5-8FDF-1C97ACAD3AA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49120" y="4868640"/>
            <a:ext cx="86169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работал   Серов В.С. мастер п/о , высшая  категор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Прямоугольник 7" descr=""/>
          <p:cNvPicPr/>
          <p:nvPr/>
        </p:nvPicPr>
        <p:blipFill>
          <a:blip r:embed="rId1"/>
          <a:stretch/>
        </p:blipFill>
        <p:spPr>
          <a:xfrm>
            <a:off x="1706400" y="3071880"/>
            <a:ext cx="5956560" cy="9763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1"/>
          <p:cNvSpPr/>
          <p:nvPr/>
        </p:nvSpPr>
        <p:spPr>
          <a:xfrm>
            <a:off x="677880" y="1989000"/>
            <a:ext cx="775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01720" indent="-1701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ДК 01.01. «Основы слесарно-сборочных   и          электромонтажных       работ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701720" indent="-1701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Прямоугольник 5"/>
          <p:cNvSpPr/>
          <p:nvPr/>
        </p:nvSpPr>
        <p:spPr>
          <a:xfrm>
            <a:off x="857160" y="571680"/>
            <a:ext cx="72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БПОУ   СМТ «СОРМОВСКИЙ МЕХАНИЧЕСКИЙ ТЕХНИКУМ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ЕНИ ГЕРОЯ СОВЕТСКОГО СОЮЗА П.А.СЕМЕНОВА»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Tahoma"/>
              </a:rPr>
              <a:t>Разновидности сверл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9933"/>
                </a:solidFill>
                <a:latin typeface="Times New Roman"/>
              </a:rPr>
              <a:t>А,Б-</a:t>
            </a:r>
            <a:r>
              <a:rPr b="0" lang="ru-RU" sz="2400" spc="-1" strike="noStrike">
                <a:solidFill>
                  <a:srgbClr val="66ff99"/>
                </a:solidFill>
                <a:latin typeface="Times New Roman"/>
              </a:rPr>
              <a:t> спиральные, </a:t>
            </a:r>
            <a:r>
              <a:rPr b="0" lang="ru-RU" sz="2400" spc="-1" strike="noStrike">
                <a:solidFill>
                  <a:srgbClr val="ff9933"/>
                </a:solidFill>
                <a:latin typeface="Times New Roman"/>
              </a:rPr>
              <a:t>В-</a:t>
            </a:r>
            <a:r>
              <a:rPr b="0" lang="ru-RU" sz="2400" spc="-1" strike="noStrike">
                <a:solidFill>
                  <a:srgbClr val="66ff99"/>
                </a:solidFill>
                <a:latin typeface="Times New Roman"/>
              </a:rPr>
              <a:t> с прямыми канавками, </a:t>
            </a:r>
            <a:r>
              <a:rPr b="0" lang="ru-RU" sz="2400" spc="-1" strike="noStrike">
                <a:solidFill>
                  <a:srgbClr val="ff9933"/>
                </a:solidFill>
                <a:latin typeface="Times New Roman"/>
              </a:rPr>
              <a:t>Г-</a:t>
            </a:r>
            <a:r>
              <a:rPr b="0" lang="ru-RU" sz="2400" spc="-1" strike="noStrike">
                <a:solidFill>
                  <a:srgbClr val="66ff99"/>
                </a:solidFill>
                <a:latin typeface="Times New Roman"/>
              </a:rPr>
              <a:t> перовое,            </a:t>
            </a:r>
            <a:r>
              <a:rPr b="0" lang="ru-RU" sz="2400" spc="-1" strike="noStrike">
                <a:solidFill>
                  <a:srgbClr val="ff9933"/>
                </a:solidFill>
                <a:latin typeface="Times New Roman"/>
              </a:rPr>
              <a:t>Д- </a:t>
            </a:r>
            <a:r>
              <a:rPr b="0" lang="ru-RU" sz="2400" spc="-1" strike="noStrike">
                <a:solidFill>
                  <a:srgbClr val="66ff99"/>
                </a:solidFill>
                <a:latin typeface="Times New Roman"/>
              </a:rPr>
              <a:t>ружейное, </a:t>
            </a:r>
            <a:r>
              <a:rPr b="0" lang="ru-RU" sz="2400" spc="-1" strike="noStrike">
                <a:solidFill>
                  <a:srgbClr val="ff9933"/>
                </a:solidFill>
                <a:latin typeface="Times New Roman"/>
              </a:rPr>
              <a:t>Е-</a:t>
            </a:r>
            <a:r>
              <a:rPr b="0" lang="ru-RU" sz="2400" spc="-1" strike="noStrike">
                <a:solidFill>
                  <a:srgbClr val="66ff99"/>
                </a:solidFill>
                <a:latin typeface="Times New Roman"/>
              </a:rPr>
              <a:t> однокромочное с внутренним отводом,            </a:t>
            </a:r>
            <a:r>
              <a:rPr b="0" lang="ru-RU" sz="2400" spc="-1" strike="noStrike">
                <a:solidFill>
                  <a:srgbClr val="ff9933"/>
                </a:solidFill>
                <a:latin typeface="Times New Roman"/>
              </a:rPr>
              <a:t>Ж-</a:t>
            </a:r>
            <a:r>
              <a:rPr b="0" lang="ru-RU" sz="2400" spc="-1" strike="noStrike">
                <a:solidFill>
                  <a:srgbClr val="66ff99"/>
                </a:solidFill>
                <a:latin typeface="Times New Roman"/>
              </a:rPr>
              <a:t> двухкромочное для глубокого сверления,                            </a:t>
            </a:r>
            <a:r>
              <a:rPr b="0" lang="ru-RU" sz="2400" spc="-1" strike="noStrike">
                <a:solidFill>
                  <a:srgbClr val="ff9933"/>
                </a:solidFill>
                <a:latin typeface="Times New Roman"/>
              </a:rPr>
              <a:t>З-</a:t>
            </a:r>
            <a:r>
              <a:rPr b="0" lang="ru-RU" sz="2400" spc="-1" strike="noStrike">
                <a:solidFill>
                  <a:srgbClr val="66ff99"/>
                </a:solidFill>
                <a:latin typeface="Times New Roman"/>
              </a:rPr>
              <a:t> для кольцевого сверления, </a:t>
            </a:r>
            <a:r>
              <a:rPr b="0" lang="ru-RU" sz="2400" spc="-1" strike="noStrike">
                <a:solidFill>
                  <a:srgbClr val="ff9933"/>
                </a:solidFill>
                <a:latin typeface="Times New Roman"/>
              </a:rPr>
              <a:t>И-</a:t>
            </a:r>
            <a:r>
              <a:rPr b="0" lang="ru-RU" sz="2400" spc="-1" strike="noStrike">
                <a:solidFill>
                  <a:srgbClr val="66ff99"/>
                </a:solidFill>
                <a:latin typeface="Times New Roman"/>
              </a:rPr>
              <a:t> центровочное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9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032000" cy="3024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PC010261"/>
          <p:cNvPicPr/>
          <p:nvPr/>
        </p:nvPicPr>
        <p:blipFill>
          <a:blip r:embed="rId2"/>
          <a:stretch/>
        </p:blipFill>
        <p:spPr>
          <a:xfrm>
            <a:off x="4427640" y="1557360"/>
            <a:ext cx="453708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7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9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1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5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072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ефекты при обработке отверстий, причины их появления и способы предупрежден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407960"/>
          <a:ext cx="8820360" cy="5456520"/>
        </p:xfrm>
        <a:graphic>
          <a:graphicData uri="http://schemas.openxmlformats.org/drawingml/2006/table">
            <a:tbl>
              <a:tblPr/>
              <a:tblGrid>
                <a:gridCol w="2079720"/>
                <a:gridCol w="3695760"/>
                <a:gridCol w="304488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фек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 предупрежд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кос отверс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падание стружки  под заготовки. Неправильные подкладки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чищать стол и заготовку от грязи и стружки. Исправить или заменить подкладк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щение отверс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од сверла в сторону. Неверная разметка при сверлении по разметк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рить правильность заточки сверла. Правильно размечать заготовк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ышенный диаметр отверс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ная длина режущих кромок. Смещение поперечной режущей кромк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ьно переточить свер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личение глубины отверс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равильная установка упора на глубин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чно установить упор на заданную глубину рез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5573880" y="2087640"/>
            <a:ext cx="3570120" cy="4797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218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Правила безопасности при сверлени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549360"/>
            <a:ext cx="5832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Следует убирать волосы под головной уб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Необходимо тщательно застегивать манжеты на рукав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Запрещаетс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Сверлить незакрепленную заготовк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2. Сильно нажимать на рычаг подачи свер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3. Наклоняться близко к месту сверления во избежание попадания стружки в гл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4. Сдувать стружк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1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440"/>
                            </p:stCondLst>
                            <p:childTnLst>
                              <p:par>
                                <p:cTn id="4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7320"/>
                            </p:stCondLst>
                            <p:childTnLst>
                              <p:par>
                                <p:cTn id="4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7840"/>
                            </p:stCondLst>
                            <p:childTnLst>
                              <p:par>
                                <p:cTn id="4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4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640"/>
                            </p:stCondLst>
                            <p:childTnLst>
                              <p:par>
                                <p:cTn id="4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3360"/>
                            </p:stCondLst>
                            <p:childTnLst>
                              <p:par>
                                <p:cTn id="4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Задание на урок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Tahoma"/>
              </a:rPr>
              <a:t>Произве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верление глухих отверст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верление сквозных отверст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верление хвостов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5" descr="PC030271"/>
          <p:cNvPicPr/>
          <p:nvPr/>
        </p:nvPicPr>
        <p:blipFill>
          <a:blip r:embed="rId1"/>
          <a:stretch/>
        </p:blipFill>
        <p:spPr>
          <a:xfrm>
            <a:off x="4572000" y="2897280"/>
            <a:ext cx="457200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77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3" dur="77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5" dur="77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77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77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5" dur="77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7" dur="77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77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3" dur="77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5" dur="77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7" dur="77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Контрольные вопрос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8136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Tahoma"/>
              </a:rPr>
              <a:t>№</a:t>
            </a:r>
            <a:r>
              <a:rPr b="0" lang="ru-RU" sz="2800" spc="-1" strike="noStrike">
                <a:solidFill>
                  <a:srgbClr val="ff9933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Для чего применяется сверлени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Tahoma"/>
              </a:rPr>
              <a:t>№</a:t>
            </a:r>
            <a:r>
              <a:rPr b="0" lang="ru-RU" sz="2800" spc="-1" strike="noStrike">
                <a:solidFill>
                  <a:srgbClr val="ff9933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Какое оборудование применяется для           сверлен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Tahoma"/>
              </a:rPr>
              <a:t>№</a:t>
            </a:r>
            <a:r>
              <a:rPr b="0" lang="ru-RU" sz="2800" spc="-1" strike="noStrike">
                <a:solidFill>
                  <a:srgbClr val="ff9933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Какие приемы сверления вы знает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Tahoma"/>
              </a:rPr>
              <a:t>№</a:t>
            </a:r>
            <a:r>
              <a:rPr b="0" lang="ru-RU" sz="2800" spc="-1" strike="noStrike">
                <a:solidFill>
                  <a:srgbClr val="ff9933"/>
                </a:solidFill>
                <a:latin typeface="Tahoma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Как избежать дефектов при обработке отверсти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Tahoma"/>
              </a:rPr>
              <a:t>№</a:t>
            </a:r>
            <a:r>
              <a:rPr b="0" lang="ru-RU" sz="2800" spc="-1" strike="noStrike">
                <a:solidFill>
                  <a:srgbClr val="ff9933"/>
                </a:solidFill>
                <a:latin typeface="Tahoma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Какие требования техники безопасности нужно    соблюдать при работе механизированными    инструментами для сверления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0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8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8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8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8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8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8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5"/>
          <p:cNvSpPr txBox="1"/>
          <p:nvPr/>
        </p:nvSpPr>
        <p:spPr>
          <a:xfrm>
            <a:off x="250920" y="2997360"/>
            <a:ext cx="86421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пасибо за  внимание!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blinds dir="horz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0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640" y="877680"/>
            <a:ext cx="80028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Tahoma"/>
              </a:rPr>
              <a:t>Тема урока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99"/>
                </a:solidFill>
                <a:latin typeface="Tahoma"/>
              </a:rPr>
              <a:t>Сверл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4" descr="IMG_2791"/>
          <p:cNvPicPr/>
          <p:nvPr/>
        </p:nvPicPr>
        <p:blipFill>
          <a:blip r:embed="rId1"/>
          <a:stretch/>
        </p:blipFill>
        <p:spPr>
          <a:xfrm>
            <a:off x="2405160" y="2247840"/>
            <a:ext cx="4254480" cy="4637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Цель:</a:t>
            </a:r>
            <a:r>
              <a:rPr b="1" lang="ru-RU" sz="4000" spc="-1" strike="noStrike">
                <a:solidFill>
                  <a:srgbClr val="66ff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формирование знаний и умений применения навыков сверлен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83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чащиеся должны уме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выполнять основные приемы свер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избегать дефектов при обработке отверст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соблюдать правила безопасной работы при сверлен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использовать теоретические знания на практи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2072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Tahoma"/>
              </a:rPr>
              <a:t>Сверлением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e5ffff"/>
                </a:solidFill>
                <a:latin typeface="Times New Roman"/>
              </a:rPr>
              <a:t>называется 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imes New Roman"/>
              </a:rPr>
              <a:t>образование отверстий в сплошном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583416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атериале путем сняти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тружки с помощью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верла, совершающег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ращательное 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ступательное движени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тносительно своей ос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99"/>
                </a:solidFill>
                <a:latin typeface="Times New Roman"/>
              </a:rPr>
              <a:t>Сверление применяется для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8560" y="2065320"/>
            <a:ext cx="7427880" cy="40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размещения крепежных деталей  (винтов, болтов и т.д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нарезания внутренней резьб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улучшения качества отверстия с помощью зенкерования и развертыва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2250"/>
                            </p:stCondLst>
                            <p:childTnLst>
                              <p:par>
                                <p:cTn id="14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8750"/>
                            </p:stCondLst>
                            <p:childTnLst>
                              <p:par>
                                <p:cTn id="15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137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99"/>
                </a:solidFill>
                <a:latin typeface="Tahoma"/>
              </a:rPr>
              <a:t>Механизированное и ручное оборудование для сверления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5219640" y="1341360"/>
            <a:ext cx="3770280" cy="4967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58920" y="1341360"/>
            <a:ext cx="208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ртикально- сверлильный станок 2Н125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стольный вертикально- сверлильный станок 2М1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2808360" cy="49672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21"/>
          <p:cNvSpPr/>
          <p:nvPr/>
        </p:nvSpPr>
        <p:spPr>
          <a:xfrm>
            <a:off x="3203640" y="2997360"/>
            <a:ext cx="720720" cy="215640"/>
          </a:xfrm>
          <a:prstGeom prst="leftArrow">
            <a:avLst>
              <a:gd name="adj1" fmla="val 50000"/>
              <a:gd name="adj2" fmla="val 8355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AutoShape 22"/>
          <p:cNvSpPr/>
          <p:nvPr/>
        </p:nvSpPr>
        <p:spPr>
          <a:xfrm>
            <a:off x="4427640" y="4869000"/>
            <a:ext cx="720720" cy="215640"/>
          </a:xfrm>
          <a:prstGeom prst="rightArrow">
            <a:avLst>
              <a:gd name="adj1" fmla="val 50000"/>
              <a:gd name="adj2" fmla="val 8355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77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7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7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7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77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99"/>
                </a:solidFill>
                <a:latin typeface="Tahoma"/>
              </a:rPr>
              <a:t>Механизированное и ручное оборудование для сверления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5949720"/>
            <a:ext cx="896472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Радиально-сверлильный            Электрическая дрель     Ручная дрель       станок 2Н5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033800" cy="4246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PC010254"/>
          <p:cNvPicPr/>
          <p:nvPr/>
        </p:nvPicPr>
        <p:blipFill>
          <a:blip r:embed="rId2"/>
          <a:stretch/>
        </p:blipFill>
        <p:spPr>
          <a:xfrm>
            <a:off x="4211640" y="1628640"/>
            <a:ext cx="4761000" cy="4248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99"/>
                </a:solidFill>
                <a:latin typeface="Tahoma"/>
              </a:rPr>
              <a:t>Приемы сверления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6192720" cy="4969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43280" y="1483920"/>
            <a:ext cx="270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94d2b"/>
                </a:solidFill>
                <a:latin typeface="Arial Unicode MS"/>
              </a:rPr>
              <a:t>   </a:t>
            </a:r>
            <a:r>
              <a:rPr b="1" lang="ru-RU" sz="2400" spc="-1" strike="noStrike">
                <a:solidFill>
                  <a:srgbClr val="ff7c80"/>
                </a:solidFill>
                <a:latin typeface="Arial Unicode MS"/>
              </a:rPr>
              <a:t>Сверление      глухих отверстий на заданную глубин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о втулочному упор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Tahoma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о измерительной линейк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550"/>
                            </p:stCondLst>
                            <p:childTnLst>
                              <p:par>
                                <p:cTn id="2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6050"/>
                            </p:stCondLst>
                            <p:childTnLst>
                              <p:par>
                                <p:cTn id="2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99"/>
                </a:solidFill>
                <a:latin typeface="Tahoma"/>
              </a:rPr>
              <a:t>Приемы сверления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4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7c80"/>
                </a:solidFill>
                <a:latin typeface="Tahoma"/>
              </a:rPr>
              <a:t>Сверление отверстий               Сверление</a:t>
            </a: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Tahoma"/>
              </a:rPr>
              <a:t>А-</a:t>
            </a:r>
            <a:r>
              <a:rPr b="0" lang="ru-RU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в плоскости, расположенной</a:t>
            </a:r>
            <a:r>
              <a:rPr b="0" lang="ru-RU" sz="2000" spc="-1" strike="noStrike">
                <a:solidFill>
                  <a:srgbClr val="ffff99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ccff"/>
                </a:solidFill>
                <a:latin typeface="Tahoma"/>
              </a:rPr>
              <a:t>А- 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неполного отверстия с под</a:t>
            </a:r>
            <a:r>
              <a:rPr b="0" lang="ru-RU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углом к другой плоскости                      помощью приставной</a:t>
            </a:r>
            <a:r>
              <a:rPr b="0" lang="ru-RU" sz="2000" spc="-1" strike="noStrike">
                <a:solidFill>
                  <a:srgbClr val="009999"/>
                </a:solidFill>
                <a:latin typeface="Tahoma"/>
              </a:rPr>
              <a:t>                                       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ласти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Tahoma"/>
              </a:rPr>
              <a:t>Б-</a:t>
            </a:r>
            <a:r>
              <a:rPr b="0" lang="ru-RU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на цилиндрической поверхности</a:t>
            </a:r>
            <a:r>
              <a:rPr b="0" lang="ru-RU" sz="2000" spc="-1" strike="noStrike">
                <a:solidFill>
                  <a:srgbClr val="9eae0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ccff"/>
                </a:solidFill>
                <a:latin typeface="Tahoma"/>
              </a:rPr>
              <a:t>Б-</a:t>
            </a:r>
            <a:r>
              <a:rPr b="0" lang="ru-RU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отверстия в угольнике</a:t>
            </a:r>
            <a:r>
              <a:rPr b="0" lang="ru-RU" sz="2000" spc="-1" strike="noStrike">
                <a:solidFill>
                  <a:srgbClr val="ffff99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Tahoma"/>
              </a:rPr>
              <a:t>В-</a:t>
            </a:r>
            <a:r>
              <a:rPr b="0" lang="ru-RU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в полых деталя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1"/>
          <a:stretch/>
        </p:blipFill>
        <p:spPr>
          <a:xfrm>
            <a:off x="457200" y="2025720"/>
            <a:ext cx="4038480" cy="1892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2"/>
          <a:stretch/>
        </p:blipFill>
        <p:spPr>
          <a:xfrm>
            <a:off x="4976640" y="1981080"/>
            <a:ext cx="3381480" cy="1981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3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2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6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09:51:06Z</dcterms:created>
  <dc:creator>Владимир</dc:creator>
  <dc:description/>
  <dc:language>en-US</dc:language>
  <cp:lastModifiedBy>777</cp:lastModifiedBy>
  <dcterms:modified xsi:type="dcterms:W3CDTF">2017-02-05T18:09:59Z</dcterms:modified>
  <cp:revision>34</cp:revision>
  <dc:subject/>
  <dc:title>сверление</dc:title>
</cp:coreProperties>
</file>