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0DA-BAA7-4CDD-824F-93F3F614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450-CA33-439F-9B83-B062D37F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D3E-7284-4097-9A57-97C50759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C89-6D88-41D7-8FD0-37BFB386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9C4-4471-43AB-81EC-1236FA57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6D96-B217-4EE5-A2E7-86F2C08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954-2616-43B5-939C-1EB8EB21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DA6-0780-493D-A9AA-E1CEE9C3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7F1-CFB7-484A-AFEE-B916552E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9DD-8860-4B8E-94A3-D58ADC3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FE72-5793-4267-A79F-762FCC8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0A5-AE11-4753-A655-7A4FBB1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AECB-B53A-4926-98B6-192380C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C784-8FCE-40C3-A7A1-D2277BEA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ECF-45E1-445B-83BC-07E34F1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674-6F4E-4BAF-89C2-AEA44D11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8540-9D89-4043-B3EB-9FC01A60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13B-1D87-4098-9B44-65C488E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CAA-1E75-4C3A-AB67-CFD8150E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970-D0A3-479B-A9F6-50BA5E45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437-214A-4740-A82F-E38034A0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56C-31A9-4ED3-911E-BF46167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5DC-3BC5-4832-AAAC-275E85A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ABD-2703-46C0-B9DE-C08D2F0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247-0242-41ED-8E68-E29C38763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B5E-8877-4AFB-9440-A7BA5B15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rkatven.ua/wp-content/uploads/MT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gal.adv.br/img/refs/tom_sawyer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jplus.ru/img4/l/u/luk48/det420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ic1.wikia.nocookie.net/__cb20130909023738/pdsh/images/b/b3/JGBrownAuntPolly.jpg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7400" spc="-1" strike="noStrike">
                <a:solidFill>
                  <a:srgbClr val="ccecff"/>
                </a:solidFill>
                <a:latin typeface="Times New Roman"/>
              </a:rPr>
              <a:t>Марк  Твен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«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Приключени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Тома   Сойер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92000" y="2781000"/>
            <a:ext cx="504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стерева А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ца 4 «В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 СОШ  №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мышленн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Сам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ный 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 №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еховцова В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9520" y="428760"/>
            <a:ext cx="70754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83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акое полное имя у Марка Тве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Когда родился Марк Тве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о что любил играть Том со своими друз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Где жил Гекльберри Фин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Чем скрепили свою дружбу Том и Фин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Что искали Том и Бек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Кто был врагом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Как звали тетю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Какое полное имя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Как звали кота тети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эмюэл Лэнгхорн Клемен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30 ноября 1935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 пир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В боч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Кровь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Выход из пещ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Индеец Дж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Тетя Пол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Том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Пи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Приключения том сойер скачать книгу"/>
          <p:cNvPicPr/>
          <p:nvPr/>
        </p:nvPicPr>
        <p:blipFill>
          <a:blip r:embed="rId1"/>
          <a:stretch/>
        </p:blipFill>
        <p:spPr>
          <a:xfrm>
            <a:off x="5219640" y="2276640"/>
            <a:ext cx="3114720" cy="414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52600" y="364680"/>
            <a:ext cx="707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dirtysoles - Книжные иллюстрации"/>
          <p:cNvPicPr/>
          <p:nvPr/>
        </p:nvPicPr>
        <p:blipFill>
          <a:blip r:embed="rId1"/>
          <a:stretch/>
        </p:blipFill>
        <p:spPr>
          <a:xfrm>
            <a:off x="2556000" y="1268280"/>
            <a:ext cx="4143240" cy="513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675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ий писатель родился 30 ноября 1835 года на юге Соединенных Штатов Америки, в небольшом городке – Флорида, штат Миссури, на берегах реки Миссисипи. Марк Твен - это псевдоним писателя, настоящее имя – Сэмюэл Ленгхорн Клемен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эмюэля была большая семья, он был шестым ребенком в семье. Когда ему исполнилось четыре года, его семья переехала в небольшой городок Ганнибал. Здесь будущий писатель провел свое детство. Он был неспокойным мальчиком, несмотря на свое слабое здоровье . Больше всего он не любил ходить в школу. </a:t>
            </a: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89000"/>
            <a:ext cx="327024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00000" y="260280"/>
            <a:ext cx="431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Марк  Тв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(Сэмюэл Ленгхорн Клемен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5960" y="170028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0.11.1835 г. – 21.04.19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ворчество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иболее известными произведениями Мар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вена являются: «Приключения Тома Сойер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1876 г.), «Приключения Гекльберри Финн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1885 г.), «Таинственный незнакомец» (1916 г.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Марк Твен фото - М Фото актеров кино 2013-2014"/>
          <p:cNvPicPr/>
          <p:nvPr/>
        </p:nvPicPr>
        <p:blipFill>
          <a:blip r:embed="rId1"/>
          <a:stretch/>
        </p:blipFill>
        <p:spPr>
          <a:xfrm>
            <a:off x="5435640" y="314172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6400" y="279000"/>
            <a:ext cx="7755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ключения Тома Сойе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3492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35280" y="1699920"/>
            <a:ext cx="532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ом Сойер жил со своей тетей 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ебольшом американск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ород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н был озорник и бездельник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торый никогда не слушалс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вою тетю, но очень любил играт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пиратов со своими друзья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ом постоянно попадал в неверо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ятные ситуации. Он был настоя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щим искателем приключени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30812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779640" y="1827000"/>
            <a:ext cx="49035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кльберри Финн – ни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дяга, живший в боч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он сумел подр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ться с Томом. 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е видели убийст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али клад. Они ст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оящими друзьями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репили это к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руг Тома Сойера Гекльберри Финн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2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137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ом Сойер и Ребекка Тетч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3852720" y="1268280"/>
            <a:ext cx="28447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427640" y="1341000"/>
            <a:ext cx="451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ки Тетчер-одноклас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друга Тома. Они си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одной партой, иск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ход в темной пещ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м о ней заботил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л. Он даже, однаж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ы, принял наказание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ки (она ему оч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равилас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384360" cy="520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52600" y="428760"/>
            <a:ext cx="707544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ётя  Пол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55640" y="1773000"/>
            <a:ext cx="4327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ётя Полли- тётушка Тома Сойера .(Она очень любила Тома , но Том совсем не слушался свою тетю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138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7120" y="364680"/>
            <a:ext cx="706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деец  Дж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51280" y="1197000"/>
            <a:ext cx="4865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ычайно мстительный, свирепый и безжалостный, индеец Джо внушает страх окружающим . Более всех боятся его Том Сойер и Гек Финн, случайно ставшие свидетелями убийства, совершенного индейцем Джо на кладбище. Кроме всего прочего, индеец Джо планирует убийство почтенной вдовы судьи единственно из мести к ее покойному супругу, но этот его план срывается благодаря Геку, успевшему поднять тревогу. В финале индеец Джо оказывается замурованным в пещере, где находилось его тайное логово, и умирает голодной смертью к всеобщему облег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Tom Sawyer Page 12 Images"/>
          <p:cNvPicPr/>
          <p:nvPr/>
        </p:nvPicPr>
        <p:blipFill>
          <a:blip r:embed="rId1"/>
          <a:stretch/>
        </p:blipFill>
        <p:spPr>
          <a:xfrm>
            <a:off x="250920" y="2133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3840" y="285840"/>
            <a:ext cx="706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445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м Сойер – мальчик, шутник и шалун. Ему не по вкусу жизнь образцового мальчика из образцовой семьи, размеренная жизнь «по правилам» противоречит его бунтарскому духу. Он непоседа, выдумщик и фантазер. Начитавшись историй о смелых и отважных разбойниках, которые борются за справедливость, помогают слабым, Том ищет приключений в реальной жизни. Он романтик. Мальчик сам наполняет свою жизнь событиями, несмотря на все предостережения взрослых, его не пугают опасности, он радуется своим затеям. Для него жизнь – продолжение любимых книг и игр. Том готов каждый день «совершать подвиги», ему некогда скучать, он беззаботный и прыткий. Герой наделен способностью видеть в будничном чрезвычайное. Том умеет испытывать удивление обычным, казалось бы, вещам и подавать событие в непредвиденной интерпретации. Так грандиозным событием в его жизни становится потеря зуба, покраска изгороди. Да и вообще много бытовых предметов (ключ, мел) могут привести к чрезвычайным событиям. В мире Тома так много тайн и приключений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м – надежный товарищ, он умеет сохранять тайны и по-настоящему дружить. Недаром лучшим другом Тома стал «уличный» мальчишка, беспризорник – Гек Финн, Том здравомыслящий, благородный и смелый. Он умеет преодолеть страх, взять себя в руки и не впасть в отчаяние, несмотря на юные год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книга учит нас настоящей дружбе , взаимопомощ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 очень понравилась эта кни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06:50:48Z</dcterms:created>
  <dc:creator>DNA7 X86</dc:creator>
  <dc:description/>
  <dc:language>en-US</dc:language>
  <cp:lastModifiedBy>DNA7 X86</cp:lastModifiedBy>
  <dcterms:modified xsi:type="dcterms:W3CDTF">2015-04-15T16:16:19Z</dcterms:modified>
  <cp:revision>34</cp:revision>
  <dc:subject/>
  <dc:title>СОЛЬ – ПОЛЬЗА ИЛИ ВРЕД? (ИССЛЕДОВАНИЕ ВСЕЙ СОЛИ ВОПРОСА О СОЛИ)   </dc:title>
</cp:coreProperties>
</file>