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4148280"/>
            <a:ext cx="6227640" cy="100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149360"/>
            <a:ext cx="5977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Chiller"/>
              </a:rPr>
              <a:t>Роль женщин в химическом образовании и науке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360" y="5373720"/>
            <a:ext cx="6048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11111"/>
                </a:solidFill>
                <a:latin typeface="Tahoma"/>
              </a:rPr>
              <a:t>Підготувала учениця 9-А класс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11111"/>
                </a:solidFill>
                <a:latin typeface="Tahoma"/>
              </a:rPr>
              <a:t>Голубівськой ЗОШ І-ІІІ ступенів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11111"/>
                </a:solidFill>
                <a:latin typeface="Tahoma"/>
              </a:rPr>
              <a:t>Василенко Анн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11111"/>
                </a:solidFill>
                <a:latin typeface="Tahoma"/>
              </a:rPr>
              <a:t>Вчитель: Коненко Тамара Кирилівн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Научный вклад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2492280"/>
            <a:ext cx="4895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Arial Black"/>
              </a:rPr>
              <a:t>Впервые синтезировала (1891) дибензолкарбофенол и исследовала его качество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Arial Black"/>
              </a:rPr>
              <a:t>Установила (1892), что существуют катоны, которые могут подобно альдегидам,  окисляться без разлива углекислой связ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Arial Black"/>
              </a:rPr>
              <a:t>Автор «Начального учебника химии» (1897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2" name="Picture 4" descr="ef9e6697bcdd"/>
          <p:cNvPicPr/>
          <p:nvPr/>
        </p:nvPicPr>
        <p:blipFill>
          <a:blip r:embed="rId1"/>
          <a:stretch/>
        </p:blipFill>
        <p:spPr>
          <a:xfrm>
            <a:off x="179280" y="270828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981000"/>
            <a:ext cx="69850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99ff"/>
                </a:solidFill>
                <a:latin typeface="Arial Black"/>
              </a:rPr>
              <a:t>Мария Складовская-Кюри</a:t>
            </a:r>
            <a:br>
              <a:rPr sz="3200"/>
            </a:br>
            <a:r>
              <a:rPr b="1" i="1" lang="uk-UA" sz="1600" spc="-1" strike="noStrike">
                <a:solidFill>
                  <a:srgbClr val="4d4d4d"/>
                </a:solidFill>
                <a:latin typeface="Arial"/>
              </a:rPr>
              <a:t>(07.11.1867 - 04.07.1934)</a:t>
            </a:r>
            <a:br>
              <a:rPr sz="1600"/>
            </a:b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65120" y="2420640"/>
            <a:ext cx="57373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</a:rPr>
              <a:t>Оставивши Польщу  1891 году, Мария поступила на факультет природних наук Парижского университета (Сорбоны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</a:rPr>
              <a:t>1898 году Мария и Пьер Кюри объявили об открытии двух новых элементов, которые были названы ими полонием (в честь Польщи — родини Марии) и радием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</a:rPr>
              <a:t>1902 году Кюри объявили о том, что им удалося виділити одну десяту грама хлориду радію з декількох тонн уранової смоляної обманки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</a:rPr>
              <a:t>1903 року Шведська королівська академія наук присудила Нобелівську премію з фізики Беккерелю і подружжю Кюрі. Марія і П'єр Кюрі отримали половину нагороди «на знак визнання... їхніх спільних досліджень явищ радіації, відкритих професором Анрі Беккерелем». Кюрі стала першою жінкою, удостоєною Нобелівської премії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</a:rPr>
              <a:t>Марія Складовська народилася  у Варшаві Вона була молодшою з п'яти дітей у сім'ї Владислава і Броніслави Складовських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</a:rPr>
              <a:t>1911 році Шведська королівська академія наук присудила Марії Кюрі Нобелівську премію з хімії «за видатні заслуги в розвитку хімії: відкриття елементів радію і полонія, виділення радію і вивчення природи і з'єднань цього чудового елементу». Кюрі стала першим двічі лауреатом Нобелівської премії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4" descr="Рисунок14789347"/>
          <p:cNvPicPr/>
          <p:nvPr/>
        </p:nvPicPr>
        <p:blipFill>
          <a:blip r:embed="rId1"/>
          <a:stretch/>
        </p:blipFill>
        <p:spPr>
          <a:xfrm>
            <a:off x="250920" y="2421000"/>
            <a:ext cx="2914560" cy="396396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3933360"/>
            <a:ext cx="7921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арія Складовська-Кюрі стала першою жінкою, що здобула Нобелівську премію, і першим двічі лауреатом цієї нагороди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обелівська премія з фізики (1903 році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едаль Деві (1903 році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аттеуці медаль (1904 році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обелівська премія з хімії (1911 році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Мадам Кюрі була нагороджена французьким орденом Почесного легіону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 Польщі вона отримала почесного доктора Львівської Політехніки (</a:t>
            </a:r>
            <a:r>
              <a:rPr b="1" i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Lwów Polytechnic</a:t>
            </a: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) - 1912 року, Познанського Університету (</a:t>
            </a:r>
            <a:r>
              <a:rPr b="1" i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Poznań University</a:t>
            </a: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) — 1922 року, Краківського Ягеллонського університету (</a:t>
            </a:r>
            <a:r>
              <a:rPr b="1" i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Kraków Jagiellonian University</a:t>
            </a: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) — 1924 року та Варшавської Політехніки (</a:t>
            </a:r>
            <a:r>
              <a:rPr b="1" i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Warsaw Polytechnic</a:t>
            </a: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) 1926 року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1967 року у Варшаві було створено музей Складовської-Кюрі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7" name="Picture 4" descr="Рисунок199"/>
          <p:cNvPicPr/>
          <p:nvPr/>
        </p:nvPicPr>
        <p:blipFill>
          <a:blip r:embed="rId9"/>
          <a:stretch/>
        </p:blipFill>
        <p:spPr>
          <a:xfrm>
            <a:off x="1332000" y="333360"/>
            <a:ext cx="2498760" cy="342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Рисунок132щшг2"/>
          <p:cNvPicPr/>
          <p:nvPr/>
        </p:nvPicPr>
        <p:blipFill>
          <a:blip r:embed="rId10"/>
          <a:stretch/>
        </p:blipFill>
        <p:spPr>
          <a:xfrm>
            <a:off x="4067280" y="333360"/>
            <a:ext cx="214308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Науковий внесок</a:t>
            </a: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37000"/>
            <a:ext cx="5148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4d4d4d"/>
                </a:solidFill>
                <a:latin typeface="Arial"/>
              </a:rPr>
              <a:t>Завершивши дослідження, Марія Кюрі написала свою докторську дисертацію. Робота називалася «Дослідження радіоактивних речовин» і була представлена в Сорбонні в червні 1903 року. На думку комітету, що присудив Кюрі науковий ступінь, її робота з'явилася найбільшим внеском, коли-небудь внесеним до науки докторською дисертацією</a:t>
            </a:r>
            <a:r>
              <a:rPr b="1" lang="uk-UA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6" descr="gr3"/>
          <p:cNvPicPr/>
          <p:nvPr/>
        </p:nvPicPr>
        <p:blipFill>
          <a:blip r:embed="rId1"/>
          <a:stretch/>
        </p:blipFill>
        <p:spPr>
          <a:xfrm>
            <a:off x="4932360" y="2565360"/>
            <a:ext cx="4033800" cy="3311640"/>
          </a:xfrm>
          <a:prstGeom prst="rect">
            <a:avLst/>
          </a:prstGeom>
          <a:ln w="0">
            <a:noFill/>
          </a:ln>
        </p:spPr>
      </p:pic>
    </p:spTree>
  </p:cSld>
  <p:transition advTm="14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67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99ff"/>
                </a:solidFill>
                <a:latin typeface="Arial"/>
              </a:rPr>
              <a:t>Вшанування імені Марії Кюрі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32000" y="170028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У 1995 році вона стала першою жінкою, похованою серед найвідоміших французів під (символ -«Ci») є одиницею виміру радіоактивності, названа на честь її та чоловіка П'єра , як елемент з атомним номером 96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Три радіоактивні мінерали названі на честь Кюрі: куріт, склодовськіт і купросклодовськіт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Образ Складовської-Кюрі з'явився на польській грошовій банкноті наприкінці 1980-х інфляційних років - 20000 злотих. Її образ також з'являвся на марках і монетах, а також на останніх французьких банкнотах - 500 франків, незадовго до заміни франка на євро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Польські наукові та навчальні заклади імені Марії Складовської-Кюрі: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Марії Кюрі-Складовської Університет в Любліні, заснований в 1944 році;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Марії Складовської-Кюрі інститут Онкології у Варшаві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Французькі наукові та навчальні заклади імені Марії Складовської-Кюрі: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4d4d4d"/>
                </a:solidFill>
                <a:latin typeface="Arial"/>
              </a:rPr>
              <a:t>П'єра та Марі Кюрі Університет найбільший науково-технічний та медичний університет у Франції, і попередньо це був інститут природничих наук Паризького університету де вона викладала, а тепер названий на честь її та чоловіка П'єра. В університеті зберегли дім-лабораторію, де вони відкрили радій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4" name="Picture 4" descr="Рисунок1цзкццамммллл"/>
          <p:cNvPicPr/>
          <p:nvPr/>
        </p:nvPicPr>
        <p:blipFill>
          <a:blip r:embed="rId1"/>
          <a:stretch/>
        </p:blipFill>
        <p:spPr>
          <a:xfrm>
            <a:off x="2700360" y="2349360"/>
            <a:ext cx="2016000" cy="360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Рисуно34898923к1"/>
          <p:cNvPicPr/>
          <p:nvPr/>
        </p:nvPicPr>
        <p:blipFill>
          <a:blip r:embed="rId2"/>
          <a:stretch/>
        </p:blipFill>
        <p:spPr>
          <a:xfrm>
            <a:off x="179280" y="2349360"/>
            <a:ext cx="2160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417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ff"/>
                </a:solidFill>
                <a:latin typeface="Arial"/>
              </a:rPr>
              <a:t>Ірен Жоліо-Кюрі </a:t>
            </a:r>
            <a:br>
              <a:rPr sz="3200"/>
            </a:br>
            <a:r>
              <a:rPr b="0" lang="uk-UA" sz="1600" spc="-1" strike="noStrike">
                <a:solidFill>
                  <a:srgbClr val="0099ff"/>
                </a:solidFill>
                <a:latin typeface="Arial Black"/>
              </a:rPr>
              <a:t>(</a:t>
            </a:r>
            <a:r>
              <a:rPr b="1" i="1" lang="ru-RU" sz="1600" spc="-1" strike="noStrike">
                <a:solidFill>
                  <a:srgbClr val="4d4d4d"/>
                </a:solidFill>
                <a:latin typeface="Arial Black"/>
              </a:rPr>
              <a:t>12.09.1897 – </a:t>
            </a:r>
            <a:r>
              <a:rPr b="1" i="1" lang="ru-RU" sz="1800" spc="-1" strike="noStrike">
                <a:solidFill>
                  <a:srgbClr val="4d4d4d"/>
                </a:solidFill>
                <a:latin typeface="Arial Black"/>
              </a:rPr>
              <a:t>17.03.1956</a:t>
            </a:r>
            <a:r>
              <a:rPr b="1" i="1" lang="ru-RU" sz="1600" spc="-1" strike="noStrike">
                <a:solidFill>
                  <a:srgbClr val="4d4d4d"/>
                </a:solidFill>
                <a:latin typeface="Arial Black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24000" y="1844640"/>
            <a:ext cx="43196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Французький фізик народилася в Парижі. Марі Кюрі вперше отримала радій, коли Ірен був всього рік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Ірен </a:t>
            </a:r>
            <a:r>
              <a:rPr b="1" lang="uk-UA" sz="1400" spc="-1" strike="noStrike">
                <a:solidFill>
                  <a:srgbClr val="4d4d4d"/>
                </a:solidFill>
                <a:latin typeface="Arial"/>
              </a:rPr>
              <a:t>здобула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свою освіту в Паризькому університеті (Сорбонні)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Перші досліди були пов'язані з вивченням радіоактивного полонію — елементу, відкритого її батьками понад 20 років тому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Подружжя Жоліо-Кюрі опромінили зразки алюмінію і бору альфа-частками. На їхнє здивування, вихід позитронів продовжувався протягом кількох хвилин після того, як було видалено полонієве джерело альфа-часток. Пізніше Жоліо-Кюрі пришли до переконання, що частина алюмінію і бору в підданих аналізу зразках перетворилася на нові хімічні елементи. Більш того, ці нові елементи були радіоактивними, алюміній перетворився на радіоактивний фосфор, а бор — в радіоактивний ізотоп азоту. Протягом нетривалого часу Жоліо-Кюрі отримали багато нових радіоактивних елементів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Picture 6" descr="Рисунок13480903"/>
          <p:cNvPicPr/>
          <p:nvPr/>
        </p:nvPicPr>
        <p:blipFill>
          <a:blip r:embed="rId1"/>
          <a:stretch/>
        </p:blipFill>
        <p:spPr>
          <a:xfrm>
            <a:off x="539640" y="2205000"/>
            <a:ext cx="2589480" cy="367344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            </a:t>
            </a: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Науковий внесок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105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1935 р. Ірен Жоліо-Кюрі і Фредеріку Жоліо спільно була присуджена Нобелівська премія з хімії «за виконаний синтез нових радіоактивних елементів». У вступній промові від імені Шведської королівської академії наук К.В. Пальмаєр нагадав Жоліо-Кюрі про те, як 24 року назад вона була присутня на подібній церемонії, коли Нобелівську премію з хімії отримувала її мати. «У співпраці з вашим чоловіком, — сказав Пальмаєр, — ви гідно продовжуєте цю блискучу традицію»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1" name="Picture 4" descr="images"/>
          <p:cNvPicPr/>
          <p:nvPr/>
        </p:nvPicPr>
        <p:blipFill>
          <a:blip r:embed="rId1"/>
          <a:stretch/>
        </p:blipFill>
        <p:spPr>
          <a:xfrm>
            <a:off x="4500720" y="2708280"/>
            <a:ext cx="4103640" cy="325764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50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i="1" lang="uk-UA" sz="4800" spc="-1" strike="noStrike">
                <a:solidFill>
                  <a:srgbClr val="0099ff"/>
                </a:solidFill>
                <a:latin typeface="Verdana"/>
              </a:rPr>
              <a:t>Кінець</a:t>
            </a:r>
            <a:endParaRPr b="0" lang="en-US" sz="4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23" name="Picture 4" descr="20120111083407"/>
          <p:cNvPicPr/>
          <p:nvPr/>
        </p:nvPicPr>
        <p:blipFill>
          <a:blip r:embed="rId1"/>
          <a:stretch/>
        </p:blipFill>
        <p:spPr>
          <a:xfrm>
            <a:off x="179280" y="2781360"/>
            <a:ext cx="5256360" cy="374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mages"/>
          <p:cNvPicPr/>
          <p:nvPr/>
        </p:nvPicPr>
        <p:blipFill>
          <a:blip r:embed="rId2"/>
          <a:stretch/>
        </p:blipFill>
        <p:spPr>
          <a:xfrm>
            <a:off x="5580000" y="1916280"/>
            <a:ext cx="3137040" cy="216036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453708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ff"/>
                </a:solidFill>
                <a:latin typeface="Arial Black"/>
              </a:rPr>
              <a:t>Элизабет Фулхем</a:t>
            </a:r>
            <a:br>
              <a:rPr sz="3600"/>
            </a:br>
            <a:r>
              <a:rPr b="1" i="1" lang="uk-UA" sz="1600" spc="-1" strike="noStrike">
                <a:solidFill>
                  <a:srgbClr val="111111"/>
                </a:solidFill>
                <a:latin typeface="Times New Roman"/>
              </a:rPr>
              <a:t>Дата рождения и смерти неизвестна, жила в Х</a:t>
            </a:r>
            <a:r>
              <a:rPr b="1" i="1" lang="en-US" sz="1600" spc="-1" strike="noStrike">
                <a:solidFill>
                  <a:srgbClr val="111111"/>
                </a:solidFill>
                <a:latin typeface="Times New Roman"/>
              </a:rPr>
              <a:t>VIII</a:t>
            </a:r>
            <a:r>
              <a:rPr b="1" i="1" lang="uk-UA" sz="3200" spc="-1" strike="noStrike">
                <a:solidFill>
                  <a:srgbClr val="111111"/>
                </a:solidFill>
                <a:latin typeface="Times New Roman"/>
              </a:rPr>
              <a:t> </a:t>
            </a:r>
            <a:r>
              <a:rPr b="1" i="1" lang="uk-UA" sz="1600" spc="-1" strike="noStrike">
                <a:solidFill>
                  <a:srgbClr val="111111"/>
                </a:solidFill>
                <a:latin typeface="Times New Roman"/>
              </a:rPr>
              <a:t>в</a:t>
            </a:r>
            <a:r>
              <a:rPr b="0" i="1" lang="uk-UA" sz="1600" spc="-1" strike="noStrike">
                <a:solidFill>
                  <a:srgbClr val="4d4d4d"/>
                </a:solidFill>
                <a:latin typeface="Tunga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285264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Первая женщина-химик. С 1780 г. проводит систематические опыты с осажденнием золота и серебра, а также других металлов на шелковых тканях используя при этом разные восстановители. Про результаты своей работы Э. Фулхем  рассказала в книге </a:t>
            </a:r>
            <a:r>
              <a:rPr b="1" lang="uk-UA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“</a:t>
            </a:r>
            <a:r>
              <a:rPr b="1" lang="uk-UA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Размышленния о горении</a:t>
            </a:r>
            <a:r>
              <a:rPr b="1" lang="uk-UA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”</a:t>
            </a:r>
            <a:r>
              <a:rPr b="1" lang="uk-UA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, которая была опубликована в США. Книга получила положительные отклики. Позже Э. Фулхем была выбрана членом-кореспондентом химического товарищества в Филадельфии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413000"/>
            <a:ext cx="662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ff"/>
                </a:solidFill>
                <a:latin typeface="Arial Black"/>
              </a:rPr>
              <a:t>Джейн Марсе</a:t>
            </a:r>
            <a:br>
              <a:rPr sz="3600"/>
            </a:br>
            <a:r>
              <a:rPr b="1" i="1" lang="uk-UA" sz="1600" spc="-1" strike="noStrike">
                <a:solidFill>
                  <a:srgbClr val="111111"/>
                </a:solidFill>
                <a:latin typeface="Tunga"/>
              </a:rPr>
              <a:t>(1769 – 1858)</a:t>
            </a: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5640" y="2421000"/>
            <a:ext cx="3745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Кто же был автором учебника, который был популярен в Европе и Америке на протяжении более 50 лет? Скоро после выхода, учебник начали приписывать известным химикам. Естественно, что это были мужчины, хотя уже с первых строчек предисловия до первого и следующих издательств было ясно, что автор – женщина. И вот, в 1837 г. в 13-ом лондонском издательстве учебника «Разговоры о химии», более чем через 30 лет после появление этой книги в прессе, когда автору было уже 68 лет, на титульном листе появилось ее имя – Джейн Марс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"Разговоры о химии"  были первой, но не последней книгой Марсе научно-популярного характера. За свою длинную жизнь, Джейн написала еще 31 книгу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10" descr="Рисунок1"/>
          <p:cNvPicPr/>
          <p:nvPr/>
        </p:nvPicPr>
        <p:blipFill>
          <a:blip r:embed="rId1"/>
          <a:stretch/>
        </p:blipFill>
        <p:spPr>
          <a:xfrm>
            <a:off x="5219640" y="2205000"/>
            <a:ext cx="2448000" cy="352908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ff"/>
                </a:solidFill>
                <a:latin typeface="Arial Black"/>
              </a:rPr>
              <a:t>Анна Фёдоровна Волкова</a:t>
            </a:r>
            <a:br>
              <a:rPr sz="3600"/>
            </a:br>
            <a:r>
              <a:rPr b="0" i="1" lang="ru-RU" sz="1800" spc="-1" strike="noStrike">
                <a:solidFill>
                  <a:srgbClr val="111111"/>
                </a:solidFill>
                <a:latin typeface="Tunga"/>
              </a:rPr>
              <a:t>(г. рождения неизвестен - умерла 1876)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360" y="2492280"/>
            <a:ext cx="3746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ahoma"/>
              </a:rPr>
              <a:t>Волкова Анна Фёдоровна, русский химик, первая женщина в мире, которая опубликовала исследования по химии. Работала с 1869 в лаборатории русского ученого А. Н. Энгельгардта. Под руководством Д. И. Менделеева вела практические занятия с слушателями Петербурских публичных курсов. В 1870 впервые получила в чистому виде ортотолуолсульфокислоту, ее хлорангидрид и амид. С паракрезолу Волкова впервые получила пара-трикрезолфосфат - составную часть важного сегодня пластификатора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ahoma"/>
              </a:rPr>
              <a:t>За исследования сульфокислот А. Волкова в 1870 р. первая из женщин была принята в члены Российского химического общества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6699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ahoma"/>
              </a:rPr>
              <a:t>К сожалению, ранняя смерть не дала возможности полностью реализовать себя.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Рисунок1y644"/>
          <p:cNvPicPr/>
          <p:nvPr/>
        </p:nvPicPr>
        <p:blipFill>
          <a:blip r:embed="rId1"/>
          <a:stretch/>
        </p:blipFill>
        <p:spPr>
          <a:xfrm>
            <a:off x="1332000" y="2492280"/>
            <a:ext cx="2828880" cy="395928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907640" y="2636640"/>
            <a:ext cx="5688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d4d4d"/>
                </a:solidFill>
                <a:latin typeface="Monotype Corsiva"/>
                <a:ea typeface="Times New Roman"/>
              </a:rPr>
              <a:t>Мария Михайловна была первым ученным, который экспериментально решил спор между приверженцами биологической (Луи Пастер) и химической (</a:t>
            </a:r>
            <a:r>
              <a:rPr b="1" lang="ru-RU" sz="2400" spc="-1" strike="noStrike">
                <a:solidFill>
                  <a:srgbClr val="4d4d4d"/>
                </a:solidFill>
                <a:latin typeface="Monotype Corsiva"/>
                <a:ea typeface="Times New Roman"/>
              </a:rPr>
              <a:t>Юстус фон</a:t>
            </a:r>
            <a:r>
              <a:rPr b="1" lang="uk-UA" sz="2400" spc="-1" strike="noStrike">
                <a:solidFill>
                  <a:srgbClr val="4d4d4d"/>
                </a:solidFill>
                <a:latin typeface="Monotype Corsiva"/>
                <a:ea typeface="Times New Roman"/>
              </a:rPr>
              <a:t>Либих) теорий природы спиртового бражения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d4d4d"/>
                </a:solidFill>
                <a:latin typeface="Monotype Corsiva"/>
                <a:ea typeface="Times New Roman"/>
              </a:rPr>
              <a:t>В1897 г. было опубликована статья Эдуарда Бюхнера “Алкогольного бражения без дрожжевые клетки”, которая повторяла открытие сделанное Манассеевой. Но ее работа на то время не имела поддержки. А Бюхнер получил Нобелевскую премию в 1907 г. по химии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042920" y="620280"/>
            <a:ext cx="662616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99ff"/>
                </a:solidFill>
                <a:latin typeface="Arial Black"/>
              </a:rPr>
              <a:t>Мария Михайловна Корнукова</a:t>
            </a:r>
            <a:br>
              <a:rPr sz="3600"/>
            </a:br>
            <a:r>
              <a:rPr b="1" i="1" lang="uk-UA" sz="3600" spc="-1" strike="noStrike">
                <a:solidFill>
                  <a:srgbClr val="0099ff"/>
                </a:solidFill>
                <a:latin typeface="Arial Black"/>
              </a:rPr>
              <a:t>(Манассеева</a:t>
            </a:r>
            <a:r>
              <a:rPr b="1" i="1" lang="uk-UA" sz="2800" spc="-1" strike="noStrike">
                <a:solidFill>
                  <a:srgbClr val="0099ff"/>
                </a:solidFill>
                <a:latin typeface="Arial Black"/>
              </a:rPr>
              <a:t>)</a:t>
            </a:r>
            <a:br>
              <a:rPr sz="2800"/>
            </a:br>
            <a:r>
              <a:rPr b="1" i="1" lang="uk-UA" sz="2800" spc="-1" strike="noStrike">
                <a:solidFill>
                  <a:srgbClr val="0099ff"/>
                </a:solidFill>
                <a:latin typeface="Arial Black"/>
              </a:rPr>
              <a:t> </a:t>
            </a:r>
            <a:r>
              <a:rPr b="1" i="1" lang="uk-UA" sz="1800" spc="-1" strike="noStrike">
                <a:solidFill>
                  <a:srgbClr val="111111"/>
                </a:solidFill>
                <a:latin typeface="Tunga"/>
              </a:rPr>
              <a:t>(1843 – 1903)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67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99ff"/>
                </a:solidFill>
                <a:latin typeface="Arial Black"/>
              </a:rPr>
              <a:t>Юлия Всеволодовна </a:t>
            </a:r>
            <a:br>
              <a:rPr sz="2800"/>
            </a:br>
            <a:r>
              <a:rPr b="1" i="1" lang="uk-UA" sz="2800" spc="-1" strike="noStrike">
                <a:solidFill>
                  <a:srgbClr val="0099ff"/>
                </a:solidFill>
                <a:latin typeface="Arial Black"/>
              </a:rPr>
              <a:t>Лермонтова</a:t>
            </a:r>
            <a:br>
              <a:rPr sz="2800"/>
            </a:br>
            <a:r>
              <a:rPr b="1" i="1" lang="uk-UA" sz="1800" spc="-1" strike="noStrike">
                <a:solidFill>
                  <a:srgbClr val="111111"/>
                </a:solidFill>
                <a:latin typeface="Tunga"/>
              </a:rPr>
              <a:t>(02.01.1847 – 16.12.1919)</a:t>
            </a:r>
            <a:br>
              <a:rPr sz="1800"/>
            </a:b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3744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ачальное образование Юлия получила дома, где была богатейшая библиотека. Отлично владела европейскими языками. Увлеклась химией рано, решив науку основно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 Гейдельберском университете, Лермонтова по рекомендацией Менделеева провела свое первое научное исследование деление редких металлов, спутников платины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 1875 года имя Лермонтовой официально занесено в список членов Российского химического общест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" name="Picture 5" descr="Рисунок1888"/>
          <p:cNvPicPr/>
          <p:nvPr/>
        </p:nvPicPr>
        <p:blipFill>
          <a:blip r:embed="rId1"/>
          <a:stretch/>
        </p:blipFill>
        <p:spPr>
          <a:xfrm>
            <a:off x="5168880" y="1989000"/>
            <a:ext cx="2641680" cy="387360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Научный вклад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3961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Исследовательским путем сумела доказать, что нефть больше подходит для получения  світильного газа, чем уголь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К научным заслугам Лермонтовой относятся и ее  работы, которые сыграли важную роль в технике катализа. Своими исследования она первой из ученых-химиков  обозначила лучшие условия разложения максимального выхода ароматических углеводом.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Picture 10" descr="Химия"/>
          <p:cNvPicPr/>
          <p:nvPr/>
        </p:nvPicPr>
        <p:blipFill>
          <a:blip r:embed="rId1"/>
          <a:stretch/>
        </p:blipFill>
        <p:spPr>
          <a:xfrm>
            <a:off x="4859280" y="242100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6769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99ff"/>
                </a:solidFill>
                <a:latin typeface="Arial"/>
              </a:rPr>
              <a:t>Евдокия Александровна Фомина-Жуковская</a:t>
            </a:r>
            <a:br>
              <a:rPr sz="3200"/>
            </a:br>
            <a:r>
              <a:rPr b="1" i="1" lang="uk-UA" sz="1600" spc="-1" strike="noStrike">
                <a:solidFill>
                  <a:srgbClr val="111111"/>
                </a:solidFill>
                <a:latin typeface="Tunga"/>
              </a:rPr>
              <a:t>(1860 -1894)</a:t>
            </a:r>
            <a:br>
              <a:rPr sz="3200"/>
            </a:b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Евдокия Александровна получила ученую ступень доктора в Швейцарии. Женевские профессора предлагали ей место ассистента по органической химии, но она вернулась в Москву, где сначала работала у В. Марковникова, а потом помогала М. Зеленскому в исследовании тиофена. К сожалению, жизнь талантливой исследовательницы оборвалась в 34 год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6697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99ff"/>
                </a:solidFill>
                <a:latin typeface="Arial"/>
              </a:rPr>
              <a:t>Вера Богдановская-Попова</a:t>
            </a:r>
            <a:br>
              <a:rPr sz="3200"/>
            </a:br>
            <a:r>
              <a:rPr b="1" i="1" lang="uk-UA" sz="1600" spc="-1" strike="noStrike">
                <a:solidFill>
                  <a:srgbClr val="4d4d4d"/>
                </a:solidFill>
                <a:latin typeface="Arial"/>
              </a:rPr>
              <a:t>(17.09.1867—25.04.1890)</a:t>
            </a: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Одна из первых русских женщин - химик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Родилась в Петербурге. Окончила Высшие женские курсы в Петербурге ( 1887) и Женевский университет (1892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В 1892—1895 занималась педагогической деяльностью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С 1895 году работала в своем доме в Вьятской губернии в собственной химической лаборатории. Основные научные исследования относятся к органическому синтезу.</a:t>
            </a: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Принимала участие  в подготовке посмертного опубликования А. М. Бутлерова «Введение к полному изучению органической химии».  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d4d4d"/>
                </a:solidFill>
                <a:latin typeface="Times New Roman"/>
              </a:rPr>
              <a:t>Погибла в лаборатории при попытке синтезировать фосфорный аналог синильной кислот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8:04:24Z</dcterms:created>
  <dc:creator>Пользователь</dc:creator>
  <dc:description/>
  <dc:language>en-US</dc:language>
  <cp:lastModifiedBy>Toma</cp:lastModifiedBy>
  <dcterms:modified xsi:type="dcterms:W3CDTF">2017-01-25T11:38:12Z</dcterms:modified>
  <cp:revision>17</cp:revision>
  <dc:subject/>
  <dc:title>Роль жінок у хімічній освіті і науці</dc:title>
</cp:coreProperties>
</file>