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A259-F46F-4231-895D-B318D5CA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376-0F2A-46DA-BBD2-BA167943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AEE-909A-47B3-A55A-7693DAE5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AB8-1637-4DA4-AE6F-B2AFED47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4D73-FB64-4395-B3D1-AE6AAE0B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D1C-EDC2-4C4D-BBAD-89A77B90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B08C-EFB5-45D1-8E96-8B340427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12F-9C9C-4E3C-B941-FD932B0F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F58-E7D2-4CAB-A8DE-2AF3794E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090-B332-48F2-9F2C-E001CEEF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2BB-A868-4A66-A572-B09CBCD3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842D-2C14-4EB4-B750-4AA02D19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8425DD-0D69-4447-8C8B-B3582139DC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1708200"/>
            <a:ext cx="856908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3333cc"/>
                </a:solidFill>
                <a:latin typeface="Arial"/>
              </a:rPr>
              <a:t>Буква Ж</a:t>
            </a:r>
            <a:br>
              <a:rPr sz="9600"/>
            </a:b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1 класс УМК «Начальная школа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XI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МБОУ «СОШ № 8 г. Петровска Саратовской обла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Шмакова О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Fall Season: Art, Design &amp; Photography Redbubble"/>
          <p:cNvPicPr/>
          <p:nvPr/>
        </p:nvPicPr>
        <p:blipFill>
          <a:blip r:embed="rId1"/>
          <a:stretch/>
        </p:blipFill>
        <p:spPr>
          <a:xfrm>
            <a:off x="468360" y="3611520"/>
            <a:ext cx="3000240" cy="335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Брюки &quot;Маленькая фея&quot; модель 1070 для девочки - Одежда для девочек в Р"/>
          <p:cNvPicPr/>
          <p:nvPr/>
        </p:nvPicPr>
        <p:blipFill>
          <a:blip r:embed="rId2"/>
          <a:stretch/>
        </p:blipFill>
        <p:spPr>
          <a:xfrm>
            <a:off x="468360" y="27936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Прошедшие акции в городе Волгоград - РублиON На нашем сайте можно недорого купить купоны на скидку на множество товаров и услуг."/>
          <p:cNvPicPr/>
          <p:nvPr/>
        </p:nvPicPr>
        <p:blipFill>
          <a:blip r:embed="rId3"/>
          <a:stretch/>
        </p:blipFill>
        <p:spPr>
          <a:xfrm>
            <a:off x="3540240" y="4208400"/>
            <a:ext cx="3643200" cy="258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ТН &quot;Домашние животные&quot; (домашние птицы) - Babyblog.ru"/>
          <p:cNvPicPr/>
          <p:nvPr/>
        </p:nvPicPr>
        <p:blipFill>
          <a:blip r:embed="rId4"/>
          <a:stretch/>
        </p:blipFill>
        <p:spPr>
          <a:xfrm>
            <a:off x="3683160" y="208080"/>
            <a:ext cx="3776400" cy="3500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STELLAR Юла d=14см 01309"/>
          <p:cNvPicPr/>
          <p:nvPr/>
        </p:nvPicPr>
        <p:blipFill>
          <a:blip r:embed="rId5"/>
          <a:stretch/>
        </p:blipFill>
        <p:spPr>
          <a:xfrm>
            <a:off x="6969240" y="2922480"/>
            <a:ext cx="27842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325680" y="5565600"/>
          <a:ext cx="6429600" cy="1143000"/>
        </p:xfrm>
        <a:graphic>
          <a:graphicData uri="http://schemas.openxmlformats.org/drawingml/2006/table">
            <a:tbl>
              <a:tblPr/>
              <a:tblGrid>
                <a:gridCol w="1285920"/>
                <a:gridCol w="1285920"/>
                <a:gridCol w="1285920"/>
                <a:gridCol w="1285920"/>
                <a:gridCol w="12859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325680" y="5565600"/>
          <a:ext cx="1285920" cy="1143000"/>
        </p:xfrm>
        <a:graphic>
          <a:graphicData uri="http://schemas.openxmlformats.org/drawingml/2006/table">
            <a:tbl>
              <a:tblPr/>
              <a:tblGrid>
                <a:gridCol w="1285920"/>
              </a:tblGrid>
              <a:tr h="114300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pic>
        <p:nvPicPr>
          <p:cNvPr id="50" name="Прямоугольник 9" descr=""/>
          <p:cNvPicPr/>
          <p:nvPr/>
        </p:nvPicPr>
        <p:blipFill>
          <a:blip r:embed="rId1"/>
          <a:stretch/>
        </p:blipFill>
        <p:spPr>
          <a:xfrm>
            <a:off x="4138560" y="2152800"/>
            <a:ext cx="5273640" cy="26510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11"/>
          <p:cNvSpPr/>
          <p:nvPr/>
        </p:nvSpPr>
        <p:spPr>
          <a:xfrm>
            <a:off x="4182480" y="2279520"/>
            <a:ext cx="857160" cy="1500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2"/>
          <p:cNvSpPr/>
          <p:nvPr/>
        </p:nvSpPr>
        <p:spPr>
          <a:xfrm flipV="1">
            <a:off x="4325040" y="3780000"/>
            <a:ext cx="714600" cy="1785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&quot;Колокол&quot; красный набор из 2 шт: лучшая цена и магазины, где купить"/>
          <p:cNvPicPr/>
          <p:nvPr/>
        </p:nvPicPr>
        <p:blipFill>
          <a:blip r:embed="rId2"/>
          <a:stretch/>
        </p:blipFill>
        <p:spPr>
          <a:xfrm>
            <a:off x="4040280" y="493560"/>
            <a:ext cx="604800" cy="6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&quot;Колокол&quot; красный набор из 2 шт: лучшая цена и магазины, где купить"/>
          <p:cNvPicPr/>
          <p:nvPr/>
        </p:nvPicPr>
        <p:blipFill>
          <a:blip r:embed="rId3"/>
          <a:stretch/>
        </p:blipFill>
        <p:spPr>
          <a:xfrm>
            <a:off x="6254640" y="4923000"/>
            <a:ext cx="60480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3754440" y="1136520"/>
          <a:ext cx="3432240" cy="1143000"/>
        </p:xfrm>
        <a:graphic>
          <a:graphicData uri="http://schemas.openxmlformats.org/drawingml/2006/table">
            <a:tbl>
              <a:tblPr/>
              <a:tblGrid>
                <a:gridCol w="1130400"/>
                <a:gridCol w="1128600"/>
                <a:gridCol w="117324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754440" y="113652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897440" y="113652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040440" y="1136520"/>
          <a:ext cx="1143000" cy="11430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611600" y="5565600"/>
          <a:ext cx="1285920" cy="1143000"/>
        </p:xfrm>
        <a:graphic>
          <a:graphicData uri="http://schemas.openxmlformats.org/drawingml/2006/table">
            <a:tbl>
              <a:tblPr/>
              <a:tblGrid>
                <a:gridCol w="12859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897520" y="5565600"/>
          <a:ext cx="1285920" cy="1143000"/>
        </p:xfrm>
        <a:graphic>
          <a:graphicData uri="http://schemas.openxmlformats.org/drawingml/2006/table">
            <a:tbl>
              <a:tblPr/>
              <a:tblGrid>
                <a:gridCol w="12859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7183440" y="5565600"/>
          <a:ext cx="1285920" cy="1143000"/>
        </p:xfrm>
        <a:graphic>
          <a:graphicData uri="http://schemas.openxmlformats.org/drawingml/2006/table">
            <a:tbl>
              <a:tblPr/>
              <a:tblGrid>
                <a:gridCol w="12859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8469360" y="5565600"/>
          <a:ext cx="1285920" cy="1143000"/>
        </p:xfrm>
        <a:graphic>
          <a:graphicData uri="http://schemas.openxmlformats.org/drawingml/2006/table">
            <a:tbl>
              <a:tblPr/>
              <a:tblGrid>
                <a:gridCol w="128592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pic>
        <p:nvPicPr>
          <p:cNvPr id="63" name="Picture 6" descr="&quot;Колокол&quot; красный набор из 2 шт: лучшая цена и магазины, где купить"/>
          <p:cNvPicPr/>
          <p:nvPr/>
        </p:nvPicPr>
        <p:blipFill>
          <a:blip r:embed="rId4"/>
          <a:stretch/>
        </p:blipFill>
        <p:spPr>
          <a:xfrm>
            <a:off x="3611520" y="4923000"/>
            <a:ext cx="604800" cy="604800"/>
          </a:xfrm>
          <a:prstGeom prst="rect">
            <a:avLst/>
          </a:prstGeom>
          <a:ln w="0">
            <a:noFill/>
          </a:ln>
        </p:spPr>
      </p:pic>
      <p:sp>
        <p:nvSpPr>
          <p:cNvPr id="64" name="Овал 45"/>
          <p:cNvSpPr/>
          <p:nvPr/>
        </p:nvSpPr>
        <p:spPr>
          <a:xfrm>
            <a:off x="5397480" y="2351160"/>
            <a:ext cx="21420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47"/>
          <p:cNvSpPr/>
          <p:nvPr/>
        </p:nvSpPr>
        <p:spPr>
          <a:xfrm flipH="1">
            <a:off x="5540400" y="422280"/>
            <a:ext cx="357120" cy="571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48"/>
          <p:cNvSpPr/>
          <p:nvPr/>
        </p:nvSpPr>
        <p:spPr>
          <a:xfrm>
            <a:off x="5111640" y="6851520"/>
            <a:ext cx="214560" cy="21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49"/>
          <p:cNvSpPr/>
          <p:nvPr/>
        </p:nvSpPr>
        <p:spPr>
          <a:xfrm>
            <a:off x="7683480" y="6851520"/>
            <a:ext cx="214200" cy="21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50"/>
          <p:cNvSpPr/>
          <p:nvPr/>
        </p:nvSpPr>
        <p:spPr>
          <a:xfrm flipH="1">
            <a:off x="5897160" y="5067360"/>
            <a:ext cx="1800" cy="199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55"/>
          <p:cNvSpPr/>
          <p:nvPr/>
        </p:nvSpPr>
        <p:spPr>
          <a:xfrm flipH="1">
            <a:off x="7754400" y="4923000"/>
            <a:ext cx="357480" cy="571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5" descr="Игрушки купить в Киеве, Донецке, Днепропетровске: цены, отзывы Детский интернет магазин Шкет Страница 3"/>
          <p:cNvPicPr/>
          <p:nvPr/>
        </p:nvPicPr>
        <p:blipFill>
          <a:blip r:embed="rId5"/>
          <a:stretch/>
        </p:blipFill>
        <p:spPr>
          <a:xfrm>
            <a:off x="0" y="0"/>
            <a:ext cx="3111480" cy="3111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7" descr="Веселые картинки для детей. Обои для рабочего стола с персонажами мультфильмов и детских книг"/>
          <p:cNvPicPr/>
          <p:nvPr/>
        </p:nvPicPr>
        <p:blipFill>
          <a:blip r:embed="rId6"/>
          <a:stretch/>
        </p:blipFill>
        <p:spPr>
          <a:xfrm>
            <a:off x="182520" y="3279600"/>
            <a:ext cx="2143080" cy="40482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41" descr=""/>
          <p:cNvPicPr/>
          <p:nvPr/>
        </p:nvPicPr>
        <p:blipFill>
          <a:blip r:embed="rId7"/>
          <a:stretch/>
        </p:blipFill>
        <p:spPr>
          <a:xfrm>
            <a:off x="3164040" y="5357880"/>
            <a:ext cx="1431720" cy="11523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2" descr=""/>
          <p:cNvPicPr/>
          <p:nvPr/>
        </p:nvPicPr>
        <p:blipFill>
          <a:blip r:embed="rId8"/>
          <a:stretch/>
        </p:blipFill>
        <p:spPr>
          <a:xfrm>
            <a:off x="4516560" y="5357880"/>
            <a:ext cx="1536480" cy="11523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43" descr=""/>
          <p:cNvPicPr/>
          <p:nvPr/>
        </p:nvPicPr>
        <p:blipFill>
          <a:blip r:embed="rId9"/>
          <a:stretch/>
        </p:blipFill>
        <p:spPr>
          <a:xfrm>
            <a:off x="3376440" y="6443640"/>
            <a:ext cx="22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182600" y="2494080"/>
          <a:ext cx="7715160" cy="2000160"/>
        </p:xfrm>
        <a:graphic>
          <a:graphicData uri="http://schemas.openxmlformats.org/drawingml/2006/table">
            <a:tbl>
              <a:tblPr/>
              <a:tblGrid>
                <a:gridCol w="3851280"/>
                <a:gridCol w="3863880"/>
              </a:tblGrid>
              <a:tr h="200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Прямая соединительная линия 3"/>
          <p:cNvSpPr/>
          <p:nvPr/>
        </p:nvSpPr>
        <p:spPr>
          <a:xfrm flipH="1">
            <a:off x="5040360" y="1708200"/>
            <a:ext cx="1440" cy="36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5"/>
          <p:cNvSpPr/>
          <p:nvPr/>
        </p:nvSpPr>
        <p:spPr>
          <a:xfrm flipH="1">
            <a:off x="3111120" y="1422360"/>
            <a:ext cx="857160" cy="9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8360" y="1065240"/>
          <a:ext cx="1952640" cy="2000160"/>
        </p:xfrm>
        <a:graphic>
          <a:graphicData uri="http://schemas.openxmlformats.org/drawingml/2006/table">
            <a:tbl>
              <a:tblPr/>
              <a:tblGrid>
                <a:gridCol w="1952640"/>
              </a:tblGrid>
              <a:tr h="200016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396720" y="4565520"/>
          <a:ext cx="1952640" cy="2000520"/>
        </p:xfrm>
        <a:graphic>
          <a:graphicData uri="http://schemas.openxmlformats.org/drawingml/2006/table">
            <a:tbl>
              <a:tblPr/>
              <a:tblGrid>
                <a:gridCol w="1952640"/>
              </a:tblGrid>
              <a:tr h="200052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pic>
        <p:nvPicPr>
          <p:cNvPr id="81" name="Прямоугольник 8" descr=""/>
          <p:cNvPicPr/>
          <p:nvPr/>
        </p:nvPicPr>
        <p:blipFill>
          <a:blip r:embed="rId1"/>
          <a:stretch/>
        </p:blipFill>
        <p:spPr>
          <a:xfrm>
            <a:off x="2041560" y="1822320"/>
            <a:ext cx="3170160" cy="198144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9" descr=""/>
          <p:cNvPicPr/>
          <p:nvPr/>
        </p:nvPicPr>
        <p:blipFill>
          <a:blip r:embed="rId2"/>
          <a:stretch/>
        </p:blipFill>
        <p:spPr>
          <a:xfrm>
            <a:off x="4048200" y="1951200"/>
            <a:ext cx="2906640" cy="179856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10" descr=""/>
          <p:cNvPicPr/>
          <p:nvPr/>
        </p:nvPicPr>
        <p:blipFill>
          <a:blip r:embed="rId3"/>
          <a:stretch/>
        </p:blipFill>
        <p:spPr>
          <a:xfrm>
            <a:off x="4108320" y="3809880"/>
            <a:ext cx="2865600" cy="179892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11" descr=""/>
          <p:cNvPicPr/>
          <p:nvPr/>
        </p:nvPicPr>
        <p:blipFill>
          <a:blip r:embed="rId4"/>
          <a:stretch/>
        </p:blipFill>
        <p:spPr>
          <a:xfrm>
            <a:off x="5851440" y="1951200"/>
            <a:ext cx="2878200" cy="179856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12" descr=""/>
          <p:cNvPicPr/>
          <p:nvPr/>
        </p:nvPicPr>
        <p:blipFill>
          <a:blip r:embed="rId5"/>
          <a:stretch/>
        </p:blipFill>
        <p:spPr>
          <a:xfrm>
            <a:off x="2120760" y="3809880"/>
            <a:ext cx="2938680" cy="179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&quot;Колокол&quot; красный набор из 2 шт: лучшая цена и магазины, где купить"/>
          <p:cNvPicPr/>
          <p:nvPr/>
        </p:nvPicPr>
        <p:blipFill>
          <a:blip r:embed="rId6"/>
          <a:stretch/>
        </p:blipFill>
        <p:spPr>
          <a:xfrm>
            <a:off x="1111320" y="351000"/>
            <a:ext cx="604800" cy="604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&quot;Колокол&quot; красный набор из 2 шт: лучшая цена и магазины, где купить"/>
          <p:cNvPicPr/>
          <p:nvPr/>
        </p:nvPicPr>
        <p:blipFill>
          <a:blip r:embed="rId7"/>
          <a:stretch/>
        </p:blipFill>
        <p:spPr>
          <a:xfrm>
            <a:off x="1111320" y="3922560"/>
            <a:ext cx="604800" cy="60516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18" descr=""/>
          <p:cNvPicPr/>
          <p:nvPr/>
        </p:nvPicPr>
        <p:blipFill>
          <a:blip r:embed="rId8"/>
          <a:stretch/>
        </p:blipFill>
        <p:spPr>
          <a:xfrm>
            <a:off x="6035760" y="3797280"/>
            <a:ext cx="28828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15557E-006 1.0703E-006 L -2.15557E-006 0.20944 E">
                                      <p:cBhvr>
                                        <p:cTn id="13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48 -0.04575 L 0.00315 0.18678 E">
                                      <p:cBhvr>
                                        <p:cTn id="137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45</cp:lastModifiedBy>
  <dcterms:modified xsi:type="dcterms:W3CDTF">2017-02-07T14:57:22Z</dcterms:modified>
  <cp:revision>29</cp:revision>
  <dc:subject/>
  <dc:title>Слайд 1</dc:title>
</cp:coreProperties>
</file>