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00D2-46FB-4923-94CD-FDB3571633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73E6-F999-42AE-93D5-BCCCA7881F9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2845-DB59-4C6B-A147-C9D5EDFE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549-5E22-4A2F-A396-554B3FD8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F57-EAC6-415D-974A-3A50B53D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9AD-9249-4042-A5D2-23F397D3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408B-5B9F-41A0-8CA8-F7E9833C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4974-8DB8-4431-87D3-0518E5A7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DCAE-B77A-43C7-806F-E1F24A4E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8758-42AA-4BDC-84C0-1B3D8C5A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14E6-A5F7-4CEF-A26A-AD06A4C7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FCBB-77D3-4630-A1FF-A751DA1D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FBC5-ACD3-427B-A684-49DF229D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3A3-359F-41A6-9E0D-614F87C5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D985-678E-4B60-8BC9-E0290317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9B42-015C-46BF-A970-AF0AB55B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6BB4-1359-48D8-9E88-B4461B9C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B069-1C75-420C-84A5-FB798154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9F2C-DB0D-4207-86D7-3185E637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ADC5-D326-4E36-915C-78988226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1A2-1D1F-412D-81E2-6F61136D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BA9-07DB-467F-8332-30332573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54BA-3C28-4F99-8AAF-630599D6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062E-9C3E-4441-A45B-A63D4016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4C4C-ED9E-43CC-8982-4450F379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543D-D714-4563-ABD0-F9AF1FDC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DEE2-9A88-4729-BF3E-5AAF4E56AD1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02DB-26B4-483C-89BF-B5A616DDECC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6528-83FA-4C03-BD2D-F616872E167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B31D-1853-4588-A604-73BEB5235E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001000" cy="235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евиантн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е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поведени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 подростков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ормы подростковой девиаци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19810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Алкоголиз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46920" cy="156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сновные причины алкоголизации подростков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Алкоголь как средство самоутверждения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. Алкоголь как реклама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. Алкоголь как времяпрепровождение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5. Алкоголь как иллюзорная реальность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орма подростковой девиаци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2205000"/>
            <a:ext cx="53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ркома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hypodermic needle 3"/>
          <p:cNvPicPr/>
          <p:nvPr/>
        </p:nvPicPr>
        <p:blipFill>
          <a:blip r:embed="rId1"/>
          <a:stretch/>
        </p:blipFill>
        <p:spPr>
          <a:xfrm>
            <a:off x="395280" y="2133720"/>
            <a:ext cx="4716360" cy="3654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539640" y="33336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403280" y="371628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_SimplerGr"/>
              </a:rPr>
              <a:t>путь в никуда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6" descr="J0189242"/>
          <p:cNvPicPr/>
          <p:nvPr/>
        </p:nvPicPr>
        <p:blipFill>
          <a:blip r:embed="rId2"/>
          <a:stretch/>
        </p:blipFill>
        <p:spPr>
          <a:xfrm>
            <a:off x="5580000" y="1773360"/>
            <a:ext cx="1851120" cy="1873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28720" y="3141720"/>
            <a:ext cx="372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00"/>
                </a:solidFill>
                <a:latin typeface="Arial"/>
              </a:rPr>
              <a:t>Наркотик</a:t>
            </a:r>
            <a:r>
              <a:rPr b="0" lang="ru-RU" sz="3600" spc="-1" strike="noStrike">
                <a:solidFill>
                  <a:srgbClr val="00ff00"/>
                </a:solidFill>
                <a:latin typeface="Arial"/>
              </a:rPr>
              <a:t>И 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орма подростковой девиаци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ституц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еступнос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гресс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уици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ормы девиантного поведени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417348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ткрытой, явной форм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2548800">
            <a:off x="5148360" y="162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8061000">
            <a:off x="2957760" y="1658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332720" y="3572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6157080" y="34995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458136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 напр. хищение, хулиганство и т.д.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2133720"/>
            <a:ext cx="472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33"/>
                </a:solidFill>
                <a:latin typeface="Arial"/>
              </a:rPr>
              <a:t>Скрытой , ланетной форм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4292640"/>
            <a:ext cx="322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напр. бюракратизм, подхалимство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84872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иды девиантных отклонений от социальных норм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77738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оложительны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геройство, самопожертвование,  выдающиеся творческие способности, альтруизм и т.д.)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33"/>
                </a:solidFill>
                <a:latin typeface="Times New Roman"/>
              </a:rPr>
              <a:t>Отрицательные</a:t>
            </a:r>
            <a:r>
              <a:rPr b="0" lang="ru-RU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агрессия, алкоголизм, наркомания, суициды и т.д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24210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иды девиантного поведен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1263240"/>
            <a:ext cx="6784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)делинквентное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) аддиктивное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)патохарактерологическое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) психопатологическое, и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) на баз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гиперспособносте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c66"/>
                </a:solidFill>
                <a:latin typeface="Arial"/>
              </a:rPr>
              <a:t>Девиантное поведение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16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едение индивида, последовательно разрушающее сложившуюся систему межличностных взаимодействий и общения в той человеческой общности, к которой он принадлежит. В широком смысле, понятие «девиантное поведение» охватывает любые виды отклонений от социальных норм и положительные (геройство, самопожертвование, выдающиеся творческие способности, альтруизм и т.п.), и отрицательные (агрессия, алкоголизм, наркомания, суициды и т.п.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В отечественной литературе выделяются следующие причины социальной дезадаптации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функциональность семь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чностные особенности (возрастные, характерологические, психические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задаптация в учебном заведени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действие асоциальной неформальной сред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чины социально-экономического и демографического характе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сновные причины социальной дезодапта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факторы социального, экономического, психологического и психосоматического характера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ичины социальной дезадапта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функциональность семь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чностные особенности (возрастные, характерологические, психические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задаптация в учебном заведени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действие асоциальной неформальной сред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чины социально-экономического и демографического характера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роблему девиантного поведения подростков изучали многие ученны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.В. Дубровина, Н.Б.Каратаев, И.Д.Муратова, П.И.Сидоров и др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а</dc:creator>
  <dc:description/>
  <dc:language>en-US</dc:language>
  <cp:lastModifiedBy>ПСХТ</cp:lastModifiedBy>
  <dcterms:modified xsi:type="dcterms:W3CDTF">2003-09-04T00:58:17Z</dcterms:modified>
  <cp:revision>61</cp:revision>
  <dc:subject/>
  <dc:title>Презентация PowerPoint</dc:title>
</cp:coreProperties>
</file>