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FCF5-07F9-4568-811B-C5479C122A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A4A1-1A02-4C8B-A468-4E42845488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7A0-B0E8-4DC7-9412-C883D22B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69F-D042-456B-82A1-79921A3C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518-B551-41B9-BD23-11F67852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640-C626-4BF6-8099-F308F99E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05B3-FAC3-484A-997C-90A50EF2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51DA-B038-400F-81D6-2272B927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5153-9316-44F7-BB9B-57DD7460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1E81-AFFB-4E87-AB1F-C4293C03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09BA-2E09-4E19-9565-29E8E24C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F31D-1269-4046-8A9E-FF7CB5C5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11DB-6B69-4D69-96EE-7FBDB584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EB0-AD91-40F7-87CE-421B77D6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2B07-96AA-43F3-BB82-2736181B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84B7-8BCE-4017-A694-F3210BE0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D91B-B2CC-456E-9FBE-F287E063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CA41-C0A1-4C39-83B3-48B717A1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ADAB-7750-4180-A19E-C85D919C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8E0-6CE2-43CF-BC7D-BD9DD3C4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5E3-6B4B-4A5D-89BF-41D1B6D3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A75-02B6-48B2-83A8-363F68E1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984-B6F8-43EF-B25D-F8E25934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1AA-AF44-4125-9A51-78EBD4A0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2A0-111B-4336-BB08-8E00DEA2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D01-EC1F-4261-AC99-81C7A580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8F65-416B-4088-BBDB-7F615217470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CC32-6E0D-4AE7-8E73-99FC32049E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93C3-AE63-4E51-8393-D4AE53B3DA6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C6C4-8FF4-4B71-91DC-E6738746B4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01000" cy="23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евиантн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оведени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 подростков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подростковой девиац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лкоголиз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6920" cy="15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новные причины алкоголизации подростков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Алкоголь как средство самоутверждения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. Алкоголь как реклама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. Алкоголь как времяпрепровождени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. Алкоголь как иллюзорная реальност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а подростковой девиац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2205000"/>
            <a:ext cx="53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hypodermic needle 3"/>
          <p:cNvPicPr/>
          <p:nvPr/>
        </p:nvPicPr>
        <p:blipFill>
          <a:blip r:embed="rId1"/>
          <a:stretch/>
        </p:blipFill>
        <p:spPr>
          <a:xfrm>
            <a:off x="395280" y="2133720"/>
            <a:ext cx="4716360" cy="3654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539640" y="33336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403280" y="371628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_SimplerGr"/>
              </a:rPr>
              <a:t>путь в никуда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6" descr="J0189242"/>
          <p:cNvPicPr/>
          <p:nvPr/>
        </p:nvPicPr>
        <p:blipFill>
          <a:blip r:embed="rId2"/>
          <a:stretch/>
        </p:blipFill>
        <p:spPr>
          <a:xfrm>
            <a:off x="5580000" y="1773360"/>
            <a:ext cx="1851120" cy="1873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28720" y="3141720"/>
            <a:ext cx="372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Наркотик</a:t>
            </a:r>
            <a:r>
              <a:rPr b="0" lang="ru-RU" sz="3600" spc="-1" strike="noStrike">
                <a:solidFill>
                  <a:srgbClr val="00ff00"/>
                </a:solidFill>
                <a:latin typeface="Arial"/>
              </a:rPr>
              <a:t>И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а подростковой девиац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ституц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еступ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гресс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уици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девиантного поведе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417348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ткрытой, явной фор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548800">
            <a:off x="5148360" y="162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8061000">
            <a:off x="2957760" y="1658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332720" y="357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6157080" y="34995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58136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напр. хищение, хулиганство и т.д.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133720"/>
            <a:ext cx="472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Arial"/>
              </a:rPr>
              <a:t>Скрытой , ланетной фор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4292640"/>
            <a:ext cx="322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напр. бюракратизм, подхалимств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84872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иды девиантных отклонений от социальных нор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77738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ложительны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еройство, самопожертвование,  выдающиеся творческие способности, альтруизм и т.д.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33"/>
                </a:solidFill>
                <a:latin typeface="Times New Roman"/>
              </a:rPr>
              <a:t>Отрицательные</a:t>
            </a: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агрессия, алкоголизм, наркомания, суициды и т.д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4210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иды девиантного поведе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1263240"/>
            <a:ext cx="6784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)делинквентное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) аддиктивное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)патохарактерологическое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) психопатологическое, 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) на баз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иперспособносте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66"/>
                </a:solidFill>
                <a:latin typeface="Arial"/>
              </a:rPr>
              <a:t>Девиантное поведение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6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едение индивида, последовательно разрушающее сложившуюся систему межличностных взаимодействий и общения в той человеческой общности, к которой он принадлежит. В широком смысле, понятие «девиантное поведение» охватывает любые виды отклонений от социальных норм и положительные (геройство, самопожертвование, выдающиеся творческие способности, альтруизм и т.п.), и отрицательные (агрессия, алкоголизм, наркомания, суициды и т.п.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В отечественной литературе выделяются следующие причины социальной дезадаптаци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ональность семь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чностные особенности (возрастные, характерологические, психические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задаптация в учебном заведен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действие асоциальной неформальной сре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чины социально-экономического и демографического характ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новные причины социальной дезодапт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акторы социального, экономического, психологического и психосоматического характера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ичины социальной дезадапт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ональность семь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чностные особенности (возрастные, характерологические, психические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задаптация в учебном заведени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действие асоциальной неформальной сре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чины социально-экономического и демографического характера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блему девиантного поведения подростков изучали многие ученны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.В. Дубровина, Н.Б.Каратаев, И.Д.Муратова, П.И.Сидоров и др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а</dc:creator>
  <dc:description/>
  <dc:language>en-US</dc:language>
  <cp:lastModifiedBy>ПСХТ</cp:lastModifiedBy>
  <dcterms:modified xsi:type="dcterms:W3CDTF">2003-09-04T00:58:17Z</dcterms:modified>
  <cp:revision>61</cp:revision>
  <dc:subject/>
  <dc:title>Презентация PowerPoint</dc:title>
</cp:coreProperties>
</file>