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57EA-EE19-4C77-9619-EEAB497F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108A-C755-47FC-AD27-814147D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C268-257F-4655-9359-CD2F8DD0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2108-0807-448A-8F82-CCEF94FF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282-212F-4776-91F0-72C387A8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16C-0492-4D47-9687-92B3981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BCB3-4452-4939-AD57-6A7F551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3F4-2BC2-4D3C-8D1F-B98FBCD1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98CE-6F28-4CE3-A713-965345BC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F9D-A944-4407-97AD-00794973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6E41-FF7E-4345-951E-EB7CDF3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F816-BDE2-403C-A097-21E7534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A0A-095B-406E-A1BE-E3C5EBE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FDB-39D8-4240-B644-AAD4EFE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FDE-8EC0-4711-9661-42DDFBB1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6C1C-DC28-4C97-AA13-0AFD3F39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7DF7-36BD-4FE3-A678-045EB3D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11F6-618A-4BCF-BBB9-2FEDA18F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7854-CE68-44F9-B012-09156E1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0B74-08E3-4E3A-A3B1-F54F0CC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0844-6189-4154-B388-696F78A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000D-5A83-412D-ABEB-19B4BAC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98F9-F84D-4868-A34A-3AB9D2F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F4AD-BCBB-4259-9B74-2AA7413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D4D-52A8-43F3-9336-850B97A96C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D61-BFFD-4E26-B758-51D64649DF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презентации составить конспект урока в тетрад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50920" y="765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Способ нахождения (построения) линей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58920" y="1341360"/>
            <a:ext cx="87850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йти ( увидеть) ребро и грани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В гранях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найти направления ( прямые) </a:t>
            </a:r>
            <a:r>
              <a:rPr b="0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ерпендикулярные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реб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. (при необходимости) заменить выбранные направления параллельными им лучами с общим началом на ребре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ображении сохраняется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араллельность и отношение длин параллельных отрез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0" y="692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личина линейного угла не зависит от выбора его вершины на ребре двугран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997360"/>
            <a:ext cx="3024360" cy="206532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0" y="5084640"/>
            <a:ext cx="4032360" cy="1266840"/>
          </a:xfrm>
          <a:prstGeom prst="parallelogram">
            <a:avLst>
              <a:gd name="adj" fmla="val 79575"/>
            </a:avLst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1042920" y="5084640"/>
            <a:ext cx="29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3"/>
          <p:cNvGrpSpPr/>
          <p:nvPr/>
        </p:nvGrpSpPr>
        <p:grpSpPr>
          <a:xfrm>
            <a:off x="1187280" y="2997360"/>
            <a:ext cx="1008360" cy="3311280"/>
            <a:chOff x="1187280" y="2997360"/>
            <a:chExt cx="1008360" cy="3311280"/>
          </a:xfrm>
        </p:grpSpPr>
        <p:sp>
          <p:nvSpPr>
            <p:cNvPr id="287" name="Line 9"/>
            <p:cNvSpPr/>
            <p:nvPr/>
          </p:nvSpPr>
          <p:spPr>
            <a:xfrm flipV="1">
              <a:off x="219564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 flipH="1">
              <a:off x="1187280" y="5084640"/>
              <a:ext cx="974880" cy="1224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2"/>
          <p:cNvGrpSpPr/>
          <p:nvPr/>
        </p:nvGrpSpPr>
        <p:grpSpPr>
          <a:xfrm>
            <a:off x="394920" y="2997360"/>
            <a:ext cx="1008360" cy="3384360"/>
            <a:chOff x="394920" y="2997360"/>
            <a:chExt cx="1008360" cy="3384360"/>
          </a:xfrm>
        </p:grpSpPr>
        <p:sp>
          <p:nvSpPr>
            <p:cNvPr id="290" name="Line 18"/>
            <p:cNvSpPr/>
            <p:nvPr/>
          </p:nvSpPr>
          <p:spPr>
            <a:xfrm>
              <a:off x="140328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1"/>
            <p:cNvSpPr/>
            <p:nvPr/>
          </p:nvSpPr>
          <p:spPr>
            <a:xfrm flipH="1">
              <a:off x="394920" y="5119560"/>
              <a:ext cx="971640" cy="1262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1692360" y="2997360"/>
            <a:ext cx="1057320" cy="3384360"/>
            <a:chOff x="1692360" y="2997360"/>
            <a:chExt cx="1057320" cy="3384360"/>
          </a:xfrm>
        </p:grpSpPr>
        <p:sp>
          <p:nvSpPr>
            <p:cNvPr id="293" name="Line 19"/>
            <p:cNvSpPr/>
            <p:nvPr/>
          </p:nvSpPr>
          <p:spPr>
            <a:xfrm>
              <a:off x="2714760" y="2997360"/>
              <a:ext cx="34920" cy="2020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2"/>
            <p:cNvSpPr/>
            <p:nvPr/>
          </p:nvSpPr>
          <p:spPr>
            <a:xfrm flipH="1">
              <a:off x="1692360" y="5084640"/>
              <a:ext cx="1008000" cy="1297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9"/>
          <p:cNvGrpSpPr/>
          <p:nvPr/>
        </p:nvGrpSpPr>
        <p:grpSpPr>
          <a:xfrm>
            <a:off x="2268000" y="2997360"/>
            <a:ext cx="1008720" cy="3384360"/>
            <a:chOff x="2268000" y="2997360"/>
            <a:chExt cx="1008720" cy="3384360"/>
          </a:xfrm>
        </p:grpSpPr>
        <p:sp>
          <p:nvSpPr>
            <p:cNvPr id="296" name="Line 20"/>
            <p:cNvSpPr/>
            <p:nvPr/>
          </p:nvSpPr>
          <p:spPr>
            <a:xfrm>
              <a:off x="327672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>
              <a:off x="2268000" y="5084640"/>
              <a:ext cx="1008360" cy="1297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rc 25"/>
          <p:cNvSpPr/>
          <p:nvPr/>
        </p:nvSpPr>
        <p:spPr>
          <a:xfrm rot="15343200">
            <a:off x="1299960" y="4468320"/>
            <a:ext cx="1266840" cy="9144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rc 26"/>
          <p:cNvSpPr/>
          <p:nvPr/>
        </p:nvSpPr>
        <p:spPr>
          <a:xfrm rot="15343200">
            <a:off x="2462040" y="4601520"/>
            <a:ext cx="1266840" cy="6480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5"/>
          <p:cNvSpPr/>
          <p:nvPr/>
        </p:nvSpPr>
        <p:spPr>
          <a:xfrm>
            <a:off x="320364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6"/>
          <p:cNvSpPr/>
          <p:nvPr/>
        </p:nvSpPr>
        <p:spPr>
          <a:xfrm>
            <a:off x="212400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262728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133200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3278880" y="294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2556000" y="5877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327672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692360" y="2997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619280" y="4581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684360" y="587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108000" y="404640"/>
            <a:ext cx="885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вугранный угол является острым , прямым или тупым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его линейный угол соответственно остры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прямой или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3960" y="1675440"/>
            <a:ext cx="6256800" cy="2977200"/>
            <a:chOff x="3960" y="1675440"/>
            <a:chExt cx="6256800" cy="2977200"/>
          </a:xfrm>
        </p:grpSpPr>
        <p:sp>
          <p:nvSpPr>
            <p:cNvPr id="312" name="AutoShape 23"/>
            <p:cNvSpPr/>
            <p:nvPr/>
          </p:nvSpPr>
          <p:spPr>
            <a:xfrm>
              <a:off x="325080" y="3143880"/>
              <a:ext cx="5415120" cy="1508760"/>
            </a:xfrm>
            <a:prstGeom prst="parallelogram">
              <a:avLst>
                <a:gd name="adj" fmla="val 89113"/>
              </a:avLst>
            </a:prstGeom>
            <a:solidFill>
              <a:srgbClr val="00007d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7"/>
            <p:cNvSpPr/>
            <p:nvPr/>
          </p:nvSpPr>
          <p:spPr>
            <a:xfrm rot="20493600">
              <a:off x="0" y="2640600"/>
              <a:ext cx="6264360" cy="993240"/>
            </a:xfrm>
            <a:prstGeom prst="parallelogram">
              <a:avLst>
                <a:gd name="adj" fmla="val 175691"/>
              </a:avLst>
            </a:prstGeom>
            <a:solidFill>
              <a:srgbClr val="00007d">
                <a:alpha val="65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>
              <a:off x="1620360" y="3133080"/>
              <a:ext cx="296964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5"/>
            <p:cNvSpPr/>
            <p:nvPr/>
          </p:nvSpPr>
          <p:spPr>
            <a:xfrm>
              <a:off x="1081080" y="3735360"/>
              <a:ext cx="17812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2862360" y="3735360"/>
              <a:ext cx="2269440" cy="5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1081080" y="2420640"/>
              <a:ext cx="4212720" cy="131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2"/>
          <p:cNvSpPr/>
          <p:nvPr/>
        </p:nvSpPr>
        <p:spPr>
          <a:xfrm flipH="1">
            <a:off x="3492360" y="414972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4789440" y="198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9"/>
          <p:cNvGrpSpPr/>
          <p:nvPr/>
        </p:nvGrpSpPr>
        <p:grpSpPr>
          <a:xfrm>
            <a:off x="-462600" y="1082880"/>
            <a:ext cx="6845760" cy="4910040"/>
            <a:chOff x="-462600" y="1082880"/>
            <a:chExt cx="6845760" cy="4910040"/>
          </a:xfrm>
        </p:grpSpPr>
        <p:sp>
          <p:nvSpPr>
            <p:cNvPr id="321" name="AutoShape 40"/>
            <p:cNvSpPr/>
            <p:nvPr/>
          </p:nvSpPr>
          <p:spPr>
            <a:xfrm>
              <a:off x="1260360" y="4533840"/>
              <a:ext cx="5122800" cy="1459080"/>
            </a:xfrm>
            <a:prstGeom prst="parallelogram">
              <a:avLst>
                <a:gd name="adj" fmla="val 111961"/>
              </a:avLst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1"/>
            <p:cNvSpPr/>
            <p:nvPr/>
          </p:nvSpPr>
          <p:spPr>
            <a:xfrm rot="19080600">
              <a:off x="-180720" y="2254320"/>
              <a:ext cx="4486320" cy="2563560"/>
            </a:xfrm>
            <a:prstGeom prst="parallelogram">
              <a:avLst>
                <a:gd name="adj" fmla="val 89584"/>
              </a:avLst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2"/>
            <p:cNvSpPr/>
            <p:nvPr/>
          </p:nvSpPr>
          <p:spPr>
            <a:xfrm>
              <a:off x="2084040" y="1801800"/>
              <a:ext cx="0" cy="346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3"/>
            <p:cNvSpPr/>
            <p:nvPr/>
          </p:nvSpPr>
          <p:spPr>
            <a:xfrm>
              <a:off x="2084040" y="5249880"/>
              <a:ext cx="350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4"/>
            <p:cNvSpPr/>
            <p:nvPr/>
          </p:nvSpPr>
          <p:spPr>
            <a:xfrm>
              <a:off x="2419200" y="1628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5"/>
            <p:cNvSpPr/>
            <p:nvPr/>
          </p:nvSpPr>
          <p:spPr>
            <a:xfrm>
              <a:off x="1641600" y="487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6"/>
            <p:cNvSpPr/>
            <p:nvPr/>
          </p:nvSpPr>
          <p:spPr>
            <a:xfrm>
              <a:off x="564336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7"/>
          <p:cNvGrpSpPr/>
          <p:nvPr/>
        </p:nvGrpSpPr>
        <p:grpSpPr>
          <a:xfrm>
            <a:off x="759600" y="1715400"/>
            <a:ext cx="7385400" cy="4069440"/>
            <a:chOff x="759600" y="1715400"/>
            <a:chExt cx="7385400" cy="4069440"/>
          </a:xfrm>
        </p:grpSpPr>
        <p:grpSp>
          <p:nvGrpSpPr>
            <p:cNvPr id="329" name="Group 48"/>
            <p:cNvGrpSpPr/>
            <p:nvPr/>
          </p:nvGrpSpPr>
          <p:grpSpPr>
            <a:xfrm>
              <a:off x="759600" y="1715400"/>
              <a:ext cx="7385400" cy="4069440"/>
              <a:chOff x="759600" y="1715400"/>
              <a:chExt cx="7385400" cy="4069440"/>
            </a:xfrm>
          </p:grpSpPr>
          <p:sp>
            <p:nvSpPr>
              <p:cNvPr id="330" name="AutoShape 49"/>
              <p:cNvSpPr/>
              <p:nvPr/>
            </p:nvSpPr>
            <p:spPr>
              <a:xfrm rot="17718000">
                <a:off x="1285920" y="2201760"/>
                <a:ext cx="3028680" cy="3082680"/>
              </a:xfrm>
              <a:prstGeom prst="parallelogram">
                <a:avLst>
                  <a:gd name="adj" fmla="val 10713"/>
                </a:avLst>
              </a:prstGeom>
              <a:solidFill>
                <a:srgbClr val="0000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50"/>
              <p:cNvSpPr/>
              <p:nvPr/>
            </p:nvSpPr>
            <p:spPr>
              <a:xfrm>
                <a:off x="3555720" y="3341880"/>
                <a:ext cx="4589280" cy="2442960"/>
              </a:xfrm>
              <a:prstGeom prst="parallelogram">
                <a:avLst>
                  <a:gd name="adj" fmla="val 46964"/>
                </a:avLst>
              </a:prstGeom>
              <a:solidFill>
                <a:srgbClr val="0000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Line 51"/>
            <p:cNvSpPr/>
            <p:nvPr/>
          </p:nvSpPr>
          <p:spPr>
            <a:xfrm>
              <a:off x="1479240" y="2908440"/>
              <a:ext cx="2679480" cy="164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2"/>
            <p:cNvSpPr/>
            <p:nvPr/>
          </p:nvSpPr>
          <p:spPr>
            <a:xfrm>
              <a:off x="4127400" y="4537080"/>
              <a:ext cx="3466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3"/>
            <p:cNvSpPr/>
            <p:nvPr/>
          </p:nvSpPr>
          <p:spPr>
            <a:xfrm>
              <a:off x="1976040" y="19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54"/>
            <p:cNvSpPr/>
            <p:nvPr/>
          </p:nvSpPr>
          <p:spPr>
            <a:xfrm>
              <a:off x="3432960" y="4705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5"/>
            <p:cNvSpPr/>
            <p:nvPr/>
          </p:nvSpPr>
          <p:spPr>
            <a:xfrm>
              <a:off x="7381440" y="3448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50920" y="54936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ично тому , как и на плоскости , в пространстве определяются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межные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ертикальн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гран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3887640" y="3686760"/>
            <a:ext cx="5256360" cy="2781720"/>
            <a:chOff x="3887640" y="3686760"/>
            <a:chExt cx="5256360" cy="2781720"/>
          </a:xfrm>
        </p:grpSpPr>
        <p:sp>
          <p:nvSpPr>
            <p:cNvPr id="339" name="AutoShape 6"/>
            <p:cNvSpPr/>
            <p:nvPr/>
          </p:nvSpPr>
          <p:spPr>
            <a:xfrm>
              <a:off x="3887640" y="5343120"/>
              <a:ext cx="5256360" cy="1001160"/>
            </a:xfrm>
            <a:prstGeom prst="parallelogram">
              <a:avLst>
                <a:gd name="adj" fmla="val 131257"/>
              </a:avLst>
            </a:prstGeom>
            <a:solidFill>
              <a:srgbClr val="0033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"/>
            <p:cNvSpPr/>
            <p:nvPr/>
          </p:nvSpPr>
          <p:spPr>
            <a:xfrm>
              <a:off x="4577760" y="5828760"/>
              <a:ext cx="3942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 rot="2400000">
              <a:off x="5185800" y="4335120"/>
              <a:ext cx="2558160" cy="1484640"/>
            </a:xfrm>
            <a:prstGeom prst="parallelogram">
              <a:avLst>
                <a:gd name="adj" fmla="val 16178"/>
              </a:avLst>
            </a:prstGeom>
            <a:solidFill>
              <a:srgbClr val="003300">
                <a:alpha val="68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4336920" y="591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23200" y="5391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7054560" y="6055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5957640" y="3933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3"/>
            <p:cNvSpPr/>
            <p:nvPr/>
          </p:nvSpPr>
          <p:spPr>
            <a:xfrm>
              <a:off x="5589000" y="4301640"/>
              <a:ext cx="1756800" cy="152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AutoShape 15"/>
          <p:cNvSpPr/>
          <p:nvPr/>
        </p:nvSpPr>
        <p:spPr>
          <a:xfrm flipH="1" flipV="1" rot="18523800">
            <a:off x="623520" y="3756240"/>
            <a:ext cx="1882800" cy="1357200"/>
          </a:xfrm>
          <a:prstGeom prst="parallelogram">
            <a:avLst>
              <a:gd name="adj" fmla="val 17302"/>
            </a:avLst>
          </a:prstGeom>
          <a:solidFill>
            <a:srgbClr val="00007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 flipH="1">
            <a:off x="1619280" y="3357720"/>
            <a:ext cx="3571920" cy="960120"/>
          </a:xfrm>
          <a:prstGeom prst="parallelogram">
            <a:avLst>
              <a:gd name="adj" fmla="val 94109"/>
            </a:avLst>
          </a:prstGeom>
          <a:solidFill>
            <a:srgbClr val="00007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 flipH="1">
            <a:off x="0" y="3344760"/>
            <a:ext cx="2610000" cy="960480"/>
          </a:xfrm>
          <a:prstGeom prst="parallelogram">
            <a:avLst>
              <a:gd name="adj" fmla="val 94794"/>
            </a:avLst>
          </a:prstGeom>
          <a:solidFill>
            <a:srgbClr val="00007d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>
            <a:off x="411120" y="3860640"/>
            <a:ext cx="4368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9"/>
          <p:cNvSpPr/>
          <p:nvPr/>
        </p:nvSpPr>
        <p:spPr>
          <a:xfrm flipH="1" flipV="1" rot="18523800">
            <a:off x="1643400" y="2462040"/>
            <a:ext cx="1881360" cy="1352520"/>
          </a:xfrm>
          <a:prstGeom prst="parallelogram">
            <a:avLst>
              <a:gd name="adj" fmla="val 17349"/>
            </a:avLst>
          </a:prstGeom>
          <a:solidFill>
            <a:srgbClr val="00007d">
              <a:alpha val="67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347760" y="33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4378680" y="3930480"/>
            <a:ext cx="4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1621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2648160" y="2238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188720" y="49417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6"/>
          <p:cNvSpPr/>
          <p:nvPr/>
        </p:nvSpPr>
        <p:spPr>
          <a:xfrm>
            <a:off x="2124000" y="386064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7"/>
          <p:cNvSpPr/>
          <p:nvPr/>
        </p:nvSpPr>
        <p:spPr>
          <a:xfrm>
            <a:off x="1619280" y="335772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8"/>
          <p:cNvSpPr/>
          <p:nvPr/>
        </p:nvSpPr>
        <p:spPr>
          <a:xfrm>
            <a:off x="5651640" y="5373720"/>
            <a:ext cx="23050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9"/>
          <p:cNvSpPr/>
          <p:nvPr/>
        </p:nvSpPr>
        <p:spPr>
          <a:xfrm>
            <a:off x="6227640" y="580536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597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187280" y="3860640"/>
            <a:ext cx="13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5292720" y="1916280"/>
            <a:ext cx="1008000" cy="1008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995640" y="38750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5076720" y="378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916360" y="4508640"/>
            <a:ext cx="525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1042920" y="4508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1187280" y="52149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3276720" y="5229360"/>
            <a:ext cx="5867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С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050920" y="5950080"/>
            <a:ext cx="61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СВ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ребром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 flipV="1">
            <a:off x="5292720" y="333360"/>
            <a:ext cx="2158920" cy="151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 flipV="1">
            <a:off x="6300720" y="404640"/>
            <a:ext cx="1079640" cy="2448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5364000" y="1844280"/>
            <a:ext cx="2016360" cy="71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6372360" y="1844280"/>
            <a:ext cx="1008000" cy="1079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2">
            <a:hlinkClick r:id="rId2" action="ppaction://hlinksldjump"/>
          </p:cNvPr>
          <p:cNvSpPr/>
          <p:nvPr/>
        </p:nvSpPr>
        <p:spPr>
          <a:xfrm>
            <a:off x="8388360" y="189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258920" y="407664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140360" y="4149720"/>
            <a:ext cx="115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148360" y="4149720"/>
            <a:ext cx="201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042920" y="479736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132000" y="4724280"/>
            <a:ext cx="6446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свойству равностороннего тре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1116000" y="544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059280" y="5445000"/>
            <a:ext cx="6084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Р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1403280" y="609300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К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А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"/>
          <p:cNvSpPr/>
          <p:nvPr/>
        </p:nvSpPr>
        <p:spPr>
          <a:xfrm flipH="1">
            <a:off x="7596360" y="1413000"/>
            <a:ext cx="1008000" cy="1800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7164360" y="260280"/>
            <a:ext cx="1440000" cy="122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7164360" y="260280"/>
            <a:ext cx="432000" cy="3024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5796000" y="2349360"/>
            <a:ext cx="1800360" cy="863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 flipV="1">
            <a:off x="5796000" y="1412640"/>
            <a:ext cx="2879640" cy="93636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1"/>
          <p:cNvSpPr/>
          <p:nvPr/>
        </p:nvSpPr>
        <p:spPr>
          <a:xfrm flipV="1">
            <a:off x="5867280" y="2276640"/>
            <a:ext cx="2305080" cy="7272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2"/>
          <p:cNvSpPr/>
          <p:nvPr/>
        </p:nvSpPr>
        <p:spPr>
          <a:xfrm>
            <a:off x="7164360" y="260280"/>
            <a:ext cx="936720" cy="20890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817236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2"/>
          <p:cNvGrpSpPr/>
          <p:nvPr/>
        </p:nvGrpSpPr>
        <p:grpSpPr>
          <a:xfrm>
            <a:off x="5076720" y="404640"/>
            <a:ext cx="1800360" cy="3526920"/>
            <a:chOff x="5076720" y="404640"/>
            <a:chExt cx="1800360" cy="3526920"/>
          </a:xfrm>
        </p:grpSpPr>
        <p:grpSp>
          <p:nvGrpSpPr>
            <p:cNvPr id="396" name="Group 10"/>
            <p:cNvGrpSpPr/>
            <p:nvPr/>
          </p:nvGrpSpPr>
          <p:grpSpPr>
            <a:xfrm>
              <a:off x="5076720" y="1915560"/>
              <a:ext cx="1800000" cy="2016000"/>
              <a:chOff x="5076720" y="1915560"/>
              <a:chExt cx="1800000" cy="2016000"/>
            </a:xfrm>
          </p:grpSpPr>
          <p:sp>
            <p:nvSpPr>
              <p:cNvPr id="397" name="Line 7"/>
              <p:cNvSpPr/>
              <p:nvPr/>
            </p:nvSpPr>
            <p:spPr>
              <a:xfrm>
                <a:off x="5076720" y="2670840"/>
                <a:ext cx="654840" cy="12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8"/>
              <p:cNvSpPr/>
              <p:nvPr/>
            </p:nvSpPr>
            <p:spPr>
              <a:xfrm flipV="1">
                <a:off x="5076720" y="1915560"/>
                <a:ext cx="180000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9"/>
              <p:cNvSpPr/>
              <p:nvPr/>
            </p:nvSpPr>
            <p:spPr>
              <a:xfrm flipH="1">
                <a:off x="5731200" y="1915920"/>
                <a:ext cx="1145160" cy="20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Line 11"/>
            <p:cNvSpPr/>
            <p:nvPr/>
          </p:nvSpPr>
          <p:spPr>
            <a:xfrm flipV="1">
              <a:off x="6877080" y="404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13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H="1">
            <a:off x="5724360" y="404640"/>
            <a:ext cx="115272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5580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500720" y="234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6804000" y="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87708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25"/>
          <p:cNvGrpSpPr/>
          <p:nvPr/>
        </p:nvGrpSpPr>
        <p:grpSpPr>
          <a:xfrm>
            <a:off x="6587640" y="1557360"/>
            <a:ext cx="289080" cy="503280"/>
            <a:chOff x="6587640" y="1557360"/>
            <a:chExt cx="289080" cy="503280"/>
          </a:xfrm>
        </p:grpSpPr>
        <p:sp>
          <p:nvSpPr>
            <p:cNvPr id="408" name="Line 23"/>
            <p:cNvSpPr/>
            <p:nvPr/>
          </p:nvSpPr>
          <p:spPr>
            <a:xfrm flipH="1">
              <a:off x="6587640" y="155736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>
              <a:off x="658800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8"/>
          <p:cNvGrpSpPr/>
          <p:nvPr/>
        </p:nvGrpSpPr>
        <p:grpSpPr>
          <a:xfrm>
            <a:off x="5292720" y="2565360"/>
            <a:ext cx="216000" cy="432000"/>
            <a:chOff x="5292720" y="2565360"/>
            <a:chExt cx="216000" cy="432000"/>
          </a:xfrm>
        </p:grpSpPr>
        <p:sp>
          <p:nvSpPr>
            <p:cNvPr id="411" name="Line 26"/>
            <p:cNvSpPr/>
            <p:nvPr/>
          </p:nvSpPr>
          <p:spPr>
            <a:xfrm>
              <a:off x="5364000" y="2565360"/>
              <a:ext cx="1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5292720" y="285264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Line 29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0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2"/>
          <p:cNvSpPr/>
          <p:nvPr/>
        </p:nvSpPr>
        <p:spPr>
          <a:xfrm flipH="1">
            <a:off x="5724360" y="1916280"/>
            <a:ext cx="1152720" cy="20174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324000" y="4005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вугранный у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М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4"/>
          <p:cNvSpPr/>
          <p:nvPr/>
        </p:nvSpPr>
        <p:spPr>
          <a:xfrm>
            <a:off x="0" y="450864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МТ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0" y="4941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 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2268360" y="4941720"/>
            <a:ext cx="81378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ТР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определению прямой, перпендикулярной плоск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8"/>
          <p:cNvSpPr/>
          <p:nvPr/>
        </p:nvSpPr>
        <p:spPr>
          <a:xfrm>
            <a:off x="0" y="56610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9"/>
          <p:cNvSpPr/>
          <p:nvPr/>
        </p:nvSpPr>
        <p:spPr>
          <a:xfrm>
            <a:off x="1908000" y="5638680"/>
            <a:ext cx="5832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М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 flipV="1">
            <a:off x="5076720" y="1916280"/>
            <a:ext cx="1800360" cy="720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5940360" y="220500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4"/>
          <p:cNvSpPr/>
          <p:nvPr/>
        </p:nvSpPr>
        <p:spPr>
          <a:xfrm>
            <a:off x="5580000" y="18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 flipH="1" flipV="1">
            <a:off x="5940000" y="620640"/>
            <a:ext cx="7164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6012000" y="227664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5580000" y="47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8"/>
          <p:cNvSpPr/>
          <p:nvPr/>
        </p:nvSpPr>
        <p:spPr>
          <a:xfrm>
            <a:off x="622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>
            <a:off x="5940360" y="476280"/>
            <a:ext cx="7164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6012000" y="2276640"/>
            <a:ext cx="720720" cy="1512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39528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5076720" y="404640"/>
            <a:ext cx="1800360" cy="3526920"/>
            <a:chOff x="5076720" y="404640"/>
            <a:chExt cx="1800360" cy="3526920"/>
          </a:xfrm>
        </p:grpSpPr>
        <p:grpSp>
          <p:nvGrpSpPr>
            <p:cNvPr id="437" name="Group 5"/>
            <p:cNvGrpSpPr/>
            <p:nvPr/>
          </p:nvGrpSpPr>
          <p:grpSpPr>
            <a:xfrm>
              <a:off x="5076720" y="1915560"/>
              <a:ext cx="1800000" cy="2016000"/>
              <a:chOff x="5076720" y="1915560"/>
              <a:chExt cx="1800000" cy="2016000"/>
            </a:xfrm>
          </p:grpSpPr>
          <p:sp>
            <p:nvSpPr>
              <p:cNvPr id="438" name="Line 6"/>
              <p:cNvSpPr/>
              <p:nvPr/>
            </p:nvSpPr>
            <p:spPr>
              <a:xfrm>
                <a:off x="5076720" y="2670840"/>
                <a:ext cx="654840" cy="12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"/>
              <p:cNvSpPr/>
              <p:nvPr/>
            </p:nvSpPr>
            <p:spPr>
              <a:xfrm flipV="1">
                <a:off x="5076720" y="1915560"/>
                <a:ext cx="180000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8"/>
              <p:cNvSpPr/>
              <p:nvPr/>
            </p:nvSpPr>
            <p:spPr>
              <a:xfrm flipH="1">
                <a:off x="5731200" y="1915920"/>
                <a:ext cx="1145160" cy="20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Line 9"/>
            <p:cNvSpPr/>
            <p:nvPr/>
          </p:nvSpPr>
          <p:spPr>
            <a:xfrm flipV="1">
              <a:off x="6877080" y="404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Line 10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5724360" y="404640"/>
            <a:ext cx="115272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5580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500720" y="234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6804000" y="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"/>
          <p:cNvSpPr/>
          <p:nvPr/>
        </p:nvSpPr>
        <p:spPr>
          <a:xfrm>
            <a:off x="687708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6587640" y="1557360"/>
            <a:ext cx="289080" cy="503280"/>
            <a:chOff x="6587640" y="1557360"/>
            <a:chExt cx="289080" cy="503280"/>
          </a:xfrm>
        </p:grpSpPr>
        <p:sp>
          <p:nvSpPr>
            <p:cNvPr id="449" name="Line 17"/>
            <p:cNvSpPr/>
            <p:nvPr/>
          </p:nvSpPr>
          <p:spPr>
            <a:xfrm flipH="1">
              <a:off x="6587640" y="155736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658800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9"/>
          <p:cNvGrpSpPr/>
          <p:nvPr/>
        </p:nvGrpSpPr>
        <p:grpSpPr>
          <a:xfrm>
            <a:off x="5292720" y="2565360"/>
            <a:ext cx="216000" cy="432000"/>
            <a:chOff x="5292720" y="2565360"/>
            <a:chExt cx="216000" cy="432000"/>
          </a:xfrm>
        </p:grpSpPr>
        <p:sp>
          <p:nvSpPr>
            <p:cNvPr id="452" name="Line 20"/>
            <p:cNvSpPr/>
            <p:nvPr/>
          </p:nvSpPr>
          <p:spPr>
            <a:xfrm>
              <a:off x="5364000" y="2565360"/>
              <a:ext cx="1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1"/>
            <p:cNvSpPr/>
            <p:nvPr/>
          </p:nvSpPr>
          <p:spPr>
            <a:xfrm flipH="1">
              <a:off x="5292720" y="285264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Line 22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5"/>
          <p:cNvSpPr/>
          <p:nvPr/>
        </p:nvSpPr>
        <p:spPr>
          <a:xfrm flipH="1">
            <a:off x="5724360" y="1916280"/>
            <a:ext cx="1152720" cy="20174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2"/>
          <p:cNvSpPr/>
          <p:nvPr/>
        </p:nvSpPr>
        <p:spPr>
          <a:xfrm flipV="1">
            <a:off x="5076720" y="1916280"/>
            <a:ext cx="1800360" cy="720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5940360" y="220500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6"/>
          <p:cNvSpPr/>
          <p:nvPr/>
        </p:nvSpPr>
        <p:spPr>
          <a:xfrm>
            <a:off x="5580000" y="19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7"/>
          <p:cNvSpPr/>
          <p:nvPr/>
        </p:nvSpPr>
        <p:spPr>
          <a:xfrm flipH="1" flipV="1">
            <a:off x="5940000" y="549000"/>
            <a:ext cx="71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6012000" y="227664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5580000" y="47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0"/>
          <p:cNvSpPr/>
          <p:nvPr/>
        </p:nvSpPr>
        <p:spPr>
          <a:xfrm>
            <a:off x="622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1"/>
          <p:cNvSpPr/>
          <p:nvPr/>
        </p:nvSpPr>
        <p:spPr>
          <a:xfrm>
            <a:off x="395280" y="4437000"/>
            <a:ext cx="849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параллельна Р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построению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так как РТ перпендикулярна ребру М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доказанном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АВ перпендикулярна ребру М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лемме о связи параллельности и перпендикулярности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огично ВС перпендикулярна ребру МТ. Значит, угол </a:t>
            </a: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АВС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иско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3"/>
          <p:cNvSpPr/>
          <p:nvPr/>
        </p:nvSpPr>
        <p:spPr>
          <a:xfrm>
            <a:off x="5940360" y="476280"/>
            <a:ext cx="71640" cy="1727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4"/>
          <p:cNvSpPr/>
          <p:nvPr/>
        </p:nvSpPr>
        <p:spPr>
          <a:xfrm>
            <a:off x="6012000" y="2276640"/>
            <a:ext cx="720720" cy="1512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5724360" y="333000"/>
            <a:ext cx="2282760" cy="2903400"/>
            <a:chOff x="5724360" y="333000"/>
            <a:chExt cx="2282760" cy="2903400"/>
          </a:xfrm>
        </p:grpSpPr>
        <p:sp>
          <p:nvSpPr>
            <p:cNvPr id="469" name="AutoShape 3"/>
            <p:cNvSpPr/>
            <p:nvPr/>
          </p:nvSpPr>
          <p:spPr>
            <a:xfrm>
              <a:off x="5724360" y="333360"/>
              <a:ext cx="228276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4"/>
            <p:cNvGrpSpPr/>
            <p:nvPr/>
          </p:nvGrpSpPr>
          <p:grpSpPr>
            <a:xfrm>
              <a:off x="5724360" y="333000"/>
              <a:ext cx="2282400" cy="2880000"/>
              <a:chOff x="5724360" y="333000"/>
              <a:chExt cx="2282400" cy="2880000"/>
            </a:xfrm>
          </p:grpSpPr>
          <p:sp>
            <p:nvSpPr>
              <p:cNvPr id="471" name="Line 5"/>
              <p:cNvSpPr/>
              <p:nvPr/>
            </p:nvSpPr>
            <p:spPr>
              <a:xfrm>
                <a:off x="5736960" y="2166840"/>
                <a:ext cx="22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6"/>
              <p:cNvSpPr/>
              <p:nvPr/>
            </p:nvSpPr>
            <p:spPr>
              <a:xfrm>
                <a:off x="5724360" y="214992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7"/>
              <p:cNvSpPr/>
              <p:nvPr/>
            </p:nvSpPr>
            <p:spPr>
              <a:xfrm flipV="1">
                <a:off x="6959520" y="2166840"/>
                <a:ext cx="104724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8"/>
              <p:cNvSpPr/>
              <p:nvPr/>
            </p:nvSpPr>
            <p:spPr>
              <a:xfrm flipV="1">
                <a:off x="8006760" y="33300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Line 9"/>
            <p:cNvSpPr/>
            <p:nvPr/>
          </p:nvSpPr>
          <p:spPr>
            <a:xfrm flipH="1">
              <a:off x="6944760" y="33336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 flipH="1">
              <a:off x="5736960" y="345960"/>
              <a:ext cx="227016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2"/>
          <p:cNvSpPr/>
          <p:nvPr/>
        </p:nvSpPr>
        <p:spPr>
          <a:xfrm>
            <a:off x="8070840" y="260280"/>
            <a:ext cx="5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6703920" y="3268800"/>
            <a:ext cx="546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8028000" y="1989000"/>
            <a:ext cx="547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292720" y="2227320"/>
            <a:ext cx="6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8" descr=""/>
          <p:cNvPicPr/>
          <p:nvPr/>
        </p:nvPicPr>
        <p:blipFill>
          <a:blip r:embed="rId1"/>
          <a:srcRect l="0" t="8533" r="0" b="0"/>
          <a:stretch/>
        </p:blipFill>
        <p:spPr>
          <a:xfrm>
            <a:off x="250920" y="907920"/>
            <a:ext cx="2604960" cy="30956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9"/>
          <p:cNvSpPr/>
          <p:nvPr/>
        </p:nvSpPr>
        <p:spPr>
          <a:xfrm>
            <a:off x="250920" y="549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3132000" y="3716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Двугранный 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МК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324000" y="4149720"/>
            <a:ext cx="59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К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2"/>
          <p:cNvSpPr/>
          <p:nvPr/>
        </p:nvSpPr>
        <p:spPr>
          <a:xfrm>
            <a:off x="5724360" y="2133720"/>
            <a:ext cx="122400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V="1">
            <a:off x="5796000" y="404280"/>
            <a:ext cx="2160720" cy="1729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>
            <a:off x="6948000" y="404640"/>
            <a:ext cx="1008360" cy="2808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>
            <a:off x="5867280" y="2133720"/>
            <a:ext cx="216072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H="1">
            <a:off x="6948000" y="2133720"/>
            <a:ext cx="1079640" cy="1079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7"/>
          <p:cNvSpPr/>
          <p:nvPr/>
        </p:nvSpPr>
        <p:spPr>
          <a:xfrm>
            <a:off x="395280" y="45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2)  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2843280" y="4581360"/>
            <a:ext cx="5832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К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2"/>
          <p:cNvGrpSpPr/>
          <p:nvPr/>
        </p:nvGrpSpPr>
        <p:grpSpPr>
          <a:xfrm>
            <a:off x="6012000" y="2133360"/>
            <a:ext cx="504720" cy="216000"/>
            <a:chOff x="6012000" y="2133360"/>
            <a:chExt cx="504720" cy="216000"/>
          </a:xfrm>
        </p:grpSpPr>
        <p:sp>
          <p:nvSpPr>
            <p:cNvPr id="493" name="Line 30"/>
            <p:cNvSpPr/>
            <p:nvPr/>
          </p:nvSpPr>
          <p:spPr>
            <a:xfrm>
              <a:off x="6012000" y="234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 flipH="1" flipV="1">
              <a:off x="6300720" y="213336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5"/>
          <p:cNvGrpSpPr/>
          <p:nvPr/>
        </p:nvGrpSpPr>
        <p:grpSpPr>
          <a:xfrm>
            <a:off x="7740720" y="1844640"/>
            <a:ext cx="287280" cy="289080"/>
            <a:chOff x="7740720" y="1844640"/>
            <a:chExt cx="287280" cy="289080"/>
          </a:xfrm>
        </p:grpSpPr>
        <p:sp>
          <p:nvSpPr>
            <p:cNvPr id="496" name="Line 33"/>
            <p:cNvSpPr/>
            <p:nvPr/>
          </p:nvSpPr>
          <p:spPr>
            <a:xfrm flipH="1">
              <a:off x="7740720" y="184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4"/>
            <p:cNvSpPr/>
            <p:nvPr/>
          </p:nvSpPr>
          <p:spPr>
            <a:xfrm>
              <a:off x="7740720" y="1844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36"/>
          <p:cNvSpPr/>
          <p:nvPr/>
        </p:nvSpPr>
        <p:spPr>
          <a:xfrm>
            <a:off x="250920" y="515772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7"/>
          <p:cNvSpPr/>
          <p:nvPr/>
        </p:nvSpPr>
        <p:spPr>
          <a:xfrm>
            <a:off x="2195640" y="5229360"/>
            <a:ext cx="6335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Р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8"/>
          <p:cNvSpPr/>
          <p:nvPr/>
        </p:nvSpPr>
        <p:spPr>
          <a:xfrm>
            <a:off x="0" y="602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.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М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РМ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9"/>
          <p:cNvSpPr/>
          <p:nvPr/>
        </p:nvSpPr>
        <p:spPr>
          <a:xfrm>
            <a:off x="5796000" y="2133720"/>
            <a:ext cx="2232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0"/>
          <p:cNvSpPr/>
          <p:nvPr/>
        </p:nvSpPr>
        <p:spPr>
          <a:xfrm flipH="1">
            <a:off x="5796000" y="404640"/>
            <a:ext cx="2160720" cy="1729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41"/>
          <p:cNvSpPr/>
          <p:nvPr/>
        </p:nvSpPr>
        <p:spPr>
          <a:xfrm>
            <a:off x="6300720" y="1700280"/>
            <a:ext cx="287280" cy="433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38"/>
          <p:cNvGrpSpPr/>
          <p:nvPr/>
        </p:nvGrpSpPr>
        <p:grpSpPr>
          <a:xfrm>
            <a:off x="5219640" y="2276280"/>
            <a:ext cx="504720" cy="216000"/>
            <a:chOff x="5219640" y="2276280"/>
            <a:chExt cx="504720" cy="216000"/>
          </a:xfrm>
        </p:grpSpPr>
        <p:sp>
          <p:nvSpPr>
            <p:cNvPr id="505" name="Line 36"/>
            <p:cNvSpPr/>
            <p:nvPr/>
          </p:nvSpPr>
          <p:spPr>
            <a:xfrm>
              <a:off x="5219640" y="249228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37"/>
            <p:cNvSpPr/>
            <p:nvPr/>
          </p:nvSpPr>
          <p:spPr>
            <a:xfrm flipH="1" flipV="1">
              <a:off x="5508360" y="2276280"/>
              <a:ext cx="21564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250920" y="765000"/>
            <a:ext cx="2604960" cy="30974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"/>
          <p:cNvGrpSpPr/>
          <p:nvPr/>
        </p:nvGrpSpPr>
        <p:grpSpPr>
          <a:xfrm>
            <a:off x="5003640" y="475920"/>
            <a:ext cx="2282760" cy="2903400"/>
            <a:chOff x="5003640" y="475920"/>
            <a:chExt cx="2282760" cy="2903400"/>
          </a:xfrm>
        </p:grpSpPr>
        <p:sp>
          <p:nvSpPr>
            <p:cNvPr id="510" name="AutoShape 3"/>
            <p:cNvSpPr/>
            <p:nvPr/>
          </p:nvSpPr>
          <p:spPr>
            <a:xfrm>
              <a:off x="5003640" y="476280"/>
              <a:ext cx="228276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4"/>
            <p:cNvGrpSpPr/>
            <p:nvPr/>
          </p:nvGrpSpPr>
          <p:grpSpPr>
            <a:xfrm>
              <a:off x="5003640" y="475920"/>
              <a:ext cx="2282400" cy="2880000"/>
              <a:chOff x="5003640" y="475920"/>
              <a:chExt cx="2282400" cy="2880000"/>
            </a:xfrm>
          </p:grpSpPr>
          <p:sp>
            <p:nvSpPr>
              <p:cNvPr id="512" name="Line 5"/>
              <p:cNvSpPr/>
              <p:nvPr/>
            </p:nvSpPr>
            <p:spPr>
              <a:xfrm>
                <a:off x="5016240" y="2309760"/>
                <a:ext cx="22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5003640" y="229284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 flipV="1">
                <a:off x="6238800" y="2309760"/>
                <a:ext cx="104724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V="1">
                <a:off x="7286040" y="47592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Line 9"/>
            <p:cNvSpPr/>
            <p:nvPr/>
          </p:nvSpPr>
          <p:spPr>
            <a:xfrm flipH="1">
              <a:off x="6224040" y="47628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 flipH="1">
              <a:off x="5016240" y="488880"/>
              <a:ext cx="227016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Rectangle 15"/>
          <p:cNvSpPr/>
          <p:nvPr/>
        </p:nvSpPr>
        <p:spPr>
          <a:xfrm>
            <a:off x="7237440" y="2013840"/>
            <a:ext cx="3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6229440" y="3211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"/>
          <p:cNvSpPr/>
          <p:nvPr/>
        </p:nvSpPr>
        <p:spPr>
          <a:xfrm>
            <a:off x="7237800" y="33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4644720" y="1869480"/>
            <a:ext cx="4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"/>
          <p:cNvSpPr/>
          <p:nvPr/>
        </p:nvSpPr>
        <p:spPr>
          <a:xfrm flipH="1">
            <a:off x="6227280" y="2276640"/>
            <a:ext cx="108108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 flipH="1">
            <a:off x="6227280" y="476280"/>
            <a:ext cx="1081080" cy="28814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>
            <a:off x="7308720" y="476280"/>
            <a:ext cx="0" cy="1800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3"/>
          <p:cNvSpPr/>
          <p:nvPr/>
        </p:nvSpPr>
        <p:spPr>
          <a:xfrm>
            <a:off x="5003640" y="2276640"/>
            <a:ext cx="1224000" cy="1081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4"/>
          <p:cNvSpPr/>
          <p:nvPr/>
        </p:nvSpPr>
        <p:spPr>
          <a:xfrm>
            <a:off x="5003640" y="2276640"/>
            <a:ext cx="230508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2916360" y="35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Двугранный 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ТК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250920" y="407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ТК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Т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7"/>
          <p:cNvSpPr/>
          <p:nvPr/>
        </p:nvSpPr>
        <p:spPr>
          <a:xfrm>
            <a:off x="250920" y="4508640"/>
            <a:ext cx="25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  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8"/>
          <p:cNvSpPr/>
          <p:nvPr/>
        </p:nvSpPr>
        <p:spPr>
          <a:xfrm>
            <a:off x="2771640" y="4508640"/>
            <a:ext cx="63723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М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Х – середин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свойству равнобедренного тре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9"/>
          <p:cNvSpPr/>
          <p:nvPr/>
        </p:nvSpPr>
        <p:spPr>
          <a:xfrm>
            <a:off x="680400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673272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>
            <a:off x="6516720" y="2924280"/>
            <a:ext cx="1429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2"/>
          <p:cNvSpPr/>
          <p:nvPr/>
        </p:nvSpPr>
        <p:spPr>
          <a:xfrm>
            <a:off x="6948360" y="2492280"/>
            <a:ext cx="1447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>
            <a:off x="5076720" y="2276640"/>
            <a:ext cx="1727280" cy="50472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250920" y="566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К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2195640" y="5638680"/>
            <a:ext cx="7632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определению прямой перпендикулярной плоск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41"/>
          <p:cNvGrpSpPr/>
          <p:nvPr/>
        </p:nvGrpSpPr>
        <p:grpSpPr>
          <a:xfrm>
            <a:off x="6877080" y="1915920"/>
            <a:ext cx="431640" cy="360360"/>
            <a:chOff x="6877080" y="1915920"/>
            <a:chExt cx="431640" cy="360360"/>
          </a:xfrm>
        </p:grpSpPr>
        <p:sp>
          <p:nvSpPr>
            <p:cNvPr id="539" name="Line 39"/>
            <p:cNvSpPr/>
            <p:nvPr/>
          </p:nvSpPr>
          <p:spPr>
            <a:xfrm flipV="1">
              <a:off x="6877080" y="1915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0"/>
            <p:cNvSpPr/>
            <p:nvPr/>
          </p:nvSpPr>
          <p:spPr>
            <a:xfrm>
              <a:off x="6877080" y="19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Line 42"/>
          <p:cNvSpPr/>
          <p:nvPr/>
        </p:nvSpPr>
        <p:spPr>
          <a:xfrm>
            <a:off x="7308720" y="476280"/>
            <a:ext cx="0" cy="180036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637236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5"/>
          <p:cNvSpPr/>
          <p:nvPr/>
        </p:nvSpPr>
        <p:spPr>
          <a:xfrm flipV="1">
            <a:off x="6804000" y="1197000"/>
            <a:ext cx="0" cy="151272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ДВУГРАННЫЙ УГО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ANd9GcRAYZkFdz2fDIZfo61lrFNiHScPV3YlX-Y3_RWdh02S8vQnX-1vewvbKhiW7g"/>
          <p:cNvPicPr/>
          <p:nvPr/>
        </p:nvPicPr>
        <p:blipFill>
          <a:blip r:embed="rId1"/>
          <a:stretch/>
        </p:blipFill>
        <p:spPr>
          <a:xfrm>
            <a:off x="611280" y="4221000"/>
            <a:ext cx="2868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5292720" y="549000"/>
            <a:ext cx="2282400" cy="2903400"/>
            <a:chOff x="5292720" y="549000"/>
            <a:chExt cx="2282400" cy="2903400"/>
          </a:xfrm>
        </p:grpSpPr>
        <p:sp>
          <p:nvSpPr>
            <p:cNvPr id="547" name="AutoShape 3"/>
            <p:cNvSpPr/>
            <p:nvPr/>
          </p:nvSpPr>
          <p:spPr>
            <a:xfrm>
              <a:off x="5292720" y="549360"/>
              <a:ext cx="228240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4"/>
            <p:cNvGrpSpPr/>
            <p:nvPr/>
          </p:nvGrpSpPr>
          <p:grpSpPr>
            <a:xfrm>
              <a:off x="5292720" y="549000"/>
              <a:ext cx="2282040" cy="2880000"/>
              <a:chOff x="5292720" y="549000"/>
              <a:chExt cx="2282040" cy="2880000"/>
            </a:xfrm>
          </p:grpSpPr>
          <p:sp>
            <p:nvSpPr>
              <p:cNvPr id="549" name="Line 5"/>
              <p:cNvSpPr/>
              <p:nvPr/>
            </p:nvSpPr>
            <p:spPr>
              <a:xfrm>
                <a:off x="5305320" y="2382840"/>
                <a:ext cx="22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"/>
              <p:cNvSpPr/>
              <p:nvPr/>
            </p:nvSpPr>
            <p:spPr>
              <a:xfrm>
                <a:off x="5292720" y="236592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7"/>
              <p:cNvSpPr/>
              <p:nvPr/>
            </p:nvSpPr>
            <p:spPr>
              <a:xfrm flipV="1">
                <a:off x="6527520" y="2382840"/>
                <a:ext cx="104688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"/>
              <p:cNvSpPr/>
              <p:nvPr/>
            </p:nvSpPr>
            <p:spPr>
              <a:xfrm flipV="1">
                <a:off x="7574760" y="54900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9"/>
            <p:cNvSpPr/>
            <p:nvPr/>
          </p:nvSpPr>
          <p:spPr>
            <a:xfrm flipH="1">
              <a:off x="6513120" y="54936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5304960" y="561960"/>
              <a:ext cx="226980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5"/>
          <p:cNvSpPr/>
          <p:nvPr/>
        </p:nvSpPr>
        <p:spPr>
          <a:xfrm>
            <a:off x="4934160" y="2133000"/>
            <a:ext cx="3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7597800" y="25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7"/>
          <p:cNvSpPr/>
          <p:nvPr/>
        </p:nvSpPr>
        <p:spPr>
          <a:xfrm>
            <a:off x="6374160" y="342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7526160" y="205992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0"/>
          <p:cNvSpPr/>
          <p:nvPr/>
        </p:nvSpPr>
        <p:spPr>
          <a:xfrm flipH="1">
            <a:off x="6516360" y="2349360"/>
            <a:ext cx="10796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1"/>
          <p:cNvSpPr/>
          <p:nvPr/>
        </p:nvSpPr>
        <p:spPr>
          <a:xfrm flipH="1">
            <a:off x="6516360" y="549360"/>
            <a:ext cx="1079640" cy="28796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2"/>
          <p:cNvSpPr/>
          <p:nvPr/>
        </p:nvSpPr>
        <p:spPr>
          <a:xfrm>
            <a:off x="7596360" y="549360"/>
            <a:ext cx="0" cy="1800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3"/>
          <p:cNvSpPr/>
          <p:nvPr/>
        </p:nvSpPr>
        <p:spPr>
          <a:xfrm>
            <a:off x="5292720" y="2349360"/>
            <a:ext cx="1224000" cy="1079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4"/>
          <p:cNvSpPr/>
          <p:nvPr/>
        </p:nvSpPr>
        <p:spPr>
          <a:xfrm>
            <a:off x="5364000" y="2349360"/>
            <a:ext cx="223236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5"/>
          <p:cNvSpPr/>
          <p:nvPr/>
        </p:nvSpPr>
        <p:spPr>
          <a:xfrm flipH="1">
            <a:off x="5363640" y="549360"/>
            <a:ext cx="2232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26"/>
          <p:cNvSpPr/>
          <p:nvPr/>
        </p:nvSpPr>
        <p:spPr>
          <a:xfrm>
            <a:off x="702000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7"/>
          <p:cNvSpPr/>
          <p:nvPr/>
        </p:nvSpPr>
        <p:spPr>
          <a:xfrm>
            <a:off x="6804000" y="3068640"/>
            <a:ext cx="730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8"/>
          <p:cNvSpPr/>
          <p:nvPr/>
        </p:nvSpPr>
        <p:spPr>
          <a:xfrm>
            <a:off x="7308720" y="2565360"/>
            <a:ext cx="730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0"/>
          <p:cNvSpPr/>
          <p:nvPr/>
        </p:nvSpPr>
        <p:spPr>
          <a:xfrm>
            <a:off x="5364000" y="2349360"/>
            <a:ext cx="1729080" cy="50328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7093080" y="1341360"/>
            <a:ext cx="0" cy="151128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7166160" y="27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6661440" y="1221480"/>
            <a:ext cx="3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4"/>
          <p:cNvSpPr/>
          <p:nvPr/>
        </p:nvSpPr>
        <p:spPr>
          <a:xfrm>
            <a:off x="2771640" y="386064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Двугранный у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5"/>
          <p:cNvSpPr/>
          <p:nvPr/>
        </p:nvSpPr>
        <p:spPr>
          <a:xfrm>
            <a:off x="468360" y="4430880"/>
            <a:ext cx="828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Построим прямую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ллельно прямой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она будет лежать в плоскости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чему?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 , что прямая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Х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пендикулярно ребр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лемме о связи параллельности и перпендикуляр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ит, искомый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угол 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УХ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rc 36"/>
          <p:cNvSpPr/>
          <p:nvPr/>
        </p:nvSpPr>
        <p:spPr>
          <a:xfrm flipH="1">
            <a:off x="6229440" y="1628640"/>
            <a:ext cx="882720" cy="952560"/>
          </a:xfrm>
          <a:custGeom>
            <a:avLst/>
            <a:gdLst/>
            <a:ahLst/>
            <a:rect l="l" t="t" r="r" b="b"/>
            <a:pathLst>
              <a:path fill="none" w="29322" h="21967">
                <a:moveTo>
                  <a:pt x="-1" y="1427"/>
                </a:moveTo>
                <a:cubicBezTo>
                  <a:pt x="2465" y="483"/>
                  <a:pt x="5082" y="-1"/>
                  <a:pt x="7722" y="0"/>
                </a:cubicBezTo>
                <a:cubicBezTo>
                  <a:pt x="19651" y="0"/>
                  <a:pt x="29322" y="9670"/>
                  <a:pt x="29322" y="21600"/>
                </a:cubicBezTo>
                <a:cubicBezTo>
                  <a:pt x="29322" y="21722"/>
                  <a:pt x="29320" y="21844"/>
                  <a:pt x="29318" y="21966"/>
                </a:cubicBezTo>
              </a:path>
              <a:path stroke="0" w="29322" h="21967">
                <a:moveTo>
                  <a:pt x="-1" y="1427"/>
                </a:moveTo>
                <a:cubicBezTo>
                  <a:pt x="2465" y="483"/>
                  <a:pt x="5082" y="-1"/>
                  <a:pt x="7722" y="0"/>
                </a:cubicBezTo>
                <a:cubicBezTo>
                  <a:pt x="19651" y="0"/>
                  <a:pt x="29322" y="9670"/>
                  <a:pt x="29322" y="21600"/>
                </a:cubicBezTo>
                <a:cubicBezTo>
                  <a:pt x="29322" y="21722"/>
                  <a:pt x="29320" y="21844"/>
                  <a:pt x="29318" y="21966"/>
                </a:cubicBezTo>
                <a:lnTo>
                  <a:pt x="7722" y="21600"/>
                </a:lnTo>
                <a:lnTo>
                  <a:pt x="-1" y="1427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5292720" y="0"/>
            <a:ext cx="3600360" cy="29210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7"/>
          <p:cNvSpPr/>
          <p:nvPr/>
        </p:nvSpPr>
        <p:spPr>
          <a:xfrm>
            <a:off x="0" y="2637000"/>
            <a:ext cx="507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. 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DD1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181800" y="55897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9"/>
              <p:cNvSpPr txBox="1"/>
              <p:nvPr/>
            </p:nvSpPr>
            <p:spPr>
              <a:xfrm>
                <a:off x="1692360" y="5516640"/>
                <a:ext cx="792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80" name="Group 14"/>
          <p:cNvGrpSpPr/>
          <p:nvPr/>
        </p:nvGrpSpPr>
        <p:grpSpPr>
          <a:xfrm>
            <a:off x="0" y="0"/>
            <a:ext cx="3787920" cy="2597040"/>
            <a:chOff x="0" y="0"/>
            <a:chExt cx="3787920" cy="2597040"/>
          </a:xfrm>
        </p:grpSpPr>
        <p:pic>
          <p:nvPicPr>
            <p:cNvPr id="581" name="Picture 15" descr="MCj04244440000[1]"/>
            <p:cNvPicPr/>
            <p:nvPr/>
          </p:nvPicPr>
          <p:blipFill>
            <a:blip r:embed="rId2"/>
            <a:stretch/>
          </p:blipFill>
          <p:spPr>
            <a:xfrm>
              <a:off x="0" y="64764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AutoShape 16"/>
            <p:cNvSpPr/>
            <p:nvPr/>
          </p:nvSpPr>
          <p:spPr>
            <a:xfrm>
              <a:off x="1152720" y="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7"/>
          <p:cNvGrpSpPr/>
          <p:nvPr/>
        </p:nvGrpSpPr>
        <p:grpSpPr>
          <a:xfrm>
            <a:off x="4859280" y="3789360"/>
            <a:ext cx="3978360" cy="2735280"/>
            <a:chOff x="4859280" y="3789360"/>
            <a:chExt cx="3978360" cy="2735280"/>
          </a:xfrm>
        </p:grpSpPr>
        <p:pic>
          <p:nvPicPr>
            <p:cNvPr id="584" name="Picture 18" descr="MCj04298290000[1]"/>
            <p:cNvPicPr/>
            <p:nvPr/>
          </p:nvPicPr>
          <p:blipFill>
            <a:blip r:embed="rId3"/>
            <a:stretch/>
          </p:blipFill>
          <p:spPr>
            <a:xfrm>
              <a:off x="4859280" y="4611600"/>
              <a:ext cx="22068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AutoShape 19"/>
            <p:cNvSpPr/>
            <p:nvPr/>
          </p:nvSpPr>
          <p:spPr>
            <a:xfrm>
              <a:off x="5651640" y="3789360"/>
              <a:ext cx="3186000" cy="94140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4"/>
          <p:cNvGrpSpPr/>
          <p:nvPr/>
        </p:nvGrpSpPr>
        <p:grpSpPr>
          <a:xfrm>
            <a:off x="250920" y="0"/>
            <a:ext cx="3787200" cy="2597040"/>
            <a:chOff x="250920" y="0"/>
            <a:chExt cx="3787200" cy="2597040"/>
          </a:xfrm>
        </p:grpSpPr>
        <p:pic>
          <p:nvPicPr>
            <p:cNvPr id="587" name="Picture 5" descr="MCj04244440000[1]"/>
            <p:cNvPicPr/>
            <p:nvPr/>
          </p:nvPicPr>
          <p:blipFill>
            <a:blip r:embed="rId1"/>
            <a:stretch/>
          </p:blipFill>
          <p:spPr>
            <a:xfrm>
              <a:off x="250920" y="647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AutoShape 6"/>
            <p:cNvSpPr/>
            <p:nvPr/>
          </p:nvSpPr>
          <p:spPr>
            <a:xfrm>
              <a:off x="1403280" y="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5003640" y="90792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86080" cy="26654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9"/>
          <p:cNvSpPr/>
          <p:nvPr/>
        </p:nvSpPr>
        <p:spPr>
          <a:xfrm>
            <a:off x="1042920" y="256536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.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250920" y="6021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3"/>
              <p:cNvSpPr txBox="1"/>
              <p:nvPr/>
            </p:nvSpPr>
            <p:spPr>
              <a:xfrm>
                <a:off x="1763640" y="5734080"/>
                <a:ext cx="1009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6" name="Group 15"/>
          <p:cNvGrpSpPr/>
          <p:nvPr/>
        </p:nvGrpSpPr>
        <p:grpSpPr>
          <a:xfrm>
            <a:off x="4932360" y="4005360"/>
            <a:ext cx="3960360" cy="2665080"/>
            <a:chOff x="4932360" y="4005360"/>
            <a:chExt cx="3960360" cy="2665080"/>
          </a:xfrm>
        </p:grpSpPr>
        <p:pic>
          <p:nvPicPr>
            <p:cNvPr id="597" name="Picture 16" descr="MCj04298290000[1]"/>
            <p:cNvPicPr/>
            <p:nvPr/>
          </p:nvPicPr>
          <p:blipFill>
            <a:blip r:embed="rId3"/>
            <a:stretch/>
          </p:blipFill>
          <p:spPr>
            <a:xfrm>
              <a:off x="4932360" y="4806360"/>
              <a:ext cx="2196720" cy="18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AutoShape 17"/>
            <p:cNvSpPr/>
            <p:nvPr/>
          </p:nvSpPr>
          <p:spPr>
            <a:xfrm>
              <a:off x="5721120" y="4005360"/>
              <a:ext cx="3171600" cy="91728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250920" y="2708280"/>
            <a:ext cx="4932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.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6"/>
          <p:cNvGrpSpPr/>
          <p:nvPr/>
        </p:nvGrpSpPr>
        <p:grpSpPr>
          <a:xfrm>
            <a:off x="250920" y="0"/>
            <a:ext cx="3787200" cy="2597040"/>
            <a:chOff x="250920" y="0"/>
            <a:chExt cx="3787200" cy="2597040"/>
          </a:xfrm>
        </p:grpSpPr>
        <p:pic>
          <p:nvPicPr>
            <p:cNvPr id="602" name="Picture 7" descr="MCj04244440000[1]"/>
            <p:cNvPicPr/>
            <p:nvPr/>
          </p:nvPicPr>
          <p:blipFill>
            <a:blip r:embed="rId2"/>
            <a:stretch/>
          </p:blipFill>
          <p:spPr>
            <a:xfrm>
              <a:off x="250920" y="647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AutoShape 8"/>
            <p:cNvSpPr/>
            <p:nvPr/>
          </p:nvSpPr>
          <p:spPr>
            <a:xfrm>
              <a:off x="1403280" y="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9"/>
          <p:cNvSpPr/>
          <p:nvPr/>
        </p:nvSpPr>
        <p:spPr>
          <a:xfrm>
            <a:off x="250920" y="5877000"/>
            <a:ext cx="151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Object 11"/>
          <p:cNvGraphicFramePr/>
          <p:nvPr/>
        </p:nvGraphicFramePr>
        <p:xfrm>
          <a:off x="1476360" y="5734080"/>
          <a:ext cx="187164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734080"/>
                    <a:ext cx="18716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Oval 15"/>
          <p:cNvSpPr/>
          <p:nvPr/>
        </p:nvSpPr>
        <p:spPr>
          <a:xfrm flipV="1">
            <a:off x="6948360" y="2636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0"/>
          <p:cNvGrpSpPr/>
          <p:nvPr/>
        </p:nvGrpSpPr>
        <p:grpSpPr>
          <a:xfrm>
            <a:off x="5508720" y="2492280"/>
            <a:ext cx="3095640" cy="435240"/>
            <a:chOff x="5508720" y="2492280"/>
            <a:chExt cx="3095640" cy="435240"/>
          </a:xfrm>
        </p:grpSpPr>
        <p:sp>
          <p:nvSpPr>
            <p:cNvPr id="609" name="Line 17"/>
            <p:cNvSpPr/>
            <p:nvPr/>
          </p:nvSpPr>
          <p:spPr>
            <a:xfrm flipV="1">
              <a:off x="7020000" y="2492280"/>
              <a:ext cx="158436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 flipH="1">
              <a:off x="5508720" y="2711520"/>
              <a:ext cx="151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21"/>
          <p:cNvSpPr/>
          <p:nvPr/>
        </p:nvSpPr>
        <p:spPr>
          <a:xfrm flipH="1">
            <a:off x="7019640" y="549360"/>
            <a:ext cx="1584360" cy="21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3"/>
          <p:cNvSpPr/>
          <p:nvPr/>
        </p:nvSpPr>
        <p:spPr>
          <a:xfrm>
            <a:off x="7308720" y="2349360"/>
            <a:ext cx="87480" cy="362160"/>
          </a:xfrm>
          <a:custGeom>
            <a:avLst/>
            <a:gdLst/>
            <a:ahLst/>
            <a:rect l="l" t="t" r="r" b="b"/>
            <a:pathLst>
              <a:path w="55" h="228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3" y="35"/>
                  <a:pt x="23" y="38"/>
                  <a:pt x="27" y="46"/>
                </a:cubicBezTo>
                <a:cubicBezTo>
                  <a:pt x="40" y="73"/>
                  <a:pt x="48" y="117"/>
                  <a:pt x="55" y="146"/>
                </a:cubicBezTo>
                <a:cubicBezTo>
                  <a:pt x="46" y="203"/>
                  <a:pt x="51" y="195"/>
                  <a:pt x="18" y="2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651672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8"/>
          <p:cNvGraphicFramePr/>
          <p:nvPr/>
        </p:nvGraphicFramePr>
        <p:xfrm>
          <a:off x="1868400" y="5183280"/>
          <a:ext cx="1397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5183280"/>
                    <a:ext cx="1397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9"/>
          <p:cNvSpPr/>
          <p:nvPr/>
        </p:nvSpPr>
        <p:spPr>
          <a:xfrm>
            <a:off x="712800" y="53546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717720" cy="3016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1"/>
          <p:cNvSpPr/>
          <p:nvPr/>
        </p:nvSpPr>
        <p:spPr>
          <a:xfrm>
            <a:off x="250920" y="549360"/>
            <a:ext cx="446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4. 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C1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A1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900000" y="3068640"/>
            <a:ext cx="39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тетраэдре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BCD,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ребра которого равны 1,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айдите угол между плоскостями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BCD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5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9840" cy="3259080"/>
          </a:xfrm>
          <a:prstGeom prst="rect">
            <a:avLst/>
          </a:prstGeom>
          <a:ln w="0">
            <a:noFill/>
          </a:ln>
        </p:spPr>
      </p:pic>
      <p:sp>
        <p:nvSpPr>
          <p:cNvPr id="621" name="Oval 6"/>
          <p:cNvSpPr/>
          <p:nvPr/>
        </p:nvSpPr>
        <p:spPr>
          <a:xfrm>
            <a:off x="8244000" y="256536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7020000" y="476280"/>
            <a:ext cx="129708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5651640" y="2492280"/>
            <a:ext cx="2665440" cy="149040"/>
            <a:chOff x="5651640" y="2492280"/>
            <a:chExt cx="2665440" cy="149040"/>
          </a:xfrm>
        </p:grpSpPr>
        <p:sp>
          <p:nvSpPr>
            <p:cNvPr id="624" name="Line 8"/>
            <p:cNvSpPr/>
            <p:nvPr/>
          </p:nvSpPr>
          <p:spPr>
            <a:xfrm>
              <a:off x="5651640" y="2492280"/>
              <a:ext cx="19447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 flipH="1" flipV="1">
              <a:off x="7667640" y="2569680"/>
              <a:ext cx="649440" cy="7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Arc 14"/>
          <p:cNvSpPr/>
          <p:nvPr/>
        </p:nvSpPr>
        <p:spPr>
          <a:xfrm flipH="1">
            <a:off x="7956000" y="2287440"/>
            <a:ext cx="215640" cy="349560"/>
          </a:xfrm>
          <a:custGeom>
            <a:avLst/>
            <a:gdLst/>
            <a:ahLst/>
            <a:rect l="l" t="t" r="r" b="b"/>
            <a:pathLst>
              <a:path fill="none" w="21600" h="20897">
                <a:moveTo>
                  <a:pt x="5467" y="0"/>
                </a:moveTo>
                <a:cubicBezTo>
                  <a:pt x="14971" y="2487"/>
                  <a:pt x="21600" y="11073"/>
                  <a:pt x="21600" y="20897"/>
                </a:cubicBezTo>
              </a:path>
              <a:path stroke="0" w="21600" h="20897">
                <a:moveTo>
                  <a:pt x="5467" y="0"/>
                </a:moveTo>
                <a:cubicBezTo>
                  <a:pt x="14971" y="2487"/>
                  <a:pt x="21600" y="11073"/>
                  <a:pt x="21600" y="20897"/>
                </a:cubicBezTo>
                <a:lnTo>
                  <a:pt x="0" y="20897"/>
                </a:lnTo>
                <a:lnTo>
                  <a:pt x="546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8317080" y="24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324000" y="5734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7" descr=""/>
          <p:cNvPicPr/>
          <p:nvPr/>
        </p:nvPicPr>
        <p:blipFill>
          <a:blip r:embed="rId2"/>
          <a:stretch/>
        </p:blipFill>
        <p:spPr>
          <a:xfrm>
            <a:off x="1692360" y="5445000"/>
            <a:ext cx="1728720" cy="1044720"/>
          </a:xfrm>
          <a:prstGeom prst="rect">
            <a:avLst/>
          </a:prstGeom>
          <a:ln w="0">
            <a:noFill/>
          </a:ln>
        </p:spPr>
      </p:pic>
      <p:grpSp>
        <p:nvGrpSpPr>
          <p:cNvPr id="630" name="Group 18"/>
          <p:cNvGrpSpPr/>
          <p:nvPr/>
        </p:nvGrpSpPr>
        <p:grpSpPr>
          <a:xfrm>
            <a:off x="324000" y="189000"/>
            <a:ext cx="3787200" cy="2597040"/>
            <a:chOff x="324000" y="189000"/>
            <a:chExt cx="3787200" cy="2597040"/>
          </a:xfrm>
        </p:grpSpPr>
        <p:pic>
          <p:nvPicPr>
            <p:cNvPr id="631" name="Picture 19" descr="MCj04244440000[1]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AutoShape 20"/>
            <p:cNvSpPr/>
            <p:nvPr/>
          </p:nvSpPr>
          <p:spPr>
            <a:xfrm>
              <a:off x="1476360" y="18900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3"/>
          <p:cNvSpPr/>
          <p:nvPr/>
        </p:nvSpPr>
        <p:spPr>
          <a:xfrm>
            <a:off x="4621320" y="765000"/>
            <a:ext cx="2881080" cy="1441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211640" y="189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Что называют уг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8"/>
          <p:cNvGrpSpPr/>
          <p:nvPr/>
        </p:nvGrpSpPr>
        <p:grpSpPr>
          <a:xfrm>
            <a:off x="4947480" y="1065240"/>
            <a:ext cx="2359440" cy="903240"/>
            <a:chOff x="4947480" y="1065240"/>
            <a:chExt cx="2359440" cy="903240"/>
          </a:xfrm>
        </p:grpSpPr>
        <p:sp>
          <p:nvSpPr>
            <p:cNvPr id="113" name="Line 18"/>
            <p:cNvSpPr/>
            <p:nvPr/>
          </p:nvSpPr>
          <p:spPr>
            <a:xfrm flipV="1">
              <a:off x="4947480" y="1065240"/>
              <a:ext cx="2106000" cy="86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>
              <a:off x="4947840" y="1927080"/>
              <a:ext cx="2359080" cy="4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20"/>
            <p:cNvSpPr/>
            <p:nvPr/>
          </p:nvSpPr>
          <p:spPr>
            <a:xfrm rot="20921400">
              <a:off x="5447160" y="1747080"/>
              <a:ext cx="73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2"/>
          <p:cNvSpPr/>
          <p:nvPr/>
        </p:nvSpPr>
        <p:spPr>
          <a:xfrm>
            <a:off x="2195640" y="2205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лассифицируйте углы по градус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0"/>
          <p:cNvGrpSpPr/>
          <p:nvPr/>
        </p:nvGrpSpPr>
        <p:grpSpPr>
          <a:xfrm>
            <a:off x="2212920" y="2781360"/>
            <a:ext cx="2087640" cy="1441440"/>
            <a:chOff x="2212920" y="2781360"/>
            <a:chExt cx="2087640" cy="1441440"/>
          </a:xfrm>
        </p:grpSpPr>
        <p:sp>
          <p:nvSpPr>
            <p:cNvPr id="118" name="Rectangle 25"/>
            <p:cNvSpPr/>
            <p:nvPr/>
          </p:nvSpPr>
          <p:spPr>
            <a:xfrm>
              <a:off x="2212920" y="278136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9"/>
            <p:cNvGrpSpPr/>
            <p:nvPr/>
          </p:nvGrpSpPr>
          <p:grpSpPr>
            <a:xfrm>
              <a:off x="2717280" y="3385440"/>
              <a:ext cx="1159560" cy="558000"/>
              <a:chOff x="2717280" y="3385440"/>
              <a:chExt cx="1159560" cy="558000"/>
            </a:xfrm>
          </p:grpSpPr>
          <p:sp>
            <p:nvSpPr>
              <p:cNvPr id="120" name="Line 23"/>
              <p:cNvSpPr/>
              <p:nvPr/>
            </p:nvSpPr>
            <p:spPr>
              <a:xfrm flipV="1">
                <a:off x="2717280" y="3385440"/>
                <a:ext cx="95724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>
                <a:off x="2717280" y="3920400"/>
                <a:ext cx="1159560" cy="2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8"/>
            <p:cNvSpPr/>
            <p:nvPr/>
          </p:nvSpPr>
          <p:spPr>
            <a:xfrm>
              <a:off x="2411280" y="27813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) остры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6"/>
          <p:cNvGrpSpPr/>
          <p:nvPr/>
        </p:nvGrpSpPr>
        <p:grpSpPr>
          <a:xfrm>
            <a:off x="4500720" y="2781360"/>
            <a:ext cx="2087280" cy="1441440"/>
            <a:chOff x="4500720" y="2781360"/>
            <a:chExt cx="2087280" cy="1441440"/>
          </a:xfrm>
        </p:grpSpPr>
        <p:sp>
          <p:nvSpPr>
            <p:cNvPr id="124" name="Rectangle 30"/>
            <p:cNvSpPr/>
            <p:nvPr/>
          </p:nvSpPr>
          <p:spPr>
            <a:xfrm>
              <a:off x="4500720" y="2781360"/>
              <a:ext cx="208728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4572000" y="2781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туп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5"/>
            <p:cNvGrpSpPr/>
            <p:nvPr/>
          </p:nvGrpSpPr>
          <p:grpSpPr>
            <a:xfrm>
              <a:off x="4643280" y="3284640"/>
              <a:ext cx="1655640" cy="792000"/>
              <a:chOff x="4643280" y="3284640"/>
              <a:chExt cx="1655640" cy="792000"/>
            </a:xfrm>
          </p:grpSpPr>
          <p:sp>
            <p:nvSpPr>
              <p:cNvPr id="127" name="Line 33"/>
              <p:cNvSpPr/>
              <p:nvPr/>
            </p:nvSpPr>
            <p:spPr>
              <a:xfrm>
                <a:off x="4643280" y="3284640"/>
                <a:ext cx="360360" cy="7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5003640" y="40766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6732720" y="2781360"/>
            <a:ext cx="2087280" cy="1449360"/>
            <a:chOff x="6732720" y="2781360"/>
            <a:chExt cx="2087280" cy="1449360"/>
          </a:xfrm>
        </p:grpSpPr>
        <p:sp>
          <p:nvSpPr>
            <p:cNvPr id="130" name="Rectangle 31"/>
            <p:cNvSpPr/>
            <p:nvPr/>
          </p:nvSpPr>
          <p:spPr>
            <a:xfrm>
              <a:off x="6732720" y="2789280"/>
              <a:ext cx="208728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6"/>
            <p:cNvSpPr/>
            <p:nvPr/>
          </p:nvSpPr>
          <p:spPr>
            <a:xfrm>
              <a:off x="6948360" y="278136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) пря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7164360" y="3292560"/>
              <a:ext cx="936720" cy="720720"/>
              <a:chOff x="7164360" y="3292560"/>
              <a:chExt cx="936720" cy="720720"/>
            </a:xfrm>
          </p:grpSpPr>
          <p:sp>
            <p:nvSpPr>
              <p:cNvPr id="133" name="Line 37"/>
              <p:cNvSpPr/>
              <p:nvPr/>
            </p:nvSpPr>
            <p:spPr>
              <a:xfrm>
                <a:off x="8101080" y="3292560"/>
                <a:ext cx="0" cy="7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7164360" y="401328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40"/>
          <p:cNvSpPr/>
          <p:nvPr/>
        </p:nvSpPr>
        <p:spPr>
          <a:xfrm>
            <a:off x="755640" y="436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Как называются углы,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1"/>
          <p:cNvGrpSpPr/>
          <p:nvPr/>
        </p:nvGrpSpPr>
        <p:grpSpPr>
          <a:xfrm>
            <a:off x="179280" y="4941720"/>
            <a:ext cx="2087640" cy="1441440"/>
            <a:chOff x="179280" y="4941720"/>
            <a:chExt cx="2087640" cy="1441440"/>
          </a:xfrm>
        </p:grpSpPr>
        <p:sp>
          <p:nvSpPr>
            <p:cNvPr id="137" name="Rectangle 42"/>
            <p:cNvSpPr/>
            <p:nvPr/>
          </p:nvSpPr>
          <p:spPr>
            <a:xfrm>
              <a:off x="17928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5"/>
            <p:cNvSpPr/>
            <p:nvPr/>
          </p:nvSpPr>
          <p:spPr>
            <a:xfrm flipV="1">
              <a:off x="298440" y="5735160"/>
              <a:ext cx="1800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6"/>
            <p:cNvSpPr/>
            <p:nvPr/>
          </p:nvSpPr>
          <p:spPr>
            <a:xfrm flipV="1">
              <a:off x="1116000" y="5014440"/>
              <a:ext cx="79200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2"/>
          <p:cNvGrpSpPr/>
          <p:nvPr/>
        </p:nvGrpSpPr>
        <p:grpSpPr>
          <a:xfrm>
            <a:off x="2340000" y="4941720"/>
            <a:ext cx="2087640" cy="1441440"/>
            <a:chOff x="2340000" y="4941720"/>
            <a:chExt cx="2087640" cy="1441440"/>
          </a:xfrm>
        </p:grpSpPr>
        <p:sp>
          <p:nvSpPr>
            <p:cNvPr id="141" name="Rectangle 43"/>
            <p:cNvSpPr/>
            <p:nvPr/>
          </p:nvSpPr>
          <p:spPr>
            <a:xfrm>
              <a:off x="234000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2627280" y="5202360"/>
              <a:ext cx="151308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 flipV="1">
              <a:off x="2556000" y="5229000"/>
              <a:ext cx="151272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4"/>
          <p:cNvGrpSpPr/>
          <p:nvPr/>
        </p:nvGrpSpPr>
        <p:grpSpPr>
          <a:xfrm>
            <a:off x="4572000" y="4941720"/>
            <a:ext cx="2087640" cy="1441440"/>
            <a:chOff x="4572000" y="4941720"/>
            <a:chExt cx="2087640" cy="1441440"/>
          </a:xfrm>
        </p:grpSpPr>
        <p:sp>
          <p:nvSpPr>
            <p:cNvPr id="145" name="Rectangle 44"/>
            <p:cNvSpPr/>
            <p:nvPr/>
          </p:nvSpPr>
          <p:spPr>
            <a:xfrm>
              <a:off x="457200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9"/>
            <p:cNvSpPr/>
            <p:nvPr/>
          </p:nvSpPr>
          <p:spPr>
            <a:xfrm>
              <a:off x="5000760" y="5156280"/>
              <a:ext cx="1152360" cy="1058760"/>
            </a:xfrm>
            <a:prstGeom prst="ellipse">
              <a:avLst/>
            </a:prstGeom>
            <a:solidFill>
              <a:srgbClr val="99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0"/>
            <p:cNvSpPr/>
            <p:nvPr/>
          </p:nvSpPr>
          <p:spPr>
            <a:xfrm flipH="1">
              <a:off x="5003640" y="5156280"/>
              <a:ext cx="5731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1"/>
            <p:cNvSpPr/>
            <p:nvPr/>
          </p:nvSpPr>
          <p:spPr>
            <a:xfrm>
              <a:off x="5551560" y="5156280"/>
              <a:ext cx="6048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5"/>
          <p:cNvGrpSpPr/>
          <p:nvPr/>
        </p:nvGrpSpPr>
        <p:grpSpPr>
          <a:xfrm>
            <a:off x="6877080" y="4869000"/>
            <a:ext cx="2087640" cy="1441440"/>
            <a:chOff x="6877080" y="4869000"/>
            <a:chExt cx="2087640" cy="1441440"/>
          </a:xfrm>
        </p:grpSpPr>
        <p:sp>
          <p:nvSpPr>
            <p:cNvPr id="150" name="Rectangle 55"/>
            <p:cNvSpPr/>
            <p:nvPr/>
          </p:nvSpPr>
          <p:spPr>
            <a:xfrm>
              <a:off x="6877080" y="486900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6"/>
            <p:cNvSpPr/>
            <p:nvPr/>
          </p:nvSpPr>
          <p:spPr>
            <a:xfrm>
              <a:off x="7308720" y="4929120"/>
              <a:ext cx="1150920" cy="1152720"/>
            </a:xfrm>
            <a:prstGeom prst="ellipse">
              <a:avLst/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0"/>
            <p:cNvSpPr/>
            <p:nvPr/>
          </p:nvSpPr>
          <p:spPr>
            <a:xfrm flipV="1">
              <a:off x="7885080" y="5203440"/>
              <a:ext cx="432000" cy="34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1"/>
            <p:cNvSpPr/>
            <p:nvPr/>
          </p:nvSpPr>
          <p:spPr>
            <a:xfrm>
              <a:off x="7885080" y="5519880"/>
              <a:ext cx="432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62"/>
          <p:cNvSpPr/>
          <p:nvPr/>
        </p:nvSpPr>
        <p:spPr>
          <a:xfrm>
            <a:off x="7885080" y="55306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906480" y="58572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мни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00000" y="404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0920" y="6922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Что называют синусом, косинусом, тангенсом острого угла прямоугольного треугольника? Повтори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042920" y="1989000"/>
            <a:ext cx="1728720" cy="302436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11280" y="170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771640" y="47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39640" y="47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2050920" y="1511280"/>
                <a:ext cx="1801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2"/>
              <p:cNvSpPr txBox="1"/>
              <p:nvPr/>
            </p:nvSpPr>
            <p:spPr>
              <a:xfrm>
                <a:off x="3851280" y="2565360"/>
                <a:ext cx="1873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5796000" y="1496880"/>
                <a:ext cx="1728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Text Box 16"/>
          <p:cNvSpPr/>
          <p:nvPr/>
        </p:nvSpPr>
        <p:spPr>
          <a:xfrm>
            <a:off x="3564000" y="3573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7"/>
              <p:cNvSpPr txBox="1"/>
              <p:nvPr/>
            </p:nvSpPr>
            <p:spPr>
              <a:xfrm>
                <a:off x="6300720" y="3716280"/>
                <a:ext cx="1704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19"/>
          <p:cNvSpPr/>
          <p:nvPr/>
        </p:nvSpPr>
        <p:spPr>
          <a:xfrm>
            <a:off x="133200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 rot="16200000">
            <a:off x="372600" y="33069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3397200">
            <a:off x="1415160" y="3344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7885080" y="371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6300720" y="4221000"/>
                <a:ext cx="1728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5"/>
          <p:cNvSpPr/>
          <p:nvPr/>
        </p:nvSpPr>
        <p:spPr>
          <a:xfrm>
            <a:off x="7956720" y="42926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6"/>
              <p:cNvSpPr txBox="1"/>
              <p:nvPr/>
            </p:nvSpPr>
            <p:spPr>
              <a:xfrm>
                <a:off x="6372360" y="4869000"/>
                <a:ext cx="1328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 Box 28"/>
          <p:cNvSpPr/>
          <p:nvPr/>
        </p:nvSpPr>
        <p:spPr>
          <a:xfrm>
            <a:off x="7596360" y="4941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7"/>
          <p:cNvSpPr/>
          <p:nvPr/>
        </p:nvSpPr>
        <p:spPr>
          <a:xfrm rot="6517800">
            <a:off x="4649400" y="3784320"/>
            <a:ext cx="2665440" cy="1379520"/>
          </a:xfrm>
          <a:prstGeom prst="parallelogram">
            <a:avLst>
              <a:gd name="adj" fmla="val 61784"/>
            </a:avLst>
          </a:prstGeom>
          <a:solidFill>
            <a:srgbClr val="66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920" y="3500280"/>
            <a:ext cx="4321080" cy="1729080"/>
          </a:xfrm>
          <a:prstGeom prst="parallelogram">
            <a:avLst>
              <a:gd name="adj" fmla="val 6247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1907640" y="3573360"/>
            <a:ext cx="86364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979560" y="404640"/>
            <a:ext cx="784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ая тема: Определение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50920" y="90792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Двугранным углом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называется фигура, образованная двумя не принадлежащим одной плоскости полуплоскостями, имеющими общую границу – прямую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0"/>
          <p:cNvGrpSpPr/>
          <p:nvPr/>
        </p:nvGrpSpPr>
        <p:grpSpPr>
          <a:xfrm>
            <a:off x="570240" y="2874960"/>
            <a:ext cx="2881080" cy="2636640"/>
            <a:chOff x="570240" y="2874960"/>
            <a:chExt cx="2881080" cy="2636640"/>
          </a:xfrm>
        </p:grpSpPr>
        <p:grpSp>
          <p:nvGrpSpPr>
            <p:cNvPr id="187" name="Group 39"/>
            <p:cNvGrpSpPr/>
            <p:nvPr/>
          </p:nvGrpSpPr>
          <p:grpSpPr>
            <a:xfrm>
              <a:off x="570240" y="2874960"/>
              <a:ext cx="2881080" cy="2636640"/>
              <a:chOff x="570240" y="2874960"/>
              <a:chExt cx="2881080" cy="2636640"/>
            </a:xfrm>
          </p:grpSpPr>
          <p:sp>
            <p:nvSpPr>
              <p:cNvPr id="188" name="AutoShape 7"/>
              <p:cNvSpPr/>
              <p:nvPr/>
            </p:nvSpPr>
            <p:spPr>
              <a:xfrm rot="369000">
                <a:off x="1059480" y="2993040"/>
                <a:ext cx="2303640" cy="1768320"/>
              </a:xfrm>
              <a:prstGeom prst="parallelogram">
                <a:avLst>
                  <a:gd name="adj" fmla="val 32568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6"/>
              <p:cNvSpPr/>
              <p:nvPr/>
            </p:nvSpPr>
            <p:spPr>
              <a:xfrm flipH="1" rot="13088400">
                <a:off x="908280" y="3331440"/>
                <a:ext cx="1944720" cy="1768320"/>
              </a:xfrm>
              <a:prstGeom prst="parallelogram">
                <a:avLst>
                  <a:gd name="adj" fmla="val 26832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8"/>
            <p:cNvSpPr/>
            <p:nvPr/>
          </p:nvSpPr>
          <p:spPr>
            <a:xfrm>
              <a:off x="979920" y="4611240"/>
              <a:ext cx="1432800" cy="15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3419640" y="1413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6227640" y="429264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AutoShape 26"/>
          <p:cNvSpPr/>
          <p:nvPr/>
        </p:nvSpPr>
        <p:spPr>
          <a:xfrm>
            <a:off x="6156360" y="4254480"/>
            <a:ext cx="2521080" cy="1727280"/>
          </a:xfrm>
          <a:prstGeom prst="parallelogram">
            <a:avLst>
              <a:gd name="adj" fmla="val 36489"/>
            </a:avLst>
          </a:prstGeom>
          <a:solidFill>
            <a:srgbClr val="66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 flipH="1">
            <a:off x="6156000" y="4292640"/>
            <a:ext cx="647640" cy="165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7236000" y="2781360"/>
            <a:ext cx="1081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5867280" y="6308640"/>
            <a:ext cx="12970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4"/>
          <p:cNvGrpSpPr/>
          <p:nvPr/>
        </p:nvGrpSpPr>
        <p:grpSpPr>
          <a:xfrm>
            <a:off x="5508360" y="5157360"/>
            <a:ext cx="1430280" cy="1158840"/>
            <a:chOff x="5508360" y="5157360"/>
            <a:chExt cx="1430280" cy="1158840"/>
          </a:xfrm>
        </p:grpSpPr>
        <p:cxnSp>
          <p:nvCxnSpPr>
            <p:cNvPr id="200" name="AutoShape 32"/>
            <p:cNvCxnSpPr/>
            <p:nvPr/>
          </p:nvCxnSpPr>
          <p:spPr>
            <a:xfrm flipV="1" rot="16200000">
              <a:off x="5344920" y="5320440"/>
              <a:ext cx="1159200" cy="832320"/>
            </a:xfrm>
            <a:prstGeom prst="curvedConnector5">
              <a:avLst>
                <a:gd name="adj1" fmla="val 17800"/>
                <a:gd name="adj2" fmla="val 49978"/>
                <a:gd name="adj3" fmla="val 17800"/>
              </a:avLst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</p:cxnSp>
        <p:cxnSp>
          <p:nvCxnSpPr>
            <p:cNvPr id="201" name="AutoShape 33"/>
            <p:cNvCxnSpPr/>
            <p:nvPr/>
          </p:nvCxnSpPr>
          <p:spPr>
            <a:xfrm flipV="1">
              <a:off x="6340320" y="5930640"/>
              <a:ext cx="598680" cy="385920"/>
            </a:xfrm>
            <a:prstGeom prst="curvedConnector2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</p:cxnSp>
      </p:grpSp>
      <p:sp>
        <p:nvSpPr>
          <p:cNvPr id="202" name="Text Box 37"/>
          <p:cNvSpPr/>
          <p:nvPr/>
        </p:nvSpPr>
        <p:spPr>
          <a:xfrm>
            <a:off x="179280" y="1700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Полуплоскости, образующие двугранный угол, называются его гра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0" y="2349360"/>
            <a:ext cx="8675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Общая граница этих полуплоскостей – ребром двугранного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42"/>
          <p:cNvCxnSpPr>
            <a:endCxn id="195" idx="5"/>
          </p:cNvCxnSpPr>
          <p:nvPr/>
        </p:nvCxnSpPr>
        <p:spPr>
          <a:xfrm rot="5400000">
            <a:off x="6153120" y="3531240"/>
            <a:ext cx="1905840" cy="1269360"/>
          </a:xfrm>
          <a:prstGeom prst="curvedConnector5">
            <a:avLst>
              <a:gd name="adj1" fmla="val 27319"/>
              <a:gd name="adj2" fmla="val 71460"/>
              <a:gd name="adj3" fmla="val 27319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9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42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966934803"/>
          <p:cNvPicPr/>
          <p:nvPr/>
        </p:nvPicPr>
        <p:blipFill>
          <a:blip r:embed="rId1"/>
          <a:stretch/>
        </p:blipFill>
        <p:spPr>
          <a:xfrm>
            <a:off x="324000" y="1484280"/>
            <a:ext cx="3419280" cy="258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0"/>
          <p:cNvSpPr/>
          <p:nvPr/>
        </p:nvSpPr>
        <p:spPr>
          <a:xfrm>
            <a:off x="3541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6545160" y="23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g_hi" descr="https://encrypted-tbn1.gstatic.com/images?q=tbn:ANd9GcSsf4tOzSuoyz4nAxsEtnvT2YzRKQmmaaDAZKIIAwD9bu9AtaGxkQ"/>
          <p:cNvPicPr/>
          <p:nvPr/>
        </p:nvPicPr>
        <p:blipFill>
          <a:blip r:embed="rId2"/>
          <a:stretch/>
        </p:blipFill>
        <p:spPr>
          <a:xfrm>
            <a:off x="2771640" y="4149720"/>
            <a:ext cx="3673440" cy="244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4" descr="https://encrypted-tbn0.gstatic.com/images?q=tbn:ANd9GcQbJ6bC3Ql6KAVF9O4DGrm1vgY14YKp8FqGn693WPXvUNcAENQ8pj6-Qbg"/>
          <p:cNvPicPr/>
          <p:nvPr/>
        </p:nvPicPr>
        <p:blipFill>
          <a:blip r:embed="rId3"/>
          <a:stretch/>
        </p:blipFill>
        <p:spPr>
          <a:xfrm>
            <a:off x="5076720" y="1484280"/>
            <a:ext cx="3780000" cy="2559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5"/>
          <p:cNvSpPr/>
          <p:nvPr/>
        </p:nvSpPr>
        <p:spPr>
          <a:xfrm>
            <a:off x="250920" y="692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обыденной жизни, форму двугранного угла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бозначение двугран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149760" y="1991160"/>
            <a:ext cx="5446800" cy="3847680"/>
            <a:chOff x="149760" y="1991160"/>
            <a:chExt cx="5446800" cy="3847680"/>
          </a:xfrm>
        </p:grpSpPr>
        <p:sp>
          <p:nvSpPr>
            <p:cNvPr id="213" name="AutoShape 7"/>
            <p:cNvSpPr/>
            <p:nvPr/>
          </p:nvSpPr>
          <p:spPr>
            <a:xfrm rot="20373600">
              <a:off x="324000" y="2565000"/>
              <a:ext cx="3584160" cy="1644480"/>
            </a:xfrm>
            <a:prstGeom prst="parallelogram">
              <a:avLst>
                <a:gd name="adj" fmla="val 53993"/>
              </a:avLst>
            </a:prstGeom>
            <a:solidFill>
              <a:srgbClr val="c0c0c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"/>
            <p:cNvSpPr/>
            <p:nvPr/>
          </p:nvSpPr>
          <p:spPr>
            <a:xfrm flipH="1" rot="20385000">
              <a:off x="847080" y="3922560"/>
              <a:ext cx="4697280" cy="1138320"/>
            </a:xfrm>
            <a:prstGeom prst="parallelogram">
              <a:avLst>
                <a:gd name="adj" fmla="val 182770"/>
              </a:avLst>
            </a:prstGeom>
            <a:solidFill>
              <a:srgbClr val="c0c0c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87640" y="4653000"/>
                <a:ext cx="3729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1042920" y="306864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Oval 13"/>
          <p:cNvSpPr/>
          <p:nvPr/>
        </p:nvSpPr>
        <p:spPr>
          <a:xfrm>
            <a:off x="1403280" y="4365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370836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262728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2340000" y="3141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780000" y="40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116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34000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255600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788000" y="5157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22272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84360" y="62064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змерение двугранных углов. Линейны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1116000" y="2492280"/>
            <a:ext cx="3456000" cy="1800360"/>
          </a:xfrm>
          <a:prstGeom prst="parallelogram">
            <a:avLst>
              <a:gd name="adj" fmla="val 4799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4"/>
          <p:cNvSpPr/>
          <p:nvPr/>
        </p:nvSpPr>
        <p:spPr>
          <a:xfrm rot="14954400">
            <a:off x="1924920" y="2547000"/>
            <a:ext cx="3657600" cy="2395440"/>
          </a:xfrm>
          <a:prstGeom prst="parallelogram">
            <a:avLst>
              <a:gd name="adj" fmla="val 38173"/>
            </a:avLst>
          </a:prstGeom>
          <a:solidFill>
            <a:srgbClr val="ff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31880" y="410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169416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4574160" y="20145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27716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725560" y="46576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2843280" y="198900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1"/>
          <p:cNvSpPr/>
          <p:nvPr/>
        </p:nvSpPr>
        <p:spPr>
          <a:xfrm flipH="1">
            <a:off x="2340000" y="2421000"/>
            <a:ext cx="720720" cy="1728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3132000" y="2492280"/>
            <a:ext cx="1152720" cy="23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33"/>
          <p:cNvSpPr/>
          <p:nvPr/>
        </p:nvSpPr>
        <p:spPr>
          <a:xfrm flipV="1">
            <a:off x="2816280" y="3042360"/>
            <a:ext cx="649080" cy="289080"/>
          </a:xfrm>
          <a:custGeom>
            <a:avLst/>
            <a:gdLst/>
            <a:ahLst/>
            <a:rect l="l" t="t" r="r" b="b"/>
            <a:pathLst>
              <a:path fill="none" w="43200" h="29176">
                <a:moveTo>
                  <a:pt x="1372" y="29175"/>
                </a:moveTo>
                <a:cubicBezTo>
                  <a:pt x="464" y="26753"/>
                  <a:pt x="0" y="2418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46"/>
                  <a:pt x="-22337" y="21693"/>
                  <a:pt x="-22337" y="21739"/>
                </a:cubicBezTo>
              </a:path>
              <a:path stroke="0" w="43200" h="29176">
                <a:moveTo>
                  <a:pt x="1372" y="29175"/>
                </a:moveTo>
                <a:cubicBezTo>
                  <a:pt x="464" y="26753"/>
                  <a:pt x="0" y="2418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46"/>
                  <a:pt x="-22337" y="21693"/>
                  <a:pt x="-22337" y="21739"/>
                </a:cubicBezTo>
                <a:lnTo>
                  <a:pt x="21600" y="21600"/>
                </a:lnTo>
                <a:lnTo>
                  <a:pt x="1372" y="2917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059280" y="2421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0"/>
          <p:cNvGrpSpPr/>
          <p:nvPr/>
        </p:nvGrpSpPr>
        <p:grpSpPr>
          <a:xfrm>
            <a:off x="3276720" y="2421000"/>
            <a:ext cx="358560" cy="287280"/>
            <a:chOff x="3276720" y="2421000"/>
            <a:chExt cx="358560" cy="287280"/>
          </a:xfrm>
        </p:grpSpPr>
        <p:sp>
          <p:nvSpPr>
            <p:cNvPr id="243" name="Line 35"/>
            <p:cNvSpPr/>
            <p:nvPr/>
          </p:nvSpPr>
          <p:spPr>
            <a:xfrm>
              <a:off x="3276720" y="2708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 flipH="1" flipV="1">
              <a:off x="3492000" y="242100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0"/>
          <p:cNvGrpSpPr/>
          <p:nvPr/>
        </p:nvGrpSpPr>
        <p:grpSpPr>
          <a:xfrm>
            <a:off x="2626920" y="2492280"/>
            <a:ext cx="289440" cy="303480"/>
            <a:chOff x="2626920" y="2492280"/>
            <a:chExt cx="289440" cy="303480"/>
          </a:xfrm>
        </p:grpSpPr>
        <p:sp>
          <p:nvSpPr>
            <p:cNvPr id="246" name="Line 37"/>
            <p:cNvSpPr/>
            <p:nvPr/>
          </p:nvSpPr>
          <p:spPr>
            <a:xfrm flipH="1">
              <a:off x="2626920" y="249228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8"/>
            <p:cNvSpPr/>
            <p:nvPr/>
          </p:nvSpPr>
          <p:spPr>
            <a:xfrm>
              <a:off x="2627280" y="27957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39"/>
          <p:cNvSpPr/>
          <p:nvPr/>
        </p:nvSpPr>
        <p:spPr>
          <a:xfrm>
            <a:off x="5508720" y="4581360"/>
            <a:ext cx="6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5364000" y="2781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2"/>
              <p:cNvSpPr txBox="1"/>
              <p:nvPr/>
            </p:nvSpPr>
            <p:spPr>
              <a:xfrm>
                <a:off x="5435640" y="24210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 Box 44"/>
          <p:cNvSpPr/>
          <p:nvPr/>
        </p:nvSpPr>
        <p:spPr>
          <a:xfrm>
            <a:off x="5796000" y="2492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МС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5"/>
              <p:cNvSpPr txBox="1"/>
              <p:nvPr/>
            </p:nvSpPr>
            <p:spPr>
              <a:xfrm>
                <a:off x="7236000" y="24210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46"/>
          <p:cNvSpPr/>
          <p:nvPr/>
        </p:nvSpPr>
        <p:spPr>
          <a:xfrm>
            <a:off x="7667640" y="2421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 Р – линейный угол двугранного угла АВ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0" y="1197000"/>
            <a:ext cx="856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еличиной двугранного угла называется величина его линей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1979280" y="2492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95280" y="404640"/>
            <a:ext cx="835344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инейным углом двугранного уг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зывается сечение двугранного угла  плоскостью, перпендикулярной реб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https://encrypted-tbn1.gstatic.com/images?q=tbn:ANd9GcQ1RNjuBpf16S1ItPoNAOwUIu9Lo6PmFDAY6GjSwSmRVyXgu4tBq1ldi6SG"/>
          <p:cNvPicPr/>
          <p:nvPr/>
        </p:nvPicPr>
        <p:blipFill>
          <a:blip r:embed="rId1"/>
          <a:stretch/>
        </p:blipFill>
        <p:spPr>
          <a:xfrm>
            <a:off x="1979640" y="2133720"/>
            <a:ext cx="4675320" cy="3468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grpSp>
        <p:nvGrpSpPr>
          <p:cNvPr id="260" name="Group 36"/>
          <p:cNvGrpSpPr/>
          <p:nvPr/>
        </p:nvGrpSpPr>
        <p:grpSpPr>
          <a:xfrm>
            <a:off x="295560" y="1916280"/>
            <a:ext cx="7805520" cy="4196520"/>
            <a:chOff x="295560" y="1916280"/>
            <a:chExt cx="7805520" cy="4196520"/>
          </a:xfrm>
        </p:grpSpPr>
        <p:grpSp>
          <p:nvGrpSpPr>
            <p:cNvPr id="261" name="Group 34"/>
            <p:cNvGrpSpPr/>
            <p:nvPr/>
          </p:nvGrpSpPr>
          <p:grpSpPr>
            <a:xfrm>
              <a:off x="295560" y="1916280"/>
              <a:ext cx="7805520" cy="4196520"/>
              <a:chOff x="295560" y="1916280"/>
              <a:chExt cx="7805520" cy="4196520"/>
            </a:xfrm>
          </p:grpSpPr>
          <p:grpSp>
            <p:nvGrpSpPr>
              <p:cNvPr id="262" name="Group 20"/>
              <p:cNvGrpSpPr/>
              <p:nvPr/>
            </p:nvGrpSpPr>
            <p:grpSpPr>
              <a:xfrm>
                <a:off x="295560" y="2347920"/>
                <a:ext cx="7328880" cy="3764880"/>
                <a:chOff x="295560" y="2347920"/>
                <a:chExt cx="7328880" cy="3764880"/>
              </a:xfrm>
            </p:grpSpPr>
            <p:sp>
              <p:nvSpPr>
                <p:cNvPr id="263" name="AutoShape 6"/>
                <p:cNvSpPr/>
                <p:nvPr/>
              </p:nvSpPr>
              <p:spPr>
                <a:xfrm rot="20242800">
                  <a:off x="684360" y="2891880"/>
                  <a:ext cx="3319200" cy="2685600"/>
                </a:xfrm>
                <a:prstGeom prst="parallelogram">
                  <a:avLst>
                    <a:gd name="adj" fmla="val 41060"/>
                  </a:avLst>
                </a:prstGeom>
                <a:solidFill>
                  <a:srgbClr val="666699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7"/>
                <p:cNvSpPr/>
                <p:nvPr/>
              </p:nvSpPr>
              <p:spPr>
                <a:xfrm>
                  <a:off x="3367080" y="2347920"/>
                  <a:ext cx="4238280" cy="2933280"/>
                </a:xfrm>
                <a:prstGeom prst="rect">
                  <a:avLst/>
                </a:prstGeom>
                <a:solidFill>
                  <a:srgbClr val="666699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8"/>
                <p:cNvSpPr/>
                <p:nvPr/>
              </p:nvSpPr>
              <p:spPr>
                <a:xfrm>
                  <a:off x="1333440" y="3282840"/>
                  <a:ext cx="6291000" cy="1368000"/>
                </a:xfrm>
                <a:custGeom>
                  <a:avLst/>
                  <a:gdLst/>
                  <a:ahLst/>
                  <a:rect l="l" t="t" r="r" b="b"/>
                  <a:pathLst>
                    <a:path w="3963" h="862">
                      <a:moveTo>
                        <a:pt x="1270" y="0"/>
                      </a:moveTo>
                      <a:lnTo>
                        <a:pt x="0" y="545"/>
                      </a:lnTo>
                      <a:lnTo>
                        <a:pt x="136" y="681"/>
                      </a:lnTo>
                      <a:lnTo>
                        <a:pt x="272" y="726"/>
                      </a:lnTo>
                      <a:lnTo>
                        <a:pt x="362" y="817"/>
                      </a:lnTo>
                      <a:lnTo>
                        <a:pt x="499" y="862"/>
                      </a:lnTo>
                      <a:lnTo>
                        <a:pt x="635" y="862"/>
                      </a:lnTo>
                      <a:lnTo>
                        <a:pt x="725" y="862"/>
                      </a:lnTo>
                      <a:lnTo>
                        <a:pt x="816" y="862"/>
                      </a:lnTo>
                      <a:lnTo>
                        <a:pt x="952" y="817"/>
                      </a:lnTo>
                      <a:lnTo>
                        <a:pt x="1043" y="817"/>
                      </a:lnTo>
                      <a:lnTo>
                        <a:pt x="1179" y="817"/>
                      </a:lnTo>
                      <a:lnTo>
                        <a:pt x="1270" y="771"/>
                      </a:lnTo>
                      <a:lnTo>
                        <a:pt x="1406" y="726"/>
                      </a:lnTo>
                      <a:lnTo>
                        <a:pt x="1496" y="726"/>
                      </a:lnTo>
                      <a:lnTo>
                        <a:pt x="1587" y="681"/>
                      </a:lnTo>
                      <a:lnTo>
                        <a:pt x="1723" y="681"/>
                      </a:lnTo>
                      <a:lnTo>
                        <a:pt x="1814" y="681"/>
                      </a:lnTo>
                      <a:cubicBezTo>
                        <a:pt x="1823" y="682"/>
                        <a:pt x="1832" y="686"/>
                        <a:pt x="1840" y="683"/>
                      </a:cubicBezTo>
                      <a:cubicBezTo>
                        <a:pt x="1848" y="680"/>
                        <a:pt x="1859" y="665"/>
                        <a:pt x="1859" y="665"/>
                      </a:cubicBezTo>
                      <a:cubicBezTo>
                        <a:pt x="1874" y="655"/>
                        <a:pt x="1888" y="641"/>
                        <a:pt x="1905" y="635"/>
                      </a:cubicBezTo>
                      <a:cubicBezTo>
                        <a:pt x="1916" y="631"/>
                        <a:pt x="1941" y="637"/>
                        <a:pt x="1941" y="637"/>
                      </a:cubicBezTo>
                      <a:lnTo>
                        <a:pt x="2086" y="590"/>
                      </a:lnTo>
                      <a:cubicBezTo>
                        <a:pt x="2139" y="537"/>
                        <a:pt x="2121" y="534"/>
                        <a:pt x="2160" y="573"/>
                      </a:cubicBezTo>
                      <a:lnTo>
                        <a:pt x="2404" y="590"/>
                      </a:lnTo>
                      <a:lnTo>
                        <a:pt x="2449" y="545"/>
                      </a:lnTo>
                      <a:cubicBezTo>
                        <a:pt x="2525" y="530"/>
                        <a:pt x="2603" y="524"/>
                        <a:pt x="2676" y="499"/>
                      </a:cubicBezTo>
                      <a:cubicBezTo>
                        <a:pt x="2687" y="495"/>
                        <a:pt x="2676" y="475"/>
                        <a:pt x="2681" y="464"/>
                      </a:cubicBezTo>
                      <a:cubicBezTo>
                        <a:pt x="2689" y="446"/>
                        <a:pt x="2701" y="428"/>
                        <a:pt x="2718" y="418"/>
                      </a:cubicBezTo>
                      <a:cubicBezTo>
                        <a:pt x="2749" y="399"/>
                        <a:pt x="2811" y="390"/>
                        <a:pt x="2846" y="381"/>
                      </a:cubicBezTo>
                      <a:cubicBezTo>
                        <a:pt x="2919" y="363"/>
                        <a:pt x="2989" y="338"/>
                        <a:pt x="3065" y="336"/>
                      </a:cubicBezTo>
                      <a:cubicBezTo>
                        <a:pt x="3236" y="330"/>
                        <a:pt x="3406" y="329"/>
                        <a:pt x="3577" y="326"/>
                      </a:cubicBezTo>
                      <a:cubicBezTo>
                        <a:pt x="3642" y="305"/>
                        <a:pt x="3692" y="289"/>
                        <a:pt x="3760" y="281"/>
                      </a:cubicBezTo>
                      <a:cubicBezTo>
                        <a:pt x="3808" y="266"/>
                        <a:pt x="3860" y="201"/>
                        <a:pt x="3907" y="171"/>
                      </a:cubicBezTo>
                      <a:cubicBezTo>
                        <a:pt x="3948" y="108"/>
                        <a:pt x="3936" y="137"/>
                        <a:pt x="3952" y="89"/>
                      </a:cubicBezTo>
                      <a:cubicBezTo>
                        <a:pt x="3963" y="25"/>
                        <a:pt x="3961" y="53"/>
                        <a:pt x="3961" y="6"/>
                      </a:cubicBezTo>
                      <a:lnTo>
                        <a:pt x="1270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9"/>
                <p:cNvSpPr/>
                <p:nvPr/>
              </p:nvSpPr>
              <p:spPr>
                <a:xfrm>
                  <a:off x="3349440" y="3282840"/>
                  <a:ext cx="0" cy="1223640"/>
                </a:xfrm>
                <a:prstGeom prst="line">
                  <a:avLst/>
                </a:prstGeom>
                <a:ln w="38160">
                  <a:solidFill>
                    <a:srgbClr val="3333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Text Box 21"/>
              <p:cNvSpPr/>
              <p:nvPr/>
            </p:nvSpPr>
            <p:spPr>
              <a:xfrm>
                <a:off x="900360" y="3500280"/>
                <a:ext cx="431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2"/>
              <p:cNvSpPr/>
              <p:nvPr/>
            </p:nvSpPr>
            <p:spPr>
              <a:xfrm>
                <a:off x="2916360" y="19162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4"/>
              <p:cNvSpPr/>
              <p:nvPr/>
            </p:nvSpPr>
            <p:spPr>
              <a:xfrm>
                <a:off x="7596360" y="29242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5"/>
              <p:cNvSpPr/>
              <p:nvPr/>
            </p:nvSpPr>
            <p:spPr>
              <a:xfrm>
                <a:off x="3276720" y="53006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32"/>
              <p:cNvGrpSpPr/>
              <p:nvPr/>
            </p:nvGrpSpPr>
            <p:grpSpPr>
              <a:xfrm>
                <a:off x="3058920" y="2997000"/>
                <a:ext cx="576360" cy="647640"/>
                <a:chOff x="3058920" y="2997000"/>
                <a:chExt cx="576360" cy="647640"/>
              </a:xfrm>
            </p:grpSpPr>
            <p:grpSp>
              <p:nvGrpSpPr>
                <p:cNvPr id="272" name="Group 31"/>
                <p:cNvGrpSpPr/>
                <p:nvPr/>
              </p:nvGrpSpPr>
              <p:grpSpPr>
                <a:xfrm>
                  <a:off x="3058920" y="2997000"/>
                  <a:ext cx="288360" cy="431640"/>
                  <a:chOff x="3058920" y="2997000"/>
                  <a:chExt cx="288360" cy="431640"/>
                </a:xfrm>
              </p:grpSpPr>
              <p:sp>
                <p:nvSpPr>
                  <p:cNvPr id="273" name="Line 26"/>
                  <p:cNvSpPr/>
                  <p:nvPr/>
                </p:nvSpPr>
                <p:spPr>
                  <a:xfrm flipH="1">
                    <a:off x="3058920" y="2997000"/>
                    <a:ext cx="288360" cy="106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7"/>
                  <p:cNvSpPr/>
                  <p:nvPr/>
                </p:nvSpPr>
                <p:spPr>
                  <a:xfrm>
                    <a:off x="3059280" y="3103560"/>
                    <a:ext cx="0" cy="325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30"/>
                <p:cNvGrpSpPr/>
                <p:nvPr/>
              </p:nvGrpSpPr>
              <p:grpSpPr>
                <a:xfrm>
                  <a:off x="3348000" y="3284280"/>
                  <a:ext cx="287280" cy="360360"/>
                  <a:chOff x="3348000" y="3284280"/>
                  <a:chExt cx="287280" cy="360360"/>
                </a:xfrm>
              </p:grpSpPr>
              <p:sp>
                <p:nvSpPr>
                  <p:cNvPr id="276" name="Line 28"/>
                  <p:cNvSpPr/>
                  <p:nvPr/>
                </p:nvSpPr>
                <p:spPr>
                  <a:xfrm>
                    <a:off x="3635280" y="3284280"/>
                    <a:ext cx="0" cy="360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9"/>
                  <p:cNvSpPr/>
                  <p:nvPr/>
                </p:nvSpPr>
                <p:spPr>
                  <a:xfrm flipH="1">
                    <a:off x="3348000" y="3644640"/>
                    <a:ext cx="2872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8" name="Text Box 23"/>
            <p:cNvSpPr/>
            <p:nvPr/>
          </p:nvSpPr>
          <p:spPr>
            <a:xfrm>
              <a:off x="3419640" y="27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5:24:20Z</dcterms:created>
  <dc:creator>Teacher</dc:creator>
  <dc:description/>
  <dc:language>en-US</dc:language>
  <cp:lastModifiedBy>Наталья В. Пронина</cp:lastModifiedBy>
  <dcterms:modified xsi:type="dcterms:W3CDTF">2017-02-07T08:19:59Z</dcterms:modified>
  <cp:revision>10</cp:revision>
  <dc:subject/>
  <dc:title>ДВУГРАННЫЕ УГЛЫ</dc:title>
</cp:coreProperties>
</file>