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EB2-34BA-43E4-B73F-200DAD00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39A-0AC7-43E0-A1AC-62789344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552-586A-4F16-8572-D80EF116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43C-3325-4602-BC90-BE4DEC9D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0C7-00E1-440F-8AC8-9A5864C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877-C9CE-4ED1-9549-D5F0F00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5DFE-4249-4DA7-9227-441660A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FA0E-1C5A-41F8-A9B5-9E584B8B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4AC-DF56-4CA9-A59C-CAA4DEFA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E560-9957-401E-81B3-B5465E73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5BF-6B84-480E-A743-430702D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72A-42F7-42CE-B9D8-3F9C102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639C-A919-4C1C-8158-70497D1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578-49B6-44E3-8884-C1A56B9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1AE-EB73-4E45-80EB-21434D7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D750-C135-465B-BB42-7B2F27E3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C26A-0891-435B-AA10-C7F8DF2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359-1BAF-49C2-BBB4-8072CFC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510-173F-4163-BFF2-42B93791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8B3-F8A2-44DD-9AEC-3815099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409-369A-4523-8ECC-9C5A49F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C1C-4567-4D01-BA33-0F189C6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0CE-8400-41E6-9861-4CED426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3BE-50CC-4F1D-AAD6-068495C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664-8A8C-4B62-8CC5-70573B43A2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0C2-2160-4737-87BD-5DEE0DAC3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нкурс кабине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бинет психоло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ПЕДАГОГ-ПСИХОЛОГ ШИТЯКОВА В.М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бинет делится на несколько рабочих зон, имеющих различную функциональную нагрузк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сультативна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гностическа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сихологической разгрузки (релаксаци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на хранения архива, картотек (личная зона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числу обязательных компонентов меблировки кабинета педагога - психолог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чий стол психолог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кафы (для хранения методических пособий, материалов обследований, техники и др.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рабочие места для детей (количество зависит от размеров помещения и специфики работы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журнальный сто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крес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ул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римерный перечень докумен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ормативные документы, регулирующие вопросы охраны труда,здравоохранения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образовательные программы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литература по общей психологии, педагогической, социаль­ной и возрастной психологии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есты, методики по психодиагностике, используемые в учебно-воспитательном процессе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банк диагностических методик, тестов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аборы коррекционно-развивающих игр, пособий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учебники по психологии для учащихся, психологические словари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план работы педагога-психолога на год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циклограмма работы кабинета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краткие планы и программы проводимых занятий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диагностико-коррекционные и методические материалы в соответствии с особенностями работы данного ОУ (прото­колы обследований, результаты тестирования и т.п.)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сультативн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G_0978"/>
          <p:cNvPicPr/>
          <p:nvPr/>
        </p:nvPicPr>
        <p:blipFill>
          <a:blip r:embed="rId1"/>
          <a:stretch/>
        </p:blipFill>
        <p:spPr>
          <a:xfrm>
            <a:off x="0" y="13716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G096-01"/>
          <p:cNvPicPr/>
          <p:nvPr/>
        </p:nvPicPr>
        <p:blipFill>
          <a:blip r:embed="rId2"/>
          <a:stretch/>
        </p:blipFill>
        <p:spPr>
          <a:xfrm>
            <a:off x="2590920" y="400536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_DSC0030"/>
          <p:cNvPicPr/>
          <p:nvPr/>
        </p:nvPicPr>
        <p:blipFill>
          <a:blip r:embed="rId3"/>
          <a:stretch/>
        </p:blipFill>
        <p:spPr>
          <a:xfrm>
            <a:off x="5029200" y="1219320"/>
            <a:ext cx="41148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иагностическ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0195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 зо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IMG100-01"/>
          <p:cNvPicPr/>
          <p:nvPr/>
        </p:nvPicPr>
        <p:blipFill>
          <a:blip r:embed="rId1"/>
          <a:stretch/>
        </p:blipFill>
        <p:spPr>
          <a:xfrm>
            <a:off x="0" y="190512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_DSC0034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 зо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DSC02892"/>
          <p:cNvPicPr/>
          <p:nvPr/>
        </p:nvPicPr>
        <p:blipFill>
          <a:blip r:embed="rId1"/>
          <a:stretch/>
        </p:blipFill>
        <p:spPr>
          <a:xfrm>
            <a:off x="0" y="2305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_DSC00315"/>
          <p:cNvPicPr/>
          <p:nvPr/>
        </p:nvPicPr>
        <p:blipFill>
          <a:blip r:embed="rId2"/>
          <a:stretch/>
        </p:blipFill>
        <p:spPr>
          <a:xfrm>
            <a:off x="4570560" y="1752480"/>
            <a:ext cx="457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она психологической разгрузки (релаксации)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_DSC0027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</dc:creator>
  <dc:description/>
  <dc:language>en-US</dc:language>
  <cp:lastModifiedBy>Валерия</cp:lastModifiedBy>
  <dcterms:modified xsi:type="dcterms:W3CDTF">2017-02-07T16:35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