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925-0D4F-4058-AB85-A5093B1D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828-B024-44A8-8083-6170808D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C37-EBDC-4A4C-BC4B-2A98ACE2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346-44E7-4FFE-AD59-1BED4E25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8D04-EEE3-4B9F-B5DA-CA402C60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781A-87BA-4E50-945C-3DEDC57B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9D25-99EB-4279-8151-53097956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807D-585C-4BC9-956C-9C18361C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BBEF-AC29-4CBA-88CD-A5C9D836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2BFB-6E52-478F-809A-E98B5976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979A-BCB4-4B05-92F9-71C0864A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BBD-E76B-4862-9FF7-EA2B1752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E40A-E8E7-4E77-9151-D733ED88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2AF1-1A49-4E78-B041-6566D140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4A3F-4077-4B9F-8AC1-D6C4AA88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8F5C-02B4-490E-868B-4C322CFC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7A72-015C-403E-8AAD-8BD4AF01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7D4-80D2-4C34-BA82-6E14A2B3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F9E-A5A1-4494-9F59-C16D26CB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F8C-E61D-49C7-8C13-58A85696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37F-4A27-4485-9862-BEE50BF7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B10-64CE-47B7-9C44-58FAD161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6FD-504E-4ACC-8146-C3492271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937-24DE-4E3D-8B11-04C226ED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73F9-3EA8-401F-B8FC-BBD63E2A22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FD1E-C0BC-4EF5-AC58-291A3A15A2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нкурс кабине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бинет психоло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ПЕДАГОГ-ПСИХОЛОГ ШИТЯКОВА В.М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бинет делится на несколько рабочих зон, имеющих различную функциональную нагрузку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сультативна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агностическа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енинговая (коррекционно-развивающая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сихологической разгрузки (релаксации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она хранения архива, картотек (личная зона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числу обязательных компонентов меблировки кабинета педагога - психолога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носятс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бочий стол психолога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-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кафы (для хранения методических пособий, материалов обследований, техники и др.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 рабочие места для детей (количество зависит от размеров помещения и специфики работы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журнальный сто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  кресл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-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уль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Примерный перечень докумен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нормативные документы, регулирующие вопросы охраны труда,здравоохранения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образовательные программы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литература по общей психологии, педагогической, социаль­ной и возрастной психологии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тесты, методики по психодиагностике, используемые в учебно-воспитательном процессе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банк диагностических методик, тестов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наборы коррекционно-развивающих игр, пособий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учебники по психологии для учащихся, психологические словари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план работы педагога-психолога на год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циклограмма работы кабинета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краткие планы и программы проводимых занятий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•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диагностико-коррекционные и методические материалы в соответствии с особенностями работы данного ОУ (прото­колы обследований, результаты тестирования и т.п.)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нсультативная зо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IMG_0978"/>
          <p:cNvPicPr/>
          <p:nvPr/>
        </p:nvPicPr>
        <p:blipFill>
          <a:blip r:embed="rId1"/>
          <a:stretch/>
        </p:blipFill>
        <p:spPr>
          <a:xfrm>
            <a:off x="0" y="13716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IMG096-01"/>
          <p:cNvPicPr/>
          <p:nvPr/>
        </p:nvPicPr>
        <p:blipFill>
          <a:blip r:embed="rId2"/>
          <a:stretch/>
        </p:blipFill>
        <p:spPr>
          <a:xfrm>
            <a:off x="2590920" y="4005360"/>
            <a:ext cx="380988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_DSC0030"/>
          <p:cNvPicPr/>
          <p:nvPr/>
        </p:nvPicPr>
        <p:blipFill>
          <a:blip r:embed="rId3"/>
          <a:stretch/>
        </p:blipFill>
        <p:spPr>
          <a:xfrm>
            <a:off x="5029200" y="1219320"/>
            <a:ext cx="41148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иагностическая зо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0195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ренинговая (коррекционно-развивающая) зо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IMG100-01"/>
          <p:cNvPicPr/>
          <p:nvPr/>
        </p:nvPicPr>
        <p:blipFill>
          <a:blip r:embed="rId1"/>
          <a:stretch/>
        </p:blipFill>
        <p:spPr>
          <a:xfrm>
            <a:off x="0" y="1905120"/>
            <a:ext cx="3714840" cy="4952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_DSC0034"/>
          <p:cNvPicPr/>
          <p:nvPr/>
        </p:nvPicPr>
        <p:blipFill>
          <a:blip r:embed="rId2"/>
          <a:stretch/>
        </p:blipFill>
        <p:spPr>
          <a:xfrm>
            <a:off x="3733920" y="2438280"/>
            <a:ext cx="54100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ренинговая (коррекционно-развивающая) зо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DSC02892"/>
          <p:cNvPicPr/>
          <p:nvPr/>
        </p:nvPicPr>
        <p:blipFill>
          <a:blip r:embed="rId1"/>
          <a:stretch/>
        </p:blipFill>
        <p:spPr>
          <a:xfrm>
            <a:off x="0" y="2305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_DSC00315"/>
          <p:cNvPicPr/>
          <p:nvPr/>
        </p:nvPicPr>
        <p:blipFill>
          <a:blip r:embed="rId2"/>
          <a:stretch/>
        </p:blipFill>
        <p:spPr>
          <a:xfrm>
            <a:off x="4570560" y="1752480"/>
            <a:ext cx="4573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она психологической разгрузки (релаксации)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_DSC0027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рия</dc:creator>
  <dc:description/>
  <dc:language>en-US</dc:language>
  <cp:lastModifiedBy>Валерия</cp:lastModifiedBy>
  <dcterms:modified xsi:type="dcterms:W3CDTF">2017-02-07T16:35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