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3AF6-6007-495D-9CFD-04636BD1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14D8-0DD7-45D8-B009-5872200E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B696-8B17-4681-87FB-26E7114B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2D45-0E17-4467-ABC8-5BD34BDE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2422-DB77-470E-BC9B-ABDE08C3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9FDF-88D2-4E0A-BC41-F545234E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B070-D54D-43EF-A6CA-C6B9F72F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1CF6-BFC4-4646-BD73-F032ADFA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2103-A454-400F-9E57-73631472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5E87-A295-4CA8-91A2-CFEAFF89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BA8E-DD42-4D35-BA94-9745F3B6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41B8-F08A-4008-A7C0-B48795E8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4536-7DF1-4D27-9EA8-C0D888B4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681F-0784-4124-9BF2-025EED8D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0E24-099D-42D4-AD97-99309E93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98FD-B35D-45AF-AA1C-BD443F20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15B6-5F22-4482-A854-932218DA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D5AC3-E51A-4F75-86C3-C113C257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330AA-4084-41BC-B9C4-DBB18DC8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39B44-285A-45AA-8F91-73D5813C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DA32A-14DC-4A1E-98FE-B5027FA0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7D2C1-FA4D-4BD4-B9E4-1BDC935C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6F83-9062-48C8-B4C4-50087784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6C22A-8E36-4C98-8237-CEC572C3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96729-0F7C-4A25-A088-FA4534F1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0C746-2AE7-4C28-9641-1FFEE0D6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47439-84D3-4823-B6D0-301BB596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9FAE8-4BF1-40A4-B543-BF41BDC7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3576B-7D21-4BBA-8700-87EBE5AB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BD537-3AFC-4A52-98B3-694376B0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1F3A1-5F8E-4EFE-A0E5-0EE3E8EE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2E2F3-6AE1-4459-B364-0738A17B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5D12F-86D6-4A29-90AC-1A7D8116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8CE7-8E75-460D-97B7-674AA24E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A560F-C4F5-4232-983F-66A6FA09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A3170-270E-4539-94E8-B6845DCA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66353-ED55-452B-B5FC-AA49C44C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3E8D3-A6DD-46B4-80D1-BE8A45D8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C5804-0E75-462C-BCFC-1C9D5A0C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15045-467A-47DE-931E-693CE139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2B7BF-F787-4BF6-88BD-D479040F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52DFD-D5F2-488B-85A7-17ABAD87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A1B38-4DC8-48B7-89A9-19C38157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88B8-A055-4417-B32D-ECE5D73D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36BA-0DFE-4B09-A2B5-352B4135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D763-C5E8-4BC1-83E2-C68B2501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711B-8EB0-4114-A8ED-4AE73CB4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2C45-EBC7-43E0-8BB0-CDBE7417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6C02-A2B0-4986-9930-DD436C90FA7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1078-D83C-44B3-BB27-8F9F395C288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6830-9919-4A3B-9A8B-7B175857B8A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4C49-BE6B-430B-8D72-A796CD3BE73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4932360" y="1139760"/>
            <a:ext cx="3887640" cy="4017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1187280" y="981000"/>
            <a:ext cx="3384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542880" y="-133200"/>
            <a:ext cx="8369280" cy="25588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1115640" y="2276280"/>
            <a:ext cx="73436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1.Интерактивная лекция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2. Работа с наглядными пособиями, видео- и аудиоматериалами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3.Ученик в роли учителя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4.Каждый учит каждого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5. Мозаика (ажурная пила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6. Использование вопросов. Сократов диалог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7. Составление документов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8. Письменная работа по обоснованию своей позиции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9. Займи позицию (шкала мнений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10. Проективные техники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11. Один – вдвоем - все вместе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12. Смени позицию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13. Карусел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14. Дискуссия в стиле телевизионного ток-шоу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15. Дебаты16. Древо решений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17. Мозговой штурм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18. Анализ казусов 4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349"/>
              </a:spcBef>
              <a:buClr>
                <a:srgbClr val="c3260c"/>
              </a:buClr>
              <a:buSzPct val="13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143000" y="731520"/>
            <a:ext cx="73166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терактивное обучение одновременно решает несколько задач: развивает коммуникативные умения и навыки, помогает установлению эмоциональных контактов между участниками процесса обучения, решает информационную задачу, поскольку обеспечивает учащихся необходимой информацией, без которой невозможно реализовывать совместную деятельность; развивает общие учебные умения и навыки обеспечивает воспитательную задачу, поскольку приучает работать в команде. Итак, позвольте предложить вашему вниманию несколько технологий интерактивного обучения, достаточно широко применяемые мною на уроках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1189080" y="-176040"/>
            <a:ext cx="6510240" cy="21808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684360" y="1699920"/>
            <a:ext cx="7704000" cy="40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к и многие интерактивные технологии, карусель позаимствована из психологических тренингов. Детям такой вид работы, обычно, очень нравится. Образуется два кольца: внутреннее и внешнее. Внутреннее кольцо-это стоящие неподвижно ученики, обращенные лицом к внешнему кругу, а внешнее – это ученики, перемещающиеся по кругу через каждые 30 секунд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аким образом, они успевают проговорить за несколько минут несколько тем и постараться убедить в своей правоте собеседника. Прекрасно отрабатываются диалоги этикетного характера, тема знакомство, национальности, разговор в общественном месте и т.д. Ребята увлеченно беседуют, занятие проходит динамично и результативн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116000" y="85680"/>
            <a:ext cx="7699320" cy="22608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826920" y="2707920"/>
            <a:ext cx="7561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дполагает движение учеников по всему классу с целью сбора информации по предложенной теме. Каждый участник получает лист с перечнем вопросов-заданий. Учитель помогает формулировать вопросы и ответы, следит, чтобы взаимодействие велось на английском языке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304920" y="12600"/>
            <a:ext cx="8686800" cy="19321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610920" y="1773360"/>
            <a:ext cx="79930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етям предлагается прочитать незаконченное предложение и быстро продолжить его любыми словами, первой пришедшей в голову мыслью. Предложения начинаются весьма неопределенно, поэтому у ребят практически неограниченные возможности закончить его. Они касаются различных жизненных сфер и могут охватывать любые темы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304920" y="371520"/>
            <a:ext cx="8686800" cy="1328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304920" y="1268280"/>
            <a:ext cx="8686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ка  языкового образования требует  постоянного обновления и модификации содержательного и процессуального компонентов  обучения. Системообразующим фактором здесь выступает человек с его ценностно-целевыми установками, интересами и потребностями в сложном меняющемся мире. В этом ракурсе проблемное обучение  в целом способствует эффективному развитию интеллектуальной сферы учащихся, адаптивных качеств личности, необходимых для самоопределения в обществе и  осознанного выбора путей реализации перспектив своего развития. Проблемное обучение направлено  на развитие творческих способностей школьников, их учебной и научно-поисковой активности.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обобщения представляемого опыта исследую  способы использования проблемных заданий на уроках, способы построения иноязычных развивающих упражнений, варьирования методической тактики учителя при выборе и использовании задач в зависимости от конкретных условий иноязычного учебного общения.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педагогического опыта лежат идеи В.В. Сафоновой, Е.Н. Солововой, Ж. Пиаже, Ф. Фребель, З. И. Истоминой, Р. И. Жуковской, Л. С. Выготского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95280" y="836640"/>
            <a:ext cx="8353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В. Сафонова отмечает, что «проблемное обучение иностранному языку» можно определить как деятельность учителя по созданию и использованию на различных стадиях обучения иноязычных заданий, направленных на  активизацию мыслительной и речемыслительной деятельности учащихся в процессе овладения социокультурными знаниями и умениями, речевыми навыками и коммуникативно-речевыми умениями. Тогда, проблемное учение применительно к иностранному языку можно определить как иноязычную деятельность учащихся по овладению речевыми навыками коммуникативно-речевыми умениями в комплексе с навыками и умениями творческой индивидуальной и коллективной деятельности посредством систематического решения познавательно-поисковых, коммуникативно-познавательных, коммуникативно-речевых  задач при порождении устного и письменного текста.</a:t>
            </a:r>
            <a:br>
              <a:rPr sz="1800"/>
            </a:b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1262160" y="109440"/>
            <a:ext cx="6510240" cy="15001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755280" y="1557000"/>
            <a:ext cx="777708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ключается в разработке алгоритма и создание условий для применения системы проблемных заданий, способствующих формированию коммуникативно-речевых умений учащихся основной школы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сть опыта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оявляется в том, что он может быть использован учителями всех типов школ, преподающих английский язык.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педагогическая идея опыта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аключается в использовании разработанной системы проблемных заданий на уроках английского языка языка в 2-5 классах как средства достижения необходимого уровня коммуникативно-речевых умений школьников, поскольку ее применение способствует: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ю мотивации учащихся к овладению иностранными языками;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ышению мыслительной активности учащихся, расширению     сферы иноязычного общения;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ю коммуникативно-речевых умений.</a:t>
            </a:r>
            <a:br>
              <a:rPr sz="1500"/>
            </a:b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609480" y="12600"/>
            <a:ext cx="8077320" cy="19321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610920" y="1628640"/>
            <a:ext cx="7777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бота над опытом составляет  1 год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анный период условно можно разделить на три этапа: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 Выявление противоречий, актуализирующих тему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Реализация заявленной цели опыта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Обобщение накопленного материала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апазон опыта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апазон опыта включает в себя единую систему уроков и представлен дидактической системой работы учителя, структурными компонентами которой являются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 Диагностика сформированности коммуникативно-речевых умений учащихся основной школы. 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Создание психолого-педагогических условий для достижения необходимого уровня сформированности коммуникативно-речевых умений учащихся основной школы в процессе использования системы проблемных заданий. </a:t>
            </a:r>
            <a:br>
              <a:rPr sz="1800"/>
            </a:b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1792440" y="4267080"/>
            <a:ext cx="6656400" cy="1249560"/>
          </a:xfrm>
          <a:prstGeom prst="rect">
            <a:avLst/>
          </a:prstGeom>
          <a:ln w="0">
            <a:noFill/>
          </a:ln>
        </p:spPr>
      </p:pic>
      <p:pic>
        <p:nvPicPr>
          <p:cNvPr id="217" name="Объект 2" descr=""/>
          <p:cNvPicPr/>
          <p:nvPr/>
        </p:nvPicPr>
        <p:blipFill>
          <a:blip r:embed="rId2"/>
          <a:stretch/>
        </p:blipFill>
        <p:spPr>
          <a:xfrm>
            <a:off x="938160" y="701640"/>
            <a:ext cx="6742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1401840" y="182520"/>
            <a:ext cx="6516720" cy="1500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1116000" y="1699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404040"/>
                </a:solidFill>
                <a:uFillTx/>
                <a:latin typeface="Trebuchet MS"/>
              </a:rPr>
              <a:t>1. </a:t>
            </a:r>
            <a:r>
              <a:rPr b="0" lang="en-US" sz="2000" spc="-1" strike="noStrike" u="sng">
                <a:solidFill>
                  <a:srgbClr val="404040"/>
                </a:solidFill>
                <a:uFillTx/>
                <a:latin typeface="Trebuchet MS"/>
              </a:rPr>
              <a:t>http://kuvmetodist.ucoz.ru -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Инновационные технологии при внедрении ФГОС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2.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http://www.bibliofond.ru/view.aspx -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Игровые технологи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3.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http://shkolazhizni.ru –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то такое развивающее обучение? Инновационные методики обучени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4.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http://kopsch45.narod.ru –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облемное обучени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5.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http://copy.yandex.net –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ТД в школ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buClr>
                <a:srgbClr val="c3260c"/>
              </a:buClr>
              <a:buSzPct val="13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684360" y="105264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нализируя результаты своей педагогической деятельности, опыт коллег, рекомендации, которые даются в методической литературе, я пришла к выводу, что на одних вопросно-ответных упражнениях, чтении вслух, переводе и механическом пересказывании прочитанного вряд ли можно создать условия для адекватного развития коммуникативно-речевых умений учащихся. Поэтому на каждом уроке стараюсь использовать интерактивные технологии 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26560" y="731520"/>
            <a:ext cx="7705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перь при подготовке к уроку учитель затрачивает почти в два раза больше времени по сравнению с прошлыми учебными годами. Если раньше пытались выполнить то, что запланировали, то теперь нужно организовать деятельность детей. Форма урока преимущественно групповая или индивидуальная. Результаты обучения не только предметные, но и личностные, метапредметные. Ориентир на самооценку обучающегося, формирование адекватной самооценки. Учет динамики результатов обучения детей относительно самих себя. Оценка промежуточных результатов обучения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755640" y="42840"/>
            <a:ext cx="7559640" cy="15001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899640" y="1341000"/>
            <a:ext cx="770436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заимовлияние и взаимопроникновение культур, международное сотрудничество и партнерство стали неотъемлемой чертой существования человечества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современном обществе молодые люди должны уметь находить и эффективно извлекать информацию, в том числе и на иностранном языке, а также быть готовыми к общению в иноязычной среде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пользуя систему проблемных заданий, учитель получает возможность стимулировать интерес учащихся к общению, так как данные задания способны апеллировать к чувствам учащихся, их жизненному опыту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большой опыт преподавания позволил увидеть, что использование традиционных педагогических технологий не является достаточным для разрешения противоречий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ежду необходимостью формирования коммуникативно-речевых умений учащихся основной школы и отсутствием разработанной системы проблемных заданий в используемом УМК;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ежду созданием условий для применения полученных знаний в нестандартных, творческих видах деятельности и традиционным подходом к образованию, основанном на усвоении готовых знаний и их воспроизведении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901800" y="-176040"/>
            <a:ext cx="6510240" cy="14983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68000" y="1483920"/>
            <a:ext cx="806436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ой деятельности является обеспечение положительной динамики сформированности коммуникативно-речевых умений говорения учащихся в учебно-познавательной деятельности на уроках английского языка посредством применения системы проблемных заданий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планируемых результатов предполагает решение задач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овладения учащимися определенным объемом разнообразных предметных знаний, необходимых и достаточных для успешного разрешения проблемных заданий, посредством которых формируются коммуникативно-речевые умени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истемы проблемных заданий, способствующих развитию коммуникативно-речевых умений говорения учащих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разнообразных методов, средств, приемов обучения для повышения мотивации к изучению английского языка и качества знаний учащихся по предмету.</a:t>
            </a:r>
            <a:br>
              <a:rPr sz="900"/>
            </a:b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9280" y="731880"/>
            <a:ext cx="7993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развивать у учащихся коммуникативные умения вне языкового окружения, недостаточно насытить урок условно-коммуникативными или коммуникативными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пражнениями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воляющими решать коммуникативные задачи. Важно предоставить им возможность мыслить, решать какие-то проблемы, которые порождают мысли, рассуждать над возможными путями решения этих проблем с тем, чтобы учащиеся акцентировали внимание на содержании своего высказывания, чтобы в центре внимания была мысль, а язык выступал в своей прямой функции - формирования и формулирования этих мыслей. 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1116000" y="42840"/>
            <a:ext cx="7418520" cy="217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826560" y="1916280"/>
            <a:ext cx="7417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уть интерактивного обучения состоит в том, что учебный процесс организован таким образом, что практически все учащиеся оказываются вовлеченными в процесс познания, они имеют возможность понимать и рефлектировать по поводу того, что они знают и думаю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терактивные технологии предполагают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c3260c"/>
              </a:buClr>
              <a:buSzPct val="13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алоговое общение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обретение самостоятельно добытого пережитого знания и умения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тие критического мышления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тие умения решать проблемы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плексное взаимодействие ЗУН на уровне мышления, воспроизведения, восприятия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ормирование личностных качеств учащихся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1096920" y="-60480"/>
            <a:ext cx="7291440" cy="25592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971640" y="2276640"/>
            <a:ext cx="734544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374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Творческие задания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Работа в малых группах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Обучающие игры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Ролевые игры и имитации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Деловые игры и моделирование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Образовательные игры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Использование общественных ресурсов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Приглашение специалиста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Экскурсии Социальные проекты и другие внеаудиторные методы    обучения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Социальные проекты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Соревнования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Радио и газеты Фильмы, спектакли, выставки, представления, песни и сказки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buClr>
                <a:srgbClr val="c3260c"/>
              </a:buClr>
              <a:buSzPct val="13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2T09:30:03Z</dcterms:created>
  <dc:creator>Даши</dc:creator>
  <dc:description/>
  <dc:language>en-US</dc:language>
  <cp:lastModifiedBy>Пользователь</cp:lastModifiedBy>
  <dcterms:modified xsi:type="dcterms:W3CDTF">2017-02-07T10:36:20Z</dcterms:modified>
  <cp:revision>24</cp:revision>
  <dc:subject/>
  <dc:title>Аракчаа Салим Марсельович</dc:title>
</cp:coreProperties>
</file>