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035-482B-426B-A787-642E8421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432-3E58-4A5A-8FB9-AC31DDE8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4B8-097A-4599-93DF-40246636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0DD-E16C-40FD-AD21-707E004E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FD27-C23D-4734-9B45-5885B245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40D1-EF36-4B9B-8599-077EC6E6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FE18-1D8B-4B68-A817-9937575D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DAF3-B9F9-4645-AAB0-8CAFBBE9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0F0-3C2F-43A0-BDF9-E12F8F99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2FA3-610B-4D93-8EEF-55CBDD96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8766-1644-4A31-9EDD-7FB38CB9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B78-F331-47B0-A964-BC8ED72F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CFD5-949B-4C1E-91F1-485560F9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025D-6EF9-4831-99B5-AC711D6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30C3-07AD-4B6C-8650-E7D1FA11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A8A7-79DE-4ABD-994B-DE038073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FD71-3876-4CE3-96DD-03BEEE27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6676-37C4-44B1-83A6-DC367D17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69A3-AB80-479C-B6AA-B3880C4C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4674-7C42-40CB-97F8-D3ECE61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E48B-E662-457F-9FDC-C8F91806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B102-8FF7-476D-A2D8-E0D377F4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79B-FD06-4B98-9C7F-2367F249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8290-11D6-467D-B51A-C62CC922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79FA-A3D8-4684-96A7-4C1A0E3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AFBA-215D-4FFE-9BBC-C9FCAC2F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F7C8-FC7A-4ED8-8758-3297D210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E171-4F30-43B7-8126-F51496D8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D064-36FC-45B6-B845-BD1A8F16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140B-FA5A-4C86-80A9-4E3CA7EE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82B7-46F1-45B2-8F62-A5A13A41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8CA7-E6A4-43BD-B123-6F9FB244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D31B-DCB0-47D4-97EE-5F4E7788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0C6-ED54-4BB7-846E-253088E7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41703-E9EE-413D-A69E-F5982108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07EA-D04C-4AF8-BA44-F9FB4B11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84E4D-A11E-4261-AAF0-6BB20E2F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A4FC-F18A-4193-B941-8966DEA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5622E-6EC4-41FC-A643-BA456B7D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9944-0147-4547-9226-270D0525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15247-FEEB-441A-9B34-6D91539B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2308-B013-4F8B-AD5D-A6AA484F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10FD6-74E7-47E8-8FAF-57D44BB5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E46-AEE1-4EB5-9D44-F251DB04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ABF-BA3E-4C97-9061-46C5808D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7EA-B34D-443D-9332-A8027892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7EA-09B7-4D78-9834-778EA49D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DE3-EA67-430F-87BB-81A0E8EC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3E90-D624-4AB8-BC1D-11A2F4FB5BC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A07F-FEFB-42E3-8BF2-9FE4AAE6253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3DC6-3284-41EC-9D5C-8B12AB688C5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1D94-C6EB-456E-AB69-5F912B22F9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932360" y="1139760"/>
            <a:ext cx="3887640" cy="4017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3384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542880" y="-133200"/>
            <a:ext cx="8369280" cy="2558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115640" y="2276280"/>
            <a:ext cx="7343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.Интерактивная лекция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2. Работа с наглядными пособиями, видео- и аудиоматериалам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3.Ученик в роли учителя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4.Каждый учит каждого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5. Мозаика (ажурная пила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6. Использование вопросов. Сократов диалог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7. Составление документов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8. Письменная работа по обоснованию своей позици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9. Займи позицию (шкала мнений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0. Проективные техник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1. Один – вдвоем - все вмест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2. Смени позицию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3. Карусел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4. Дискуссия в стиле телевизионного ток-шоу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5. Дебаты16. Древо решений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7. Мозговой штурм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8. Анализ казусов 4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43000" y="731520"/>
            <a:ext cx="73166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терактивное обучение одновременно решает несколько задач: развивает коммуникативные умения и навыки, помогает установлению эмоциональных контактов между участниками процесса обучения, решает информационную задачу, поскольку обеспечивает учащихся необходимой информацией, без которой невозможно реализовывать совместную деятельность; развивает общие учебные умения и навыки обеспечивает воспитательную задачу, поскольку приучает работать в команде. Итак, позвольте предложить вашему вниманию несколько технологий интерактивного обучения, достаточно широко применяемые мною на урок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189080" y="-176040"/>
            <a:ext cx="6510240" cy="218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684360" y="1699920"/>
            <a:ext cx="770400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 и многие интерактивные технологии, карусель позаимствована из психологических тренингов. Детям такой вид работы, обычно, очень нравится. Образуется два кольца: внутреннее и внешнее. Внутреннее кольцо-это стоящие неподвижно ученики, обращенные лицом к внешнему кругу, а внешнее – это ученики, перемещающиеся по кругу через каждые 30 секу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ким образом, они успевают проговорить за несколько минут несколько тем и постараться убедить в своей правоте собеседника. Прекрасно отрабатываются диалоги этикетного характера, тема знакомство, национальности, разговор в общественном месте и т.д. Ребята увлеченно беседуют, занятие проходит динамично и результативн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116000" y="85680"/>
            <a:ext cx="7699320" cy="2260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826920" y="2707920"/>
            <a:ext cx="7561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полагает движение учеников по всему классу с целью сбора информации по предложенной теме. Каждый участник получает лист с перечнем вопросов-заданий. Учитель помогает формулировать вопросы и ответы, следит, чтобы взаимодействие велось на английском язык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686800" cy="1932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610920" y="1773360"/>
            <a:ext cx="79930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тям предлагается прочитать незаконченное предложение и быстро продолжить его любыми словами, первой пришедшей в голову мыслью. Предложения начинаются весьма неопределенно, поэтому у ребят практически неограниченные возможности закончить его. Они касаются различных жизненных сфер и могут охватывать любые тем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04920" y="371520"/>
            <a:ext cx="8686800" cy="1328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04920" y="1268280"/>
            <a:ext cx="8686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  языкового образования требует  постоянного обновления и модификации содержательного и процессуального компонентов  обучения. Системообразующим фактором здесь выступает человек с его ценностно-целевыми установками, интересами и потребностями в сложном меняющемся мире. В этом ракурсе проблемное обучение  в целом способствует эффективному развитию интеллектуальной сферы учащихся, адаптивных качеств личности, необходимых для самоопределения в обществе и  осознанного выбора путей реализации перспектив своего развития. Проблемное обучение направлено  на развитие творческих способностей школьников, их учебной и научно-поисковой активности.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обобщения представляемого опыта исследую  способы использования проблемных заданий на уроках, способы построения иноязычных развивающих упражнений, варьирования методической тактики учителя при выборе и использовании задач в зависимости от конкретных условий иноязычного учебного общения.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педагогического опыта лежат идеи В.В. Сафоновой, Е.Н. Солововой, Ж. Пиаже, Ф. Фребель, З. И. Истоминой, Р. И. Жуковской, Л. С. Выготского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95280" y="83664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Сафонова отмечает, что «проблемное обучение иностранному языку» можно определить как деятельность учителя по созданию и использованию на различных стадиях обучения иноязычных заданий, направленных на  активизацию мыслительной и речемыслительной деятельности учащихся в процессе овладения социокультурными знаниями и умениями, речевыми навыками и коммуникативно-речевыми умениями. Тогда, проблемное учение применительно к иностранному языку можно определить как иноязычную деятельность учащихся по овладению речевыми навыками коммуникативно-речевыми умениями в комплексе с навыками и умениями творческой индивидуальной и коллективной деятельности посредством систематического решения познавательно-поисковых, коммуникативно-познавательных, коммуникативно-речевых  задач при порождении устного и письменного текста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1262160" y="109440"/>
            <a:ext cx="6510240" cy="1500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755280" y="1557000"/>
            <a:ext cx="7777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ается в разработке алгоритма и создание условий для применения системы проблемных заданий, способствующих формированию коммуникативно-речевых умений учащихся основной школ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опыта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является в том, что он может быть использован учителями всех типов школ, преподающих английский язык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педагогическая идея опыта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лючается в использовании разработанной системы проблемных заданий на уроках английского языка языка в 2-5 классах как средства достижения необходимого уровня коммуникативно-речевых умений школьников, поскольку ее применение способствует: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ю мотивации учащихся к овладению иностранными языками;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ю мыслительной активности учащихся, расширению     сферы иноязычного общения;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ю коммуникативно-речевых умений.</a:t>
            </a:r>
            <a:br>
              <a:rPr sz="1500"/>
            </a:b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09480" y="12600"/>
            <a:ext cx="8077320" cy="1932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10920" y="1628640"/>
            <a:ext cx="77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та над опытом составляет  1 год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нный период условно можно разделить на три этапа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Выявление противоречий, актуализирующих тему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Реализация заявленной цели опыта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Обобщение накопленного материала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пазон опыт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пазон опыта включает в себя единую систему уроков и представлен дидактической системой работы учителя, структурными компонентами которой являются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Диагностика сформированности коммуникативно-речевых умений учащихся основной школы. 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Создание психолого-педагогических условий для достижения необходимого уровня сформированности коммуникативно-речевых умений учащихся основной школы в процессе использования системы проблемных заданий. 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792440" y="4267080"/>
            <a:ext cx="6656400" cy="1249560"/>
          </a:xfrm>
          <a:prstGeom prst="rect">
            <a:avLst/>
          </a:prstGeom>
          <a:ln w="0">
            <a:noFill/>
          </a:ln>
        </p:spPr>
      </p:pic>
      <p:pic>
        <p:nvPicPr>
          <p:cNvPr id="217" name="Объект 2" descr=""/>
          <p:cNvPicPr/>
          <p:nvPr/>
        </p:nvPicPr>
        <p:blipFill>
          <a:blip r:embed="rId2"/>
          <a:stretch/>
        </p:blipFill>
        <p:spPr>
          <a:xfrm>
            <a:off x="938160" y="701640"/>
            <a:ext cx="6742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1401840" y="182520"/>
            <a:ext cx="6516720" cy="1500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116000" y="1699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rebuchet MS"/>
              </a:rPr>
              <a:t>1.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http://kuvmetodist.ucoz.ru -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нновационные технологии при внедрении ФГОС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.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ttp://www.bibliofond.ru/view.aspx -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гровые технолог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.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ttp://shkolazhizni.ru –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 такое развивающее обучение? Инновационные методики обуче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4.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ttp://kopsch45.narod.ru –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облемное обуч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5.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ttp://copy.yandex.net –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ТД в школ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4360" y="105264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зируя результаты своей педагогической деятельности, опыт коллег, рекомендации, которые даются в методической литературе, я пришла к выводу, что на одних вопросно-ответных упражнениях, чтении вслух, переводе и механическом пересказывании прочитанного вряд ли можно создать условия для адекватного развития коммуникативно-речевых умений учащихся. Поэтому на каждом уроке стараюсь использовать интерактивные технологии 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520"/>
            <a:ext cx="7705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перь при подготовке к уроку учитель затрачивает почти в два раза больше времени по сравнению с прошлыми учебными годами. Если раньше пытались выполнить то, что запланировали, то теперь нужно организовать деятельность детей. Форма урока преимущественно групповая или индивидуальная. Результаты обучения не только предметные, но и личностные, метапредметные. Ориентир на самооценку обучающегося, формирование адекватной самооценки. Учет динамики результатов обучения детей относительно самих себя. Оценка промежуточных результатов обучени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755640" y="42840"/>
            <a:ext cx="7559640" cy="1500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99640" y="1341000"/>
            <a:ext cx="77043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заимовлияние и взаимопроникновение культур, международное сотрудничество и партнерство стали неотъемлемой чертой существования человечеств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овременном обществе молодые люди должны уметь находить и эффективно извлекать информацию, в том числе и на иностранном языке, а также быть готовыми к общению в иноязычной среде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уя систему проблемных заданий, учитель получает возможность стимулировать интерес учащихся к общению, так как данные задания способны апеллировать к чувствам учащихся, их жизненному опыту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большой опыт преподавания позволил увидеть, что использование традиционных педагогических технологий не является достаточным для разрешения противоречий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жду необходимостью формирования коммуникативно-речевых умений учащихся основной школы и отсутствием разработанной системы проблемных заданий в используемом УМК;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жду созданием условий для применения полученных знаний в нестандартных, творческих видах деятельности и традиционным подходом к образованию, основанном на усвоении готовых знаний и их воспроизведении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901800" y="-176040"/>
            <a:ext cx="6510240" cy="1498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68000" y="1483920"/>
            <a:ext cx="806436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й деятельности является обеспечение положительной динамики сформированности коммуникативно-речевых умений говорения учащихся в учебно-познавательной деятельности на уроках английского языка посредством применения системы проблемных задани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ланируемых результатов предполагает решение задач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овладения учащимися определенным объемом разнообразных предметных знаний, необходимых и достаточных для успешного разрешения проблемных заданий, посредством которых формируются коммуникативно-речевые ум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проблемных заданий, способствующих развитию коммуникативно-речевых умений говорения учащих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знообразных методов, средств, приемов обучения для повышения мотивации к изучению английского языка и качества знаний учащихся по предмету.</a:t>
            </a:r>
            <a:br>
              <a:rPr sz="900"/>
            </a:b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9280" y="731880"/>
            <a:ext cx="79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азвивать у учащихся коммуникативные умения вне языкового окружения, недостаточно насытить урок условно-коммуникативными или коммуникативными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ажнениями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ющими решать коммуникативные задачи. Важно предоставить им возможность мыслить, решать какие-то проблемы, которые порождают мысли, рассуждать над возможными путями решения этих проблем с тем, чтобы учащиеся акцентировали внимание на содержании своего высказывания, чтобы в центре внимания была мысль, а язык выступал в своей прямой функции - формирования и формулирования этих мыслей.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116000" y="42840"/>
            <a:ext cx="7418520" cy="217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26560" y="1916280"/>
            <a:ext cx="741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ть интерактивного обучения состоит в том, что учебный процесс организован таким образом, что практически все учащиеся оказываются вовлеченными в процесс познания, они имеют возможность понимать и рефлектировать по поводу того, что они знают и думаю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терактивные технологии предполагают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логовое общение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обретение самостоятельно добытого пережитого знания и умен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критического мышлен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умения решать проблемы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плексное взаимодействие ЗУН на уровне мышления, воспроизведения, восприят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ние личностных качеств учащихс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096920" y="-60480"/>
            <a:ext cx="7291440" cy="2559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971640" y="2276640"/>
            <a:ext cx="73454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Творческие задания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Работа в малых группах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Обучающие игры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Ролевые игры и имитации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Деловые игры и моделирование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Образовательные игры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спользование общественных ресурсов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Приглашение специалист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Экскурсии Социальные проекты и другие внеаудиторные методы    обучения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Социальные проекты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Соревнования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Радио и газеты Фильмы, спектакли, выставки, представления, песни и сказки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9:30:03Z</dcterms:created>
  <dc:creator>Даши</dc:creator>
  <dc:description/>
  <dc:language>en-US</dc:language>
  <cp:lastModifiedBy>Пользователь</cp:lastModifiedBy>
  <dcterms:modified xsi:type="dcterms:W3CDTF">2017-02-07T10:36:20Z</dcterms:modified>
  <cp:revision>24</cp:revision>
  <dc:subject/>
  <dc:title>Аракчаа Салим Марсельович</dc:title>
</cp:coreProperties>
</file>