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E4A-452F-4869-8DEA-1C047395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A23-F95F-43AA-A62D-B5D4DFB0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668-D212-475C-B95A-76D3335A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A77-FBA7-4410-A03B-8FA63B94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75D-A12A-4343-9CF4-1D9846C9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844-17AE-4F5E-8F13-CC5277CC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196-A07F-4369-AB35-D8824C68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F42-EF4F-404E-BB95-0B7262C3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DEC-DC58-4071-8BB6-0ECAEEE8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319-456E-44DC-AE43-6E7DA781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85A-65FA-480F-8FF4-328288D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116-E6A2-4943-A42E-A7B42E9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4C40-79CE-48DE-BE46-E2AC88B4B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image" Target="../media/image7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ика формирования понимания абстрактности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МАДОУ №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барова Марин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ом расстоянии  расположены круги и квадр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но о них сказ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 бол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мен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точно у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коль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2 часть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детей карточки 3  , на каждой нарисовано по 5 кру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ите на эти карточки и скажите , что в них одинаков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- поровну ли кругов на карточ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дет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ить круги сначала на карточку, где расстояние между кругами меньш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читайте сколько кругов на ней нарисов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эти же круги наложите на карточки, где расстояние между кругами больш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размеры кар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ьмите 4 красных круга и расположите вплотную( близ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9680" y="1428840"/>
            <a:ext cx="81867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синих круга с некоторым расстоянием между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 : количество предметов, занимающих различное пространство и расположенных разном способом, может быть рав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предметов не зависит от их распо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14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42a"/>
                </a:solidFill>
                <a:latin typeface="Arial"/>
              </a:rPr>
              <a:t>Можно ли проверить прилож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Независимость от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740720" y="357336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7740720" y="177336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012000" y="364500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77080" y="270828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940360" y="170028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539640" y="2349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1619280" y="2349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2700360" y="2205000"/>
            <a:ext cx="1057320" cy="100008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3780000" y="2205000"/>
            <a:ext cx="1056960" cy="100008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4859280" y="2205000"/>
            <a:ext cx="1057320" cy="100008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00360" y="4436640"/>
            <a:ext cx="7164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 rot="2674800">
            <a:off x="1763640" y="475920"/>
            <a:ext cx="93672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 rot="2737800">
            <a:off x="1728000" y="1809000"/>
            <a:ext cx="93672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 rot="2737800">
            <a:off x="1654920" y="3177360"/>
            <a:ext cx="93672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 rot="2737800">
            <a:off x="1654920" y="4545720"/>
            <a:ext cx="93672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 rot="5400000">
            <a:off x="5364000" y="1915920"/>
            <a:ext cx="93636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 rot="5400000">
            <a:off x="6300720" y="981000"/>
            <a:ext cx="93672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rot="5400000">
            <a:off x="7235640" y="1916280"/>
            <a:ext cx="936360" cy="93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300720" y="2923920"/>
            <a:ext cx="93636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 формы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квадратов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располож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реугольников…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но о них сказ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Вывод: геометрические фигуры разные но их поровну 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</a:rPr>
              <a:t>Независимость числа от пространственного рас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11280" y="2492280"/>
            <a:ext cx="13460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411280" y="2492280"/>
            <a:ext cx="9874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2492280"/>
            <a:ext cx="100800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148360" y="2492280"/>
            <a:ext cx="100800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6659640" y="2492280"/>
            <a:ext cx="107928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1116000" y="256536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2556000" y="2708280"/>
            <a:ext cx="21564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2556000" y="3357720"/>
            <a:ext cx="21564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4067280" y="2637000"/>
            <a:ext cx="21564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3851280" y="342900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4284720" y="342900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5292720" y="2637000"/>
            <a:ext cx="21600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8"/>
          <p:cNvSpPr/>
          <p:nvPr/>
        </p:nvSpPr>
        <p:spPr>
          <a:xfrm>
            <a:off x="684360" y="2565360"/>
            <a:ext cx="21564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39"/>
          <p:cNvSpPr/>
          <p:nvPr/>
        </p:nvSpPr>
        <p:spPr>
          <a:xfrm>
            <a:off x="1619280" y="256536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46"/>
          <p:cNvSpPr/>
          <p:nvPr/>
        </p:nvSpPr>
        <p:spPr>
          <a:xfrm>
            <a:off x="2916360" y="3357720"/>
            <a:ext cx="21564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7"/>
          <p:cNvSpPr/>
          <p:nvPr/>
        </p:nvSpPr>
        <p:spPr>
          <a:xfrm>
            <a:off x="5292720" y="314172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3"/>
          <p:cNvSpPr/>
          <p:nvPr/>
        </p:nvSpPr>
        <p:spPr>
          <a:xfrm>
            <a:off x="5292720" y="378936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9"/>
          <p:cNvSpPr/>
          <p:nvPr/>
        </p:nvSpPr>
        <p:spPr>
          <a:xfrm>
            <a:off x="6877080" y="2637000"/>
            <a:ext cx="21600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6659640" y="2492280"/>
            <a:ext cx="107928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1"/>
          <p:cNvSpPr/>
          <p:nvPr/>
        </p:nvSpPr>
        <p:spPr>
          <a:xfrm>
            <a:off x="6877080" y="2637000"/>
            <a:ext cx="216000" cy="21564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2"/>
          <p:cNvSpPr/>
          <p:nvPr/>
        </p:nvSpPr>
        <p:spPr>
          <a:xfrm>
            <a:off x="6659640" y="2492280"/>
            <a:ext cx="107928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6"/>
          <p:cNvSpPr/>
          <p:nvPr/>
        </p:nvSpPr>
        <p:spPr>
          <a:xfrm>
            <a:off x="7380360" y="256536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7"/>
          <p:cNvSpPr/>
          <p:nvPr/>
        </p:nvSpPr>
        <p:spPr>
          <a:xfrm>
            <a:off x="7164360" y="306864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8"/>
          <p:cNvSpPr/>
          <p:nvPr/>
        </p:nvSpPr>
        <p:spPr>
          <a:xfrm>
            <a:off x="6948360" y="3789360"/>
            <a:ext cx="216000" cy="216000"/>
          </a:xfrm>
          <a:prstGeom prst="ellipse">
            <a:avLst/>
          </a:prstGeom>
          <a:solidFill>
            <a:srgbClr val="fc14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Методика ознакомления с порядковым сч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ь наглядного матери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о состоит из разных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Независимость числа от ц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2692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90800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35600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50872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190800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3203640" y="2205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357120" y="1643040"/>
            <a:ext cx="82155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4"/>
          <p:cNvSpPr/>
          <p:nvPr/>
        </p:nvSpPr>
        <p:spPr>
          <a:xfrm>
            <a:off x="826920" y="3500280"/>
            <a:ext cx="914400" cy="914400"/>
          </a:xfrm>
          <a:prstGeom prst="rect">
            <a:avLst/>
          </a:prstGeom>
          <a:solidFill>
            <a:srgbClr val="fc14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1979640" y="3500280"/>
            <a:ext cx="914400" cy="914400"/>
          </a:xfrm>
          <a:prstGeom prst="rect">
            <a:avLst/>
          </a:prstGeom>
          <a:solidFill>
            <a:srgbClr val="fc14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3132000" y="3500280"/>
            <a:ext cx="914400" cy="914400"/>
          </a:xfrm>
          <a:prstGeom prst="rect">
            <a:avLst/>
          </a:prstGeom>
          <a:solidFill>
            <a:srgbClr val="fc14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4284720" y="3500280"/>
            <a:ext cx="914400" cy="914400"/>
          </a:xfrm>
          <a:prstGeom prst="rect">
            <a:avLst/>
          </a:prstGeom>
          <a:solidFill>
            <a:srgbClr val="fc14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5580000" y="3500280"/>
            <a:ext cx="914400" cy="914400"/>
          </a:xfrm>
          <a:prstGeom prst="rect">
            <a:avLst/>
          </a:prstGeom>
          <a:solidFill>
            <a:srgbClr val="fc14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Средняя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м детей понимать значение порядковых числительных- мотивацию использования порядкового  сч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е название и использование порядковых числительных- первый, второй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ение вопросов: « сколько?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который?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имание различных формулировок вопросов: «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торый?», « какой по порядку?», «на котором месте?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« какой по счету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i?id=25631702&amp;tov=4"/>
          <p:cNvPicPr/>
          <p:nvPr/>
        </p:nvPicPr>
        <p:blipFill>
          <a:blip r:embed="rId1"/>
          <a:stretch/>
        </p:blipFill>
        <p:spPr>
          <a:xfrm>
            <a:off x="826920" y="2852640"/>
            <a:ext cx="125748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97417187&amp;tov=5"/>
          <p:cNvPicPr/>
          <p:nvPr/>
        </p:nvPicPr>
        <p:blipFill>
          <a:blip r:embed="rId2"/>
          <a:stretch/>
        </p:blipFill>
        <p:spPr>
          <a:xfrm>
            <a:off x="2857680" y="2857680"/>
            <a:ext cx="1019160" cy="139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52461944&amp;tov=5"/>
          <p:cNvPicPr/>
          <p:nvPr/>
        </p:nvPicPr>
        <p:blipFill>
          <a:blip r:embed="rId3"/>
          <a:stretch/>
        </p:blipFill>
        <p:spPr>
          <a:xfrm>
            <a:off x="5435640" y="2924280"/>
            <a:ext cx="15843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аких их можно назвать одним сло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Сколько …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Как нужно считать чтобы ответить на вопрос сколь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А чтобы ответить на вопрос котор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82580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зависимость числа от пространственного распо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м считать предметы в замкнутом простран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м считать предметы, расположенные по кругу, квадрате, треугольнике, прямоуголь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полугод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Овал 3"/>
          <p:cNvSpPr/>
          <p:nvPr/>
        </p:nvSpPr>
        <p:spPr>
          <a:xfrm>
            <a:off x="1785960" y="1357200"/>
            <a:ext cx="5286240" cy="5000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Равнобедренный треугольник 5"/>
          <p:cNvSpPr/>
          <p:nvPr/>
        </p:nvSpPr>
        <p:spPr>
          <a:xfrm>
            <a:off x="4429080" y="17146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Равнобедренный треугольник 13"/>
          <p:cNvSpPr/>
          <p:nvPr/>
        </p:nvSpPr>
        <p:spPr>
          <a:xfrm>
            <a:off x="5572080" y="27860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4"/>
          <p:cNvSpPr/>
          <p:nvPr/>
        </p:nvSpPr>
        <p:spPr>
          <a:xfrm>
            <a:off x="5286240" y="4214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Равнобедренный треугольник 15"/>
          <p:cNvSpPr/>
          <p:nvPr/>
        </p:nvSpPr>
        <p:spPr>
          <a:xfrm>
            <a:off x="4071960" y="45720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Равнобедренный треугольник 16"/>
          <p:cNvSpPr/>
          <p:nvPr/>
        </p:nvSpPr>
        <p:spPr>
          <a:xfrm>
            <a:off x="2714760" y="428616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Равнобедренный треугольник 17"/>
          <p:cNvSpPr/>
          <p:nvPr/>
        </p:nvSpPr>
        <p:spPr>
          <a:xfrm>
            <a:off x="2214720" y="30718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Равнобедренный треугольник 18"/>
          <p:cNvSpPr/>
          <p:nvPr/>
        </p:nvSpPr>
        <p:spPr>
          <a:xfrm>
            <a:off x="3000240" y="178596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ю на зам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Считаем по часовой стрел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предмет обязательно должен  иметь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отличительный признак-ц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выделенный предмет не должен находиться на одном месте, его необходимо перем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читать  с выделенного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 закрепления счета в геометрических фигу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агаем предметы в виде фигур на фланелеграфе- какой  демонстрационный материал можно использ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Один предмет с отличительным признаком, считаем по часовой стрел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147040" y="1662480"/>
            <a:ext cx="4849920" cy="3890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Равнобедренный треугольник 4"/>
          <p:cNvSpPr/>
          <p:nvPr/>
        </p:nvSpPr>
        <p:spPr>
          <a:xfrm>
            <a:off x="5072040" y="13572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Равнобедренный треугольник 5"/>
          <p:cNvSpPr/>
          <p:nvPr/>
        </p:nvSpPr>
        <p:spPr>
          <a:xfrm>
            <a:off x="6000840" y="264312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Равнобедренный треугольник 6"/>
          <p:cNvSpPr/>
          <p:nvPr/>
        </p:nvSpPr>
        <p:spPr>
          <a:xfrm>
            <a:off x="5857920" y="43578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Равнобедренный треугольник 7"/>
          <p:cNvSpPr/>
          <p:nvPr/>
        </p:nvSpPr>
        <p:spPr>
          <a:xfrm>
            <a:off x="4429080" y="47862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Равнобедренный треугольник 8"/>
          <p:cNvSpPr/>
          <p:nvPr/>
        </p:nvSpPr>
        <p:spPr>
          <a:xfrm>
            <a:off x="2786040" y="44290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Равнобедренный треугольник 9"/>
          <p:cNvSpPr/>
          <p:nvPr/>
        </p:nvSpPr>
        <p:spPr>
          <a:xfrm>
            <a:off x="1571760" y="257184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Равнобедренный треугольник 12"/>
          <p:cNvSpPr/>
          <p:nvPr/>
        </p:nvSpPr>
        <p:spPr>
          <a:xfrm>
            <a:off x="2857680" y="13572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3"/>
          <p:cNvSpPr/>
          <p:nvPr/>
        </p:nvSpPr>
        <p:spPr>
          <a:xfrm>
            <a:off x="500040" y="357120"/>
            <a:ext cx="8215200" cy="607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C:\Documents and Settings\1\Мои документы\Мои рисунки\гномик.jpg"/>
          <p:cNvPicPr/>
          <p:nvPr/>
        </p:nvPicPr>
        <p:blipFill>
          <a:blip r:embed="rId2"/>
          <a:stretch/>
        </p:blipFill>
        <p:spPr>
          <a:xfrm>
            <a:off x="7000920" y="571680"/>
            <a:ext cx="961920" cy="13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Documents and Settings\1\Мои документы\Мои рисунки\гномик.jpg"/>
          <p:cNvPicPr/>
          <p:nvPr/>
        </p:nvPicPr>
        <p:blipFill>
          <a:blip r:embed="rId3"/>
          <a:stretch/>
        </p:blipFill>
        <p:spPr>
          <a:xfrm>
            <a:off x="7429680" y="2500200"/>
            <a:ext cx="961920" cy="1352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Documents and Settings\1\Мои документы\Мои рисунки\гномик.jpg"/>
          <p:cNvPicPr/>
          <p:nvPr/>
        </p:nvPicPr>
        <p:blipFill>
          <a:blip r:embed="rId4"/>
          <a:stretch/>
        </p:blipFill>
        <p:spPr>
          <a:xfrm>
            <a:off x="7358040" y="4643280"/>
            <a:ext cx="961920" cy="1352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1\Мои документы\Мои рисунки\гномик.jpg"/>
          <p:cNvPicPr/>
          <p:nvPr/>
        </p:nvPicPr>
        <p:blipFill>
          <a:blip r:embed="rId5"/>
          <a:stretch/>
        </p:blipFill>
        <p:spPr>
          <a:xfrm>
            <a:off x="5286240" y="4643280"/>
            <a:ext cx="962280" cy="1352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1\Мои документы\Мои рисунки\гномик.jpg"/>
          <p:cNvPicPr/>
          <p:nvPr/>
        </p:nvPicPr>
        <p:blipFill>
          <a:blip r:embed="rId6"/>
          <a:stretch/>
        </p:blipFill>
        <p:spPr>
          <a:xfrm>
            <a:off x="3071880" y="4714920"/>
            <a:ext cx="961920" cy="1352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1\Мои документы\Мои рисунки\гномик.jpg"/>
          <p:cNvPicPr/>
          <p:nvPr/>
        </p:nvPicPr>
        <p:blipFill>
          <a:blip r:embed="rId7"/>
          <a:stretch/>
        </p:blipFill>
        <p:spPr>
          <a:xfrm>
            <a:off x="1285920" y="4643280"/>
            <a:ext cx="961920" cy="1352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1\Мои документы\Мои рисунки\гномик.jpg"/>
          <p:cNvPicPr/>
          <p:nvPr/>
        </p:nvPicPr>
        <p:blipFill>
          <a:blip r:embed="rId8"/>
          <a:stretch/>
        </p:blipFill>
        <p:spPr>
          <a:xfrm>
            <a:off x="785880" y="2357280"/>
            <a:ext cx="961920" cy="1352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Documents and Settings\1\Мои документы\Мои рисунки\гномик.jpg"/>
          <p:cNvPicPr/>
          <p:nvPr/>
        </p:nvPicPr>
        <p:blipFill>
          <a:blip r:embed="rId9"/>
          <a:stretch/>
        </p:blipFill>
        <p:spPr>
          <a:xfrm>
            <a:off x="1571760" y="642960"/>
            <a:ext cx="961920" cy="135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Documents and Settings\1\Мои документы\Мои рисунки\гномик.jpg"/>
          <p:cNvPicPr/>
          <p:nvPr/>
        </p:nvPicPr>
        <p:blipFill>
          <a:blip r:embed="rId10"/>
          <a:stretch/>
        </p:blipFill>
        <p:spPr>
          <a:xfrm>
            <a:off x="3857760" y="642960"/>
            <a:ext cx="961920" cy="135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1\Мои документы\Мои рисунки\7мяч.jpg"/>
          <p:cNvPicPr/>
          <p:nvPr/>
        </p:nvPicPr>
        <p:blipFill>
          <a:blip r:embed="rId11"/>
          <a:stretch/>
        </p:blipFill>
        <p:spPr>
          <a:xfrm>
            <a:off x="623880" y="3267000"/>
            <a:ext cx="5191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Вопрос задаем по призна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о цвету  квадраты на верхней и нижней полос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олубых и красных квадра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но о них сказ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ов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ные карточки- любой формы, с разным количеством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Сосчитай сколько здесь предме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0150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ь считать 3 множества разных предметов и устанавливать равенство между ни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Documents and Settings\1\Мои документы\Мои рисунки\матрешка.jpg"/>
          <p:cNvPicPr/>
          <p:nvPr/>
        </p:nvPicPr>
        <p:blipFill>
          <a:blip r:embed="rId2"/>
          <a:stretch/>
        </p:blipFill>
        <p:spPr>
          <a:xfrm>
            <a:off x="928800" y="1428840"/>
            <a:ext cx="809640" cy="134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Documents and Settings\1\Мои документы\Мои рисунки\голубой.jpg"/>
          <p:cNvPicPr/>
          <p:nvPr/>
        </p:nvPicPr>
        <p:blipFill>
          <a:blip r:embed="rId3"/>
          <a:stretch/>
        </p:blipFill>
        <p:spPr>
          <a:xfrm>
            <a:off x="785880" y="3071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Documents and Settings\1\Мои документы\Мои рисунки\пес.jpg"/>
          <p:cNvPicPr/>
          <p:nvPr/>
        </p:nvPicPr>
        <p:blipFill>
          <a:blip r:embed="rId4"/>
          <a:stretch/>
        </p:blipFill>
        <p:spPr>
          <a:xfrm>
            <a:off x="571680" y="442908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Documents and Settings\1\Мои документы\Мои рисунки\матрешка.jpg"/>
          <p:cNvPicPr/>
          <p:nvPr/>
        </p:nvPicPr>
        <p:blipFill>
          <a:blip r:embed="rId5"/>
          <a:stretch/>
        </p:blipFill>
        <p:spPr>
          <a:xfrm>
            <a:off x="2071800" y="1428840"/>
            <a:ext cx="809640" cy="1342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Documents and Settings\1\Мои документы\Мои рисунки\матрешка.jpg"/>
          <p:cNvPicPr/>
          <p:nvPr/>
        </p:nvPicPr>
        <p:blipFill>
          <a:blip r:embed="rId6"/>
          <a:stretch/>
        </p:blipFill>
        <p:spPr>
          <a:xfrm>
            <a:off x="3357720" y="1428840"/>
            <a:ext cx="809640" cy="1342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1\Мои документы\Мои рисунки\матрешка.jpg"/>
          <p:cNvPicPr/>
          <p:nvPr/>
        </p:nvPicPr>
        <p:blipFill>
          <a:blip r:embed="rId7"/>
          <a:stretch/>
        </p:blipFill>
        <p:spPr>
          <a:xfrm>
            <a:off x="4714920" y="1428840"/>
            <a:ext cx="809640" cy="1342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1\Мои документы\Мои рисунки\голубой.jpg"/>
          <p:cNvPicPr/>
          <p:nvPr/>
        </p:nvPicPr>
        <p:blipFill>
          <a:blip r:embed="rId8"/>
          <a:stretch/>
        </p:blipFill>
        <p:spPr>
          <a:xfrm>
            <a:off x="1928880" y="3071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Documents and Settings\1\Мои документы\Мои рисунки\голубой.jpg"/>
          <p:cNvPicPr/>
          <p:nvPr/>
        </p:nvPicPr>
        <p:blipFill>
          <a:blip r:embed="rId9"/>
          <a:stretch/>
        </p:blipFill>
        <p:spPr>
          <a:xfrm>
            <a:off x="3143160" y="30002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1\Мои документы\Мои рисунки\голубой.jpg"/>
          <p:cNvPicPr/>
          <p:nvPr/>
        </p:nvPicPr>
        <p:blipFill>
          <a:blip r:embed="rId10"/>
          <a:stretch/>
        </p:blipFill>
        <p:spPr>
          <a:xfrm>
            <a:off x="4572000" y="3071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1\Мои документы\Мои рисунки\пес.jpg"/>
          <p:cNvPicPr/>
          <p:nvPr/>
        </p:nvPicPr>
        <p:blipFill>
          <a:blip r:embed="rId11"/>
          <a:stretch/>
        </p:blipFill>
        <p:spPr>
          <a:xfrm>
            <a:off x="1785960" y="4357800"/>
            <a:ext cx="1076400" cy="1076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Documents and Settings\1\Мои документы\Мои рисунки\пес.jpg"/>
          <p:cNvPicPr/>
          <p:nvPr/>
        </p:nvPicPr>
        <p:blipFill>
          <a:blip r:embed="rId12"/>
          <a:stretch/>
        </p:blipFill>
        <p:spPr>
          <a:xfrm>
            <a:off x="3143160" y="44290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Documents and Settings\1\Мои документы\Мои рисунки\пес.jpg"/>
          <p:cNvPicPr/>
          <p:nvPr/>
        </p:nvPicPr>
        <p:blipFill>
          <a:blip r:embed="rId13"/>
          <a:stretch/>
        </p:blipFill>
        <p:spPr>
          <a:xfrm>
            <a:off x="4429080" y="442908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к дет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й сколько 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 них можно сказ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колько 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 : предметы разные , но их поровну по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часть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детям: на 1больше или меньше чем у воспит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дактическая игра на 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Найди столько ж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ные карточки- 3,4,5 предметов на каждой карточ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3"/>
          <p:cNvSpPr/>
          <p:nvPr/>
        </p:nvSpPr>
        <p:spPr>
          <a:xfrm>
            <a:off x="1357200" y="1643040"/>
            <a:ext cx="6715080" cy="400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Documents and Settings\1\Мои документы\Мои рисунки\м3.jpg"/>
          <p:cNvPicPr/>
          <p:nvPr/>
        </p:nvPicPr>
        <p:blipFill>
          <a:blip r:embed="rId2"/>
          <a:stretch/>
        </p:blipFill>
        <p:spPr>
          <a:xfrm>
            <a:off x="1357200" y="19288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Documents and Settings\1\Мои документы\Мои рисунки\м3.jpg"/>
          <p:cNvPicPr/>
          <p:nvPr/>
        </p:nvPicPr>
        <p:blipFill>
          <a:blip r:embed="rId3"/>
          <a:stretch/>
        </p:blipFill>
        <p:spPr>
          <a:xfrm>
            <a:off x="3500280" y="192888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Documents and Settings\1\Мои документы\Мои рисунки\м3.jpg"/>
          <p:cNvPicPr/>
          <p:nvPr/>
        </p:nvPicPr>
        <p:blipFill>
          <a:blip r:embed="rId4"/>
          <a:stretch/>
        </p:blipFill>
        <p:spPr>
          <a:xfrm>
            <a:off x="5624640" y="1981080"/>
            <a:ext cx="17334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на столе 2 карточки  с таким же количеством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или что на карто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но о них 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колько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лож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детей карточки с разным колич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показывает карточку с 5 предме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кого столько же покажите мне карто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ые предметы – делятся на несколько ча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28400" y="1500120"/>
            <a:ext cx="82580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ение круга на 2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лядный материал: 2 круга.Д-15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-кол-во частей(дроб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- сравниваем части и це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- делятся геом.фиг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3"/>
          <p:cNvSpPr/>
          <p:nvPr/>
        </p:nvSpPr>
        <p:spPr>
          <a:xfrm>
            <a:off x="1285920" y="4429080"/>
            <a:ext cx="1928880" cy="1714680"/>
          </a:xfrm>
          <a:prstGeom prst="ellipse">
            <a:avLst/>
          </a:prstGeom>
          <a:solidFill>
            <a:srgbClr val="9933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4"/>
          <p:cNvSpPr/>
          <p:nvPr/>
        </p:nvSpPr>
        <p:spPr>
          <a:xfrm>
            <a:off x="3929040" y="4357800"/>
            <a:ext cx="1714680" cy="17143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спитателю на  зам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делить реальные предметы: яблоки, хлеб, торт, ово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ьные плоские предметы четкой знакомой формы: ленты, лист , бума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 геометрических фиг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  говорить: « пополам» а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пополам» « равные части» а не «ровные час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Независимость от размера пред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 такое велич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1835280" y="2276640"/>
            <a:ext cx="129672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468360" y="2276640"/>
            <a:ext cx="129708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203640" y="2276640"/>
            <a:ext cx="129708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572000" y="2349360"/>
            <a:ext cx="1297080" cy="134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8101080" y="2852640"/>
            <a:ext cx="6490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7380360" y="2852640"/>
            <a:ext cx="6490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6732720" y="2852640"/>
            <a:ext cx="6490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6012000" y="2852640"/>
            <a:ext cx="6490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круг складываем пополам, половина круга, сравниваем половину  круга с целым и устанавливаем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,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Хорда 3"/>
          <p:cNvSpPr/>
          <p:nvPr/>
        </p:nvSpPr>
        <p:spPr>
          <a:xfrm rot="1473600">
            <a:off x="1220760" y="4292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780489" y="780489"/>
                </a:moveTo>
                <a:cubicBezTo>
                  <a:pt x="634166" y="926812"/>
                  <a:pt x="407808" y="956612"/>
                  <a:pt x="228600" y="853147"/>
                </a:cubicBezTo>
                <a:cubicBezTo>
                  <a:pt x="49392" y="749681"/>
                  <a:pt x="-37979" y="538748"/>
                  <a:pt x="15579" y="338868"/>
                </a:cubicBezTo>
                <a:cubicBezTo>
                  <a:pt x="69137" y="138988"/>
                  <a:pt x="250269" y="0"/>
                  <a:pt x="457200" y="0"/>
                </a:cubicBezTo>
                <a:lnTo>
                  <a:pt x="780489" y="780489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4"/>
          <p:cNvSpPr/>
          <p:nvPr/>
        </p:nvSpPr>
        <p:spPr>
          <a:xfrm>
            <a:off x="3357720" y="4214880"/>
            <a:ext cx="1000080" cy="1000080"/>
          </a:xfrm>
          <a:prstGeom prst="ellipse">
            <a:avLst/>
          </a:prstGeom>
          <a:solidFill>
            <a:srgbClr val="9933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143000"/>
            <a:ext cx="80438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аточный материал- 2 круга разного цвета. д-5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аналогич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трукцию де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ять зеленый круг, складываем пополам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 какая часть больше, мень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одна ч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ение круга на 4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8400" y="1071720"/>
            <a:ext cx="8186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лядный матери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круга разного цвета(д-15см, раздаточный д-5с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м пополам, сравниваем с целым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ольше,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3"/>
          <p:cNvSpPr/>
          <p:nvPr/>
        </p:nvSpPr>
        <p:spPr>
          <a:xfrm>
            <a:off x="1071720" y="4643280"/>
            <a:ext cx="100008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4"/>
          <p:cNvSpPr/>
          <p:nvPr/>
        </p:nvSpPr>
        <p:spPr>
          <a:xfrm>
            <a:off x="2500200" y="4643280"/>
            <a:ext cx="100008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7"/>
          <p:cNvSpPr/>
          <p:nvPr/>
        </p:nvSpPr>
        <p:spPr>
          <a:xfrm>
            <a:off x="1569240" y="4645080"/>
            <a:ext cx="1800" cy="1000080"/>
          </a:xfrm>
          <a:prstGeom prst="line">
            <a:avLst/>
          </a:prstGeom>
          <a:ln w="9360">
            <a:solidFill>
              <a:srgbClr val="fc1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9"/>
          <p:cNvSpPr/>
          <p:nvPr/>
        </p:nvSpPr>
        <p:spPr>
          <a:xfrm>
            <a:off x="2998800" y="4645080"/>
            <a:ext cx="1440" cy="1000080"/>
          </a:xfrm>
          <a:prstGeom prst="line">
            <a:avLst/>
          </a:prstGeom>
          <a:ln w="57240">
            <a:solidFill>
              <a:srgbClr val="fc1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1"/>
          <p:cNvSpPr/>
          <p:nvPr/>
        </p:nvSpPr>
        <p:spPr>
          <a:xfrm flipV="1">
            <a:off x="2500200" y="5143680"/>
            <a:ext cx="1000080" cy="1440"/>
          </a:xfrm>
          <a:prstGeom prst="line">
            <a:avLst/>
          </a:prstGeom>
          <a:ln w="57240">
            <a:solidFill>
              <a:srgbClr val="fc1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ьмите круг – (даете инструкцию детям), сложите его пополам и еще раз попо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лась часть  круга- нельзя говорить четверти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ваем часть кру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Хорда 5"/>
          <p:cNvSpPr/>
          <p:nvPr/>
        </p:nvSpPr>
        <p:spPr>
          <a:xfrm rot="1473600">
            <a:off x="1292400" y="50781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780489" y="780489"/>
                </a:moveTo>
                <a:cubicBezTo>
                  <a:pt x="634166" y="926812"/>
                  <a:pt x="407808" y="956612"/>
                  <a:pt x="228600" y="853147"/>
                </a:cubicBezTo>
                <a:cubicBezTo>
                  <a:pt x="49392" y="749681"/>
                  <a:pt x="-37979" y="538748"/>
                  <a:pt x="15579" y="338868"/>
                </a:cubicBezTo>
                <a:cubicBezTo>
                  <a:pt x="69137" y="138988"/>
                  <a:pt x="250269" y="0"/>
                  <a:pt x="457200" y="0"/>
                </a:cubicBezTo>
                <a:lnTo>
                  <a:pt x="780489" y="780489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6"/>
          <p:cNvSpPr/>
          <p:nvPr/>
        </p:nvSpPr>
        <p:spPr>
          <a:xfrm>
            <a:off x="3357720" y="5072040"/>
            <a:ext cx="1000080" cy="1000080"/>
          </a:xfrm>
          <a:prstGeom prst="ellipse">
            <a:avLst/>
          </a:prstGeom>
          <a:solidFill>
            <a:srgbClr val="9933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трелка влево 7"/>
          <p:cNvSpPr/>
          <p:nvPr/>
        </p:nvSpPr>
        <p:spPr>
          <a:xfrm>
            <a:off x="2071800" y="550080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8"/>
          <p:cNvSpPr/>
          <p:nvPr/>
        </p:nvSpPr>
        <p:spPr>
          <a:xfrm>
            <a:off x="6929280" y="5143680"/>
            <a:ext cx="100044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0"/>
          <p:cNvSpPr/>
          <p:nvPr/>
        </p:nvSpPr>
        <p:spPr>
          <a:xfrm>
            <a:off x="7429680" y="5145120"/>
            <a:ext cx="1440" cy="1000080"/>
          </a:xfrm>
          <a:prstGeom prst="line">
            <a:avLst/>
          </a:prstGeom>
          <a:ln w="38160">
            <a:solidFill>
              <a:srgbClr val="fc1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12"/>
          <p:cNvSpPr/>
          <p:nvPr/>
        </p:nvSpPr>
        <p:spPr>
          <a:xfrm flipV="1">
            <a:off x="6928560" y="5643720"/>
            <a:ext cx="1000440" cy="1440"/>
          </a:xfrm>
          <a:prstGeom prst="line">
            <a:avLst/>
          </a:prstGeom>
          <a:ln w="9360">
            <a:solidFill>
              <a:srgbClr val="fc14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Хорда 15"/>
          <p:cNvSpPr/>
          <p:nvPr/>
        </p:nvSpPr>
        <p:spPr>
          <a:xfrm rot="1473600">
            <a:off x="5149800" y="5221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780489" y="780489"/>
                </a:moveTo>
                <a:cubicBezTo>
                  <a:pt x="634166" y="926812"/>
                  <a:pt x="407808" y="956612"/>
                  <a:pt x="228600" y="853147"/>
                </a:cubicBezTo>
                <a:cubicBezTo>
                  <a:pt x="49392" y="749681"/>
                  <a:pt x="-37979" y="538748"/>
                  <a:pt x="15579" y="338868"/>
                </a:cubicBezTo>
                <a:cubicBezTo>
                  <a:pt x="69137" y="138988"/>
                  <a:pt x="250269" y="0"/>
                  <a:pt x="457200" y="0"/>
                </a:cubicBezTo>
                <a:lnTo>
                  <a:pt x="780489" y="780489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999720"/>
            <a:ext cx="80438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ы про него зна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ите, какие фигуры я из него сдел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геометрические фигуры получи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ы знаете про треуголь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получилось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они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им квадр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2 и 4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3"/>
          <p:cNvSpPr/>
          <p:nvPr/>
        </p:nvSpPr>
        <p:spPr>
          <a:xfrm>
            <a:off x="1285920" y="2857680"/>
            <a:ext cx="1341360" cy="1271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4"/>
          <p:cNvSpPr/>
          <p:nvPr/>
        </p:nvSpPr>
        <p:spPr>
          <a:xfrm>
            <a:off x="3357720" y="2857680"/>
            <a:ext cx="1430280" cy="1271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5"/>
          <p:cNvSpPr/>
          <p:nvPr/>
        </p:nvSpPr>
        <p:spPr>
          <a:xfrm>
            <a:off x="5715000" y="2857680"/>
            <a:ext cx="1449360" cy="127152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7"/>
          <p:cNvSpPr/>
          <p:nvPr/>
        </p:nvSpPr>
        <p:spPr>
          <a:xfrm>
            <a:off x="4073400" y="2844720"/>
            <a:ext cx="0" cy="129708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5695920" y="3494160"/>
            <a:ext cx="148752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1"/>
          <p:cNvSpPr/>
          <p:nvPr/>
        </p:nvSpPr>
        <p:spPr>
          <a:xfrm>
            <a:off x="6440400" y="2838600"/>
            <a:ext cx="0" cy="13096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лож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66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5"/>
          <p:cNvSpPr/>
          <p:nvPr/>
        </p:nvSpPr>
        <p:spPr>
          <a:xfrm>
            <a:off x="2286000" y="164304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 стрелкой 7"/>
          <p:cNvCxnSpPr/>
          <p:nvPr/>
        </p:nvCxnSpPr>
        <p:spPr>
          <a:xfrm flipH="1">
            <a:off x="2123280" y="1628640"/>
            <a:ext cx="72360" cy="450144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83" name="Прямая со стрелкой 9"/>
          <p:cNvCxnSpPr/>
          <p:nvPr/>
        </p:nvCxnSpPr>
        <p:spPr>
          <a:xfrm>
            <a:off x="5651280" y="1628640"/>
            <a:ext cx="1080" cy="456480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84" name="Прямая со стрелкой 11"/>
          <p:cNvCxnSpPr>
            <a:stCxn id="280" idx="0"/>
            <a:endCxn id="280" idx="2"/>
          </p:cNvCxnSpPr>
          <p:nvPr/>
        </p:nvCxnSpPr>
        <p:spPr>
          <a:xfrm>
            <a:off x="3749400" y="1609560"/>
            <a:ext cx="1080" cy="45648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5"/>
          <p:cNvSpPr/>
          <p:nvPr/>
        </p:nvSpPr>
        <p:spPr>
          <a:xfrm flipV="1">
            <a:off x="571680" y="1628280"/>
            <a:ext cx="6161040" cy="44434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ff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5"/>
          <p:cNvSpPr/>
          <p:nvPr/>
        </p:nvSpPr>
        <p:spPr>
          <a:xfrm flipV="1">
            <a:off x="395280" y="1628640"/>
            <a:ext cx="6481800" cy="45007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7"/>
          <p:cNvSpPr/>
          <p:nvPr/>
        </p:nvSpPr>
        <p:spPr>
          <a:xfrm>
            <a:off x="500040" y="1643040"/>
            <a:ext cx="8143920" cy="442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9"/>
          <p:cNvSpPr/>
          <p:nvPr/>
        </p:nvSpPr>
        <p:spPr>
          <a:xfrm>
            <a:off x="539640" y="1700280"/>
            <a:ext cx="6303960" cy="437832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овая ситу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ости пришли 2  куклы, а у вас 1 яблоко. Как угостить 2 кукол 1 яблоком. Как  нам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C:\Documents and Settings\1\Мои документы\Мои рисунки\яблоко.jpg"/>
          <p:cNvPicPr/>
          <p:nvPr/>
        </p:nvPicPr>
        <p:blipFill>
          <a:blip r:embed="rId1"/>
          <a:stretch/>
        </p:blipFill>
        <p:spPr>
          <a:xfrm>
            <a:off x="4000680" y="414324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C:\Documents and Settings\1\Мои документы\Мои рисунки\маша.jpg"/>
          <p:cNvPicPr/>
          <p:nvPr/>
        </p:nvPicPr>
        <p:blipFill>
          <a:blip r:embed="rId2"/>
          <a:stretch/>
        </p:blipFill>
        <p:spPr>
          <a:xfrm>
            <a:off x="6286680" y="3429000"/>
            <a:ext cx="1428480" cy="2595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C:\Documents and Settings\1\Мои документы\Мои рисунки\лялька.jpg"/>
          <p:cNvPicPr/>
          <p:nvPr/>
        </p:nvPicPr>
        <p:blipFill>
          <a:blip r:embed="rId3"/>
          <a:stretch/>
        </p:blipFill>
        <p:spPr>
          <a:xfrm>
            <a:off x="1714680" y="3500280"/>
            <a:ext cx="1714320" cy="2616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C:\Documents and Settings\1\Мои документы\Мои рисунки\пляж.jpg"/>
          <p:cNvPicPr/>
          <p:nvPr/>
        </p:nvPicPr>
        <p:blipFill>
          <a:blip r:embed="rId4"/>
          <a:stretch/>
        </p:blipFill>
        <p:spPr>
          <a:xfrm>
            <a:off x="4051440" y="4884840"/>
            <a:ext cx="139068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C:\Documents and Settings\1\Мои документы\Мои рисунки\биби.jpg"/>
          <p:cNvPicPr/>
          <p:nvPr/>
        </p:nvPicPr>
        <p:blipFill>
          <a:blip r:embed="rId1"/>
          <a:stretch/>
        </p:blipFill>
        <p:spPr>
          <a:xfrm>
            <a:off x="214200" y="57168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1\Мои документы\Мои рисунки\биби.jpg"/>
          <p:cNvPicPr/>
          <p:nvPr/>
        </p:nvPicPr>
        <p:blipFill>
          <a:blip r:embed="rId2"/>
          <a:stretch/>
        </p:blipFill>
        <p:spPr>
          <a:xfrm>
            <a:off x="2928960" y="642960"/>
            <a:ext cx="2482920" cy="248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Documents and Settings\1\Мои документы\Мои рисунки\биби.jpg"/>
          <p:cNvPicPr/>
          <p:nvPr/>
        </p:nvPicPr>
        <p:blipFill>
          <a:blip r:embed="rId3"/>
          <a:stretch/>
        </p:blipFill>
        <p:spPr>
          <a:xfrm>
            <a:off x="5572080" y="642960"/>
            <a:ext cx="2482920" cy="2482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Documents and Settings\1\Мои документы\Мои рисунки\биби.jpg"/>
          <p:cNvPicPr/>
          <p:nvPr/>
        </p:nvPicPr>
        <p:blipFill>
          <a:blip r:embed="rId4"/>
          <a:stretch/>
        </p:blipFill>
        <p:spPr>
          <a:xfrm>
            <a:off x="285840" y="4143240"/>
            <a:ext cx="1768320" cy="176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:\Documents and Settings\1\Мои документы\Мои рисунки\биби.jpg"/>
          <p:cNvPicPr/>
          <p:nvPr/>
        </p:nvPicPr>
        <p:blipFill>
          <a:blip r:embed="rId5"/>
          <a:stretch/>
        </p:blipFill>
        <p:spPr>
          <a:xfrm>
            <a:off x="3000240" y="4071960"/>
            <a:ext cx="1768680" cy="1768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Documents and Settings\1\Мои документы\Мои рисунки\биби.jpg"/>
          <p:cNvPicPr/>
          <p:nvPr/>
        </p:nvPicPr>
        <p:blipFill>
          <a:blip r:embed="rId6"/>
          <a:stretch/>
        </p:blipFill>
        <p:spPr>
          <a:xfrm>
            <a:off x="6000840" y="4000680"/>
            <a:ext cx="176832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товительная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й и обратный с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ча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а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Documents and Settings\1\Мои документы\Мои рисунки\i7лисенко.jpg"/>
          <p:cNvPicPr/>
          <p:nvPr/>
        </p:nvPicPr>
        <p:blipFill>
          <a:blip r:embed="rId1"/>
          <a:stretch/>
        </p:blipFill>
        <p:spPr>
          <a:xfrm>
            <a:off x="357120" y="3643200"/>
            <a:ext cx="1371600" cy="1752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C:\Documents and Settings\1\Мои документы\Мои рисунки\i7лисенко.jpg"/>
          <p:cNvPicPr/>
          <p:nvPr/>
        </p:nvPicPr>
        <p:blipFill>
          <a:blip r:embed="rId2"/>
          <a:stretch/>
        </p:blipFill>
        <p:spPr>
          <a:xfrm>
            <a:off x="0" y="3571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Documents and Settings\1\Мои документы\Мои рисунки\i7лисенко.jpg"/>
          <p:cNvPicPr/>
          <p:nvPr/>
        </p:nvPicPr>
        <p:blipFill>
          <a:blip r:embed="rId3"/>
          <a:stretch/>
        </p:blipFill>
        <p:spPr>
          <a:xfrm>
            <a:off x="1285920" y="3571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C:\Documents and Settings\1\Мои документы\Мои рисунки\i7лисенко.jpg"/>
          <p:cNvPicPr/>
          <p:nvPr/>
        </p:nvPicPr>
        <p:blipFill>
          <a:blip r:embed="rId4"/>
          <a:stretch/>
        </p:blipFill>
        <p:spPr>
          <a:xfrm>
            <a:off x="2500200" y="3571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1\Мои документы\Мои рисунки\i7лисенко.jpg"/>
          <p:cNvPicPr/>
          <p:nvPr/>
        </p:nvPicPr>
        <p:blipFill>
          <a:blip r:embed="rId5"/>
          <a:stretch/>
        </p:blipFill>
        <p:spPr>
          <a:xfrm>
            <a:off x="3714840" y="3571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Documents and Settings\1\Мои документы\Мои рисунки\i7лисенко.jpg"/>
          <p:cNvPicPr/>
          <p:nvPr/>
        </p:nvPicPr>
        <p:blipFill>
          <a:blip r:embed="rId6"/>
          <a:stretch/>
        </p:blipFill>
        <p:spPr>
          <a:xfrm>
            <a:off x="5143680" y="3571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Documents and Settings\1\Мои документы\Мои рисунки\i7лисенко.jpg"/>
          <p:cNvPicPr/>
          <p:nvPr/>
        </p:nvPicPr>
        <p:blipFill>
          <a:blip r:embed="rId7"/>
          <a:stretch/>
        </p:blipFill>
        <p:spPr>
          <a:xfrm>
            <a:off x="6286680" y="3500280"/>
            <a:ext cx="1371600" cy="1752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1\Мои документы\Мои рисунки\i7лисенко.jpg"/>
          <p:cNvPicPr/>
          <p:nvPr/>
        </p:nvPicPr>
        <p:blipFill>
          <a:blip r:embed="rId8"/>
          <a:stretch/>
        </p:blipFill>
        <p:spPr>
          <a:xfrm>
            <a:off x="7358040" y="357192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 посчитай от 1-10(прям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я могу посчитать по другому, показывая на каждый предмет указ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ва налево 10.9.8.7.6.5.4.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счет называется «обрат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он так назыв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рианты за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й от 1-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й от 10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й прямым сч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й обратным сч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ы делаем  считая от 1-10(+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ы делаем считая от 10-1(-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ло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ете детям посчитать устно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дактическа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Считай дальш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начинает 1.2.3  считай да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9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Счет от названного чис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называет число, ребенок продолжает считать в прямом или обрат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считай дальше вверх по ступенькам ( или в прямом порядке) 5.6.7.8.9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считай  вниз по ступенькам( обратный порядок) 7.6.5.4.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азови пропущенное числ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считает 1до 10 и пропускает одно число, предлагает детям назвать пропущен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2.3.5.6.7.8.8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.9.8.7.6.4.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пропускать и 2 числа, числа не должны стоять ря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9.8. .6.5.4.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18676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ь понимать отношения рядом стоящих чисел, уметь увеличивать и уменьшать их на един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ча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читать и поставить 6 маш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читать и поставить на 1 кубик меньше или на 1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поставил 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C:\Documents and Settings\1\Мои документы\Мои рисунки\биби.jpg"/>
          <p:cNvPicPr/>
          <p:nvPr/>
        </p:nvPicPr>
        <p:blipFill>
          <a:blip r:embed="rId1"/>
          <a:stretch/>
        </p:blipFill>
        <p:spPr>
          <a:xfrm>
            <a:off x="642960" y="42148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C:\Documents and Settings\1\Мои документы\Мои рисунки\биби.jpg"/>
          <p:cNvPicPr/>
          <p:nvPr/>
        </p:nvPicPr>
        <p:blipFill>
          <a:blip r:embed="rId2"/>
          <a:stretch/>
        </p:blipFill>
        <p:spPr>
          <a:xfrm>
            <a:off x="1714680" y="41432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Documents and Settings\1\Мои документы\Мои рисунки\биби.jpg"/>
          <p:cNvPicPr/>
          <p:nvPr/>
        </p:nvPicPr>
        <p:blipFill>
          <a:blip r:embed="rId3"/>
          <a:stretch/>
        </p:blipFill>
        <p:spPr>
          <a:xfrm>
            <a:off x="2928960" y="42148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Documents and Settings\1\Мои документы\Мои рисунки\биби.jpg"/>
          <p:cNvPicPr/>
          <p:nvPr/>
        </p:nvPicPr>
        <p:blipFill>
          <a:blip r:embed="rId4"/>
          <a:stretch/>
        </p:blipFill>
        <p:spPr>
          <a:xfrm>
            <a:off x="4071960" y="42148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Documents and Settings\1\Мои документы\Мои рисунки\биби.jpg"/>
          <p:cNvPicPr/>
          <p:nvPr/>
        </p:nvPicPr>
        <p:blipFill>
          <a:blip r:embed="rId5"/>
          <a:stretch/>
        </p:blipFill>
        <p:spPr>
          <a:xfrm>
            <a:off x="5143680" y="41432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1\Мои документы\Мои рисунки\биби.jpg"/>
          <p:cNvPicPr/>
          <p:nvPr/>
        </p:nvPicPr>
        <p:blipFill>
          <a:blip r:embed="rId6"/>
          <a:stretch/>
        </p:blipFill>
        <p:spPr>
          <a:xfrm>
            <a:off x="6143760" y="414324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1\Мои документы\Мои рисунки\биби.jpg"/>
          <p:cNvPicPr/>
          <p:nvPr/>
        </p:nvPicPr>
        <p:blipFill>
          <a:blip r:embed="rId7"/>
          <a:stretch/>
        </p:blipFill>
        <p:spPr>
          <a:xfrm>
            <a:off x="7286760" y="4214880"/>
            <a:ext cx="10760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реб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6840" y="1071720"/>
            <a:ext cx="82580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 6, а надо поставить на 1 меньше , чем кубиков-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&lt; 6 н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&gt; 5 н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-5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дает задание дет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c14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42a"/>
                </a:solidFill>
                <a:latin typeface="Arial"/>
              </a:rPr>
              <a:t>Придумайт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c14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42a"/>
                </a:solidFill>
                <a:latin typeface="Arial"/>
              </a:rPr>
              <a:t>7, отсчитать на 1предм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gt;1 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ов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на 1 больше, 1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 показывает числовую карточ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кубиков, найти предметную карточку на 1 больше, 1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ты показал эту карто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1428840" y="2071800"/>
            <a:ext cx="866520" cy="119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1\Мои документы\Мои рисунки\сссс.jpg"/>
          <p:cNvPicPr/>
          <p:nvPr/>
        </p:nvPicPr>
        <p:blipFill>
          <a:blip r:embed="rId2"/>
          <a:stretch/>
        </p:blipFill>
        <p:spPr>
          <a:xfrm>
            <a:off x="3948120" y="280512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1\Мои документы\Мои рисунки\кккк.jpg"/>
          <p:cNvPicPr/>
          <p:nvPr/>
        </p:nvPicPr>
        <p:blipFill>
          <a:blip r:embed="rId3"/>
          <a:stretch/>
        </p:blipFill>
        <p:spPr>
          <a:xfrm>
            <a:off x="2643120" y="3714840"/>
            <a:ext cx="1252440" cy="923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1\Мои документы\Мои рисунки\яблоко.jpg"/>
          <p:cNvPicPr/>
          <p:nvPr/>
        </p:nvPicPr>
        <p:blipFill>
          <a:blip r:embed="rId4"/>
          <a:stretch/>
        </p:blipFill>
        <p:spPr>
          <a:xfrm>
            <a:off x="6143760" y="378612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1\Мои документы\Мои рисунки\елт.jpg"/>
          <p:cNvPicPr/>
          <p:nvPr/>
        </p:nvPicPr>
        <p:blipFill>
          <a:blip r:embed="rId5"/>
          <a:stretch/>
        </p:blipFill>
        <p:spPr>
          <a:xfrm>
            <a:off x="3429000" y="44528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Documents and Settings\1\Мои документы\Мои рисунки\оби.jpg"/>
          <p:cNvPicPr/>
          <p:nvPr/>
        </p:nvPicPr>
        <p:blipFill>
          <a:blip r:embed="rId6"/>
          <a:stretch/>
        </p:blipFill>
        <p:spPr>
          <a:xfrm>
            <a:off x="4910040" y="4645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Documents and Settings\1\Мои документы\Мои рисунки\биби.jpg"/>
          <p:cNvPicPr/>
          <p:nvPr/>
        </p:nvPicPr>
        <p:blipFill>
          <a:blip r:embed="rId7"/>
          <a:stretch/>
        </p:blipFill>
        <p:spPr>
          <a:xfrm>
            <a:off x="1957320" y="462744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числа из отдельных един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предме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как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оставили  или получили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– 1-1-1-1-1-1-1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дующее и предыдуще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285920" y="2428560"/>
            <a:ext cx="1571760" cy="24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8" name="Rectangle 7"/>
          <p:cNvSpPr/>
          <p:nvPr/>
        </p:nvSpPr>
        <p:spPr>
          <a:xfrm flipH="1">
            <a:off x="3571920" y="2428920"/>
            <a:ext cx="1571760" cy="242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 flipH="1">
            <a:off x="5643000" y="2428920"/>
            <a:ext cx="1571400" cy="242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6"/>
          <p:cNvSpPr/>
          <p:nvPr/>
        </p:nvSpPr>
        <p:spPr>
          <a:xfrm>
            <a:off x="1571760" y="2786040"/>
            <a:ext cx="428400" cy="285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7"/>
          <p:cNvSpPr/>
          <p:nvPr/>
        </p:nvSpPr>
        <p:spPr>
          <a:xfrm>
            <a:off x="2214720" y="2786040"/>
            <a:ext cx="428400" cy="285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8"/>
          <p:cNvSpPr/>
          <p:nvPr/>
        </p:nvSpPr>
        <p:spPr>
          <a:xfrm>
            <a:off x="1857240" y="3643200"/>
            <a:ext cx="428760" cy="285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9"/>
          <p:cNvSpPr/>
          <p:nvPr/>
        </p:nvSpPr>
        <p:spPr>
          <a:xfrm>
            <a:off x="2143080" y="2786040"/>
            <a:ext cx="42876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10"/>
          <p:cNvSpPr/>
          <p:nvPr/>
        </p:nvSpPr>
        <p:spPr>
          <a:xfrm>
            <a:off x="1857240" y="3571920"/>
            <a:ext cx="42876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11"/>
          <p:cNvSpPr/>
          <p:nvPr/>
        </p:nvSpPr>
        <p:spPr>
          <a:xfrm>
            <a:off x="3714840" y="2786040"/>
            <a:ext cx="42840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12"/>
          <p:cNvSpPr/>
          <p:nvPr/>
        </p:nvSpPr>
        <p:spPr>
          <a:xfrm>
            <a:off x="4572000" y="2714760"/>
            <a:ext cx="428760" cy="285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13"/>
          <p:cNvSpPr/>
          <p:nvPr/>
        </p:nvSpPr>
        <p:spPr>
          <a:xfrm>
            <a:off x="4500720" y="3643200"/>
            <a:ext cx="42840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14"/>
          <p:cNvSpPr/>
          <p:nvPr/>
        </p:nvSpPr>
        <p:spPr>
          <a:xfrm>
            <a:off x="3786120" y="3643200"/>
            <a:ext cx="42876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15"/>
          <p:cNvSpPr/>
          <p:nvPr/>
        </p:nvSpPr>
        <p:spPr>
          <a:xfrm>
            <a:off x="1571760" y="2786040"/>
            <a:ext cx="428400" cy="285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16"/>
          <p:cNvSpPr/>
          <p:nvPr/>
        </p:nvSpPr>
        <p:spPr>
          <a:xfrm>
            <a:off x="5929200" y="2786040"/>
            <a:ext cx="42876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17"/>
          <p:cNvSpPr/>
          <p:nvPr/>
        </p:nvSpPr>
        <p:spPr>
          <a:xfrm>
            <a:off x="6643800" y="2786040"/>
            <a:ext cx="428400" cy="28584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18"/>
          <p:cNvSpPr/>
          <p:nvPr/>
        </p:nvSpPr>
        <p:spPr>
          <a:xfrm>
            <a:off x="6643800" y="3500280"/>
            <a:ext cx="42840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вал 19"/>
          <p:cNvSpPr/>
          <p:nvPr/>
        </p:nvSpPr>
        <p:spPr>
          <a:xfrm>
            <a:off x="6000840" y="3500280"/>
            <a:ext cx="42840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20"/>
          <p:cNvSpPr/>
          <p:nvPr/>
        </p:nvSpPr>
        <p:spPr>
          <a:xfrm>
            <a:off x="6215040" y="4143240"/>
            <a:ext cx="428760" cy="285840"/>
          </a:xfrm>
          <a:prstGeom prst="ellipse">
            <a:avLst/>
          </a:prstGeom>
          <a:solidFill>
            <a:srgbClr val="fc142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карточку  с числом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ь в серед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карточку с числом на 1 больше, найди карточку  с числом на 1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ь с числом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ыдущее           Последую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детей числовые карточки от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- найти предыдущее и последующе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кажи последующее и предыдуще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оспитателя числовые карточки, найти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 последую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– предыду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предыду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вой ….., в пр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комство с цифр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- абстрактное математическое понятие, характеризующее общее свойство конечных равномощных множ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фра- знак для записи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дном занятии знакомим с одной циф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-7;4-7;5-2;6-9;3-8;1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час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читать и поставить 1 ело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елочек ты поста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ты это у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как можно узнать по друг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Ставит рядом карточку с цифрой 1(единиц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85480"/>
            <a:ext cx="8329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или единица очень тонкая как сп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ая цифра обозначает 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что похожа цифр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каких частей состоит цифр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фра 1 состоит из короткой тонкой палочки слева и длинной пал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ить 2-3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сейчас напишу цифру 1 в возду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 стоит в полуоборот к детям и « пишет» в воздухе цифру 1, называя ее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ткая и длинная палочка- упр.повторить 3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Берет изображение я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цифру надо поставить сю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Вопросы к детям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Что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они отличаю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по размер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х кругов  больше( меньше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ужно сделать, чтобы узнать точ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колько 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е считая можно провер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ел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цифрой надо обозначить семь ел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показывает цифру  7 и предлагает сравнить с цифрой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различия и общие чер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часть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йте задания на 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Независимость числа от расстояния между предм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0"/>
          <p:cNvSpPr/>
          <p:nvPr/>
        </p:nvSpPr>
        <p:spPr>
          <a:xfrm>
            <a:off x="104292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1"/>
          <p:cNvSpPr/>
          <p:nvPr/>
        </p:nvSpPr>
        <p:spPr>
          <a:xfrm>
            <a:off x="219564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327672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3"/>
          <p:cNvSpPr/>
          <p:nvPr/>
        </p:nvSpPr>
        <p:spPr>
          <a:xfrm>
            <a:off x="435600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4"/>
          <p:cNvSpPr/>
          <p:nvPr/>
        </p:nvSpPr>
        <p:spPr>
          <a:xfrm>
            <a:off x="5435640" y="3500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900000" y="1916280"/>
            <a:ext cx="129708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2484360" y="1916280"/>
            <a:ext cx="129708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4284720" y="1989000"/>
            <a:ext cx="1297080" cy="134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6012000" y="1989000"/>
            <a:ext cx="1296720" cy="1346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7667640" y="2060640"/>
            <a:ext cx="1297080" cy="134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Особенность метод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руппы одинаковых предметов по величине, расположенных на разном расстоя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далеко- близк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опросы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Что эт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Как расположе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ком расстоянии находятс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какой демонстрационный материал можно использов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1:51:23Z</dcterms:created>
  <dc:creator>Kab_9</dc:creator>
  <dc:description/>
  <dc:language>en-US</dc:language>
  <cp:lastModifiedBy>асус</cp:lastModifiedBy>
  <dcterms:modified xsi:type="dcterms:W3CDTF">2017-02-07T16:00:58Z</dcterms:modified>
  <cp:revision>70</cp:revision>
  <dc:subject/>
  <dc:title>Методика формирования понимания абстрактности числа</dc:title>
</cp:coreProperties>
</file>