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53.jpeg" ContentType="image/jpeg"/>
  <Override PartName="/ppt/media/image23.png" ContentType="image/png"/>
  <Override PartName="/ppt/media/image51.png" ContentType="image/png"/>
  <Override PartName="/ppt/media/image4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png" ContentType="image/png"/>
  <Override PartName="/ppt/media/image44.png" ContentType="image/png"/>
  <Override PartName="/ppt/media/image25.jpeg" ContentType="image/jpeg"/>
  <Override PartName="/ppt/media/image24.png" ContentType="image/png"/>
  <Override PartName="/ppt/media/image39.gif" ContentType="image/gif"/>
  <Override PartName="/ppt/media/image16.jpeg" ContentType="image/jpeg"/>
  <Override PartName="/ppt/media/image19.jpeg" ContentType="image/jpeg"/>
  <Override PartName="/ppt/media/image2.jpeg" ContentType="image/jpeg"/>
  <Override PartName="/ppt/media/image20.png" ContentType="image/png"/>
  <Override PartName="/ppt/media/image57.png" ContentType="image/png"/>
  <Override PartName="/ppt/media/image11.jpeg" ContentType="image/jpeg"/>
  <Override PartName="/ppt/media/image28.jpeg" ContentType="image/jpeg"/>
  <Override PartName="/ppt/media/image6.jpeg" ContentType="image/jpeg"/>
  <Override PartName="/ppt/media/image71.jpeg" ContentType="image/jpeg"/>
  <Override PartName="/ppt/media/image5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8.png" ContentType="image/png"/>
  <Override PartName="/ppt/media/image69.jpeg" ContentType="image/jpeg"/>
  <Override PartName="/ppt/media/image21.jpeg" ContentType="image/jpeg"/>
  <Override PartName="/ppt/media/image22.png" ContentType="image/png"/>
  <Override PartName="/ppt/media/image66.jpeg" ContentType="image/jpeg"/>
  <Override PartName="/ppt/media/image59.png" ContentType="image/png"/>
  <Override PartName="/ppt/media/image67.jpeg" ContentType="image/jpeg"/>
  <Override PartName="/ppt/media/image64.jpeg" ContentType="image/jpeg"/>
  <Override PartName="/ppt/media/image38.jpeg" ContentType="image/jpeg"/>
  <Override PartName="/ppt/media/image15.png" ContentType="image/png"/>
  <Override PartName="/ppt/media/image3.png" ContentType="image/png"/>
  <Override PartName="/ppt/media/image63.png" ContentType="image/png"/>
  <Override PartName="/ppt/media/image61.jpeg" ContentType="image/jpeg"/>
  <Override PartName="/ppt/media/image68.jpeg" ContentType="image/jpeg"/>
  <Override PartName="/ppt/media/image60.jpeg" ContentType="image/jpeg"/>
  <Override PartName="/ppt/media/image14.jpeg" ContentType="image/jpeg"/>
  <Override PartName="/ppt/media/image41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42.jpeg" ContentType="image/jpeg"/>
  <Override PartName="/ppt/media/image40.wmf" ContentType="image/x-wmf"/>
  <Override PartName="/ppt/media/image10.jpeg" ContentType="image/jpeg"/>
  <Override PartName="/ppt/media/image27.jpeg" ContentType="image/jpeg"/>
  <Override PartName="/ppt/media/image17.wmf" ContentType="image/x-wmf"/>
  <Override PartName="/ppt/media/image56.png" ContentType="image/png"/>
  <Override PartName="/ppt/media/image9.png" ContentType="image/png"/>
  <Override PartName="/ppt/media/image1.png" ContentType="image/png"/>
  <Override PartName="/ppt/media/image52.jpeg" ContentType="image/jpeg"/>
  <Override PartName="/ppt/media/image13.png" ContentType="image/png"/>
  <Override PartName="/ppt/media/image54.jpeg" ContentType="image/jpeg"/>
  <Override PartName="/ppt/media/image29.jpeg" ContentType="image/jpeg"/>
  <Override PartName="/ppt/media/image12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43.jpeg" ContentType="image/jpeg"/>
  <Override PartName="/ppt/media/image50.wmf" ContentType="image/x-wmf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D5EC-A24F-4A33-B624-C30EA376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4AA-9711-4A4B-91F1-A2CE0CF7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3BD1-67BF-4168-BE27-32FCA003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792-5007-47FB-A3B0-3EFDA8C6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2704-8C30-4976-949B-3509C62C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2B8A-29D5-4A38-992B-73956812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D241-F564-467D-9B6B-34096DBE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FE97-24B2-4731-8F8D-42C9E360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E524-2532-4B17-AB9C-61892B3D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2152-BEC0-4E27-A59D-F795DCE8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1478-E58B-40A0-92FB-4E26825C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1BD-1081-4C13-B016-98C0E056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C89B-C7EB-4B78-B67D-A1CE927E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45BE-BDA2-408E-8DF2-E1F83C98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B480-CEF2-4936-9E2D-8987DCCD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D694-7B97-492C-9B15-A4B339A6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B873-AEB6-477A-A8FB-10F1FFD6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4F430-A639-43A0-A4E7-41468FEC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32B87-C9C3-4B32-9A88-7ADA3499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80571-F672-4A21-A995-7277173D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D6C5E-5D6C-4DE1-9EFB-21766A9D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75B81-7660-48A1-BC4D-3BBDA34D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6CF-0EFB-40FA-AD8E-9BA41A88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486D2-6941-43D6-91AD-BA16824F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547FC-5868-44C1-99AD-8F897547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D2423-D913-4922-A441-EB3A8036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71419-C14C-481A-BA03-4E169853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18E1A-867F-41F4-91CB-4FB124DD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8B1A9-6DF5-4F9A-835A-910D5E1E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EF303-E029-43A5-A5E1-6B7F323B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25235-57DA-45B9-8E6A-A287F2A4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22A66-F3F6-45DE-B928-0710E67F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4E9A7-216D-4624-BBBA-5C00A254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0B9-7A0C-40EA-9E3F-01983A57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D8924-8721-4357-9A23-AF64F5EB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1351F-156D-49D0-B637-BF88BDD8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1F115-565E-4AF9-845C-91918509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99445-9578-4B9F-9B7E-4B7B3FF5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B5FCD-6CFC-45DB-91BB-A4444649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2A1D3-75EA-4C8C-A078-14EA9FFB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5CD3F-5A5C-40CD-B006-A1C317E0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B01C8-C8E5-4A52-A8D8-3F8B623D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CD7BE-D707-4143-B91F-38C8A994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82BF-D55B-46D8-9C31-6A93C8F8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CA56-681E-4E7C-9C77-B7851A17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A7E-B5B2-495B-9741-7F715FF0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AC8B-E46F-4130-B006-963A9B4C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C6C-0871-4F33-9683-A062A531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3E32-F11D-4422-A80D-785054D9B8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5C6B-CCEA-4052-A4A4-FF29F56FE5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709E-7A24-42D6-AF1D-46ADEA96A6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0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2106-7CFD-4B52-A605-6232A9AE2E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45;&#209;&#131;&#209;&#130;&#209;&#139;&#208;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54.radikal.ru/i144/1006/3e/6e45ae70427d.jpg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png"/><Relationship Id="rId5" Type="http://schemas.openxmlformats.org/officeDocument/2006/relationships/image" Target="../media/image63.png"/><Relationship Id="rId6" Type="http://schemas.openxmlformats.org/officeDocument/2006/relationships/image" Target="../media/image64.jpe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4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755640" y="1700280"/>
            <a:ext cx="7704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ГАДКА   МЁБИУСА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911960" y="40464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Научно-практическая конференц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916360" y="4076640"/>
            <a:ext cx="59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ыполнил:  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Минаков 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уководитель:  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именова О.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938320" y="6113520"/>
            <a:ext cx="37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Льва Толстого,  2013-2014 гг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Самое известное откры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42920" y="13413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858г.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в возрасте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68 лет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Мёбиусу удалось сделать открытие поразительной красоты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539640" y="1197000"/>
            <a:ext cx="7704360" cy="0"/>
          </a:xfrm>
          <a:prstGeom prst="line">
            <a:avLst/>
          </a:prstGeom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800px-Möbius_strip"/>
          <p:cNvPicPr/>
          <p:nvPr/>
        </p:nvPicPr>
        <p:blipFill>
          <a:blip r:embed="rId1"/>
          <a:stretch/>
        </p:blipFill>
        <p:spPr>
          <a:xfrm>
            <a:off x="2050920" y="2276640"/>
            <a:ext cx="5399280" cy="23745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1"/>
          <p:cNvSpPr/>
          <p:nvPr/>
        </p:nvSpPr>
        <p:spPr>
          <a:xfrm>
            <a:off x="468360" y="4802760"/>
            <a:ext cx="806436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ебиус послал в Парижскую академию наук работу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ключавшую сведения об этом лист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7 лет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он дожидался рассмотрения своей работы 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е дождавшись, опубликовал ее результаты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23640" y="1628640"/>
            <a:ext cx="6119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>
              <a:lnSpc>
                <a:spcPct val="9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Лист Мёбиуса - </a:t>
            </a:r>
            <a:r>
              <a:rPr b="1" i="1" lang="ru-RU" sz="3200" spc="-1" strike="noStrike" u="sng">
                <a:solidFill>
                  <a:srgbClr val="ff33cc"/>
                </a:solidFill>
                <a:uFillTx/>
                <a:latin typeface="Tahoma"/>
              </a:rPr>
              <a:t>тополог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объект, простейшая одностороння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оверхность с кра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Сама топология началась именно с листа Мёбиу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топология"/>
          <p:cNvPicPr/>
          <p:nvPr/>
        </p:nvPicPr>
        <p:blipFill>
          <a:blip r:embed="rId3"/>
          <a:stretch/>
        </p:blipFill>
        <p:spPr>
          <a:xfrm>
            <a:off x="6443640" y="1557360"/>
            <a:ext cx="2232000" cy="49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33300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cc"/>
                </a:solidFill>
                <a:uFillTx/>
                <a:latin typeface="Tahoma"/>
              </a:rPr>
              <a:t> </a:t>
            </a:r>
            <a:r>
              <a:rPr b="1" i="1" lang="ru-RU" sz="3200" spc="-1" strike="noStrike" u="sng">
                <a:solidFill>
                  <a:srgbClr val="ff33cc"/>
                </a:solidFill>
                <a:uFillTx/>
                <a:latin typeface="Tahoma"/>
              </a:rPr>
              <a:t>Топология –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«резиновая геометр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колесо1"/>
          <p:cNvPicPr/>
          <p:nvPr/>
        </p:nvPicPr>
        <p:blipFill>
          <a:blip r:embed="rId1"/>
          <a:stretch/>
        </p:blipFill>
        <p:spPr>
          <a:xfrm>
            <a:off x="5724360" y="1413000"/>
            <a:ext cx="2989440" cy="1604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Без тор1"/>
          <p:cNvPicPr/>
          <p:nvPr/>
        </p:nvPicPr>
        <p:blipFill>
          <a:blip r:embed="rId2"/>
          <a:stretch/>
        </p:blipFill>
        <p:spPr>
          <a:xfrm rot="20133000">
            <a:off x="2340000" y="3212640"/>
            <a:ext cx="3024000" cy="27590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2"/>
          <p:cNvSpPr/>
          <p:nvPr/>
        </p:nvSpPr>
        <p:spPr>
          <a:xfrm>
            <a:off x="179280" y="1268280"/>
            <a:ext cx="56167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" indent="-9360">
              <a:lnSpc>
                <a:spcPct val="80000"/>
              </a:lnSpc>
              <a:spcBef>
                <a:spcPts val="9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юбую фигуру тополог имеет право сгибать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кручивать, сжимать и растягивать – делать 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ей всё что угодно, только не разрывать и н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клеивать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932360" y="3163680"/>
            <a:ext cx="4038480" cy="36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88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ahoma"/>
              </a:rPr>
              <a:t>При этом он будет считать, что ничего н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1" lang="ru-RU" sz="2100" spc="-1" strike="noStrike">
                <a:solidFill>
                  <a:srgbClr val="000066"/>
                </a:solidFill>
                <a:latin typeface="Tahoma"/>
              </a:rPr>
              <a:t>произошло, все её свойства осталис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1" lang="ru-RU" sz="2100" spc="-1" strike="noStrike">
                <a:solidFill>
                  <a:srgbClr val="000066"/>
                </a:solidFill>
                <a:latin typeface="Tahoma"/>
              </a:rPr>
              <a:t>неизменны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ru-RU" sz="2100" spc="-1" strike="noStrike">
                <a:solidFill>
                  <a:srgbClr val="000066"/>
                </a:solidFill>
                <a:latin typeface="Tahoma"/>
              </a:rPr>
              <a:t>Для него не имеют никакого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ahoma"/>
              </a:rPr>
              <a:t>значения ни расстояния, ни угл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ahoma"/>
              </a:rPr>
              <a:t>ни площади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Реализация бутылки Клейна в виде восьмерки"/>
          <p:cNvPicPr/>
          <p:nvPr/>
        </p:nvPicPr>
        <p:blipFill>
          <a:blip r:embed="rId6"/>
          <a:stretch/>
        </p:blipFill>
        <p:spPr>
          <a:xfrm>
            <a:off x="108000" y="4869000"/>
            <a:ext cx="2579760" cy="1847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87280" y="404640"/>
            <a:ext cx="74282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Близким «странным» геометрическим объектом является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бутылка Клейна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. Бутылка Клейна может быть получена путем склеивания двух лент Мёбиуса по кра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175" descr="Бутылка Клейна, погружённая в трёхмерное пространство."/>
          <p:cNvPicPr/>
          <p:nvPr/>
        </p:nvPicPr>
        <p:blipFill>
          <a:blip r:embed="rId2"/>
          <a:stretch/>
        </p:blipFill>
        <p:spPr>
          <a:xfrm>
            <a:off x="5724360" y="3429000"/>
            <a:ext cx="2590920" cy="3240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pic>
        <p:nvPicPr>
          <p:cNvPr id="241" name="Picture 6" descr="2"/>
          <p:cNvPicPr/>
          <p:nvPr/>
        </p:nvPicPr>
        <p:blipFill>
          <a:blip r:embed="rId3"/>
          <a:stretch/>
        </p:blipFill>
        <p:spPr>
          <a:xfrm>
            <a:off x="539640" y="3860640"/>
            <a:ext cx="4572000" cy="23814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</p:spTree>
  </p:cSld>
  <p:transition>
    <p:cover dir="l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9"/>
          <p:cNvSpPr/>
          <p:nvPr/>
        </p:nvSpPr>
        <p:spPr>
          <a:xfrm>
            <a:off x="738360" y="2517840"/>
            <a:ext cx="1616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Копия _P4100016"/>
          <p:cNvPicPr/>
          <p:nvPr/>
        </p:nvPicPr>
        <p:blipFill>
          <a:blip r:embed="rId1"/>
          <a:stretch/>
        </p:blipFill>
        <p:spPr>
          <a:xfrm>
            <a:off x="2484360" y="4076640"/>
            <a:ext cx="4751640" cy="263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395280" y="260280"/>
          <a:ext cx="8352000" cy="3700440"/>
        </p:xfrm>
        <a:graphic>
          <a:graphicData uri="http://schemas.openxmlformats.org/drawingml/2006/table">
            <a:tbl>
              <a:tblPr/>
              <a:tblGrid>
                <a:gridCol w="4176720"/>
                <a:gridCol w="4175280"/>
              </a:tblGrid>
              <a:tr h="186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№</a:t>
                      </a: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1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тавим точку на одной стороне каждого кольца и чертим непрерывную линию вдоль него, пока не придем снова в отмеченную точку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767ff"/>
                          </a:solidFill>
                          <a:latin typeface="Tahoma"/>
                        </a:rPr>
                        <a:t>Обычное кольц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ента Мёбиус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ия проходит вдоль кольца по одной стороне, сходясь в точке начала. Вторая сторона остается чистой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прерывная линия проходит по двум сторонам, заканчиваясь в начальной точке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539640" y="3429000"/>
          <a:ext cx="8209080" cy="2760840"/>
        </p:xfrm>
        <a:graphic>
          <a:graphicData uri="http://schemas.openxmlformats.org/drawingml/2006/table">
            <a:tbl>
              <a:tblPr/>
              <a:tblGrid>
                <a:gridCol w="4032360"/>
                <a:gridCol w="4176720"/>
              </a:tblGrid>
              <a:tr h="1151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№</a:t>
                      </a:r>
                      <a:r>
                        <a:rPr b="1" lang="ru-RU" sz="36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2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красим полностью только одну сторону колец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767ff"/>
                          </a:solidFill>
                          <a:latin typeface="Tahoma"/>
                        </a:rPr>
                        <a:t>Обычное кольц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ента Мебиус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на сторона закрашена, другая – нет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нта закрашена целиком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6" name="Picture 56" descr="Копия _P4100013"/>
          <p:cNvPicPr/>
          <p:nvPr/>
        </p:nvPicPr>
        <p:blipFill>
          <a:blip r:embed="rId1"/>
          <a:stretch/>
        </p:blipFill>
        <p:spPr>
          <a:xfrm>
            <a:off x="3564000" y="836640"/>
            <a:ext cx="3814560" cy="2239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2" descr="Копия _P4100022"/>
          <p:cNvPicPr/>
          <p:nvPr/>
        </p:nvPicPr>
        <p:blipFill>
          <a:blip r:embed="rId1"/>
          <a:stretch/>
        </p:blipFill>
        <p:spPr>
          <a:xfrm>
            <a:off x="1547640" y="3573360"/>
            <a:ext cx="4321440" cy="292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468360" y="476280"/>
          <a:ext cx="8351640" cy="2890800"/>
        </p:xfrm>
        <a:graphic>
          <a:graphicData uri="http://schemas.openxmlformats.org/drawingml/2006/table">
            <a:tbl>
              <a:tblPr/>
              <a:tblGrid>
                <a:gridCol w="4176720"/>
                <a:gridCol w="4174920"/>
              </a:tblGrid>
              <a:tr h="1312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№</a:t>
                      </a: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3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красим непрерывной линией только один край колец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767ff"/>
                          </a:solidFill>
                          <a:latin typeface="Tahoma"/>
                        </a:rPr>
                        <a:t>Обычное кольц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ента Мёбиус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ин край кольца закрашен, второй край нет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ия края получилась непрерывно закрашена на всем кольце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8" descr="Копия _P4100028"/>
          <p:cNvPicPr/>
          <p:nvPr/>
        </p:nvPicPr>
        <p:blipFill>
          <a:blip r:embed="rId1"/>
          <a:stretch/>
        </p:blipFill>
        <p:spPr>
          <a:xfrm>
            <a:off x="179280" y="2924280"/>
            <a:ext cx="3024360" cy="1814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9" descr="Копия _P4100030"/>
          <p:cNvPicPr/>
          <p:nvPr/>
        </p:nvPicPr>
        <p:blipFill>
          <a:blip r:embed="rId2"/>
          <a:stretch/>
        </p:blipFill>
        <p:spPr>
          <a:xfrm>
            <a:off x="468360" y="4797360"/>
            <a:ext cx="3024000" cy="195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395280" y="115920"/>
          <a:ext cx="8280360" cy="274464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1367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  <a:ea typeface="Tahoma"/>
                        </a:rPr>
                        <a:t>№</a:t>
                      </a: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внутренней поверхности стоит некто Х, а по внешней идет в любую сторону некто Y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767ff"/>
                          </a:solidFill>
                          <a:latin typeface="Tahoma"/>
                        </a:rPr>
                        <a:t>Обычное кольц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ента Мёбиус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 и Y никогда не встретятся, не пересекая края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 и Y встретятся, не пересекая края в любом случае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2" name="Picture 57" descr="145"/>
          <p:cNvPicPr/>
          <p:nvPr/>
        </p:nvPicPr>
        <p:blipFill>
          <a:blip r:embed="rId3"/>
          <a:stretch/>
        </p:blipFill>
        <p:spPr>
          <a:xfrm>
            <a:off x="3564000" y="3068640"/>
            <a:ext cx="5400720" cy="3600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69" descr="Копия _P4100011"/>
          <p:cNvPicPr/>
          <p:nvPr/>
        </p:nvPicPr>
        <p:blipFill>
          <a:blip r:embed="rId1"/>
          <a:stretch/>
        </p:blipFill>
        <p:spPr>
          <a:xfrm>
            <a:off x="3851280" y="3933720"/>
            <a:ext cx="4392720" cy="269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"/>
          <p:cNvGraphicFramePr/>
          <p:nvPr/>
        </p:nvGraphicFramePr>
        <p:xfrm>
          <a:off x="250920" y="260280"/>
          <a:ext cx="8713800" cy="348624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1312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№</a:t>
                      </a: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5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режем кольца вдоль пополам, по линии параллельной края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767ff"/>
                          </a:solidFill>
                          <a:latin typeface="Tahoma"/>
                        </a:rPr>
                        <a:t>Обычное кольц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ента Мёбиус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училось два кольца, уже чем исходное, причем длина окружности каждого будет такой же, как длина окружности первоначально взятого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училось одно кольцо в виде восьмёрки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3" descr="Копия _P4100018"/>
          <p:cNvPicPr/>
          <p:nvPr/>
        </p:nvPicPr>
        <p:blipFill>
          <a:blip r:embed="rId1"/>
          <a:stretch/>
        </p:blipFill>
        <p:spPr>
          <a:xfrm>
            <a:off x="324000" y="3573360"/>
            <a:ext cx="5400360" cy="296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"/>
          <p:cNvGraphicFramePr/>
          <p:nvPr/>
        </p:nvGraphicFramePr>
        <p:xfrm>
          <a:off x="395280" y="260280"/>
          <a:ext cx="8352000" cy="3094200"/>
        </p:xfrm>
        <a:graphic>
          <a:graphicData uri="http://schemas.openxmlformats.org/drawingml/2006/table">
            <a:tbl>
              <a:tblPr/>
              <a:tblGrid>
                <a:gridCol w="4176720"/>
                <a:gridCol w="4175280"/>
              </a:tblGrid>
              <a:tr h="1368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№</a:t>
                      </a: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6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режем кольцо вдоль, отступив от края на 1/3 ширины кольц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767ff"/>
                          </a:solidFill>
                          <a:latin typeface="Tahoma"/>
                        </a:rPr>
                        <a:t>Обычное кольц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ента Мёбиус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училось 2 кольца одно уже, другое шире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училось два сцепленных  друг с другом кольца, одно маленькое – другое большое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2340000" y="189000"/>
            <a:ext cx="39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План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" descr="Без тор1"/>
          <p:cNvPicPr/>
          <p:nvPr/>
        </p:nvPicPr>
        <p:blipFill>
          <a:blip r:embed="rId1"/>
          <a:stretch/>
        </p:blipFill>
        <p:spPr>
          <a:xfrm rot="20133000">
            <a:off x="324000" y="3499920"/>
            <a:ext cx="936360" cy="854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mebius"/>
          <p:cNvPicPr/>
          <p:nvPr/>
        </p:nvPicPr>
        <p:blipFill>
          <a:blip r:embed="rId2"/>
          <a:stretch/>
        </p:blipFill>
        <p:spPr>
          <a:xfrm>
            <a:off x="324000" y="404640"/>
            <a:ext cx="1008000" cy="544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Служанка гот"/>
          <p:cNvPicPr/>
          <p:nvPr/>
        </p:nvPicPr>
        <p:blipFill>
          <a:blip r:embed="rId3"/>
          <a:stretch/>
        </p:blipFill>
        <p:spPr>
          <a:xfrm>
            <a:off x="468360" y="1557360"/>
            <a:ext cx="62208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94" descr="Стеклянная бутылка Клейна"/>
          <p:cNvPicPr/>
          <p:nvPr/>
        </p:nvPicPr>
        <p:blipFill>
          <a:blip r:embed="rId4"/>
          <a:stretch/>
        </p:blipFill>
        <p:spPr>
          <a:xfrm>
            <a:off x="7812000" y="260280"/>
            <a:ext cx="1054080" cy="1441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kex13big"/>
          <p:cNvPicPr/>
          <p:nvPr/>
        </p:nvPicPr>
        <p:blipFill>
          <a:blip r:embed="rId5"/>
          <a:stretch/>
        </p:blipFill>
        <p:spPr>
          <a:xfrm>
            <a:off x="468360" y="4869000"/>
            <a:ext cx="880920" cy="14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Mebius XXII"/>
          <p:cNvPicPr/>
          <p:nvPr/>
        </p:nvPicPr>
        <p:blipFill>
          <a:blip r:embed="rId6"/>
          <a:stretch/>
        </p:blipFill>
        <p:spPr>
          <a:xfrm>
            <a:off x="7667640" y="3357720"/>
            <a:ext cx="1335240" cy="2232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1"/>
          <p:cNvSpPr/>
          <p:nvPr/>
        </p:nvSpPr>
        <p:spPr>
          <a:xfrm>
            <a:off x="1144800" y="1026000"/>
            <a:ext cx="74008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Цели и задачи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Объект и предмет  исслед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Моделирование объекта исслед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Историческая справ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История создания ленты Мёбиус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2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Наука топологи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3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Изучение свойств ленты Мебиус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4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Основные свойства ленты Мебиус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5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Экспериментальные вывод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6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Использование ленты Мебиус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7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Заключени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0" descr="Копия _P4100020"/>
          <p:cNvPicPr/>
          <p:nvPr/>
        </p:nvPicPr>
        <p:blipFill>
          <a:blip r:embed="rId1"/>
          <a:stretch/>
        </p:blipFill>
        <p:spPr>
          <a:xfrm>
            <a:off x="1908000" y="3716280"/>
            <a:ext cx="5040360" cy="279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"/>
          <p:cNvGraphicFramePr/>
          <p:nvPr/>
        </p:nvGraphicFramePr>
        <p:xfrm>
          <a:off x="395280" y="260280"/>
          <a:ext cx="8352000" cy="3097440"/>
        </p:xfrm>
        <a:graphic>
          <a:graphicData uri="http://schemas.openxmlformats.org/drawingml/2006/table">
            <a:tbl>
              <a:tblPr/>
              <a:tblGrid>
                <a:gridCol w="4176720"/>
                <a:gridCol w="4175280"/>
              </a:tblGrid>
              <a:tr h="1373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№</a:t>
                      </a: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7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режем результат  опыта №5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уже разрезанную ленту) пополам вдол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767ff"/>
                          </a:solidFill>
                          <a:latin typeface="Tahoma"/>
                        </a:rPr>
                        <a:t>Обычное кольц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ента Мёбиус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учаются отдельные кольца все уже и уже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училось два большие кольца переплетенные между собой в виде восьмерки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50920" y="2133720"/>
          <a:ext cx="8569080" cy="3230280"/>
        </p:xfrm>
        <a:graphic>
          <a:graphicData uri="http://schemas.openxmlformats.org/drawingml/2006/table">
            <a:tbl>
              <a:tblPr/>
              <a:tblGrid>
                <a:gridCol w="4176720"/>
                <a:gridCol w="4392360"/>
              </a:tblGrid>
              <a:tr h="1800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№</a:t>
                      </a:r>
                      <a:r>
                        <a:rPr b="1" lang="ru-RU" sz="36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8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клеим ленту из квадрата или из прямоугольника, у которого стороны приблизительно равны не сминая бумаг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767ff"/>
                          </a:solidFill>
                          <a:latin typeface="Tahoma"/>
                        </a:rPr>
                        <a:t>Обычное кольц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ента Мёбиус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учится «труба»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возможно осуществить на практике, не сминая бумаги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250920" y="2133720"/>
          <a:ext cx="8569080" cy="2943000"/>
        </p:xfrm>
        <a:graphic>
          <a:graphicData uri="http://schemas.openxmlformats.org/drawingml/2006/table">
            <a:tbl>
              <a:tblPr/>
              <a:tblGrid>
                <a:gridCol w="4176720"/>
                <a:gridCol w="4392360"/>
              </a:tblGrid>
              <a:tr h="1800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№</a:t>
                      </a:r>
                      <a:r>
                        <a:rPr b="1" lang="ru-RU" sz="36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9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клеим ленту из квадрата или из прямоугольника, у которого стороны приблизительно равны складывая бумаг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767ff"/>
                          </a:solidFill>
                          <a:latin typeface="Tahoma"/>
                        </a:rPr>
                        <a:t>Обычное кольц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ента Мёбиус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учится «труба»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учим ленту Мебиуса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0" y="1412640"/>
            <a:ext cx="6048360" cy="33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720" rIns="79200" tIns="304560" bIns="76320" anchor="ctr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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односторонность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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непрерывность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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связность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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ориентированность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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хроматический      номер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7" descr="Картинка 1 из 15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3789360"/>
            <a:ext cx="4753080" cy="2943360"/>
          </a:xfrm>
          <a:prstGeom prst="rect">
            <a:avLst/>
          </a:prstGeom>
          <a:ln w="0">
            <a:noFill/>
          </a:ln>
        </p:spPr>
      </p:pic>
      <p:sp>
        <p:nvSpPr>
          <p:cNvPr id="263" name="WordArt 8"/>
          <p:cNvSpPr txBox="1"/>
          <p:nvPr/>
        </p:nvSpPr>
        <p:spPr>
          <a:xfrm>
            <a:off x="468360" y="260280"/>
            <a:ext cx="84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ahoma"/>
              </a:rPr>
              <a:t>Основные свойств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ahoma"/>
              </a:rPr>
              <a:t>ленты Мебиус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395280" y="1197000"/>
            <a:ext cx="813744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ЛМ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имеет 1 край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ЛМ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имеет одну поверхность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ЛМ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имеет одну искривленную поверхность, 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если по ней двигаться, можно с внутренней части переместиться на внешнюю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ЛМ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олучается из прямоугольника, у которого длина намного больше ширины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Если закрашивать одну сторону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ЛМ,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не пересекая края, то в итоге закрасится вся поверхность ленты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Если пустить по поверхности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ЛМ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движущиеся объекты, они будут двигаться бесконечно долго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7"/>
          <p:cNvSpPr txBox="1"/>
          <p:nvPr/>
        </p:nvSpPr>
        <p:spPr>
          <a:xfrm>
            <a:off x="250920" y="476280"/>
            <a:ext cx="84978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ahoma"/>
              </a:rPr>
              <a:t>Экспериментальные вывод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p:transition>
    <p:comb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Tahoma"/>
              </a:rPr>
              <a:t>Главная ценность листа Мёбиус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920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Дал мощный толчок новым обширным математическим исследован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Мёбиуса часто считают символом современной мате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вававлоо"/>
          <p:cNvPicPr/>
          <p:nvPr/>
        </p:nvPicPr>
        <p:blipFill>
          <a:blip r:embed="rId1"/>
          <a:stretch/>
        </p:blipFill>
        <p:spPr>
          <a:xfrm rot="489600">
            <a:off x="250560" y="3933360"/>
            <a:ext cx="4754520" cy="24526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269" name="Line 5"/>
          <p:cNvSpPr/>
          <p:nvPr/>
        </p:nvSpPr>
        <p:spPr>
          <a:xfrm>
            <a:off x="539640" y="1341360"/>
            <a:ext cx="813600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013"/>
          <p:cNvPicPr/>
          <p:nvPr/>
        </p:nvPicPr>
        <p:blipFill>
          <a:blip r:embed="rId2"/>
          <a:stretch/>
        </p:blipFill>
        <p:spPr>
          <a:xfrm rot="21111600">
            <a:off x="5148000" y="3645000"/>
            <a:ext cx="3665520" cy="25588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j0336497"/>
          <p:cNvPicPr/>
          <p:nvPr/>
        </p:nvPicPr>
        <p:blipFill>
          <a:blip r:embed="rId1"/>
          <a:stretch/>
        </p:blipFill>
        <p:spPr>
          <a:xfrm>
            <a:off x="0" y="189000"/>
            <a:ext cx="2340000" cy="19638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1471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00"/>
                </a:solidFill>
                <a:latin typeface="Tahoma"/>
              </a:rPr>
              <a:t>     </a:t>
            </a:r>
            <a:r>
              <a:rPr b="1" lang="ru-RU" sz="3800" spc="-1" strike="noStrike">
                <a:solidFill>
                  <a:srgbClr val="990000"/>
                </a:solidFill>
                <a:latin typeface="Tahoma"/>
              </a:rPr>
              <a:t>Наука и техни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1471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Свойство односторонности листа Мебиуса было использовано в техни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если в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ременной передачи ремень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 сделать в виде листа Мебиуса, то его поверхность будет изнашиваться вдвое медленнее, чем у обычного кольца; это дает ощутимую эконом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826920" y="1125360"/>
            <a:ext cx="777564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агнитофонная пленка, соединенна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таким образом, записывает звук н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беих сторонах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агнитофон прокручивает пленку 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иде ленты Мебиуса вдвое дольше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чем обычную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Это  удваивает  время запис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j0308134"/>
          <p:cNvPicPr/>
          <p:nvPr/>
        </p:nvPicPr>
        <p:blipFill>
          <a:blip r:embed="rId4"/>
          <a:stretch/>
        </p:blipFill>
        <p:spPr>
          <a:xfrm>
            <a:off x="6948360" y="4653000"/>
            <a:ext cx="1800360" cy="1438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/>
          <p:cNvSpPr/>
          <p:nvPr/>
        </p:nvSpPr>
        <p:spPr>
          <a:xfrm>
            <a:off x="2339280" y="260280"/>
            <a:ext cx="462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Наука и техник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324000" y="1700280"/>
            <a:ext cx="82803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атричных принтерах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красящая лен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также имела вид лист Мёбиуса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это для увеличения срока годност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2123280" y="549360"/>
            <a:ext cx="462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Наука и техник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18352"/>
          <p:cNvPicPr/>
          <p:nvPr/>
        </p:nvPicPr>
        <p:blipFill>
          <a:blip r:embed="rId3"/>
          <a:stretch/>
        </p:blipFill>
        <p:spPr>
          <a:xfrm>
            <a:off x="4464000" y="3357720"/>
            <a:ext cx="4680000" cy="3252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epsonplq20m"/>
          <p:cNvPicPr/>
          <p:nvPr/>
        </p:nvPicPr>
        <p:blipFill>
          <a:blip r:embed="rId4"/>
          <a:stretch/>
        </p:blipFill>
        <p:spPr>
          <a:xfrm>
            <a:off x="179280" y="3284640"/>
            <a:ext cx="3816360" cy="351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468360" y="2097720"/>
            <a:ext cx="80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Есть фильтры, в которых жидкос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опускают сквозь ленту и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фильтрующего материала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 1971 году изобретатель с Урал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Чесноков П.Н. применил фильтр в вид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листа Мёбиус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2483640" y="404640"/>
            <a:ext cx="462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Наука и техник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фильтр"/>
          <p:cNvPicPr/>
          <p:nvPr/>
        </p:nvPicPr>
        <p:blipFill>
          <a:blip r:embed="rId3"/>
          <a:stretch/>
        </p:blipFill>
        <p:spPr>
          <a:xfrm>
            <a:off x="7524720" y="2781360"/>
            <a:ext cx="1055880" cy="1297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468360" y="476280"/>
            <a:ext cx="82090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ru-RU" sz="3600" spc="-1" strike="noStrike" u="sng">
                <a:solidFill>
                  <a:srgbClr val="990000"/>
                </a:solidFill>
                <a:uFillTx/>
                <a:latin typeface="Tahoma"/>
              </a:rPr>
              <a:t>Цель работы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Исследовать поверхность ленты Мебиус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и ее свойства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    </a:t>
            </a:r>
            <a:r>
              <a:rPr b="1" lang="ru-RU" sz="3200" spc="-1" strike="noStrike" u="sng">
                <a:solidFill>
                  <a:srgbClr val="990000"/>
                </a:solidFill>
                <a:uFillTx/>
                <a:latin typeface="Tahoma"/>
              </a:rPr>
              <a:t>Задачи работы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Познакомиться с историей появл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ленты Мебиу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Выявить и исследовать свойства лент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Мебиу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Установить области применения лен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Мебиу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4920" y="414936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ahoma"/>
              </a:rPr>
              <a:t>Фотографии образцов конструкций, </a:t>
            </a:r>
            <a:br>
              <a:rPr sz="2100"/>
            </a:br>
            <a:r>
              <a:rPr b="1" i="1" lang="ru-RU" sz="2100" spc="-1" strike="noStrike">
                <a:solidFill>
                  <a:srgbClr val="000000"/>
                </a:solidFill>
                <a:latin typeface="Tahoma"/>
              </a:rPr>
              <a:t>использующих лист Мёбиус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unt"/>
          <p:cNvPicPr/>
          <p:nvPr/>
        </p:nvPicPr>
        <p:blipFill>
          <a:blip r:embed="rId1"/>
          <a:stretch/>
        </p:blipFill>
        <p:spPr>
          <a:xfrm>
            <a:off x="179280" y="907920"/>
            <a:ext cx="2851200" cy="3062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2"/>
          <p:cNvPicPr/>
          <p:nvPr/>
        </p:nvPicPr>
        <p:blipFill>
          <a:blip r:embed="rId2"/>
          <a:stretch/>
        </p:blipFill>
        <p:spPr>
          <a:xfrm>
            <a:off x="6227640" y="692280"/>
            <a:ext cx="2773440" cy="30938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5"/>
          <p:cNvSpPr/>
          <p:nvPr/>
        </p:nvSpPr>
        <p:spPr>
          <a:xfrm>
            <a:off x="179280" y="530028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ловая конструкция (квадратная), мешалка (большая круглая), винты, испытывающиеся на модели судна (два маленьких круглых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9" descr="propeller_3"/>
          <p:cNvPicPr/>
          <p:nvPr/>
        </p:nvPicPr>
        <p:blipFill>
          <a:blip r:embed="rId3"/>
          <a:stretch/>
        </p:blipFill>
        <p:spPr>
          <a:xfrm>
            <a:off x="6300720" y="3789360"/>
            <a:ext cx="2695680" cy="1619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0" descr="131"/>
          <p:cNvPicPr/>
          <p:nvPr/>
        </p:nvPicPr>
        <p:blipFill>
          <a:blip r:embed="rId4"/>
          <a:stretch/>
        </p:blipFill>
        <p:spPr>
          <a:xfrm>
            <a:off x="3059280" y="1557360"/>
            <a:ext cx="3132000" cy="2724120"/>
          </a:xfrm>
          <a:prstGeom prst="rect">
            <a:avLst/>
          </a:prstGeom>
          <a:ln w="0">
            <a:noFill/>
          </a:ln>
        </p:spPr>
      </p:pic>
      <p:sp>
        <p:nvSpPr>
          <p:cNvPr id="290" name="WordArt 11"/>
          <p:cNvSpPr txBox="1"/>
          <p:nvPr/>
        </p:nvSpPr>
        <p:spPr>
          <a:xfrm>
            <a:off x="1476360" y="115920"/>
            <a:ext cx="684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ука и техника</a:t>
            </a:r>
            <a:endParaRPr b="1" lang="en-US" sz="1800" spc="1" strike="noStrike">
              <a:ln w="0">
                <a:noFill/>
              </a:ln>
              <a:solidFill>
                <a:srgbClr val="ff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"/>
          <p:cNvSpPr/>
          <p:nvPr/>
        </p:nvSpPr>
        <p:spPr>
          <a:xfrm>
            <a:off x="2979720" y="609192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рансформато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untitled"/>
          <p:cNvPicPr/>
          <p:nvPr/>
        </p:nvPicPr>
        <p:blipFill>
          <a:blip r:embed="rId1"/>
          <a:stretch/>
        </p:blipFill>
        <p:spPr>
          <a:xfrm>
            <a:off x="2195640" y="1197000"/>
            <a:ext cx="4268520" cy="4797360"/>
          </a:xfrm>
          <a:prstGeom prst="rect">
            <a:avLst/>
          </a:prstGeom>
          <a:ln w="19080">
            <a:solidFill>
              <a:srgbClr val="ff33cc"/>
            </a:solidFill>
            <a:miter/>
          </a:ln>
        </p:spPr>
      </p:pic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3Mobius_strip-dna"/>
          <p:cNvPicPr/>
          <p:nvPr/>
        </p:nvPicPr>
        <p:blipFill>
          <a:blip r:embed="rId1"/>
          <a:stretch/>
        </p:blipFill>
        <p:spPr>
          <a:xfrm>
            <a:off x="755640" y="1773360"/>
            <a:ext cx="7920000" cy="4614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-360" y="1700280"/>
            <a:ext cx="64436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Лента Мебиуса понравилась не только математик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но и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фокусн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Более 100 лет лента Мёби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используется для пока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различных фокусов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развлеч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062920" y="649116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6" descr="j0155927"/>
          <p:cNvPicPr/>
          <p:nvPr/>
        </p:nvPicPr>
        <p:blipFill>
          <a:blip r:embed="rId3"/>
          <a:stretch/>
        </p:blipFill>
        <p:spPr>
          <a:xfrm>
            <a:off x="5508720" y="1484280"/>
            <a:ext cx="3222360" cy="5111640"/>
          </a:xfrm>
          <a:prstGeom prst="rect">
            <a:avLst/>
          </a:prstGeom>
          <a:ln w="0">
            <a:noFill/>
          </a:ln>
        </p:spPr>
      </p:pic>
      <p:sp>
        <p:nvSpPr>
          <p:cNvPr id="297" name="WordArt 7"/>
          <p:cNvSpPr txBox="1"/>
          <p:nvPr/>
        </p:nvSpPr>
        <p:spPr>
          <a:xfrm>
            <a:off x="1619280" y="620640"/>
            <a:ext cx="5688000" cy="106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Arial"/>
              </a:rPr>
              <a:t>Примен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Arial"/>
              <a:ea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6227640" y="4437000"/>
            <a:ext cx="2772000" cy="2370960"/>
            <a:chOff x="6227640" y="4437000"/>
            <a:chExt cx="2772000" cy="2370960"/>
          </a:xfrm>
        </p:grpSpPr>
        <p:pic>
          <p:nvPicPr>
            <p:cNvPr id="299" name="Picture 3" descr="180px-Recycle001_svg"/>
            <p:cNvPicPr/>
            <p:nvPr/>
          </p:nvPicPr>
          <p:blipFill>
            <a:blip r:embed="rId1"/>
            <a:stretch/>
          </p:blipFill>
          <p:spPr>
            <a:xfrm>
              <a:off x="6589800" y="4437000"/>
              <a:ext cx="1727280" cy="17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4"/>
            <p:cNvSpPr/>
            <p:nvPr/>
          </p:nvSpPr>
          <p:spPr>
            <a:xfrm>
              <a:off x="6227640" y="6165360"/>
              <a:ext cx="27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Международный символ переработк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5"/>
          <p:cNvGrpSpPr/>
          <p:nvPr/>
        </p:nvGrpSpPr>
        <p:grpSpPr>
          <a:xfrm>
            <a:off x="4284720" y="1623960"/>
            <a:ext cx="4248000" cy="2879640"/>
            <a:chOff x="4284720" y="1623960"/>
            <a:chExt cx="4248000" cy="2879640"/>
          </a:xfrm>
        </p:grpSpPr>
        <p:sp>
          <p:nvSpPr>
            <p:cNvPr id="302" name="Rectangle 6"/>
            <p:cNvSpPr/>
            <p:nvPr/>
          </p:nvSpPr>
          <p:spPr>
            <a:xfrm>
              <a:off x="4859280" y="3861000"/>
              <a:ext cx="31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сторан «Лента Мебиуса»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3" name="Picture 7" descr="20-3"/>
            <p:cNvPicPr/>
            <p:nvPr/>
          </p:nvPicPr>
          <p:blipFill>
            <a:blip r:embed="rId2"/>
            <a:stretch/>
          </p:blipFill>
          <p:spPr>
            <a:xfrm>
              <a:off x="4284720" y="1623960"/>
              <a:ext cx="4248000" cy="237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Text Box 8"/>
          <p:cNvSpPr/>
          <p:nvPr/>
        </p:nvSpPr>
        <p:spPr>
          <a:xfrm>
            <a:off x="179280" y="18900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тив Ленты Мебиуса встречается в названиях художественных произведений, общественных заведений, логотипа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1908000" y="1628640"/>
            <a:ext cx="2232360" cy="2731680"/>
            <a:chOff x="1908000" y="1628640"/>
            <a:chExt cx="2232360" cy="2731680"/>
          </a:xfrm>
        </p:grpSpPr>
        <p:pic>
          <p:nvPicPr>
            <p:cNvPr id="306" name="Picture 10" descr="header_center_2"/>
            <p:cNvPicPr/>
            <p:nvPr/>
          </p:nvPicPr>
          <p:blipFill>
            <a:blip r:embed="rId3"/>
            <a:stretch/>
          </p:blipFill>
          <p:spPr>
            <a:xfrm>
              <a:off x="2050920" y="1628640"/>
              <a:ext cx="183528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11"/>
            <p:cNvSpPr/>
            <p:nvPr/>
          </p:nvSpPr>
          <p:spPr>
            <a:xfrm>
              <a:off x="1908000" y="3443400"/>
              <a:ext cx="223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Инженерно- производственная фирма Мебиу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12"/>
          <p:cNvGrpSpPr/>
          <p:nvPr/>
        </p:nvGrpSpPr>
        <p:grpSpPr>
          <a:xfrm>
            <a:off x="324000" y="1628640"/>
            <a:ext cx="1447560" cy="2730600"/>
            <a:chOff x="324000" y="1628640"/>
            <a:chExt cx="1447560" cy="2730600"/>
          </a:xfrm>
        </p:grpSpPr>
        <p:pic>
          <p:nvPicPr>
            <p:cNvPr id="309" name="Picture 13" descr="ast129065"/>
            <p:cNvPicPr/>
            <p:nvPr/>
          </p:nvPicPr>
          <p:blipFill>
            <a:blip r:embed="rId4"/>
            <a:stretch/>
          </p:blipFill>
          <p:spPr>
            <a:xfrm>
              <a:off x="324000" y="1628640"/>
              <a:ext cx="1447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4"/>
            <p:cNvSpPr/>
            <p:nvPr/>
          </p:nvSpPr>
          <p:spPr>
            <a:xfrm>
              <a:off x="592200" y="3990960"/>
              <a:ext cx="7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книг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15"/>
          <p:cNvGrpSpPr/>
          <p:nvPr/>
        </p:nvGrpSpPr>
        <p:grpSpPr>
          <a:xfrm>
            <a:off x="324000" y="4403880"/>
            <a:ext cx="1873080" cy="2149200"/>
            <a:chOff x="324000" y="4403880"/>
            <a:chExt cx="1873080" cy="2149200"/>
          </a:xfrm>
        </p:grpSpPr>
        <p:pic>
          <p:nvPicPr>
            <p:cNvPr id="312" name="Picture 16" descr="футболка"/>
            <p:cNvPicPr/>
            <p:nvPr/>
          </p:nvPicPr>
          <p:blipFill>
            <a:blip r:embed="rId5"/>
            <a:stretch/>
          </p:blipFill>
          <p:spPr>
            <a:xfrm>
              <a:off x="324000" y="4403880"/>
              <a:ext cx="187308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17"/>
            <p:cNvSpPr/>
            <p:nvPr/>
          </p:nvSpPr>
          <p:spPr>
            <a:xfrm>
              <a:off x="684360" y="6184800"/>
              <a:ext cx="12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футболк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8"/>
          <p:cNvGrpSpPr/>
          <p:nvPr/>
        </p:nvGrpSpPr>
        <p:grpSpPr>
          <a:xfrm>
            <a:off x="2484360" y="4581360"/>
            <a:ext cx="1305000" cy="1962360"/>
            <a:chOff x="2484360" y="4581360"/>
            <a:chExt cx="1305000" cy="1962360"/>
          </a:xfrm>
        </p:grpSpPr>
        <p:pic>
          <p:nvPicPr>
            <p:cNvPr id="315" name="Picture 19" descr="серьги"/>
            <p:cNvPicPr/>
            <p:nvPr/>
          </p:nvPicPr>
          <p:blipFill>
            <a:blip r:embed="rId6"/>
            <a:stretch/>
          </p:blipFill>
          <p:spPr>
            <a:xfrm>
              <a:off x="2484360" y="4581360"/>
              <a:ext cx="13050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20"/>
            <p:cNvSpPr/>
            <p:nvPr/>
          </p:nvSpPr>
          <p:spPr>
            <a:xfrm>
              <a:off x="2651040" y="61754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серьг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21"/>
          <p:cNvGrpSpPr/>
          <p:nvPr/>
        </p:nvGrpSpPr>
        <p:grpSpPr>
          <a:xfrm>
            <a:off x="4067280" y="4589640"/>
            <a:ext cx="1800000" cy="2231640"/>
            <a:chOff x="4067280" y="4589640"/>
            <a:chExt cx="1800000" cy="2231640"/>
          </a:xfrm>
        </p:grpSpPr>
        <p:pic>
          <p:nvPicPr>
            <p:cNvPr id="318" name="Picture 22" descr="quot_mebius_quot_kompjuternyj_salon"/>
            <p:cNvPicPr/>
            <p:nvPr/>
          </p:nvPicPr>
          <p:blipFill>
            <a:blip r:embed="rId7"/>
            <a:stretch/>
          </p:blipFill>
          <p:spPr>
            <a:xfrm>
              <a:off x="4295880" y="4589640"/>
              <a:ext cx="14284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23"/>
            <p:cNvSpPr/>
            <p:nvPr/>
          </p:nvSpPr>
          <p:spPr>
            <a:xfrm>
              <a:off x="4067280" y="617868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компьютерный салон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24"/>
          <p:cNvSpPr/>
          <p:nvPr/>
        </p:nvSpPr>
        <p:spPr>
          <a:xfrm>
            <a:off x="8136000" y="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4"/>
          <p:cNvGrpSpPr/>
          <p:nvPr/>
        </p:nvGrpSpPr>
        <p:grpSpPr>
          <a:xfrm>
            <a:off x="2987640" y="208080"/>
            <a:ext cx="3455280" cy="6659280"/>
            <a:chOff x="2987640" y="208080"/>
            <a:chExt cx="3455280" cy="6659280"/>
          </a:xfrm>
        </p:grpSpPr>
        <p:pic>
          <p:nvPicPr>
            <p:cNvPr id="322" name="Picture 5" descr="ast129065"/>
            <p:cNvPicPr/>
            <p:nvPr/>
          </p:nvPicPr>
          <p:blipFill>
            <a:blip r:embed="rId1"/>
            <a:stretch/>
          </p:blipFill>
          <p:spPr>
            <a:xfrm>
              <a:off x="2987640" y="208080"/>
              <a:ext cx="3455280" cy="52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6"/>
            <p:cNvSpPr/>
            <p:nvPr/>
          </p:nvSpPr>
          <p:spPr>
            <a:xfrm>
              <a:off x="3627720" y="5561640"/>
              <a:ext cx="188712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А. Дей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990000"/>
                  </a:solidFill>
                  <a:latin typeface="Arial"/>
                </a:rPr>
                <a:t> “</a:t>
              </a:r>
              <a:r>
                <a:rPr b="1" i="1" lang="ru-RU" sz="2400" spc="-1" strike="noStrike">
                  <a:solidFill>
                    <a:srgbClr val="990000"/>
                  </a:solidFill>
                  <a:latin typeface="Arial"/>
                </a:rPr>
                <a:t>Лента Мебиуса”</a:t>
              </a: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9" descr="p893110"/>
          <p:cNvPicPr/>
          <p:nvPr/>
        </p:nvPicPr>
        <p:blipFill>
          <a:blip r:embed="rId2"/>
          <a:stretch/>
        </p:blipFill>
        <p:spPr>
          <a:xfrm>
            <a:off x="2987640" y="115920"/>
            <a:ext cx="3529080" cy="532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684360" y="197748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Лента Мебиуса вдохновила  многи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художников и на создание извест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кульптур, картин и для графического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скусства 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852840" y="476280"/>
            <a:ext cx="785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ahoma"/>
              </a:rPr>
              <a:t>Лист Мебиуса в искусств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3"/>
          <p:cNvPicPr/>
          <p:nvPr/>
        </p:nvPicPr>
        <p:blipFill>
          <a:blip r:embed="rId2"/>
          <a:stretch/>
        </p:blipFill>
        <p:spPr>
          <a:xfrm rot="676200">
            <a:off x="5724360" y="4292640"/>
            <a:ext cx="2808360" cy="2098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4"/>
          <p:cNvSpPr/>
          <p:nvPr/>
        </p:nvSpPr>
        <p:spPr>
          <a:xfrm>
            <a:off x="779760" y="476280"/>
            <a:ext cx="785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ahoma"/>
              </a:rPr>
              <a:t>Лист Мебиуса в искусств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8" descr="1190791926_f"/>
          <p:cNvPicPr/>
          <p:nvPr/>
        </p:nvPicPr>
        <p:blipFill>
          <a:blip r:embed="rId1"/>
          <a:stretch/>
        </p:blipFill>
        <p:spPr>
          <a:xfrm>
            <a:off x="7308720" y="1628640"/>
            <a:ext cx="1333800" cy="2016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30" name="Picture 7" descr="439px-Acme_klein_bottle"/>
          <p:cNvPicPr/>
          <p:nvPr/>
        </p:nvPicPr>
        <p:blipFill>
          <a:blip r:embed="rId2"/>
          <a:stretch/>
        </p:blipFill>
        <p:spPr>
          <a:xfrm>
            <a:off x="2771640" y="4724280"/>
            <a:ext cx="1432080" cy="19591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31" name="Picture 6" descr="Joulia-Strauss-Moebius-P"/>
          <p:cNvPicPr/>
          <p:nvPr/>
        </p:nvPicPr>
        <p:blipFill>
          <a:blip r:embed="rId3"/>
          <a:stretch/>
        </p:blipFill>
        <p:spPr>
          <a:xfrm>
            <a:off x="4356000" y="5229360"/>
            <a:ext cx="1800360" cy="14954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32" name="Rectangle 9"/>
          <p:cNvSpPr/>
          <p:nvPr/>
        </p:nvSpPr>
        <p:spPr>
          <a:xfrm>
            <a:off x="611280" y="1269000"/>
            <a:ext cx="655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Довольно много разнообразных рисунков оставил голландский художник </a:t>
            </a:r>
            <a:r>
              <a:rPr b="1" lang="ru-RU" sz="2800" spc="-1" strike="noStrike">
                <a:solidFill>
                  <a:srgbClr val="ff33cc"/>
                </a:solidFill>
                <a:latin typeface="Tahoma"/>
              </a:rPr>
              <a:t>Мауриц Эшер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собенно интересна гравюра с изображением муравья, ползающего по Ленте Мебиу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-3232080" y="2685960"/>
            <a:ext cx="1549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-3232080" y="2685960"/>
            <a:ext cx="1549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4"/>
          <p:cNvSpPr/>
          <p:nvPr/>
        </p:nvSpPr>
        <p:spPr>
          <a:xfrm>
            <a:off x="-3232080" y="2685960"/>
            <a:ext cx="1549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-3232080" y="2685960"/>
            <a:ext cx="1549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0" descr="LW441"/>
          <p:cNvPicPr/>
          <p:nvPr/>
        </p:nvPicPr>
        <p:blipFill>
          <a:blip r:embed="rId6"/>
          <a:stretch/>
        </p:blipFill>
        <p:spPr>
          <a:xfrm>
            <a:off x="6300720" y="4724280"/>
            <a:ext cx="2665440" cy="2000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p:transition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LW437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7483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LW355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LW444"/>
          <p:cNvPicPr/>
          <p:nvPr/>
        </p:nvPicPr>
        <p:blipFill>
          <a:blip r:embed="rId3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LW408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LW441"/>
          <p:cNvPicPr/>
          <p:nvPr/>
        </p:nvPicPr>
        <p:blipFill>
          <a:blip r:embed="rId5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8"/>
          <p:cNvSpPr/>
          <p:nvPr/>
        </p:nvSpPr>
        <p:spPr>
          <a:xfrm>
            <a:off x="223200" y="6021360"/>
            <a:ext cx="33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Мауриц Эшер.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Лист Мёбиуса – желтая страни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Односторонний сказочный маршру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Летит метелью, песенкой, синиц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Бульварной лентой, склеенный лоск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Эх, Мёбиус, спасибо за науку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Поверхность одинокой сторо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Подобна закольцованному зву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Вибрацией неоновой стру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Лист Мёбиус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символ математи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Что служит высшей мудрости венцом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Он полон неосознанной роман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 нём бесконечность свернута кольц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800"/>
          <p:cNvPicPr/>
          <p:nvPr/>
        </p:nvPicPr>
        <p:blipFill>
          <a:blip r:embed="rId1"/>
          <a:stretch/>
        </p:blipFill>
        <p:spPr>
          <a:xfrm>
            <a:off x="6877080" y="549360"/>
            <a:ext cx="1974960" cy="29527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Object 4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3746520" cy="4778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4427640" y="404640"/>
            <a:ext cx="3743280" cy="3073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3"/>
          <a:stretch/>
        </p:blipFill>
        <p:spPr>
          <a:xfrm>
            <a:off x="3851280" y="3284640"/>
            <a:ext cx="4465800" cy="33526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ahoma"/>
              </a:rPr>
              <a:t>В нём простота, и вместе с нею -  слож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ahoma"/>
              </a:rPr>
              <a:t>Что недоступна даже мудрец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ahoma"/>
              </a:rPr>
              <a:t>Здесь на глазах преобразилась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ahoma"/>
              </a:rPr>
              <a:t>В поверхность без начала и ко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Здесь нет пределов, нет огранич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Стремись вперёд и открывай ми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Почувствуй силу новых ощущ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Прими познанья высшие дары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4" descr="tumblr_l3v2k7Kjh71qa4pypo1_400"/>
          <p:cNvPicPr/>
          <p:nvPr/>
        </p:nvPicPr>
        <p:blipFill>
          <a:blip r:embed="rId1"/>
          <a:stretch/>
        </p:blipFill>
        <p:spPr>
          <a:xfrm rot="21100200">
            <a:off x="6012000" y="349992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mebius"/>
          <p:cNvPicPr/>
          <p:nvPr/>
        </p:nvPicPr>
        <p:blipFill>
          <a:blip r:embed="rId2"/>
          <a:stretch/>
        </p:blipFill>
        <p:spPr>
          <a:xfrm rot="361200">
            <a:off x="468360" y="4149360"/>
            <a:ext cx="3384360" cy="2270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орт"/>
          <p:cNvPicPr/>
          <p:nvPr/>
        </p:nvPicPr>
        <p:blipFill>
          <a:blip r:embed="rId1"/>
          <a:stretch/>
        </p:blipFill>
        <p:spPr>
          <a:xfrm>
            <a:off x="4319640" y="-387360"/>
            <a:ext cx="4824360" cy="4824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40384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Объект исследования</a:t>
            </a: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-  Лента Меби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105520" y="4437000"/>
            <a:ext cx="40384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Предмет исследования</a:t>
            </a: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- свойства Л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0" descr="image002"/>
          <p:cNvPicPr/>
          <p:nvPr/>
        </p:nvPicPr>
        <p:blipFill>
          <a:blip r:embed="rId4"/>
          <a:stretch/>
        </p:blipFill>
        <p:spPr>
          <a:xfrm>
            <a:off x="324000" y="3933720"/>
            <a:ext cx="4771800" cy="24670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ahoma"/>
              </a:rPr>
              <a:t>Лист Мёбиуса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- поверхность, получающаяся при склеивании двух противоположных сторон </a:t>
            </a:r>
            <a:r>
              <a:rPr b="1" i="1" lang="ru-RU" sz="3200" spc="-1" strike="noStrike">
                <a:solidFill>
                  <a:srgbClr val="000066"/>
                </a:solidFill>
                <a:latin typeface="Tahoma"/>
              </a:rPr>
              <a:t>AB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и </a:t>
            </a:r>
            <a:r>
              <a:rPr b="1" i="1" lang="ru-RU" sz="3200" spc="-1" strike="noStrike">
                <a:solidFill>
                  <a:srgbClr val="000066"/>
                </a:solidFill>
                <a:latin typeface="Tahoma"/>
              </a:rPr>
              <a:t>А</a:t>
            </a: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`</a:t>
            </a:r>
            <a:r>
              <a:rPr b="1" i="1" lang="ru-RU" sz="3200" spc="-1" strike="noStrike">
                <a:solidFill>
                  <a:srgbClr val="000066"/>
                </a:solidFill>
                <a:latin typeface="Tahoma"/>
              </a:rPr>
              <a:t>В</a:t>
            </a: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`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прямоугольника </a:t>
            </a:r>
            <a:r>
              <a:rPr b="1" i="1" lang="ru-RU" sz="3200" spc="-1" strike="noStrike">
                <a:solidFill>
                  <a:srgbClr val="000066"/>
                </a:solidFill>
                <a:latin typeface="Tahoma"/>
              </a:rPr>
              <a:t>ABB</a:t>
            </a: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`</a:t>
            </a:r>
            <a:r>
              <a:rPr b="1" i="1" lang="ru-RU" sz="32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`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 так, что точки </a:t>
            </a:r>
            <a:r>
              <a:rPr b="1" i="1" lang="ru-RU" sz="3200" spc="-1" strike="noStrike">
                <a:solidFill>
                  <a:srgbClr val="000066"/>
                </a:solidFill>
                <a:latin typeface="Tahoma"/>
              </a:rPr>
              <a:t>А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и </a:t>
            </a:r>
            <a:r>
              <a:rPr b="1" i="1" lang="ru-RU" sz="3200" spc="-1" strike="noStrike">
                <a:solidFill>
                  <a:srgbClr val="000066"/>
                </a:solidFill>
                <a:latin typeface="Tahoma"/>
              </a:rPr>
              <a:t>В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совмещаются соответственно с точками </a:t>
            </a:r>
            <a:r>
              <a:rPr b="1" i="1" lang="ru-RU" sz="3200" spc="-1" strike="noStrike">
                <a:solidFill>
                  <a:srgbClr val="000066"/>
                </a:solidFill>
                <a:latin typeface="Tahoma"/>
              </a:rPr>
              <a:t>B</a:t>
            </a: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`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и </a:t>
            </a:r>
            <a:r>
              <a:rPr b="1" i="1" lang="ru-RU" sz="32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`</a:t>
            </a:r>
            <a:r>
              <a:rPr b="1" i="1" lang="ru-RU" sz="32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1258920" y="3357720"/>
            <a:ext cx="6120720" cy="3167640"/>
            <a:chOff x="1258920" y="3357720"/>
            <a:chExt cx="6120720" cy="3167640"/>
          </a:xfrm>
        </p:grpSpPr>
        <p:sp>
          <p:nvSpPr>
            <p:cNvPr id="199" name="WordArt 4"/>
            <p:cNvSpPr txBox="1"/>
            <p:nvPr/>
          </p:nvSpPr>
          <p:spPr>
            <a:xfrm>
              <a:off x="1258920" y="4413240"/>
              <a:ext cx="281880" cy="38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Arial"/>
                </a:rPr>
                <a:t>А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00" name="WordArt 5"/>
            <p:cNvSpPr txBox="1"/>
            <p:nvPr/>
          </p:nvSpPr>
          <p:spPr>
            <a:xfrm>
              <a:off x="1258920" y="3357720"/>
              <a:ext cx="281880" cy="382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Arial"/>
                </a:rPr>
                <a:t>В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01" name="WordArt 6"/>
            <p:cNvSpPr txBox="1"/>
            <p:nvPr/>
          </p:nvSpPr>
          <p:spPr>
            <a:xfrm>
              <a:off x="7097400" y="3357720"/>
              <a:ext cx="282240" cy="382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Arial"/>
                </a:rPr>
                <a:t>В`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02" name="WordArt 7"/>
            <p:cNvSpPr txBox="1"/>
            <p:nvPr/>
          </p:nvSpPr>
          <p:spPr>
            <a:xfrm>
              <a:off x="7097400" y="4531680"/>
              <a:ext cx="282240" cy="382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Arial"/>
                </a:rPr>
                <a:t>А`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03" name="WordArt 8"/>
            <p:cNvSpPr txBox="1"/>
            <p:nvPr/>
          </p:nvSpPr>
          <p:spPr>
            <a:xfrm>
              <a:off x="1918800" y="4413240"/>
              <a:ext cx="188640" cy="35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Arial"/>
                </a:rPr>
                <a:t>а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04" name="WordArt 9"/>
            <p:cNvSpPr txBox="1"/>
            <p:nvPr/>
          </p:nvSpPr>
          <p:spPr>
            <a:xfrm>
              <a:off x="3237480" y="4648320"/>
              <a:ext cx="375480" cy="382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Arial"/>
                </a:rPr>
                <a:t>А`В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pic>
          <p:nvPicPr>
            <p:cNvPr id="205" name="Picture 10" descr="Untitled-1"/>
            <p:cNvPicPr/>
            <p:nvPr/>
          </p:nvPicPr>
          <p:blipFill>
            <a:blip r:embed="rId1"/>
            <a:stretch/>
          </p:blipFill>
          <p:spPr>
            <a:xfrm>
              <a:off x="1540800" y="3709440"/>
              <a:ext cx="545688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WordArt 11"/>
            <p:cNvSpPr txBox="1"/>
            <p:nvPr/>
          </p:nvSpPr>
          <p:spPr>
            <a:xfrm>
              <a:off x="2201400" y="5468400"/>
              <a:ext cx="471240" cy="38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Arial"/>
                </a:rPr>
                <a:t>АВ`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07" name="WordArt 12"/>
            <p:cNvSpPr txBox="1"/>
            <p:nvPr/>
          </p:nvSpPr>
          <p:spPr>
            <a:xfrm>
              <a:off x="1540800" y="6174360"/>
              <a:ext cx="189000" cy="35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Arial"/>
                </a:rPr>
                <a:t>б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>
    <p:pull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50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ahoma"/>
              </a:rPr>
              <a:t>МЕБИУС</a:t>
            </a:r>
            <a:r>
              <a:rPr b="1" lang="en-US" sz="40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990000"/>
                </a:solidFill>
                <a:latin typeface="Tahoma"/>
              </a:rPr>
              <a:t>Август</a:t>
            </a:r>
            <a:r>
              <a:rPr b="1" lang="en-US" sz="40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990000"/>
                </a:solidFill>
                <a:latin typeface="Tahoma"/>
              </a:rPr>
              <a:t>Фердинанд</a:t>
            </a:r>
            <a:r>
              <a:rPr b="1" lang="en-US" sz="4000" spc="-1" strike="noStrike">
                <a:solidFill>
                  <a:srgbClr val="990000"/>
                </a:solidFill>
                <a:latin typeface="Tahoma"/>
              </a:rPr>
              <a:t> </a:t>
            </a:r>
            <a:br>
              <a:rPr sz="4000"/>
            </a:br>
            <a:r>
              <a:rPr b="1" lang="ru-RU" sz="1900" spc="-1" strike="noStrike">
                <a:solidFill>
                  <a:srgbClr val="000066"/>
                </a:solidFill>
                <a:latin typeface="Tahoma"/>
              </a:rPr>
              <a:t>17.11.1790 - 26.09.186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mmebius"/>
          <p:cNvPicPr/>
          <p:nvPr/>
        </p:nvPicPr>
        <p:blipFill>
          <a:blip r:embed="rId1"/>
          <a:stretch/>
        </p:blipFill>
        <p:spPr>
          <a:xfrm>
            <a:off x="5580000" y="1773360"/>
            <a:ext cx="3171960" cy="4464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900000" y="2349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250920" y="1413000"/>
            <a:ext cx="7056360" cy="0"/>
          </a:xfrm>
          <a:prstGeom prst="line">
            <a:avLst/>
          </a:prstGeom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10"/>
          <p:cNvSpPr txBox="1"/>
          <p:nvPr/>
        </p:nvSpPr>
        <p:spPr>
          <a:xfrm>
            <a:off x="971640" y="3429000"/>
            <a:ext cx="301608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-геометр;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213" name="WordArt 11"/>
          <p:cNvSpPr txBox="1"/>
          <p:nvPr/>
        </p:nvSpPr>
        <p:spPr>
          <a:xfrm>
            <a:off x="971640" y="4076640"/>
            <a:ext cx="309564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-астроном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214" name="WordArt 12"/>
          <p:cNvSpPr txBox="1"/>
          <p:nvPr/>
        </p:nvSpPr>
        <p:spPr>
          <a:xfrm>
            <a:off x="826920" y="227664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Немецкий: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p:transition>
    <p:wheel spokes="1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animClr clrSpc="rgb">
                                      <p:cBhvr>
                                        <p:cTn id="40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set>
                                      <p:cBhvr>
                                        <p:cTn id="41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Tahoma"/>
              </a:rPr>
              <a:t>А жизнь прошла так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Родился в Шульпфорте (Германия)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17.11.17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Учился в Лейпццигском университете (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1809 – 1813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Ученик "короля математиков" К. Гау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   Геттигенском университете (1813-1814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1814 г.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изучал математику  в  университете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. Гал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1816 г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. начал вести самостоя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астрономические наблюдени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лейсенбургской обсерва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1818 г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. стал ее директором, позж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офессором Лейпцигского универс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Умер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26.09.186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755640" y="981000"/>
            <a:ext cx="7056360" cy="0"/>
          </a:xfrm>
          <a:prstGeom prst="line">
            <a:avLst/>
          </a:prstGeom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3300"/>
                </a:solidFill>
                <a:latin typeface="Tahoma"/>
              </a:rPr>
              <a:t>Есть версия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6408720" cy="13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ткрыть свой «лист» Мёбиусу помогла служанка, сшившая однажды неправильно концы лен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j0297439[1]"/>
          <p:cNvPicPr/>
          <p:nvPr/>
        </p:nvPicPr>
        <p:blipFill>
          <a:blip r:embed="rId1"/>
          <a:stretch/>
        </p:blipFill>
        <p:spPr>
          <a:xfrm>
            <a:off x="6939000" y="1341360"/>
            <a:ext cx="2205000" cy="2808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1692360" y="3284640"/>
            <a:ext cx="60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идумал ленту Мёбиус, когда   наблюдал за горничной, неправильно одевшей на шею свой платок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79280" y="119700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ернее три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539640" y="1268280"/>
            <a:ext cx="7056720" cy="0"/>
          </a:xfrm>
          <a:prstGeom prst="line">
            <a:avLst/>
          </a:prstGeom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MCj02335810000[1]"/>
          <p:cNvPicPr/>
          <p:nvPr/>
        </p:nvPicPr>
        <p:blipFill>
          <a:blip r:embed="rId2"/>
          <a:stretch/>
        </p:blipFill>
        <p:spPr>
          <a:xfrm>
            <a:off x="0" y="3860640"/>
            <a:ext cx="2162160" cy="28101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3564000" y="4941720"/>
            <a:ext cx="45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иноват во всём портной, который неправильно вшил манжет рубашки.</a:t>
            </a:r>
            <a:r>
              <a:rPr b="0" lang="ru-RU" sz="1800" spc="-1" strike="noStrike">
                <a:solidFill>
                  <a:srgbClr val="d9d8ec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8:28:38Z</dcterms:created>
  <dc:creator>Оля</dc:creator>
  <dc:description/>
  <dc:language>en-US</dc:language>
  <cp:lastModifiedBy>5</cp:lastModifiedBy>
  <dcterms:modified xsi:type="dcterms:W3CDTF">2017-02-07T19:08:36Z</dcterms:modified>
  <cp:revision>61</cp:revision>
  <dc:subject/>
  <dc:title>Слайд 1</dc:title>
</cp:coreProperties>
</file>