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png" ContentType="image/png"/>
  <Override PartName="/ppt/media/image25.jpeg" ContentType="image/jpeg"/>
  <Override PartName="/ppt/media/image24.png" ContentType="image/png"/>
  <Override PartName="/ppt/media/image39.gif" ContentType="image/gif"/>
  <Override PartName="/ppt/media/image16.jpeg" ContentType="image/jpeg"/>
  <Override PartName="/ppt/media/image19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11.jpeg" ContentType="image/jpeg"/>
  <Override PartName="/ppt/media/image28.jpeg" ContentType="image/jpeg"/>
  <Override PartName="/ppt/media/image6.jpeg" ContentType="image/jpeg"/>
  <Override PartName="/ppt/media/image71.jpeg" ContentType="image/jpeg"/>
  <Override PartName="/ppt/media/image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png" ContentType="image/png"/>
  <Override PartName="/ppt/media/image69.jpeg" ContentType="image/jpeg"/>
  <Override PartName="/ppt/media/image21.jpeg" ContentType="image/jpeg"/>
  <Override PartName="/ppt/media/image22.png" ContentType="image/png"/>
  <Override PartName="/ppt/media/image66.jpeg" ContentType="image/jpeg"/>
  <Override PartName="/ppt/media/image59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15.png" ContentType="image/png"/>
  <Override PartName="/ppt/media/image3.png" ContentType="image/png"/>
  <Override PartName="/ppt/media/image63.png" ContentType="image/png"/>
  <Override PartName="/ppt/media/image61.jpeg" ContentType="image/jpeg"/>
  <Override PartName="/ppt/media/image68.jpeg" ContentType="image/jpeg"/>
  <Override PartName="/ppt/media/image60.jpeg" ContentType="image/jpeg"/>
  <Override PartName="/ppt/media/image14.jpeg" ContentType="image/jpeg"/>
  <Override PartName="/ppt/media/image4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42.jpeg" ContentType="image/jpeg"/>
  <Override PartName="/ppt/media/image40.wmf" ContentType="image/x-wmf"/>
  <Override PartName="/ppt/media/image10.jpeg" ContentType="image/jpeg"/>
  <Override PartName="/ppt/media/image27.jpeg" ContentType="image/jpeg"/>
  <Override PartName="/ppt/media/image17.wmf" ContentType="image/x-wmf"/>
  <Override PartName="/ppt/media/image56.png" ContentType="image/png"/>
  <Override PartName="/ppt/media/image9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29.jpeg" ContentType="image/jpeg"/>
  <Override PartName="/ppt/media/image12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3.jpeg" ContentType="image/jpeg"/>
  <Override PartName="/ppt/media/image50.wmf" ContentType="image/x-wmf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54C-1E61-4BBD-95CD-E5CDA7CE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1B4-DC2F-418A-8C37-8E9CDBE0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BD0-E699-4E0D-A7CB-543D143F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76B-4510-4E4D-B628-482E74E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1780-1DF9-4EC1-9B5F-AD58D6F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C4F-E5FB-4118-BF04-068D5C37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0BB-AAB1-41BB-8871-34E9285F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4EF-46F2-4087-880B-4C7BAF1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934-AD94-404A-9553-9B6DF9D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B92-48B8-47C2-B459-B32796E8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2046-661C-4C55-A910-9A71FBB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7AB-CE54-456C-B24A-0AD4BE9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CB9F-24C3-4B28-906A-CF746FE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F581-697D-4CFE-B7F9-AA51158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62E-55F6-4389-99B7-1D1846BA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05E8-D735-471D-B8B3-1FF6D454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D684-232E-40C8-9F38-1098CC9E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C2FC-2EB0-492E-B286-C5423F67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0108-1400-4A97-8716-AE08A985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9311-CAB8-479E-B74B-6268C1C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A4D6-BB66-41C8-924C-74F6EEB1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41DB-C0C9-4B7E-8A7E-156CB298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1CB-FCF9-4D8A-BBEA-60CFB6B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27DF-87D3-48BA-984B-60A7F49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F104-93C9-45F5-9306-B87341C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0829-FFAE-4246-AE2B-B03AC9F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5627-F2DC-4571-B60E-0D764B3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27D2-D6D5-4947-8020-153D2815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8239-8306-4015-8E90-328FAB16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F967-D463-4E29-94F8-63063FDE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71FC-A8EA-4F49-81F7-7D7BC69E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D873-1D13-4059-9496-DFD6EB87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EBBF-1BB9-4F2F-85B5-52E1B80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FAC-2DA7-43C2-9165-67EBF01D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A9C5-E382-48D6-B75A-616C4973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4A15-A57B-46C5-8666-DE79D791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562D-0098-4E12-808B-995CF02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7C17-2D03-4F14-B9D4-58A3B9A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8D3C-9837-486B-83C7-03FF66B1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12D9-09DB-4B2E-91A5-6389703C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63C9-3A21-485D-9D91-97D9F31C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208E-57C1-4714-B37D-178255FC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FDEC-4230-4551-8327-4DF3D160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587-7DDF-4C77-A962-864FE29E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12-02F9-4649-8C26-F8FD13E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EED-DB1E-47FB-8E9C-F6D7382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D92-77D3-44C0-A66B-B483071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DD5-F4F8-4DEF-ADD8-95B693B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A32-B78C-42C1-94A9-B733ED8512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A81F-A947-4399-909B-9579F28B5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B65D-0A73-418A-98B8-CA2BA043C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AF0-16B1-44F3-A27E-2BC2DD3606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5;&#209;&#131;&#209;&#130;&#209;&#139;&#208;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54.radikal.ru/i144/1006/3e/6e45ae70427d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755640" y="1700280"/>
            <a:ext cx="77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А   МЁБИУС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11960" y="40464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учно-практическая конферен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916360" y="407664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полнил: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Минаков 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ководитель: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именова О.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38320" y="6113520"/>
            <a:ext cx="37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ьва Толстого,  2013-2014 г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ahoma"/>
              </a:rPr>
              <a:t>Самое известное от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42920" y="1341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58г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в возрасте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8 ле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Мёбиусу удалось сделать открытие поразительной красот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39640" y="1197000"/>
            <a:ext cx="7704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800px-Möbius_strip"/>
          <p:cNvPicPr/>
          <p:nvPr/>
        </p:nvPicPr>
        <p:blipFill>
          <a:blip r:embed="rId1"/>
          <a:stretch/>
        </p:blipFill>
        <p:spPr>
          <a:xfrm>
            <a:off x="2050920" y="2276640"/>
            <a:ext cx="5399280" cy="2374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68360" y="4802760"/>
            <a:ext cx="80643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биус послал в Парижскую академию наук работу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ключавшую сведения об этом лис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7 лет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он дожидался рассмотрения своей работы 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е дождавшись, опубликовал ее результаты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611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Лист Мёбиуса - </a:t>
            </a: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топол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объект, простейшая односторон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оверхность с кр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ама топология началась именно с листа Мёби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топология"/>
          <p:cNvPicPr/>
          <p:nvPr/>
        </p:nvPicPr>
        <p:blipFill>
          <a:blip r:embed="rId3"/>
          <a:stretch/>
        </p:blipFill>
        <p:spPr>
          <a:xfrm>
            <a:off x="6443640" y="1557360"/>
            <a:ext cx="2232000" cy="49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33300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Tahoma"/>
              </a:rPr>
              <a:t>Топология –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«резиновая геометр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колесо1"/>
          <p:cNvPicPr/>
          <p:nvPr/>
        </p:nvPicPr>
        <p:blipFill>
          <a:blip r:embed="rId1"/>
          <a:stretch/>
        </p:blipFill>
        <p:spPr>
          <a:xfrm>
            <a:off x="5724360" y="1413000"/>
            <a:ext cx="2989440" cy="160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Без тор1"/>
          <p:cNvPicPr/>
          <p:nvPr/>
        </p:nvPicPr>
        <p:blipFill>
          <a:blip r:embed="rId2"/>
          <a:stretch/>
        </p:blipFill>
        <p:spPr>
          <a:xfrm rot="20133000">
            <a:off x="2340000" y="3212640"/>
            <a:ext cx="3024000" cy="27590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179280" y="1268280"/>
            <a:ext cx="5616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юбую фигуру тополог имеет право сгибат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ручивать, сжимать и растягивать – делать 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й всё что угодно, только не разрывать и 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леив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932360" y="3163680"/>
            <a:ext cx="403848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При этом он будет считать, что ничего 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произошло, все её свойства осталис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неизменны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Для него не имеют никак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значения ни расстояния, ни угл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ahoma"/>
              </a:rPr>
              <a:t>ни площади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Реализация бутылки Клейна в виде восьмерки"/>
          <p:cNvPicPr/>
          <p:nvPr/>
        </p:nvPicPr>
        <p:blipFill>
          <a:blip r:embed="rId6"/>
          <a:stretch/>
        </p:blipFill>
        <p:spPr>
          <a:xfrm>
            <a:off x="108000" y="4869000"/>
            <a:ext cx="257976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4282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лизким «странным» геометрическим объектом являетс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бутылка Клейн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. Бутылка Клейна может быть получена путем склеивания двух лент Мёбиуса по кра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75" descr="Бутылка Клейна, погружённая в трёхмерное пространство."/>
          <p:cNvPicPr/>
          <p:nvPr/>
        </p:nvPicPr>
        <p:blipFill>
          <a:blip r:embed="rId2"/>
          <a:stretch/>
        </p:blipFill>
        <p:spPr>
          <a:xfrm>
            <a:off x="5724360" y="3429000"/>
            <a:ext cx="2590920" cy="3240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241" name="Picture 6" descr="2"/>
          <p:cNvPicPr/>
          <p:nvPr/>
        </p:nvPicPr>
        <p:blipFill>
          <a:blip r:embed="rId3"/>
          <a:stretch/>
        </p:blipFill>
        <p:spPr>
          <a:xfrm>
            <a:off x="539640" y="3860640"/>
            <a:ext cx="4572000" cy="23814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>
    <p:cover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738360" y="25178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Копия _P4100016"/>
          <p:cNvPicPr/>
          <p:nvPr/>
        </p:nvPicPr>
        <p:blipFill>
          <a:blip r:embed="rId1"/>
          <a:stretch/>
        </p:blipFill>
        <p:spPr>
          <a:xfrm>
            <a:off x="2484360" y="4076640"/>
            <a:ext cx="4751640" cy="26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395280" y="260280"/>
          <a:ext cx="8352000" cy="370044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86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вим точку на одной стороне каждого кольца и чертим непрерывную линию вдоль него, пока не придем снова в отмеченную точк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я проходит вдоль кольца по одной стороне, сходясь в точке начала. Вторая сторона остается чистой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рерывная линия проходит по двум сторонам, заканчиваясь в начальной точке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39640" y="3429000"/>
          <a:ext cx="8209080" cy="2760840"/>
        </p:xfrm>
        <a:graphic>
          <a:graphicData uri="http://schemas.openxmlformats.org/drawingml/2006/table">
            <a:tbl>
              <a:tblPr/>
              <a:tblGrid>
                <a:gridCol w="4032360"/>
                <a:gridCol w="4176720"/>
              </a:tblGrid>
              <a:tr h="115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расим полностью только одну сторону коле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е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а сторона закрашена, другая – нет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нта закрашена целиком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56" descr="Копия _P4100013"/>
          <p:cNvPicPr/>
          <p:nvPr/>
        </p:nvPicPr>
        <p:blipFill>
          <a:blip r:embed="rId1"/>
          <a:stretch/>
        </p:blipFill>
        <p:spPr>
          <a:xfrm>
            <a:off x="3564000" y="836640"/>
            <a:ext cx="3814560" cy="2239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2" descr="Копия _P4100022"/>
          <p:cNvPicPr/>
          <p:nvPr/>
        </p:nvPicPr>
        <p:blipFill>
          <a:blip r:embed="rId1"/>
          <a:stretch/>
        </p:blipFill>
        <p:spPr>
          <a:xfrm>
            <a:off x="1547640" y="3573360"/>
            <a:ext cx="4321440" cy="292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468360" y="476280"/>
          <a:ext cx="8351640" cy="289080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131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расим непрерывной линией только один край коле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ин край кольца закрашен, второй край нет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я края получилась непрерывно закрашена на всем кольце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8" descr="Копия _P4100028"/>
          <p:cNvPicPr/>
          <p:nvPr/>
        </p:nvPicPr>
        <p:blipFill>
          <a:blip r:embed="rId1"/>
          <a:stretch/>
        </p:blipFill>
        <p:spPr>
          <a:xfrm>
            <a:off x="179280" y="2924280"/>
            <a:ext cx="3024360" cy="1814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9" descr="Копия _P4100030"/>
          <p:cNvPicPr/>
          <p:nvPr/>
        </p:nvPicPr>
        <p:blipFill>
          <a:blip r:embed="rId2"/>
          <a:stretch/>
        </p:blipFill>
        <p:spPr>
          <a:xfrm>
            <a:off x="468360" y="4797360"/>
            <a:ext cx="3024000" cy="19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95280" y="115920"/>
          <a:ext cx="8280360" cy="274464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1367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  <a:ea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внутренней поверхности стоит некто Х, а по внешней идет в любую сторону некто 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и Y никогда не встретятся, не пересекая края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 и Y встретятся, не пересекая края в любом случае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Picture 57" descr="145"/>
          <p:cNvPicPr/>
          <p:nvPr/>
        </p:nvPicPr>
        <p:blipFill>
          <a:blip r:embed="rId3"/>
          <a:stretch/>
        </p:blipFill>
        <p:spPr>
          <a:xfrm>
            <a:off x="3564000" y="3068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9" descr="Копия _P4100011"/>
          <p:cNvPicPr/>
          <p:nvPr/>
        </p:nvPicPr>
        <p:blipFill>
          <a:blip r:embed="rId1"/>
          <a:stretch/>
        </p:blipFill>
        <p:spPr>
          <a:xfrm>
            <a:off x="3851280" y="3933720"/>
            <a:ext cx="4392720" cy="269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250920" y="260280"/>
          <a:ext cx="8713800" cy="34862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31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кольца вдоль пополам, по линии параллельной края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кольца, уже чем исходное, причем длина окружности каждого будет такой же, как длина окружности первоначально взятого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одно кольцо в виде восьмёр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3" descr="Копия _P4100018"/>
          <p:cNvPicPr/>
          <p:nvPr/>
        </p:nvPicPr>
        <p:blipFill>
          <a:blip r:embed="rId1"/>
          <a:stretch/>
        </p:blipFill>
        <p:spPr>
          <a:xfrm>
            <a:off x="324000" y="3573360"/>
            <a:ext cx="5400360" cy="29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395280" y="260280"/>
          <a:ext cx="8352000" cy="309420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36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кольцо вдоль, отступив от края на 1/3 ширины кольц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2 кольца одно уже, другое шир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сцепленных  друг с другом кольца, одно маленькое – другое большо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340000" y="189000"/>
            <a:ext cx="39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План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Без тор1"/>
          <p:cNvPicPr/>
          <p:nvPr/>
        </p:nvPicPr>
        <p:blipFill>
          <a:blip r:embed="rId1"/>
          <a:stretch/>
        </p:blipFill>
        <p:spPr>
          <a:xfrm rot="20133000">
            <a:off x="324000" y="3499920"/>
            <a:ext cx="936360" cy="85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ebius"/>
          <p:cNvPicPr/>
          <p:nvPr/>
        </p:nvPicPr>
        <p:blipFill>
          <a:blip r:embed="rId2"/>
          <a:stretch/>
        </p:blipFill>
        <p:spPr>
          <a:xfrm>
            <a:off x="324000" y="404640"/>
            <a:ext cx="1008000" cy="54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Служанка гот"/>
          <p:cNvPicPr/>
          <p:nvPr/>
        </p:nvPicPr>
        <p:blipFill>
          <a:blip r:embed="rId3"/>
          <a:stretch/>
        </p:blipFill>
        <p:spPr>
          <a:xfrm>
            <a:off x="468360" y="1557360"/>
            <a:ext cx="6220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94" descr="Стеклянная бутылка Клейна"/>
          <p:cNvPicPr/>
          <p:nvPr/>
        </p:nvPicPr>
        <p:blipFill>
          <a:blip r:embed="rId4"/>
          <a:stretch/>
        </p:blipFill>
        <p:spPr>
          <a:xfrm>
            <a:off x="7812000" y="260280"/>
            <a:ext cx="1054080" cy="144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kex13big"/>
          <p:cNvPicPr/>
          <p:nvPr/>
        </p:nvPicPr>
        <p:blipFill>
          <a:blip r:embed="rId5"/>
          <a:stretch/>
        </p:blipFill>
        <p:spPr>
          <a:xfrm>
            <a:off x="468360" y="4869000"/>
            <a:ext cx="880920" cy="14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Mebius XXII"/>
          <p:cNvPicPr/>
          <p:nvPr/>
        </p:nvPicPr>
        <p:blipFill>
          <a:blip r:embed="rId6"/>
          <a:stretch/>
        </p:blipFill>
        <p:spPr>
          <a:xfrm>
            <a:off x="7667640" y="3357720"/>
            <a:ext cx="1335240" cy="2232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>
            <a:off x="1144800" y="1026000"/>
            <a:ext cx="74008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Цели и задачи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бъект и предмет 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оделирование объекта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торическая справ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тория создания ленты Мё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ука тополог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зучение свойств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сновные свойства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Экспериментальные вывод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Использование ленты Меби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Заключен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0" descr="Копия _P4100020"/>
          <p:cNvPicPr/>
          <p:nvPr/>
        </p:nvPicPr>
        <p:blipFill>
          <a:blip r:embed="rId1"/>
          <a:stretch/>
        </p:blipFill>
        <p:spPr>
          <a:xfrm>
            <a:off x="1908000" y="3716280"/>
            <a:ext cx="5040360" cy="279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395280" y="260280"/>
          <a:ext cx="8352000" cy="3097440"/>
        </p:xfrm>
        <a:graphic>
          <a:graphicData uri="http://schemas.openxmlformats.org/drawingml/2006/table">
            <a:tbl>
              <a:tblPr/>
              <a:tblGrid>
                <a:gridCol w="4176720"/>
                <a:gridCol w="4175280"/>
              </a:tblGrid>
              <a:tr h="137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2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7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ежем результат  опыта №5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уже разрезанную ленту) пополам вдо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аются отдельные кольца все уже и уже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лось два большие кольца переплетенные между собой в виде восьмерк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50920" y="2133720"/>
          <a:ext cx="8569080" cy="3230280"/>
        </p:xfrm>
        <a:graphic>
          <a:graphicData uri="http://schemas.openxmlformats.org/drawingml/2006/table">
            <a:tbl>
              <a:tblPr/>
              <a:tblGrid>
                <a:gridCol w="4176720"/>
                <a:gridCol w="4392360"/>
              </a:tblGrid>
              <a:tr h="180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еим ленту из квадрата или из прямоугольника, у которого стороны приблизительно равны не сминая бумаг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тся «труба»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возможно осуществить на практике, не сминая бумаги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50920" y="2133720"/>
          <a:ext cx="8569080" cy="2943000"/>
        </p:xfrm>
        <a:graphic>
          <a:graphicData uri="http://schemas.openxmlformats.org/drawingml/2006/table">
            <a:tbl>
              <a:tblPr/>
              <a:tblGrid>
                <a:gridCol w="4176720"/>
                <a:gridCol w="4392360"/>
              </a:tblGrid>
              <a:tr h="180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9933ff"/>
                          </a:solidFill>
                          <a:latin typeface="Tahoma"/>
                        </a:rPr>
                        <a:t>9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еим ленту из квадрата или из прямоугольника, у которого стороны приблизительно равны складывая бумаг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767ff"/>
                          </a:solidFill>
                          <a:latin typeface="Tahoma"/>
                        </a:rPr>
                        <a:t>Обычное кольц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нта Мёбиус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тся «труба»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учим ленту Мебиуса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1412640"/>
            <a:ext cx="6048360" cy="33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720" rIns="79200" tIns="304560" bIns="7632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дносторон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прерыв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вяз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ориентированность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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хроматический      номер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Картинка 1 из 1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789360"/>
            <a:ext cx="4753080" cy="2943360"/>
          </a:xfrm>
          <a:prstGeom prst="rect">
            <a:avLst/>
          </a:prstGeom>
          <a:ln w="0">
            <a:noFill/>
          </a:ln>
        </p:spPr>
      </p:pic>
      <p:sp>
        <p:nvSpPr>
          <p:cNvPr id="263" name="WordArt 8"/>
          <p:cNvSpPr txBox="1"/>
          <p:nvPr/>
        </p:nvSpPr>
        <p:spPr>
          <a:xfrm>
            <a:off x="46836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Основные свойст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ленты Мебиу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1197000"/>
            <a:ext cx="8137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имеет 1 кра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меет одну поверхность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меет одну искривленную поверхность,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по ней двигаться, можно с внутренней части переместиться на внешнюю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ается из прямоугольника, у которого длина намного больше ширины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закрашивать одну сторону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,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не пересекая края, то в итоге закрасится вся поверхность ленты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Если пустить по поверхности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ЛМ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движущиеся объекты, они будут двигаться бесконечно долг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7"/>
          <p:cNvSpPr txBox="1"/>
          <p:nvPr/>
        </p:nvSpPr>
        <p:spPr>
          <a:xfrm>
            <a:off x="250920" y="476280"/>
            <a:ext cx="8497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</a:rPr>
              <a:t>Экспериментальные выв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Tahoma"/>
              </a:rPr>
              <a:t>Главная ценность листа Мёбиу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Дал мощный толчок новым обширным математическим исследован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ёбиуса часто считают символом современной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вававлоо"/>
          <p:cNvPicPr/>
          <p:nvPr/>
        </p:nvPicPr>
        <p:blipFill>
          <a:blip r:embed="rId1"/>
          <a:stretch/>
        </p:blipFill>
        <p:spPr>
          <a:xfrm rot="489600">
            <a:off x="250560" y="3933360"/>
            <a:ext cx="4754520" cy="2452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69" name="Line 5"/>
          <p:cNvSpPr/>
          <p:nvPr/>
        </p:nvSpPr>
        <p:spPr>
          <a:xfrm>
            <a:off x="539640" y="1341360"/>
            <a:ext cx="8136000" cy="0"/>
          </a:xfrm>
          <a:prstGeom prst="line">
            <a:avLst/>
          </a:prstGeom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013"/>
          <p:cNvPicPr/>
          <p:nvPr/>
        </p:nvPicPr>
        <p:blipFill>
          <a:blip r:embed="rId2"/>
          <a:stretch/>
        </p:blipFill>
        <p:spPr>
          <a:xfrm rot="21111600">
            <a:off x="5148000" y="3645000"/>
            <a:ext cx="3665520" cy="25588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j0336497"/>
          <p:cNvPicPr/>
          <p:nvPr/>
        </p:nvPicPr>
        <p:blipFill>
          <a:blip r:embed="rId1"/>
          <a:stretch/>
        </p:blipFill>
        <p:spPr>
          <a:xfrm>
            <a:off x="0" y="189000"/>
            <a:ext cx="2340000" cy="1963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147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ru-RU" sz="3800" spc="-1" strike="noStrike">
                <a:solidFill>
                  <a:srgbClr val="990000"/>
                </a:solidFill>
                <a:latin typeface="Tahoma"/>
              </a:rPr>
              <a:t>Наука и техн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ойство односторонности листа Мебиуса было использовано в техни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если в 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ременной передачи ремень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сделать в виде листа Мебиуса, то его поверхность будет изнашиваться вдвое медленнее, чем у обычного кольца; это дает ощутимую эконом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826920" y="1125360"/>
            <a:ext cx="7775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гнитофонная пленка, соединенна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аким образом, записывает звук н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еих сторонах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гнитофон прокручивает пленку 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иде ленты Мебиуса вдвое дольше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м обычную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 удваивает  время запис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j0308134"/>
          <p:cNvPicPr/>
          <p:nvPr/>
        </p:nvPicPr>
        <p:blipFill>
          <a:blip r:embed="rId4"/>
          <a:stretch/>
        </p:blipFill>
        <p:spPr>
          <a:xfrm>
            <a:off x="6948360" y="4653000"/>
            <a:ext cx="1800360" cy="1438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2339280" y="26028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24000" y="1700280"/>
            <a:ext cx="8280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тричных принтерах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красящая л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акже имела вид лист Мёбиуса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для увеличения срока год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123280" y="54936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18352"/>
          <p:cNvPicPr/>
          <p:nvPr/>
        </p:nvPicPr>
        <p:blipFill>
          <a:blip r:embed="rId3"/>
          <a:stretch/>
        </p:blipFill>
        <p:spPr>
          <a:xfrm>
            <a:off x="4464000" y="3357720"/>
            <a:ext cx="4680000" cy="325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epsonplq20m"/>
          <p:cNvPicPr/>
          <p:nvPr/>
        </p:nvPicPr>
        <p:blipFill>
          <a:blip r:embed="rId4"/>
          <a:stretch/>
        </p:blipFill>
        <p:spPr>
          <a:xfrm>
            <a:off x="179280" y="3284640"/>
            <a:ext cx="3816360" cy="35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468360" y="209772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Есть фильтры, в которых жидк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пускают сквозь ленту и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льтрующего материала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1971 году изобретатель с Урал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сноков П.Н. применил фильтр в вид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листа Мёби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483640" y="40464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ука и техн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фильтр"/>
          <p:cNvPicPr/>
          <p:nvPr/>
        </p:nvPicPr>
        <p:blipFill>
          <a:blip r:embed="rId3"/>
          <a:stretch/>
        </p:blipFill>
        <p:spPr>
          <a:xfrm>
            <a:off x="7524720" y="2781360"/>
            <a:ext cx="1055880" cy="1297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68360" y="476280"/>
            <a:ext cx="8209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Tahoma"/>
              </a:rPr>
              <a:t>Цель работы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Исследовать поверхность ленты Мебиу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и ее свойства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ahoma"/>
              </a:rPr>
              <a:t>Задачи работ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Познакомиться с историей поя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ленты 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Выявить и исследовать свойства лент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Установить области применения л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00"/>
                </a:solidFill>
                <a:latin typeface="Tahoma"/>
              </a:rPr>
              <a:t>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7777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ahoma"/>
              </a:rPr>
              <a:t>Фотографии образцов конструкций, </a:t>
            </a: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Tahoma"/>
              </a:rPr>
              <a:t>использующих лист Мёбиу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unt"/>
          <p:cNvPicPr/>
          <p:nvPr/>
        </p:nvPicPr>
        <p:blipFill>
          <a:blip r:embed="rId1"/>
          <a:stretch/>
        </p:blipFill>
        <p:spPr>
          <a:xfrm>
            <a:off x="179280" y="907920"/>
            <a:ext cx="2851200" cy="3062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2"/>
          <p:cNvPicPr/>
          <p:nvPr/>
        </p:nvPicPr>
        <p:blipFill>
          <a:blip r:embed="rId2"/>
          <a:stretch/>
        </p:blipFill>
        <p:spPr>
          <a:xfrm>
            <a:off x="6227640" y="692280"/>
            <a:ext cx="2773440" cy="30938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179280" y="53002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ловая конструкция (квадратная), мешалка (большая круглая), винты, испытывающиеся на модели судна (два маленьких круглых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propeller_3"/>
          <p:cNvPicPr/>
          <p:nvPr/>
        </p:nvPicPr>
        <p:blipFill>
          <a:blip r:embed="rId3"/>
          <a:stretch/>
        </p:blipFill>
        <p:spPr>
          <a:xfrm>
            <a:off x="6300720" y="3789360"/>
            <a:ext cx="2695680" cy="1619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131"/>
          <p:cNvPicPr/>
          <p:nvPr/>
        </p:nvPicPr>
        <p:blipFill>
          <a:blip r:embed="rId4"/>
          <a:stretch/>
        </p:blipFill>
        <p:spPr>
          <a:xfrm>
            <a:off x="3059280" y="1557360"/>
            <a:ext cx="3132000" cy="27241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1"/>
          <p:cNvSpPr txBox="1"/>
          <p:nvPr/>
        </p:nvSpPr>
        <p:spPr>
          <a:xfrm>
            <a:off x="1476360" y="115920"/>
            <a:ext cx="684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ука и техника</a:t>
            </a:r>
            <a:endParaRPr b="1" lang="en-US" sz="18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2979720" y="609192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ансформат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untitled"/>
          <p:cNvPicPr/>
          <p:nvPr/>
        </p:nvPicPr>
        <p:blipFill>
          <a:blip r:embed="rId1"/>
          <a:stretch/>
        </p:blipFill>
        <p:spPr>
          <a:xfrm>
            <a:off x="2195640" y="1197000"/>
            <a:ext cx="4268520" cy="4797360"/>
          </a:xfrm>
          <a:prstGeom prst="rect">
            <a:avLst/>
          </a:prstGeom>
          <a:ln w="19080">
            <a:solidFill>
              <a:srgbClr val="ff33cc"/>
            </a:solidFill>
            <a:miter/>
          </a:ln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3Mobius_strip-dna"/>
          <p:cNvPicPr/>
          <p:nvPr/>
        </p:nvPicPr>
        <p:blipFill>
          <a:blip r:embed="rId1"/>
          <a:stretch/>
        </p:blipFill>
        <p:spPr>
          <a:xfrm>
            <a:off x="755640" y="1773360"/>
            <a:ext cx="7920000" cy="4614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6443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Лента Мебиуса понравилась не только математик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о и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фокус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олее 100 лет лента Мёби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спользуется для пок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личных фокус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влеч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062920" y="64911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j0155927"/>
          <p:cNvPicPr/>
          <p:nvPr/>
        </p:nvPicPr>
        <p:blipFill>
          <a:blip r:embed="rId3"/>
          <a:stretch/>
        </p:blipFill>
        <p:spPr>
          <a:xfrm>
            <a:off x="5508720" y="1484280"/>
            <a:ext cx="3222360" cy="5111640"/>
          </a:xfrm>
          <a:prstGeom prst="rect">
            <a:avLst/>
          </a:prstGeom>
          <a:ln w="0">
            <a:noFill/>
          </a:ln>
        </p:spPr>
      </p:pic>
      <p:sp>
        <p:nvSpPr>
          <p:cNvPr id="297" name="WordArt 7"/>
          <p:cNvSpPr txBox="1"/>
          <p:nvPr/>
        </p:nvSpPr>
        <p:spPr>
          <a:xfrm>
            <a:off x="1619280" y="620640"/>
            <a:ext cx="56880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Приме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6227640" y="4437000"/>
            <a:ext cx="2772000" cy="2370960"/>
            <a:chOff x="6227640" y="4437000"/>
            <a:chExt cx="2772000" cy="2370960"/>
          </a:xfrm>
        </p:grpSpPr>
        <p:pic>
          <p:nvPicPr>
            <p:cNvPr id="299" name="Picture 3" descr="180px-Recycle001_svg"/>
            <p:cNvPicPr/>
            <p:nvPr/>
          </p:nvPicPr>
          <p:blipFill>
            <a:blip r:embed="rId1"/>
            <a:stretch/>
          </p:blipFill>
          <p:spPr>
            <a:xfrm>
              <a:off x="6589800" y="4437000"/>
              <a:ext cx="1727280" cy="17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"/>
            <p:cNvSpPr/>
            <p:nvPr/>
          </p:nvSpPr>
          <p:spPr>
            <a:xfrm>
              <a:off x="6227640" y="6165360"/>
              <a:ext cx="27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Международный символ переработк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4284720" y="1623960"/>
            <a:ext cx="4248000" cy="2879640"/>
            <a:chOff x="4284720" y="1623960"/>
            <a:chExt cx="4248000" cy="2879640"/>
          </a:xfrm>
        </p:grpSpPr>
        <p:sp>
          <p:nvSpPr>
            <p:cNvPr id="302" name="Rectangle 6"/>
            <p:cNvSpPr/>
            <p:nvPr/>
          </p:nvSpPr>
          <p:spPr>
            <a:xfrm>
              <a:off x="4859280" y="386100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сторан «Лента Мебиуса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7" descr="20-3"/>
            <p:cNvPicPr/>
            <p:nvPr/>
          </p:nvPicPr>
          <p:blipFill>
            <a:blip r:embed="rId2"/>
            <a:stretch/>
          </p:blipFill>
          <p:spPr>
            <a:xfrm>
              <a:off x="4284720" y="1623960"/>
              <a:ext cx="4248000" cy="23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Text Box 8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тив Ленты Мебиуса встречается в названиях художественных произведений, общественных заведений, логотип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1908000" y="1628640"/>
            <a:ext cx="2232360" cy="2731680"/>
            <a:chOff x="1908000" y="1628640"/>
            <a:chExt cx="2232360" cy="2731680"/>
          </a:xfrm>
        </p:grpSpPr>
        <p:pic>
          <p:nvPicPr>
            <p:cNvPr id="306" name="Picture 10" descr="header_center_2"/>
            <p:cNvPicPr/>
            <p:nvPr/>
          </p:nvPicPr>
          <p:blipFill>
            <a:blip r:embed="rId3"/>
            <a:stretch/>
          </p:blipFill>
          <p:spPr>
            <a:xfrm>
              <a:off x="2050920" y="1628640"/>
              <a:ext cx="18352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1"/>
            <p:cNvSpPr/>
            <p:nvPr/>
          </p:nvSpPr>
          <p:spPr>
            <a:xfrm>
              <a:off x="1908000" y="3443400"/>
              <a:ext cx="223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Инженерно- производственная фирма Мебиу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324000" y="1628640"/>
            <a:ext cx="1447560" cy="2730600"/>
            <a:chOff x="324000" y="1628640"/>
            <a:chExt cx="1447560" cy="2730600"/>
          </a:xfrm>
        </p:grpSpPr>
        <p:pic>
          <p:nvPicPr>
            <p:cNvPr id="309" name="Picture 13" descr="ast129065"/>
            <p:cNvPicPr/>
            <p:nvPr/>
          </p:nvPicPr>
          <p:blipFill>
            <a:blip r:embed="rId4"/>
            <a:stretch/>
          </p:blipFill>
          <p:spPr>
            <a:xfrm>
              <a:off x="324000" y="1628640"/>
              <a:ext cx="1447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4"/>
            <p:cNvSpPr/>
            <p:nvPr/>
          </p:nvSpPr>
          <p:spPr>
            <a:xfrm>
              <a:off x="592200" y="39909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ниг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5"/>
          <p:cNvGrpSpPr/>
          <p:nvPr/>
        </p:nvGrpSpPr>
        <p:grpSpPr>
          <a:xfrm>
            <a:off x="324000" y="4403880"/>
            <a:ext cx="1873080" cy="2149200"/>
            <a:chOff x="324000" y="4403880"/>
            <a:chExt cx="1873080" cy="2149200"/>
          </a:xfrm>
        </p:grpSpPr>
        <p:pic>
          <p:nvPicPr>
            <p:cNvPr id="312" name="Picture 16" descr="футболка"/>
            <p:cNvPicPr/>
            <p:nvPr/>
          </p:nvPicPr>
          <p:blipFill>
            <a:blip r:embed="rId5"/>
            <a:stretch/>
          </p:blipFill>
          <p:spPr>
            <a:xfrm>
              <a:off x="324000" y="4403880"/>
              <a:ext cx="187308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7"/>
            <p:cNvSpPr/>
            <p:nvPr/>
          </p:nvSpPr>
          <p:spPr>
            <a:xfrm>
              <a:off x="684360" y="61848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футболк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8"/>
          <p:cNvGrpSpPr/>
          <p:nvPr/>
        </p:nvGrpSpPr>
        <p:grpSpPr>
          <a:xfrm>
            <a:off x="2484360" y="4581360"/>
            <a:ext cx="1305000" cy="1962360"/>
            <a:chOff x="2484360" y="4581360"/>
            <a:chExt cx="1305000" cy="1962360"/>
          </a:xfrm>
        </p:grpSpPr>
        <p:pic>
          <p:nvPicPr>
            <p:cNvPr id="315" name="Picture 19" descr="серьги"/>
            <p:cNvPicPr/>
            <p:nvPr/>
          </p:nvPicPr>
          <p:blipFill>
            <a:blip r:embed="rId6"/>
            <a:stretch/>
          </p:blipFill>
          <p:spPr>
            <a:xfrm>
              <a:off x="2484360" y="4581360"/>
              <a:ext cx="1305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20"/>
            <p:cNvSpPr/>
            <p:nvPr/>
          </p:nvSpPr>
          <p:spPr>
            <a:xfrm>
              <a:off x="2651040" y="61754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ерьг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1"/>
          <p:cNvGrpSpPr/>
          <p:nvPr/>
        </p:nvGrpSpPr>
        <p:grpSpPr>
          <a:xfrm>
            <a:off x="4067280" y="4589640"/>
            <a:ext cx="1800000" cy="2231640"/>
            <a:chOff x="4067280" y="4589640"/>
            <a:chExt cx="1800000" cy="2231640"/>
          </a:xfrm>
        </p:grpSpPr>
        <p:pic>
          <p:nvPicPr>
            <p:cNvPr id="318" name="Picture 22" descr="quot_mebius_quot_kompjuternyj_salon"/>
            <p:cNvPicPr/>
            <p:nvPr/>
          </p:nvPicPr>
          <p:blipFill>
            <a:blip r:embed="rId7"/>
            <a:stretch/>
          </p:blipFill>
          <p:spPr>
            <a:xfrm>
              <a:off x="4295880" y="4589640"/>
              <a:ext cx="14284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3"/>
            <p:cNvSpPr/>
            <p:nvPr/>
          </p:nvSpPr>
          <p:spPr>
            <a:xfrm>
              <a:off x="4067280" y="61786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компьютерный салон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4"/>
          <p:cNvSpPr/>
          <p:nvPr/>
        </p:nvSpPr>
        <p:spPr>
          <a:xfrm>
            <a:off x="8136000" y="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4"/>
          <p:cNvGrpSpPr/>
          <p:nvPr/>
        </p:nvGrpSpPr>
        <p:grpSpPr>
          <a:xfrm>
            <a:off x="2987640" y="208080"/>
            <a:ext cx="3455280" cy="6659280"/>
            <a:chOff x="2987640" y="208080"/>
            <a:chExt cx="3455280" cy="6659280"/>
          </a:xfrm>
        </p:grpSpPr>
        <p:pic>
          <p:nvPicPr>
            <p:cNvPr id="322" name="Picture 5" descr="ast129065"/>
            <p:cNvPicPr/>
            <p:nvPr/>
          </p:nvPicPr>
          <p:blipFill>
            <a:blip r:embed="rId1"/>
            <a:stretch/>
          </p:blipFill>
          <p:spPr>
            <a:xfrm>
              <a:off x="2987640" y="208080"/>
              <a:ext cx="3455280" cy="52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6"/>
            <p:cNvSpPr/>
            <p:nvPr/>
          </p:nvSpPr>
          <p:spPr>
            <a:xfrm>
              <a:off x="3627720" y="5561640"/>
              <a:ext cx="188712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А. Дей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Arial"/>
                </a:rPr>
                <a:t> “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Arial"/>
                </a:rPr>
                <a:t>Лента Мебиуса”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9" descr="p893110"/>
          <p:cNvPicPr/>
          <p:nvPr/>
        </p:nvPicPr>
        <p:blipFill>
          <a:blip r:embed="rId2"/>
          <a:stretch/>
        </p:blipFill>
        <p:spPr>
          <a:xfrm>
            <a:off x="2987640" y="115920"/>
            <a:ext cx="3529080" cy="53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684360" y="197748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Лента Мебиуса вдохновила  многи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художников и на создание извест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кульптур, картин и для графического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скусства 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852840" y="476280"/>
            <a:ext cx="785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Лист Мебиуса в искусств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3"/>
          <p:cNvPicPr/>
          <p:nvPr/>
        </p:nvPicPr>
        <p:blipFill>
          <a:blip r:embed="rId2"/>
          <a:stretch/>
        </p:blipFill>
        <p:spPr>
          <a:xfrm rot="676200">
            <a:off x="5724360" y="4292640"/>
            <a:ext cx="2808360" cy="2098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779760" y="476280"/>
            <a:ext cx="785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Лист Мебиуса в искусств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1190791926_f"/>
          <p:cNvPicPr/>
          <p:nvPr/>
        </p:nvPicPr>
        <p:blipFill>
          <a:blip r:embed="rId1"/>
          <a:stretch/>
        </p:blipFill>
        <p:spPr>
          <a:xfrm>
            <a:off x="7308720" y="1628640"/>
            <a:ext cx="1333800" cy="2016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30" name="Picture 7" descr="439px-Acme_klein_bottle"/>
          <p:cNvPicPr/>
          <p:nvPr/>
        </p:nvPicPr>
        <p:blipFill>
          <a:blip r:embed="rId2"/>
          <a:stretch/>
        </p:blipFill>
        <p:spPr>
          <a:xfrm>
            <a:off x="2771640" y="4724280"/>
            <a:ext cx="1432080" cy="1959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31" name="Picture 6" descr="Joulia-Strauss-Moebius-P"/>
          <p:cNvPicPr/>
          <p:nvPr/>
        </p:nvPicPr>
        <p:blipFill>
          <a:blip r:embed="rId3"/>
          <a:stretch/>
        </p:blipFill>
        <p:spPr>
          <a:xfrm>
            <a:off x="4356000" y="5229360"/>
            <a:ext cx="1800360" cy="1495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32" name="Rectangle 9"/>
          <p:cNvSpPr/>
          <p:nvPr/>
        </p:nvSpPr>
        <p:spPr>
          <a:xfrm>
            <a:off x="611280" y="12690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овольно много разнообразных рисунков оставил голландский художник </a:t>
            </a:r>
            <a:r>
              <a:rPr b="1" lang="ru-RU" sz="2800" spc="-1" strike="noStrike">
                <a:solidFill>
                  <a:srgbClr val="ff33cc"/>
                </a:solidFill>
                <a:latin typeface="Tahoma"/>
              </a:rPr>
              <a:t>Мауриц Эшер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обенно интересна гравюра с изображением муравья, ползающего по Ленте Мебиу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-3232080" y="2685960"/>
            <a:ext cx="1549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" descr="LW441"/>
          <p:cNvPicPr/>
          <p:nvPr/>
        </p:nvPicPr>
        <p:blipFill>
          <a:blip r:embed="rId6"/>
          <a:stretch/>
        </p:blipFill>
        <p:spPr>
          <a:xfrm>
            <a:off x="6300720" y="4724280"/>
            <a:ext cx="2665440" cy="2000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LW437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748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LW355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LW444"/>
          <p:cNvPicPr/>
          <p:nvPr/>
        </p:nvPicPr>
        <p:blipFill>
          <a:blip r:embed="rId3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LW40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LW441"/>
          <p:cNvPicPr/>
          <p:nvPr/>
        </p:nvPicPr>
        <p:blipFill>
          <a:blip r:embed="rId5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"/>
          <p:cNvSpPr/>
          <p:nvPr/>
        </p:nvSpPr>
        <p:spPr>
          <a:xfrm>
            <a:off x="223200" y="602136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Мауриц Эшер.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Лист Мёбиуса – желтая стра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Односторонний сказочный маршр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Летит метелью, песенкой, синиц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Бульварной лентой, склеенный лоск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Эх, Мёбиус, спасибо за наук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верхность одинокой сторо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добна закольцованному зву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Вибрацией неоновой стр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Лист Мёбиус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символ матема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Что служит высшей мудрости венцо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н полон неосознанной роман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 нём бесконечность свернута коль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800"/>
          <p:cNvPicPr/>
          <p:nvPr/>
        </p:nvPicPr>
        <p:blipFill>
          <a:blip r:embed="rId1"/>
          <a:stretch/>
        </p:blipFill>
        <p:spPr>
          <a:xfrm>
            <a:off x="6877080" y="549360"/>
            <a:ext cx="1974960" cy="2952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Object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746520" cy="477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3743280" cy="307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3"/>
          <a:stretch/>
        </p:blipFill>
        <p:spPr>
          <a:xfrm>
            <a:off x="3851280" y="3284640"/>
            <a:ext cx="4465800" cy="3352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В нём простота, и вместе с нею -  слож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Что недоступна даже мудре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Здесь на глазах преобразилась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В поверхность без начала и ко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Здесь нет пределов, нет огранич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Стремись вперёд и открывай ми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Почувствуй силу новых ощу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Прими познанья высшие дары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tumblr_l3v2k7Kjh71qa4pypo1_400"/>
          <p:cNvPicPr/>
          <p:nvPr/>
        </p:nvPicPr>
        <p:blipFill>
          <a:blip r:embed="rId1"/>
          <a:stretch/>
        </p:blipFill>
        <p:spPr>
          <a:xfrm rot="21100200">
            <a:off x="6012000" y="3499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mebius"/>
          <p:cNvPicPr/>
          <p:nvPr/>
        </p:nvPicPr>
        <p:blipFill>
          <a:blip r:embed="rId2"/>
          <a:stretch/>
        </p:blipFill>
        <p:spPr>
          <a:xfrm rot="361200">
            <a:off x="468360" y="4149360"/>
            <a:ext cx="3384360" cy="22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орт"/>
          <p:cNvPicPr/>
          <p:nvPr/>
        </p:nvPicPr>
        <p:blipFill>
          <a:blip r:embed="rId1"/>
          <a:stretch/>
        </p:blipFill>
        <p:spPr>
          <a:xfrm>
            <a:off x="4319640" y="-387360"/>
            <a:ext cx="4824360" cy="4824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Объект исследования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-  Лента Меб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05520" y="4437000"/>
            <a:ext cx="4038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Предмет исследования</a:t>
            </a: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- свойства Л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image002"/>
          <p:cNvPicPr/>
          <p:nvPr/>
        </p:nvPicPr>
        <p:blipFill>
          <a:blip r:embed="rId4"/>
          <a:stretch/>
        </p:blipFill>
        <p:spPr>
          <a:xfrm>
            <a:off x="324000" y="3933720"/>
            <a:ext cx="4771800" cy="246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ahoma"/>
              </a:rPr>
              <a:t>Лист Мёбиус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- поверхность, получающаяся при склеивании двух противоположных сторон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B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прямоугольника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BB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 так, что точк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совмещаются соответственно с точкам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i="1" lang="en-US" sz="3200" spc="-1" strike="noStrike">
                <a:solidFill>
                  <a:srgbClr val="000066"/>
                </a:solidFill>
                <a:latin typeface="Tahoma"/>
              </a:rPr>
              <a:t>`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1258920" y="3357720"/>
            <a:ext cx="6120720" cy="3167640"/>
            <a:chOff x="1258920" y="3357720"/>
            <a:chExt cx="6120720" cy="3167640"/>
          </a:xfrm>
        </p:grpSpPr>
        <p:sp>
          <p:nvSpPr>
            <p:cNvPr id="199" name="WordArt 4"/>
            <p:cNvSpPr txBox="1"/>
            <p:nvPr/>
          </p:nvSpPr>
          <p:spPr>
            <a:xfrm>
              <a:off x="1258920" y="4413240"/>
              <a:ext cx="281880" cy="38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0" name="WordArt 5"/>
            <p:cNvSpPr txBox="1"/>
            <p:nvPr/>
          </p:nvSpPr>
          <p:spPr>
            <a:xfrm>
              <a:off x="1258920" y="3357720"/>
              <a:ext cx="28188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В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1" name="WordArt 6"/>
            <p:cNvSpPr txBox="1"/>
            <p:nvPr/>
          </p:nvSpPr>
          <p:spPr>
            <a:xfrm>
              <a:off x="7097400" y="3357720"/>
              <a:ext cx="28224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В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2" name="WordArt 7"/>
            <p:cNvSpPr txBox="1"/>
            <p:nvPr/>
          </p:nvSpPr>
          <p:spPr>
            <a:xfrm>
              <a:off x="7097400" y="4531680"/>
              <a:ext cx="28224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3" name="WordArt 8"/>
            <p:cNvSpPr txBox="1"/>
            <p:nvPr/>
          </p:nvSpPr>
          <p:spPr>
            <a:xfrm>
              <a:off x="1918800" y="4413240"/>
              <a:ext cx="18864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4" name="WordArt 9"/>
            <p:cNvSpPr txBox="1"/>
            <p:nvPr/>
          </p:nvSpPr>
          <p:spPr>
            <a:xfrm>
              <a:off x="3237480" y="4648320"/>
              <a:ext cx="37548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`В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205" name="Picture 10" descr="Untitled-1"/>
            <p:cNvPicPr/>
            <p:nvPr/>
          </p:nvPicPr>
          <p:blipFill>
            <a:blip r:embed="rId1"/>
            <a:stretch/>
          </p:blipFill>
          <p:spPr>
            <a:xfrm>
              <a:off x="1540800" y="3709440"/>
              <a:ext cx="54568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ordArt 11"/>
            <p:cNvSpPr txBox="1"/>
            <p:nvPr/>
          </p:nvSpPr>
          <p:spPr>
            <a:xfrm>
              <a:off x="2201400" y="5468400"/>
              <a:ext cx="471240" cy="38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АВ`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7" name="WordArt 12"/>
            <p:cNvSpPr txBox="1"/>
            <p:nvPr/>
          </p:nvSpPr>
          <p:spPr>
            <a:xfrm>
              <a:off x="1540800" y="6174360"/>
              <a:ext cx="189000" cy="3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Arial"/>
                </a:rPr>
                <a:t>б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МЕБИУС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Август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Tahoma"/>
              </a:rPr>
              <a:t>Фердинанд</a:t>
            </a:r>
            <a:r>
              <a:rPr b="1" lang="en-US" sz="4000" spc="-1" strike="noStrike">
                <a:solidFill>
                  <a:srgbClr val="9900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17.11.1790 - 26.09.186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mmebius"/>
          <p:cNvPicPr/>
          <p:nvPr/>
        </p:nvPicPr>
        <p:blipFill>
          <a:blip r:embed="rId1"/>
          <a:stretch/>
        </p:blipFill>
        <p:spPr>
          <a:xfrm>
            <a:off x="5580000" y="1773360"/>
            <a:ext cx="3171960" cy="4464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900000" y="2349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50920" y="1413000"/>
            <a:ext cx="7056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971640" y="3429000"/>
            <a:ext cx="301608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-геометр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13" name="WordArt 11"/>
          <p:cNvSpPr txBox="1"/>
          <p:nvPr/>
        </p:nvSpPr>
        <p:spPr>
          <a:xfrm>
            <a:off x="971640" y="4076640"/>
            <a:ext cx="30956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-астроно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214" name="WordArt 12"/>
          <p:cNvSpPr txBox="1"/>
          <p:nvPr/>
        </p:nvSpPr>
        <p:spPr>
          <a:xfrm>
            <a:off x="826920" y="227664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емецкий: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p:transition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  <p:set>
                                      <p:cBhvr>
                                        <p:cTn id="41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ahoma"/>
              </a:rPr>
              <a:t>А жизнь прошла так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одился в Шульпфорте (Германия)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7.11.1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чился в Лейпццигском университете (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09 – 1813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ченик "короля математиков" К. Гау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  Геттигенском университете (1813-181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4 г.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изучал математику  в  университет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. Гал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6 г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. начал вести самостоя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астрономические наблюден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лейсенбургской обсерва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1818 г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. стал ее директором, позж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фессором Лейпциг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Умер 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26.09.18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5640" y="981000"/>
            <a:ext cx="705636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ahoma"/>
              </a:rPr>
              <a:t>Есть версия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6408720" cy="13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ткрыть свой «лист» Мёбиусу помогла служанка, сшившая однажды неправильно концы л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j0297439[1]"/>
          <p:cNvPicPr/>
          <p:nvPr/>
        </p:nvPicPr>
        <p:blipFill>
          <a:blip r:embed="rId1"/>
          <a:stretch/>
        </p:blipFill>
        <p:spPr>
          <a:xfrm>
            <a:off x="6939000" y="1341360"/>
            <a:ext cx="2205000" cy="2808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692360" y="328464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идумал ленту Мёбиус, когда   наблюдал за горничной, неправильно одевшей на шею свой плат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79280" y="1197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ернее тр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539640" y="1268280"/>
            <a:ext cx="7056720" cy="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MCj02335810000[1]"/>
          <p:cNvPicPr/>
          <p:nvPr/>
        </p:nvPicPr>
        <p:blipFill>
          <a:blip r:embed="rId2"/>
          <a:stretch/>
        </p:blipFill>
        <p:spPr>
          <a:xfrm>
            <a:off x="0" y="3860640"/>
            <a:ext cx="2162160" cy="2810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564000" y="494172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иноват во всём портной, который неправильно вшил манжет рубашки.</a:t>
            </a:r>
            <a:r>
              <a:rPr b="0" lang="ru-RU" sz="1800" spc="-1" strike="noStrike">
                <a:solidFill>
                  <a:srgbClr val="d9d8ec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8:28:38Z</dcterms:created>
  <dc:creator>Оля</dc:creator>
  <dc:description/>
  <dc:language>en-US</dc:language>
  <cp:lastModifiedBy>5</cp:lastModifiedBy>
  <dcterms:modified xsi:type="dcterms:W3CDTF">2017-02-07T19:08:36Z</dcterms:modified>
  <cp:revision>61</cp:revision>
  <dc:subject/>
  <dc:title>Слайд 1</dc:title>
</cp:coreProperties>
</file>