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04E-5A42-41DD-9D37-1A8331C1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CD5-2480-4547-BF06-1A1DF43C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25D-188A-442D-8777-FABC7314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FFD-1ECB-44CA-A820-7F564F82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A9F-E0AB-45CC-A97C-A21EADA9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A8F-C87C-44FD-A82C-E6320344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4DA-03E6-48A9-AB43-71EDBAF5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4D6-3BEE-46A7-B6B4-9B5D8DDB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C8C-3AC1-43B8-AD15-460DDC9C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AE5-0E7B-4910-A780-93AD796E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C15-396A-4858-8A41-4B78C548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C39-47F2-4B5E-A841-D696DDC2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225F-14F3-4E1D-91E2-C598B62FC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Оригинальное поздравление “Защита Отечества есть священный долг”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250920" y="1773360"/>
            <a:ext cx="83534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оздравляем всех воинов, мужчин, отслуживших в армии и мальчишек, которым еще предстоит защищать Род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жской замечательный празд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ень силы и славы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ю огромного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я, а так ж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6084720" y="4221000"/>
            <a:ext cx="288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враль, двадцать третье – страна позд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прекрасных своих сынов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много побед впереди ожи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рад, и успехов, и памятных дней!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5867280" y="4365720"/>
            <a:ext cx="2979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йный мужской пол! Вас лю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оздравляем с 23 февра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им, чтобы на жизненном пу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трудности смогли бы вы прой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вас хранит и ангел, и удач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ходит верное решение задач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будет небо чистым, голуб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вас в обиду, тоже не дади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7308720" y="4005360"/>
            <a:ext cx="1835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тяжело мужчиной быт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все свои подставить пле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угодить, за всех ре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, а потом - за все от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здравляю вас,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быть мужчиной - это че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инство и понима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6948360" y="3500280"/>
            <a:ext cx="2195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в феврале такой один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красный праздник для мужч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ы спешим напереб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ить с датой вас та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будет ласкова су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6732720" y="2643120"/>
            <a:ext cx="2187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23 февраля сердечно поздравля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аздник мужества и долга искренне жела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, покой, достаток в дом, настроенья, счаст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ости, царящей в нем, всегда возвраща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имания и лад, желаний исполн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мечты… чтоб сбылись в срок, точно, без сомнени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7740720" y="4730760"/>
            <a:ext cx="14032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Защитника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 февраля – это торжественный праздник и звучит очень могущественно. Я от всей души желаю всем мужчинам на земле счастья, здоровья, благополуч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rekom\Desktop\Внеклассные мероприятия\23 февраля\23 февраля-фото\fonstola.ru-94364.jpg"/>
          <p:cNvPicPr/>
          <p:nvPr/>
        </p:nvPicPr>
        <p:blipFill>
          <a:blip r:embed="rId1"/>
          <a:stretch/>
        </p:blipFill>
        <p:spPr>
          <a:xfrm>
            <a:off x="6046920" y="4076640"/>
            <a:ext cx="309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9T15:51:27Z</dcterms:created>
  <dc:creator>Лилия</dc:creator>
  <dc:description/>
  <dc:language>en-US</dc:language>
  <cp:lastModifiedBy>Liliya</cp:lastModifiedBy>
  <dcterms:modified xsi:type="dcterms:W3CDTF">2017-02-07T11:00:49Z</dcterms:modified>
  <cp:revision>2</cp:revision>
  <dc:subject/>
  <dc:title>Слайд 1</dc:title>
</cp:coreProperties>
</file>