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CBA-B8BD-4952-95C2-6065FBFB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A08-D6D9-4071-853F-A96CE2B1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70F-D87C-4899-ABAE-CCEA364C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680-94EB-4899-9B35-C90191E6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343-D368-44F6-8628-81C3FE90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0F2-0E28-494F-9E03-EE775C9B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93A-6C7D-4A52-8D04-6035D4DB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9FE-EAE6-4280-B84E-65983E5A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A77-781E-4BB2-B02F-92AA3E8E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5B2-872A-4BC8-9DCB-C08C414A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8CB-AFFE-43E1-96C4-CB0BDEC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CBE-8B6C-4B5B-8706-086AD8BC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468-65F7-49E2-805F-6734F6E06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Оригинальное поздравление “Защита Отечества есть священный долг”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250920" y="1773360"/>
            <a:ext cx="83534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оздравляем всех воинов, мужчин, отслуживших в армии и мальчишек, которым еще предстоит защищать Ро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жской замечательный празд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ень силы и славы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огромного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я, а так ж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084720" y="4221000"/>
            <a:ext cx="288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, двадцать третье – страна позд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прекрасных своих сынов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много побед впереди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рад, и успехов, и памятных дней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5867280" y="4365720"/>
            <a:ext cx="2979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йный мужской пол! Вас лю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оздравляем с 23 февра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им, чтобы на жизненном пу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трудности смогли бы вы прой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вас хранит и ангел, и удач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дит верное решение задач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будет небо чистым, голуб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ас в обиду, тоже не дад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7308720" y="4005360"/>
            <a:ext cx="1835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яжело мужчиной быт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се свои подставить пл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угодить, за всех ре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 потом - за все от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здравляю вас,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быть мужчиной - это ч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инство и понима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948360" y="3500280"/>
            <a:ext cx="2195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 феврале такой один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расный праздник для мужч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ы спешим напере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ить с датой вас та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будет ласкова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732720" y="2643120"/>
            <a:ext cx="2187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23 февраля сердечно поздравля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аздник мужества и долга искренне жела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, покой, достаток в дом, настроенья, счас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сти, царящей в нем, всегда возвраща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мания и лад, желаний исполн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ечты… чтоб сбылись в срок, точно, без сомнени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7740720" y="4730760"/>
            <a:ext cx="1403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февраля – это торжественный праздник и звучит очень могущественно. Я от всей души желаю всем мужчинам на земле счастья, здоровья, благополуч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046920" y="4076640"/>
            <a:ext cx="309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9T15:51:27Z</dcterms:created>
  <dc:creator>Лилия</dc:creator>
  <dc:description/>
  <dc:language>en-US</dc:language>
  <cp:lastModifiedBy>Liliya</cp:lastModifiedBy>
  <dcterms:modified xsi:type="dcterms:W3CDTF">2017-02-07T11:00:49Z</dcterms:modified>
  <cp:revision>2</cp:revision>
  <dc:subject/>
  <dc:title>Слайд 1</dc:title>
</cp:coreProperties>
</file>