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E77E-F114-4CD7-9416-608B7800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950C-AD35-4241-9738-9CDE8CFA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D28DB-2EA3-4FD3-9682-59D7A4CA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5A80E-6063-476A-B975-16D490ED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44035-5D80-44A5-9F49-F3FCACCB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C52FC-CE34-401E-9D33-BB293C35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65E1D-6C80-440C-BA6E-DDEAD194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4D12A-F117-49C4-90DA-E7FD3744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CF950-08FC-44AB-85C2-E4A83197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BDA7C-E337-4439-BF6F-9044E5FF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CC75F-092B-4F63-A4D4-9A55B0C1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748D-B6E0-405D-B7A2-016CB656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BB8E-A750-41EF-B254-9C39CF9C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0DA5-6A50-46BE-BD5B-E58E5489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5D80-11A6-4613-8CDE-AFCE1B63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9988-8963-47F5-8218-09E36D90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A462-318B-4506-9D39-5941ABD5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023E-08AF-4088-ABB5-5886BF7E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E956-1151-4456-A2D6-1031F672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D783-EE56-4480-BE36-A7E11E03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3388-BAD9-4C07-AE0B-E7B581C4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C2FD-3AB2-46C3-9C7F-78D96FDA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A74E-6015-4DB3-8B3D-35B7291C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4D99-B1D3-4185-B89A-3212A977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E52E-73E4-4BD2-9E85-DB26CC41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F7F0-D6E7-47FC-A937-BAC8E0D3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F3F57-BA42-4EE2-A353-22A8769B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AF0FD-F052-4A0B-9FB7-E032DA7C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8FC00-2611-4BCA-987D-A34B9A7A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3917F-3675-4BE2-9FC6-0D0198A9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7DB6D-F9F3-41B0-82AB-7ED0F0AA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4F36-8FEF-4CEC-8187-492B6CBF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A495A-07F8-420A-B3B7-38560E73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E5DC3-B4E9-4975-A5B6-057F2935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075FD-E5CD-4AFE-8C90-CA1061C4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8982A-67B1-4C56-8A70-6FEA8C6A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2FC0C-A160-4D08-B2EB-D5BE6627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B9769-265F-45AC-A309-A3AA1457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B9B1E-C8D7-437B-9FD7-AD852165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B9673-4770-4135-807B-C89A748DB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B204E-647F-4588-BB0F-21E88862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6BD6C-6666-4CF0-A838-91DA6D95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04BC-1E9B-4356-9CCB-FCFAC691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091D8-7BF8-4539-8D44-F9B223D5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DF3BF-8E9C-440D-BDBC-A80396B8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29EB2-231D-4A3F-9241-CE82A1A3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49986-6147-4438-94F1-AB4FC017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3DC46-B518-40F5-8658-64B94D09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81807-C087-48BA-AFD6-00420C65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4B633-E4C9-4B59-A6A8-2EAFBA90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B3B82-0F1B-4E55-86BF-B6272DC9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66C3F-0174-45EB-BF4F-FFE2FC76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80F6E-845B-4DD3-B0FF-03B53885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478E-76CD-4AF2-B538-458103A6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8A969-B3A1-4E91-A5B7-27420F59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23B4E-52B8-4303-BB75-0775B991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24883-9F09-46FB-8E8D-FB11BA84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3C255-825C-4024-9B06-3CB48821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61601-B537-4997-B47F-B402FA42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3E7B2-C7A6-4AF2-BCA2-82F918E9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083A1-7C3F-499F-8FF2-16EAC146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1712F-3B13-4112-8C77-6D317B32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7298F-1A31-445A-B6CC-59DD216F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2CB0E-ED7E-4280-99A7-D086519B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6E48-8359-49B2-8C15-70714E29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7288D-580E-4C95-90A8-3A3DDCED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BB236-53BA-4690-BF61-3E8264BB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F46C9-85E0-4B68-B74F-A73534B0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8AD91-CA0C-44D3-86CD-5A1C6697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263EC-5B05-45E3-900F-51D146AF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1D9AC-0BDB-452F-A615-C6A2259E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D79BF-C6B3-47C7-811C-EEB05D59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C4B8B-509A-4DF3-BB32-C9429313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72AC3-D90D-44AB-A629-7F8CFC68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5495E-59B6-42AE-AD3B-87B50256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4277-9F7A-4581-B6D1-1D85C1FE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73585-1B9C-4329-9872-8B978242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18E0A-67DF-4A86-B35A-2A429D13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6D805-9174-4605-9EE2-8A2DAB51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27AF8-3335-4139-9A61-EDD967F8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77CE5-64A5-41DC-9243-C74CC378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F8550-D6FA-491D-BA2D-9B1726F9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49F2D-A76B-494F-8E7F-08C63382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B42AC-C9AE-400C-9361-BAE0FACF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448C6-681D-4E21-BA11-DF28E273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A8ACC-6ECE-41D6-910C-BFFA3036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8896-257E-467D-A80F-1AE9B111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0A2BA-66F3-433D-8036-29D6F433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2126C-20D7-4DD7-B1AD-7FF52296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6148C-D6F7-48F3-9F1D-4943366A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FD34A-06B3-44E4-9044-8C4A8955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2326E-5B2A-4024-8FF8-DD4B6E3E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88D3C-39D5-4C0B-ABCA-53C659E4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8C47C-C588-4D1F-AC1D-D651BA38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D40DB-546A-48CD-B713-619D74BA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13082-78E1-4AA0-AFE3-3A3E9754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60342-E10A-4032-A168-A9E6234A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4096-7FB1-4BCE-B1A9-E7593237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17702-1850-4721-96DB-AF643D7C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7C6A3-27BC-4592-8765-5472E0DA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2C7B2-17C6-4876-82CC-5C971BAD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C0760-3D3A-4042-A730-4CFF1FC8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D7841-84BB-4952-9E6B-4FD0F94E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3B1BF-163F-46D9-84C4-B47B5340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F2D8B-8150-4097-BE30-1BFDE879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8D64A-2D6B-4026-932B-8246A68D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C88CB-78F8-4477-B435-CC86546C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DDABD-F962-4B31-B389-C5673AF1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2E3F-272E-4C2F-B9B9-3D0D14CD390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5DEE-BFB6-485A-B004-0564D80959E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15DE-2EB9-4075-94EC-54CC242CB0A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0ACC-F7C1-41F4-A828-4FF64FB39A5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E845-5C89-4746-B27E-813B7C35E79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E985-881E-4E99-8993-64FCFF2336B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E9C7-3673-4D48-9FC5-11267AD8CB1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F071-1BE1-4857-9EEC-EBAD3EF95AE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D9CD-72E9-4F56-AD20-2C0E0838146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3"/>
          <p:cNvSpPr/>
          <p:nvPr/>
        </p:nvSpPr>
        <p:spPr>
          <a:xfrm>
            <a:off x="357120" y="42876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етский сад № 388» городского округа Самар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Прямоугольник 4"/>
          <p:cNvSpPr/>
          <p:nvPr/>
        </p:nvSpPr>
        <p:spPr>
          <a:xfrm>
            <a:off x="1000080" y="2071800"/>
            <a:ext cx="7215120" cy="43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Обогащение предметной пространственной среды ДОУ поделками детей и взрослых в технике плетения из бумажных трубочек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рший воспитатель МБДОУ «Детский сад № 388» г.о. Самара Завороткова Татьяна Алексеевн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"/>
          <p:cNvSpPr/>
          <p:nvPr/>
        </p:nvSpPr>
        <p:spPr>
          <a:xfrm>
            <a:off x="500040" y="134280"/>
            <a:ext cx="82868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Данная техника достаточно трудна для детей, поэтому мы разработали более легкий ее вариант – то, что по силам. Плетеное дно поделки заменили картонкой, к которой приклеиваются стойки. Дети плетут основу и когда работа закончена, стойки не заправляются внутрь поделки, поскольку ребята с этим не справятся, а просто обрезаются. И, конечно, скрутить палочки им тоже достаточно трудно – их готовят педагоги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В процессе работы дети высказывали свои мысли по изготовлению поделок, спрашивали, как расширить или убавить форму, выбирали трубочки по цветам, т.е. стали проявлять фантазию и творческий подход к делу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делки, сделанные от начала до конца своими руками, вызывали у детей неподдельный восторг, а если поделка нашла свое место в интерьере группы, то радость была неописуемой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оугольник 3"/>
          <p:cNvSpPr/>
          <p:nvPr/>
        </p:nvSpPr>
        <p:spPr>
          <a:xfrm>
            <a:off x="2286000" y="2071800"/>
            <a:ext cx="4572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Monotype Corsiva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-360" y="285840"/>
            <a:ext cx="8929800" cy="51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годовом плане нашего детского сада на текущий учебный год в рамках одной из тематических недель был запланирован конкурс поделок из бросового материал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ыла создана обширная выставка работ, в которой приняли участие педагоги, родители, помощники воспитателей, и, конечно, де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холл, где располагалась выставка, и взрослые и малыши ходили как на экскурсию. Были работы традиционные, они тоже имеют свою ценность. Но некоторые поделки вызвали повышенный интерес. Это работы в техниках: квиллинг, пэчворк, оригами и другие. Но особенно понравилась работа по мотивам сказки «Кот в сапогах». Поделка была сплетена их бумажных трубочек и дополнена фигурками из соленого тест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2" name="Рисунок 1" descr="http://cs624116.vk.me/v624116636/2158e/wSHJeU1-Mjg.jpg"/>
          <p:cNvPicPr/>
          <p:nvPr/>
        </p:nvPicPr>
        <p:blipFill>
          <a:blip r:embed="rId1"/>
          <a:stretch/>
        </p:blipFill>
        <p:spPr>
          <a:xfrm>
            <a:off x="1714680" y="3857760"/>
            <a:ext cx="6143400" cy="264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28760" y="234360"/>
            <a:ext cx="8072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Этой техникой сотрудники нашего ДОУ буквально были заражены, и в группах стали появляться плетеные поделки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Первое и самое простое, что появилось – это подставки под детские работы (лепку и ручной труд), под настольный театр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4" name="Рисунок 4" descr=""/>
          <p:cNvPicPr/>
          <p:nvPr/>
        </p:nvPicPr>
        <p:blipFill>
          <a:blip r:embed="rId1"/>
          <a:stretch/>
        </p:blipFill>
        <p:spPr>
          <a:xfrm>
            <a:off x="1500120" y="2357280"/>
            <a:ext cx="5643720" cy="3929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Рисунок 5" descr=""/>
          <p:cNvPicPr/>
          <p:nvPr/>
        </p:nvPicPr>
        <p:blipFill>
          <a:blip r:embed="rId1"/>
          <a:stretch/>
        </p:blipFill>
        <p:spPr>
          <a:xfrm>
            <a:off x="2928960" y="1785960"/>
            <a:ext cx="3143160" cy="271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6" name="Рисунок 6" descr=""/>
          <p:cNvPicPr/>
          <p:nvPr/>
        </p:nvPicPr>
        <p:blipFill>
          <a:blip r:embed="rId2"/>
          <a:stretch/>
        </p:blipFill>
        <p:spPr>
          <a:xfrm>
            <a:off x="285840" y="2928960"/>
            <a:ext cx="3071880" cy="364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7" name="Рисунок 7" descr=""/>
          <p:cNvPicPr/>
          <p:nvPr/>
        </p:nvPicPr>
        <p:blipFill>
          <a:blip r:embed="rId3"/>
          <a:stretch/>
        </p:blipFill>
        <p:spPr>
          <a:xfrm>
            <a:off x="6143760" y="2714760"/>
            <a:ext cx="2786040" cy="335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08" name="Rectangle 4"/>
          <p:cNvSpPr/>
          <p:nvPr/>
        </p:nvSpPr>
        <p:spPr>
          <a:xfrm>
            <a:off x="428760" y="45576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Затем появились небольшие работы, сделанные совместно с детьми – это стаканчики под карандаши, рамочки для фотографий, кашпо для цветочных горшков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1071720" y="51264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В подарок мамам  ребята подготовительной группы сплели шкатулочки для украшений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0" name="Рисунок 8" descr=""/>
          <p:cNvPicPr/>
          <p:nvPr/>
        </p:nvPicPr>
        <p:blipFill>
          <a:blip r:embed="rId1"/>
          <a:stretch/>
        </p:blipFill>
        <p:spPr>
          <a:xfrm>
            <a:off x="1643040" y="2071800"/>
            <a:ext cx="5072040" cy="3900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Рисунок 9" descr=""/>
          <p:cNvPicPr/>
          <p:nvPr/>
        </p:nvPicPr>
        <p:blipFill>
          <a:blip r:embed="rId1"/>
          <a:stretch/>
        </p:blipFill>
        <p:spPr>
          <a:xfrm>
            <a:off x="642960" y="1428840"/>
            <a:ext cx="3857760" cy="492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2" name="Рисунок 10" descr=""/>
          <p:cNvPicPr/>
          <p:nvPr/>
        </p:nvPicPr>
        <p:blipFill>
          <a:blip r:embed="rId2"/>
          <a:stretch/>
        </p:blipFill>
        <p:spPr>
          <a:xfrm>
            <a:off x="4714920" y="1000080"/>
            <a:ext cx="3929040" cy="492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13" name="Rectangle 3"/>
          <p:cNvSpPr/>
          <p:nvPr/>
        </p:nvSpPr>
        <p:spPr>
          <a:xfrm>
            <a:off x="1714680" y="69480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Вскоре появились вазы,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Рисунок 11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4357440" cy="32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5" name="Рисунок 12" descr=""/>
          <p:cNvPicPr/>
          <p:nvPr/>
        </p:nvPicPr>
        <p:blipFill>
          <a:blip r:embed="rId2"/>
          <a:stretch/>
        </p:blipFill>
        <p:spPr>
          <a:xfrm>
            <a:off x="4286160" y="3071880"/>
            <a:ext cx="446256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16" name="Rectangle 3"/>
          <p:cNvSpPr/>
          <p:nvPr/>
        </p:nvSpPr>
        <p:spPr>
          <a:xfrm>
            <a:off x="1143000" y="44460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сундучок со сказками,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4459320" y="1961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Рисунок 13" descr=""/>
          <p:cNvPicPr/>
          <p:nvPr/>
        </p:nvPicPr>
        <p:blipFill>
          <a:blip r:embed="rId1"/>
          <a:stretch/>
        </p:blipFill>
        <p:spPr>
          <a:xfrm>
            <a:off x="4572000" y="1214280"/>
            <a:ext cx="3909960" cy="4857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9" name="Рисунок 14" descr=""/>
          <p:cNvPicPr/>
          <p:nvPr/>
        </p:nvPicPr>
        <p:blipFill>
          <a:blip r:embed="rId2"/>
          <a:stretch/>
        </p:blipFill>
        <p:spPr>
          <a:xfrm>
            <a:off x="357120" y="1214280"/>
            <a:ext cx="4143600" cy="485784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3"/>
          <p:cNvSpPr/>
          <p:nvPr/>
        </p:nvSpPr>
        <p:spPr>
          <a:xfrm>
            <a:off x="928800" y="515880"/>
            <a:ext cx="67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корзинка именинника,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4461840" y="26701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Рисунок 15" descr=""/>
          <p:cNvPicPr/>
          <p:nvPr/>
        </p:nvPicPr>
        <p:blipFill>
          <a:blip r:embed="rId1"/>
          <a:stretch/>
        </p:blipFill>
        <p:spPr>
          <a:xfrm>
            <a:off x="500040" y="1500120"/>
            <a:ext cx="3786120" cy="442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3" name="Рисунок 16" descr=""/>
          <p:cNvPicPr/>
          <p:nvPr/>
        </p:nvPicPr>
        <p:blipFill>
          <a:blip r:embed="rId2"/>
          <a:stretch/>
        </p:blipFill>
        <p:spPr>
          <a:xfrm>
            <a:off x="4714920" y="1714680"/>
            <a:ext cx="3857760" cy="441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4" name="Rectangle 3"/>
          <p:cNvSpPr/>
          <p:nvPr/>
        </p:nvSpPr>
        <p:spPr>
          <a:xfrm>
            <a:off x="0" y="658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атрибуты для театрализованной деятельности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4461840" y="22986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7T06:50:44Z</dcterms:created>
  <dc:creator>Татьяна</dc:creator>
  <dc:description/>
  <dc:language>en-US</dc:language>
  <cp:lastModifiedBy>Татьяна</cp:lastModifiedBy>
  <dcterms:modified xsi:type="dcterms:W3CDTF">2017-02-07T07:37:51Z</dcterms:modified>
  <cp:revision>5</cp:revision>
  <dc:subject/>
  <dc:title>Слайд 1</dc:title>
</cp:coreProperties>
</file>