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3D5-0BBE-405E-BEBE-1974B0E7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538-14E6-4CAA-809D-29AFA7B4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70441-DC10-4B1A-B5A4-3B9A803B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467B5-3B35-4A1C-A245-DB5EA147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36891-270B-4564-A267-6D8A1B80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73B85-5A62-4A18-8643-359912CA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BB76B-1735-4B94-B0A7-0CFB227E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4F407-EBD0-4FB4-B903-858E0820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11F03-E377-4814-B8FC-82C74BBD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C3F40-42BE-4D1B-95B2-4965F1E3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AF5B9-C12D-4C74-809C-1D712943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C9BE-5A9D-4132-89D2-1C5738A2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51A8-A2F8-4862-A2E2-5092538F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6BEE-0A54-4109-B869-503ADAD5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5E88-BAEA-4953-B2CB-70F87D19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F637-C363-4007-839C-A3673ACA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1E29-AC2F-4EA9-AF83-4AAE707F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D08F-7559-42A7-85FA-8D62C82E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C0AD-FBFD-417E-98A4-49B95129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B8BE-6F0B-4482-8813-81E3973B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309-C429-4BC9-A00C-9A199DDC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06D5-94A2-4450-A0DE-AC253FC7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44D7-B7FC-430C-9E16-80EFA3B0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E07F-AF02-4783-B79C-F714DDED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D3EE-E4BB-4C3B-8532-4B4D5196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D640-729C-4341-896E-84EA8C32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2D7D0-B362-43C8-A7A9-947A5350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33A1E-FB2F-437C-855F-9DF68ECA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22E0D-0E9A-4D50-90D6-2D72A7A8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28474-1F3B-43D4-8CAD-FDEBE067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A90D8-6026-4055-853F-ABD35956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9557-918B-4A40-A4AC-8EA19D86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BDCD2-1C47-479D-98EB-0C943063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B831F-05B2-45A8-813F-1BF41EE8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66F83-E677-4ECF-B83C-9EA5603A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68F69-ABB9-4C20-8E57-F02D7B29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4BB01-4635-45D1-AD98-AD8C26B2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0E23B-2DF4-4963-B762-D47A7C21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E6D0D-7B6E-4E74-BE9A-E0A4461D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4663D-33EE-4568-AF29-E0645179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A78EB-6EA5-4596-A904-2FA4CEAE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A66A2-6944-4D0D-A76D-85E4400F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E90D-6AE7-48B4-BE7F-594C91E0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B3F6B-008A-4C25-8DB9-517B0285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5E783-E947-4F81-9D8D-A9E1947C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5B090-F55D-4967-9E28-23A25E51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3B73C-7F55-428F-8806-8B3E0E76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5BD5A-02B7-4B78-8294-36876681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6A3A4-49E1-43DE-8517-C3F41C13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5CA6E-D7DC-46BF-B640-B0360F3B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19BC5-5567-4DDE-8370-34103D78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2B826-A76B-4B6C-AF49-97A8B39B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7F145-3251-4E91-8228-9277E15A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CB8-3B46-480F-BC7F-77159995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084B4-857E-4A61-AED1-68EF72BB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E34A2-5AF7-477A-90D7-CC4FF8F4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A8086-0E4A-4705-A163-82CD0F2A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0A0B9-448F-44F8-A81E-581DF49F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C9CF0-A0DD-4DE5-A723-2E5ED479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029FF-D529-45C0-9219-F5C4116F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01619-A4BD-42D3-B5FD-4805202F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F366C-1EB1-4D0C-8190-68FF71B0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38CC4-B63B-44AB-B0DB-A70C530B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F93B1-B4C2-436E-9348-154EEA87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D29-CDE4-4CA9-AF21-473D2B16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1B48E-2826-45E7-BBDF-4180FD45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01A47-88F3-45F4-BB18-1D01A945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64CDB-84A5-47AC-B89D-62B8317B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570E1-E5C7-4C4D-8490-3D70DB22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68B2C-DFFD-4806-8485-98A7C917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9EACC-BEF9-4588-82A3-6C5B1AFF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27377-399B-474F-A0DE-616AA5C2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6E0F6-7E12-4146-9644-34A85D69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0B402-20D4-49E6-ACAB-11D988D9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39AD8-5526-44F9-AE78-2A57E8C1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F09-C23B-4639-BDB2-A1D6225D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B4462-1EDB-4597-93C8-0AF1830F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1930D-13A3-41A5-84FB-D8D49251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31499-A8BA-4206-AE10-C2D1C650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532A4-0765-4B71-8461-C6868D04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4389B-79CC-4E64-A942-72EEEE76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4414E-E2F2-4ED4-A96E-5DF51323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186E5-4801-4E68-AB24-C8825894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35DC9-5F70-4555-809B-EB53E59D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3579C-B29C-4775-B521-469AA06A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5940F-987D-40A6-B0A6-0630A873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CCC-4084-4AA5-A015-7B7420DE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7F4E5-C7D0-4D8C-956E-65A50DFE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6A6AE-30DF-4039-A8CA-DA611342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FB9C1-85D4-4B63-8BFD-9519BF58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A8241-B07E-45A7-BE54-CB75EE70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8D749-1374-445C-9140-1E187ED7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E1287-4C30-4665-A40C-FE0DD6C8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7A74D-0E9A-4CE1-88FB-140E53E7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B88E4-74BB-4824-BAF8-6786A383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F2547-AE6C-4648-955C-6D5688FA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1A292-4EE8-47BD-A326-DEFA957A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A338-F11E-4E9E-BC53-187FE844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F92C9-FDE4-4E65-91C1-25078E0E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5F5EC-D3B5-4253-9B47-FB1E91B5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BC8FF-5880-4E89-AC08-9954DD18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43885-193E-4CBD-A886-5A320A4F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49752-68F5-4B4F-9923-13AC3FE1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BF818-E6BD-4C24-812A-8B9F5C94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47637-86F5-48BD-BDE6-DFF47B57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09529-FBB1-44F2-AE43-FB2F32D2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DC706-9F12-4D21-A8CD-228948C0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41DB1-EFA9-4F8C-94B7-4CB7462C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4BCF-0991-4C4C-B4FF-E76DAB6BF3E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6522-3F2C-4288-88FF-8E28F2053AC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EAA5-DEF8-4831-AB0E-889B228B284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EEDC-D756-4234-8731-1A6DF7DC9FB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2141-C606-4689-8487-0464AED8334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C363-4C4B-44A0-83D8-AF37128E045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F0AE-826F-43DF-9D40-B43BF23B14F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A62B-1842-4877-9531-2563E50F5F0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BEEA-2735-49CF-BC4F-0EF1D7C30F0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3"/>
          <p:cNvSpPr/>
          <p:nvPr/>
        </p:nvSpPr>
        <p:spPr>
          <a:xfrm>
            <a:off x="357120" y="42876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етский сад № 388» городского округа Самар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Прямоугольник 4"/>
          <p:cNvSpPr/>
          <p:nvPr/>
        </p:nvSpPr>
        <p:spPr>
          <a:xfrm>
            <a:off x="1000080" y="2071800"/>
            <a:ext cx="7215120" cy="43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Обогащение предметной пространственной среды ДОУ поделками детей и взрослых в технике плетения из бумажных трубочек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рший воспитатель МБДОУ «Детский сад № 388» г.о. Самара Завороткова Татьяна Алексеевн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"/>
          <p:cNvSpPr/>
          <p:nvPr/>
        </p:nvSpPr>
        <p:spPr>
          <a:xfrm>
            <a:off x="500040" y="134280"/>
            <a:ext cx="8286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Данная техника достаточно трудна для детей, поэтому мы разработали более легкий ее вариант – то, что по силам. Плетеное дно поделки заменили картонкой, к которой приклеиваются стойки. Дети плетут основу и когда работа закончена, стойки не заправляются внутрь поделки, поскольку ребята с этим не справятся, а просто обрезаются. И, конечно, скрутить палочки им тоже достаточно трудно – их готовят педагоги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В процессе работы дети высказывали свои мысли по изготовлению поделок, спрашивали, как расширить или убавить форму, выбирали трубочки по цветам, т.е. стали проявлять фантазию и творческий подход к делу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делки, сделанные от начала до конца своими руками, вызывали у детей неподдельный восторг, а если поделка нашла свое место в интерьере группы, то радость была неописуемой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3"/>
          <p:cNvSpPr/>
          <p:nvPr/>
        </p:nvSpPr>
        <p:spPr>
          <a:xfrm>
            <a:off x="2286000" y="2071800"/>
            <a:ext cx="4572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-360" y="285840"/>
            <a:ext cx="892980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годовом плане нашего детского сада на текущий учебный год в рамках одной из тематических недель был запланирован конкурс поделок из бросового материал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ыла создана обширная выставка работ, в которой приняли участие педагоги, родители, помощники воспитателей, и, конечно, де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холл, где располагалась выставка, и взрослые и малыши ходили как на экскурсию. Были работы традиционные, они тоже имеют свою ценность. Но некоторые поделки вызвали повышенный интерес. Это работы в техниках: квиллинг, пэчворк, оригами и другие. Но особенно понравилась работа по мотивам сказки «Кот в сапогах». Поделка была сплетена их бумажных трубочек и дополнена фигурками из соленого тест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2" name="Рисунок 1" descr="http://cs624116.vk.me/v624116636/2158e/wSHJeU1-Mjg.jpg"/>
          <p:cNvPicPr/>
          <p:nvPr/>
        </p:nvPicPr>
        <p:blipFill>
          <a:blip r:embed="rId1"/>
          <a:stretch/>
        </p:blipFill>
        <p:spPr>
          <a:xfrm>
            <a:off x="1714680" y="3857760"/>
            <a:ext cx="6143400" cy="264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28760" y="234360"/>
            <a:ext cx="807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Этой техникой сотрудники нашего ДОУ буквально были заражены, и в группах стали появляться плетеные поделки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Первое и самое простое, что появилось – это подставки под детские работы (лепку и ручной труд), под настольный театр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4" name="Рисунок 4" descr=""/>
          <p:cNvPicPr/>
          <p:nvPr/>
        </p:nvPicPr>
        <p:blipFill>
          <a:blip r:embed="rId1"/>
          <a:stretch/>
        </p:blipFill>
        <p:spPr>
          <a:xfrm>
            <a:off x="1500120" y="2357280"/>
            <a:ext cx="5643720" cy="3929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5" descr=""/>
          <p:cNvPicPr/>
          <p:nvPr/>
        </p:nvPicPr>
        <p:blipFill>
          <a:blip r:embed="rId1"/>
          <a:stretch/>
        </p:blipFill>
        <p:spPr>
          <a:xfrm>
            <a:off x="2928960" y="1785960"/>
            <a:ext cx="3143160" cy="271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6" name="Рисунок 6" descr=""/>
          <p:cNvPicPr/>
          <p:nvPr/>
        </p:nvPicPr>
        <p:blipFill>
          <a:blip r:embed="rId2"/>
          <a:stretch/>
        </p:blipFill>
        <p:spPr>
          <a:xfrm>
            <a:off x="285840" y="2928960"/>
            <a:ext cx="3071880" cy="36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7" name="Рисунок 7" descr=""/>
          <p:cNvPicPr/>
          <p:nvPr/>
        </p:nvPicPr>
        <p:blipFill>
          <a:blip r:embed="rId3"/>
          <a:stretch/>
        </p:blipFill>
        <p:spPr>
          <a:xfrm>
            <a:off x="6143760" y="2714760"/>
            <a:ext cx="2786040" cy="335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8" name="Rectangle 4"/>
          <p:cNvSpPr/>
          <p:nvPr/>
        </p:nvSpPr>
        <p:spPr>
          <a:xfrm>
            <a:off x="428760" y="45576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тем появились небольшие работы, сделанные совместно с детьми – это стаканчики под карандаши, рамочки для фотографий, кашпо для цветочных горшков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1071720" y="51264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В подарок мамам  ребята подготовительной группы сплели шкатулочки для украшений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0" name="Рисунок 8" descr=""/>
          <p:cNvPicPr/>
          <p:nvPr/>
        </p:nvPicPr>
        <p:blipFill>
          <a:blip r:embed="rId1"/>
          <a:stretch/>
        </p:blipFill>
        <p:spPr>
          <a:xfrm>
            <a:off x="1643040" y="2071800"/>
            <a:ext cx="5072040" cy="390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9" descr=""/>
          <p:cNvPicPr/>
          <p:nvPr/>
        </p:nvPicPr>
        <p:blipFill>
          <a:blip r:embed="rId1"/>
          <a:stretch/>
        </p:blipFill>
        <p:spPr>
          <a:xfrm>
            <a:off x="642960" y="1428840"/>
            <a:ext cx="3857760" cy="492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2" name="Рисунок 10" descr=""/>
          <p:cNvPicPr/>
          <p:nvPr/>
        </p:nvPicPr>
        <p:blipFill>
          <a:blip r:embed="rId2"/>
          <a:stretch/>
        </p:blipFill>
        <p:spPr>
          <a:xfrm>
            <a:off x="4714920" y="1000080"/>
            <a:ext cx="3929040" cy="492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13" name="Rectangle 3"/>
          <p:cNvSpPr/>
          <p:nvPr/>
        </p:nvSpPr>
        <p:spPr>
          <a:xfrm>
            <a:off x="1714680" y="69480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Вскоре появились вазы,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Рисунок 11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4357440" cy="32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5" name="Рисунок 12" descr=""/>
          <p:cNvPicPr/>
          <p:nvPr/>
        </p:nvPicPr>
        <p:blipFill>
          <a:blip r:embed="rId2"/>
          <a:stretch/>
        </p:blipFill>
        <p:spPr>
          <a:xfrm>
            <a:off x="4286160" y="3071880"/>
            <a:ext cx="446256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16" name="Rectangle 3"/>
          <p:cNvSpPr/>
          <p:nvPr/>
        </p:nvSpPr>
        <p:spPr>
          <a:xfrm>
            <a:off x="1143000" y="44460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сундучок со сказками,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4459320" y="1961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Рисунок 13" descr=""/>
          <p:cNvPicPr/>
          <p:nvPr/>
        </p:nvPicPr>
        <p:blipFill>
          <a:blip r:embed="rId1"/>
          <a:stretch/>
        </p:blipFill>
        <p:spPr>
          <a:xfrm>
            <a:off x="4572000" y="1214280"/>
            <a:ext cx="3909960" cy="4857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9" name="Рисунок 14" descr=""/>
          <p:cNvPicPr/>
          <p:nvPr/>
        </p:nvPicPr>
        <p:blipFill>
          <a:blip r:embed="rId2"/>
          <a:stretch/>
        </p:blipFill>
        <p:spPr>
          <a:xfrm>
            <a:off x="357120" y="1214280"/>
            <a:ext cx="4143600" cy="485784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3"/>
          <p:cNvSpPr/>
          <p:nvPr/>
        </p:nvSpPr>
        <p:spPr>
          <a:xfrm>
            <a:off x="928800" y="5158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корзинка именинника,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4461840" y="26701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Рисунок 15" descr=""/>
          <p:cNvPicPr/>
          <p:nvPr/>
        </p:nvPicPr>
        <p:blipFill>
          <a:blip r:embed="rId1"/>
          <a:stretch/>
        </p:blipFill>
        <p:spPr>
          <a:xfrm>
            <a:off x="500040" y="1500120"/>
            <a:ext cx="3786120" cy="44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3" name="Рисунок 16" descr=""/>
          <p:cNvPicPr/>
          <p:nvPr/>
        </p:nvPicPr>
        <p:blipFill>
          <a:blip r:embed="rId2"/>
          <a:stretch/>
        </p:blipFill>
        <p:spPr>
          <a:xfrm>
            <a:off x="4714920" y="1714680"/>
            <a:ext cx="3857760" cy="441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4" name="Rectangle 3"/>
          <p:cNvSpPr/>
          <p:nvPr/>
        </p:nvSpPr>
        <p:spPr>
          <a:xfrm>
            <a:off x="0" y="658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атрибуты для театрализованной деятельности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4461840" y="22986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7T06:50:44Z</dcterms:created>
  <dc:creator>Татьяна</dc:creator>
  <dc:description/>
  <dc:language>en-US</dc:language>
  <cp:lastModifiedBy>Татьяна</cp:lastModifiedBy>
  <dcterms:modified xsi:type="dcterms:W3CDTF">2017-02-07T07:37:51Z</dcterms:modified>
  <cp:revision>5</cp:revision>
  <dc:subject/>
  <dc:title>Слайд 1</dc:title>
</cp:coreProperties>
</file>