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8.jpeg" ContentType="image/jpeg"/>
  <Override PartName="/ppt/media/image9.png" ContentType="image/png"/>
  <Override PartName="/ppt/media/image20.png" ContentType="image/png"/>
  <Override PartName="/ppt/media/image28.png" ContentType="image/png"/>
  <Override PartName="/ppt/media/image5.gif" ContentType="image/gif"/>
  <Override PartName="/ppt/media/image7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18.png" ContentType="image/png"/>
  <Override PartName="/ppt/media/image6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1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wmf" ContentType="image/x-wmf"/>
  <Override PartName="/ppt/media/image24.wmf" ContentType="image/x-wmf"/>
  <Override PartName="/ppt/media/image25.wmf" ContentType="image/x-wmf"/>
  <Override PartName="/ppt/media/image2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30C7-B57B-4C8D-9E17-BECB6C1E5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F6D9-5D5B-4942-ADE9-D729FCB0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23AB-2BBD-410D-B07E-DEF8454F4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77CD-52AB-48EF-B081-82E49236C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7FD8-FABB-401C-A612-CEC6DE2C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4B1C-24D9-4CF9-ACD8-7C6BCC31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A400-7538-4D85-A0F6-733E6D0C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8531-3585-41AC-A136-A67E59E6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7FCB-A619-4494-B416-E89F15E3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5FF8-5AF1-4348-959A-436BB2E6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A961-E1EF-4307-B9C2-07335EB7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7A7D-B1BC-4C8E-A1F4-A5BF4AEC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9A97-E448-4F13-B475-761BE187A2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4.wmf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hyperlink" Target="file:///&#1087;&#1088;&#1080;&#1083;&#1086;&#1078;&#1077;&#1085;&#1080;&#1077;%20&#8470;1.doc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file:///&#1055;&#1088;&#1072;&#1074;&#1080;&#1083;&#1072;%20&#1090;&#1077;&#1093;&#1085;&#1080;&#1082;&#1080;%20&#1073;&#1077;&#1079;&#1086;&#1087;&#1072;&#1089;&#1085;&#1086;&#1089;&#1090;&#1080;%20&#1085;&#1072;%20&#1079;&#1072;&#1085;&#1103;&#1090;&#1080;&#1103;&#1093;%20&#1083;&#1099;&#1078;&#1085;&#1086;&#1081;%20&#1087;&#1086;&#1076;&#1075;&#1086;&#1090;&#1086;&#1074;&#1082;&#1086;&#1081;-5&#1082;&#1083;.doc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file:///&#1090;&#1077;&#1093;&#1085;&#1080;&#1082;&#1072;%20&#1087;&#1077;&#1088;&#1077;&#1076;&#1074;&#1080;&#1078;&#1077;&#1085;&#1080;&#1081;.doc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2840" y="1590480"/>
            <a:ext cx="6858000" cy="183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ЛЫЖНАЯ ПОДГОТОВ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67080" y="3962160"/>
            <a:ext cx="426744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: ученик 6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теров Серг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514600" y="685800"/>
            <a:ext cx="425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gency FB"/>
              </a:rPr>
              <a:t>МКОУ «Ключинская СШ»</a:t>
            </a:r>
            <a:endParaRPr b="0" lang="en-US" sz="20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3352680" y="6400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gency FB"/>
              </a:rPr>
              <a:t>Ключи 2016г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pic>
        <p:nvPicPr>
          <p:cNvPr id="45" name="Рисунок 5" descr=""/>
          <p:cNvPicPr/>
          <p:nvPr/>
        </p:nvPicPr>
        <p:blipFill>
          <a:blip r:embed="rId1"/>
          <a:stretch/>
        </p:blipFill>
        <p:spPr>
          <a:xfrm>
            <a:off x="990720" y="3559320"/>
            <a:ext cx="304776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Object 2"/>
          <p:cNvGraphicFramePr/>
          <p:nvPr/>
        </p:nvGraphicFramePr>
        <p:xfrm>
          <a:off x="3200400" y="1371600"/>
          <a:ext cx="3557520" cy="469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371600"/>
                    <a:ext cx="3557520" cy="46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Text Box 3"/>
          <p:cNvSpPr/>
          <p:nvPr/>
        </p:nvSpPr>
        <p:spPr>
          <a:xfrm>
            <a:off x="1721880" y="380880"/>
            <a:ext cx="560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СХЕМА ЛЫЖНОГО СТАДИОНА</a:t>
            </a: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04920" y="571500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228600" y="601992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08" name="Line 9"/>
          <p:cNvSpPr/>
          <p:nvPr/>
        </p:nvSpPr>
        <p:spPr>
          <a:xfrm>
            <a:off x="304920" y="632448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1355760" y="5562720"/>
            <a:ext cx="255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бный круг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ая для учителя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ая для учащихся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Object 2"/>
          <p:cNvGraphicFramePr/>
          <p:nvPr/>
        </p:nvGraphicFramePr>
        <p:xfrm>
          <a:off x="2743200" y="1778040"/>
          <a:ext cx="3557520" cy="469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778040"/>
                    <a:ext cx="3557520" cy="46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Text Box 3"/>
          <p:cNvSpPr/>
          <p:nvPr/>
        </p:nvSpPr>
        <p:spPr>
          <a:xfrm>
            <a:off x="924120" y="428760"/>
            <a:ext cx="72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Схема передвижений на лыжном стадионе</a:t>
            </a: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5257800" y="2286000"/>
          <a:ext cx="519120" cy="51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2286000"/>
                    <a:ext cx="5191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5"/>
          <p:cNvGraphicFramePr/>
          <p:nvPr/>
        </p:nvGraphicFramePr>
        <p:xfrm>
          <a:off x="5791320" y="3200400"/>
          <a:ext cx="519120" cy="519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3200400"/>
                    <a:ext cx="5191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6"/>
          <p:cNvGraphicFramePr/>
          <p:nvPr/>
        </p:nvGraphicFramePr>
        <p:xfrm>
          <a:off x="4267080" y="3886200"/>
          <a:ext cx="519120" cy="519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67080" y="3886200"/>
                    <a:ext cx="5191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8"/>
          <p:cNvGraphicFramePr/>
          <p:nvPr/>
        </p:nvGraphicFramePr>
        <p:xfrm>
          <a:off x="457200" y="5562720"/>
          <a:ext cx="38088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0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5562720"/>
                    <a:ext cx="3808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9"/>
          <p:cNvGraphicFramePr/>
          <p:nvPr/>
        </p:nvGraphicFramePr>
        <p:xfrm>
          <a:off x="228600" y="6095880"/>
          <a:ext cx="380880" cy="381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2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8600" y="6095880"/>
                    <a:ext cx="3808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10"/>
          <p:cNvGraphicFramePr/>
          <p:nvPr/>
        </p:nvGraphicFramePr>
        <p:xfrm>
          <a:off x="609480" y="6095880"/>
          <a:ext cx="381240" cy="381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4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9480" y="6095880"/>
                    <a:ext cx="3812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Line 11"/>
          <p:cNvSpPr/>
          <p:nvPr/>
        </p:nvSpPr>
        <p:spPr>
          <a:xfrm>
            <a:off x="990720" y="5791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26" name="Line 12"/>
          <p:cNvSpPr/>
          <p:nvPr/>
        </p:nvSpPr>
        <p:spPr>
          <a:xfrm>
            <a:off x="1143000" y="6324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1432080" y="556272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еся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9.16667E-006 -1.48148E-006 C -0.0106 -0.01042 -0.02067 -0.0257 -0.04028 -0.03519 C -0.0599 -0.04468 -0.08959 -0.06042 -0.11806 -0.05741 C -0.14653 -0.0544 -0.18212 -0.04931 -0.21112 -0.01667 C -0.24011 0.01597 -0.27709 0.08356 -0.29167 0.13889 C -0.30626 0.19421 -0.30626 0.26227 -0.29862 0.31481 C -0.29098 0.36736 -0.27292 0.41551 -0.24584 0.4537 C -0.21876 0.4919 -0.17657 0.53819 -0.13612 0.54444 C -0.09567 0.55069 -0.03629 0.5243 -0.00278 0.49074 C 0.03072 0.45717 0.05295 0.39444 0.06527 0.34259 C 0.0776 0.29074 0.07777 0.23217 0.07083 0.17963 C 0.06388 0.12708 0.03558 0.05625 0.02361 0.02778 C 0.01163 -0.000699999999999999 0.01058 0.01042 -9.16667E-006 -1.48148E-006 Z">
                                      <p:cBhvr>
                                        <p:cTn id="198" dur="5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5.55556E-006 C -0.00747 -0.04746 -0.01441 -0.06922 -0.03195 -0.09815 C -0.04948 -0.12709 -0.0757 -0.15857 -0.10556 -0.17408 C -0.13542 -0.18959 -0.17795 -0.20209 -0.21111 -0.19075 C -0.24427 -0.1794 -0.28038 -0.14052 -0.30417 -0.10556 C -0.32795 -0.07061 -0.34566 -0.02778 -0.35417 0.01851 C -0.36268 0.06481 -0.36163 0.12615 -0.35556 0.17222 C -0.34948 0.21828 -0.33889 0.25763 -0.31806 0.29444 C -0.29722 0.33124 -0.26025 0.37569 -0.23056 0.39259 C -0.20087 0.40948 -0.16997 0.41018 -0.14028 0.39629 C -0.11059 0.3824 -0.07292 0.34629 -0.05278 0.30925 C -0.03264 0.27222 -0.02084 0.22615 -0.01945 0.17407 C -0.01806 0.12198 -0.02483 0.04097 -0.04445 -0.00371 C -0.06406 -0.04839 -0.10278 -0.08334 -0.1375 -0.09445 C -0.17222 -0.10556 -0.22222 -0.09908 -0.25278 -0.07038 C -0.28334 -0.04167 -0.31094 0.0243 -0.32084 0.07777 C -0.33073 0.13124 -0.3257 0.20092 -0.3125 0.24999 C -0.29931 0.29907 -0.26719 0.34652 -0.24167 0.37222 C -0.21615 0.39791 -0.19045 0.4074 -0.15972 0.4037 C -0.129 0.39999 -0.08559 0.3861 -0.05695 0.34999 C -0.0283 0.31388 0.00278 0.24467 0.0125 0.18703 C 0.02222 0.12939 0.00746 0.04745 4.16667E-006 -5.55556E-006 Z">
                                      <p:cBhvr>
                                        <p:cTn id="200" dur="10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Object 2"/>
          <p:cNvGraphicFramePr/>
          <p:nvPr/>
        </p:nvGraphicFramePr>
        <p:xfrm>
          <a:off x="2743200" y="1778040"/>
          <a:ext cx="3557520" cy="469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778040"/>
                    <a:ext cx="3557520" cy="46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Text Box 3"/>
          <p:cNvSpPr/>
          <p:nvPr/>
        </p:nvSpPr>
        <p:spPr>
          <a:xfrm>
            <a:off x="924120" y="428760"/>
            <a:ext cx="72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Схема передвижений на лыжном стадионе</a:t>
            </a: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</p:txBody>
      </p:sp>
      <p:graphicFrame>
        <p:nvGraphicFramePr>
          <p:cNvPr id="131" name="Object 4"/>
          <p:cNvGraphicFramePr/>
          <p:nvPr/>
        </p:nvGraphicFramePr>
        <p:xfrm>
          <a:off x="2666880" y="4648320"/>
          <a:ext cx="519120" cy="51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4648320"/>
                    <a:ext cx="5191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5"/>
          <p:cNvGraphicFramePr/>
          <p:nvPr/>
        </p:nvGraphicFramePr>
        <p:xfrm>
          <a:off x="3200400" y="5486400"/>
          <a:ext cx="519120" cy="519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5486400"/>
                    <a:ext cx="5191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6"/>
          <p:cNvGraphicFramePr/>
          <p:nvPr/>
        </p:nvGraphicFramePr>
        <p:xfrm>
          <a:off x="4267080" y="3886200"/>
          <a:ext cx="519120" cy="519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6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67080" y="3886200"/>
                    <a:ext cx="5191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59259E-006 C 0.0125 0.01481 0.02517 0.02986 0.04166 0.04074 C 0.05816 0.05162 0.07864 0.0618 0.09861 0.06481 C 0.11857 0.06782 0.14948 0.0618 0.16111 0.05926 C 0.17274 0.05671 0.17031 0.05324 0.16805 0.05 E">
                                      <p:cBhvr>
                                        <p:cTn id="206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6 -0.0007 C 0.00989 0.03727 0.01892 0.07546 0.03559 0.10301 C 0.05225 0.13055 0.08559 0.15139 0.10086 0.16412 C 0.11614 0.17685 0.1217 0.17778 0.12725 0.17893 E">
                                      <p:cBhvr>
                                        <p:cTn id="208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805 0.05 L 0.17083 -0.51852 L 0.19722 -0.56852 L 0.27917 -0.57037 L 0.30694 -0.51852 L 0.30694 -0.22778 L 0.29444 -0.10555 L 0.225 0.01667 L 0.175 0.05556 E">
                                      <p:cBhvr>
                                        <p:cTn id="212" dur="3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726 0.17894 L 0.12726 -0.2544 L 0.12864 -0.38773 L 0.10226 -0.43403 L 0.02726 -0.43588 L -0.01024 -0.39144 L -0.00608 -0.11921 L -0.00469 -0.02106 L 0.03281 0.0956 L 0.11614 0.18819 E">
                                      <p:cBhvr>
                                        <p:cTn id="214" dur="3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1947960" y="345240"/>
            <a:ext cx="52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носливость - главное качество лыжн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517680" y="1255680"/>
            <a:ext cx="816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имой выносливость развивается благодаря длительному передвижению на лыжах. В первых тренировках на выносливость темп передвижения должен быть слабым и средним. 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же контролировать темп? Как определить его? 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pic>
        <p:nvPicPr>
          <p:cNvPr id="139" name="Picture 4" descr="Рис 64"/>
          <p:cNvPicPr/>
          <p:nvPr/>
        </p:nvPicPr>
        <p:blipFill>
          <a:blip r:embed="rId1"/>
          <a:stretch/>
        </p:blipFill>
        <p:spPr>
          <a:xfrm>
            <a:off x="685800" y="2590920"/>
            <a:ext cx="1638360" cy="17049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2590920" y="2590920"/>
            <a:ext cx="58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чше всего это делать по частоте сердечных сокращений - по пульсу. Пульс можно подсчитать, положив пальцы одной руки на запястье другой 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590920" y="346536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щутив пульсирующие толчки, подсчитай количество ударов за 6 или 10 секунд. Умножив полученную цифру соответственно, на 10 или 6, получишь количество ударов в минуту. 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2651040" y="4684680"/>
            <a:ext cx="5426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 передвижения на лыжах при частоте пульса 130-140 ударов в минуту считается слабым, 140-150 - средним или умеренным, 160-170 - выше среднего. Сильным темпом считается передвижение при частоте пульса более 170 ударов в минуту. 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0" descr="free_st"/>
          <p:cNvPicPr/>
          <p:nvPr/>
        </p:nvPicPr>
        <p:blipFill>
          <a:blip r:embed="rId1"/>
          <a:stretch/>
        </p:blipFill>
        <p:spPr>
          <a:xfrm>
            <a:off x="457200" y="2590920"/>
            <a:ext cx="2905200" cy="3838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gor_lizh"/>
          <p:cNvPicPr/>
          <p:nvPr/>
        </p:nvPicPr>
        <p:blipFill>
          <a:blip r:embed="rId2"/>
          <a:stretch/>
        </p:blipFill>
        <p:spPr>
          <a:xfrm>
            <a:off x="2438280" y="0"/>
            <a:ext cx="5029200" cy="3227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sport2"/>
          <p:cNvPicPr/>
          <p:nvPr/>
        </p:nvPicPr>
        <p:blipFill>
          <a:blip r:embed="rId3"/>
          <a:stretch/>
        </p:blipFill>
        <p:spPr>
          <a:xfrm>
            <a:off x="6172200" y="2514600"/>
            <a:ext cx="2649600" cy="39625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3"/>
          <p:cNvSpPr/>
          <p:nvPr/>
        </p:nvSpPr>
        <p:spPr>
          <a:xfrm>
            <a:off x="3352680" y="324648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накомиться с видами лыжного спорта.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winter001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32400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1905120" y="341280"/>
            <a:ext cx="571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981080" y="5335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ЫЖНАЯ ПОДГОТОВКА </a:t>
            </a: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7391520" y="457200"/>
            <a:ext cx="190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pic>
        <p:nvPicPr>
          <p:cNvPr id="51" name="Picture 9" descr="4M5"/>
          <p:cNvPicPr/>
          <p:nvPr/>
        </p:nvPicPr>
        <p:blipFill>
          <a:blip r:embed="rId3"/>
          <a:stretch/>
        </p:blipFill>
        <p:spPr>
          <a:xfrm>
            <a:off x="7391520" y="228600"/>
            <a:ext cx="1523880" cy="9907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1508040" y="2093760"/>
            <a:ext cx="66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609480" y="4876920"/>
            <a:ext cx="7925040" cy="1465560"/>
          </a:xfrm>
          <a:prstGeom prst="rect">
            <a:avLst/>
          </a:pr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ыж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изобретение очень древнее. Ученые полагают, что появились они 20-30 тысяч лет назад. А место их рождения надо искать на севере, посреди бескрайних снегов. У берегов Белого моря встречаются выбитые на скалах изображения лыж, а на Скандинавском полуострове найдены лыжи, которым 2-4 тыс лет.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pic>
        <p:nvPicPr>
          <p:cNvPr id="54" name="Picture 12" descr=""/>
          <p:cNvPicPr/>
          <p:nvPr/>
        </p:nvPicPr>
        <p:blipFill>
          <a:blip r:embed="rId4"/>
          <a:stretch/>
        </p:blipFill>
        <p:spPr>
          <a:xfrm>
            <a:off x="1676520" y="1447920"/>
            <a:ext cx="1947600" cy="2971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"/>
          <p:cNvPicPr/>
          <p:nvPr/>
        </p:nvPicPr>
        <p:blipFill>
          <a:blip r:embed="rId5"/>
          <a:stretch/>
        </p:blipFill>
        <p:spPr>
          <a:xfrm>
            <a:off x="5562720" y="1447920"/>
            <a:ext cx="1936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1736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380880" y="152280"/>
            <a:ext cx="8610840" cy="1465560"/>
          </a:xfrm>
          <a:prstGeom prst="rect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ши предки пользовались лыжами на войне и в быту. Появление лыж было обусловлено потребностью человека добывать на охоте пищу зимой и передвигаться по местности, занесенной снегом. Например, царь Иван III при завоевании Югорской земли (Западная Сибирь) послал специальную лыжную рать, которая успешно воевала в суровых условиях Сибири. 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3322800" y="3352680"/>
            <a:ext cx="2554200" cy="3276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365040" y="1789200"/>
            <a:ext cx="8626680" cy="1465560"/>
          </a:xfrm>
          <a:prstGeom prst="rect">
            <a:avLst/>
          </a:prstGeom>
          <a:gradFill rotWithShape="0">
            <a:gsLst>
              <a:gs pos="0">
                <a:srgbClr val="bbe0e3">
                  <a:alpha val="4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совому увлечению лыжным спортом очень способствовал знаменитый норвежский полярный исследователь Фритьоф Нансен. В 1888 году он первым пересек с запада на восток Гренландию. Это было не только географическое достижение, но и спортивное: ведь Нансен вместе со своими спутниками шел на лыжах.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304920" y="65530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6553080" y="62848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одробнее</a:t>
            </a:r>
            <a:r>
              <a:rPr b="0" lang="ru-RU" sz="1800" spc="-1" strike="noStrike">
                <a:solidFill>
                  <a:srgbClr val="bbe0e3"/>
                </a:solidFill>
                <a:latin typeface="Arial"/>
              </a:rPr>
              <a:t> история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Icy fence and tr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762120" y="533520"/>
            <a:ext cx="7848360" cy="916920"/>
          </a:xfrm>
          <a:prstGeom prst="rect">
            <a:avLst/>
          </a:prstGeom>
          <a:gradFill rotWithShape="0">
            <a:gsLst>
              <a:gs pos="0">
                <a:srgbClr val="bbe0e3">
                  <a:alpha val="56078"/>
                </a:srgbClr>
              </a:gs>
              <a:gs pos="100000">
                <a:srgbClr val="fcfd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895 году был создан Московский лыжный клуб. Правда, первенство России было разыграно только через 15 лет. Соревнования проходили в Москве, на Ходынском поле: 14 лыжников провели забег на 30 км. 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2482920" cy="41148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4952880" y="1981080"/>
            <a:ext cx="3581640" cy="3934440"/>
          </a:xfrm>
          <a:prstGeom prst="rect">
            <a:avLst/>
          </a:prstGeom>
          <a:gradFill rotWithShape="0">
            <a:gsLst>
              <a:gs pos="0">
                <a:srgbClr val="bbe0e3">
                  <a:alpha val="46274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бедителем стал дворник Павел Бычков. На страницах газет развернулась долгая дискуссия о том, можно ли считать спортсменом человека, чья профессиональная деятельность связана с физическим трудом.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стати, Бычков прошел дистанцию за 2 часа 26 минут 47 секунд. Лучшие нынешние лыжники проходят 30-километровую дистанцию на целый час быстрее  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ZIMA_SLID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609480" y="685800"/>
            <a:ext cx="7559640" cy="1465560"/>
          </a:xfrm>
          <a:prstGeom prst="rect">
            <a:avLst/>
          </a:pr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ыжи популярны и в наше время. Для лыж зимой везде дорога; они необходимы охотникам, лесникам, сельским почтальонам. Без лыж не обходится ни одна исследовательская экспедиция. Но до чего же здорово мчаться на лыжах просто так по лыжне, проложенной в сказочном зимнем лесу!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736640" y="316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6172200" y="60199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Техника</a:t>
            </a:r>
            <a:r>
              <a:rPr b="0" lang="ru-RU" sz="1800" spc="-1" strike="noStrike">
                <a:solidFill>
                  <a:srgbClr val="bbe0e3"/>
                </a:solidFill>
                <a:latin typeface="Arial"/>
              </a:rPr>
              <a:t> безопасности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762120" y="3276720"/>
            <a:ext cx="7315200" cy="3111480"/>
          </a:xfrm>
          <a:prstGeom prst="rect">
            <a:avLst/>
          </a:prstGeom>
          <a:gradFill rotWithShape="0">
            <a:gsLst>
              <a:gs pos="0">
                <a:srgbClr val="bbe0e3">
                  <a:alpha val="41176"/>
                </a:srgbClr>
              </a:gs>
              <a:gs pos="100000">
                <a:srgbClr val="ffffff">
                  <a:alpha val="4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естовое задание: 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нимательно прочитайте задание теста.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ыберите правильный ответ и напротив него поставьте цифру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ратите внимание!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Правильный ответ в каждом задании только один!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верьте свою работу и покажите сигналом, что вы закончили.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сле просмотра учителем щёлкните два раза левой клавишей  на слово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в нижнем левом углу.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2803680" y="2851200"/>
            <a:ext cx="2377800" cy="368280"/>
          </a:xfrm>
          <a:prstGeom prst="rect">
            <a:avLst/>
          </a:pr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струкция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3"/>
          <p:cNvSpPr/>
          <p:nvPr/>
        </p:nvSpPr>
        <p:spPr>
          <a:xfrm>
            <a:off x="1279440" y="112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2576520" y="457200"/>
            <a:ext cx="39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хника передвижений на лыжах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746280" y="914400"/>
            <a:ext cx="7864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ыжные ходы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вают попеременными и одновременными. При передвижении на лыжах выполняются толчки сначала одной, а затем другой палкой. Такие лыжные ходы и называютс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переменными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лыжи хорошо скользят по снегу, то возникает необходимость оттолкнуться двумя палками одновременно. Это увеличивает скорость скольжения. Такие лыжные ходы называютс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дновременными.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762120" y="27432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переменный двухшажный ход 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pic>
        <p:nvPicPr>
          <p:cNvPr id="76" name="Picture 18" descr="Рис.3. Первая фаза скользящего шага"/>
          <p:cNvPicPr/>
          <p:nvPr/>
        </p:nvPicPr>
        <p:blipFill>
          <a:blip r:embed="rId1"/>
          <a:stretch/>
        </p:blipFill>
        <p:spPr>
          <a:xfrm>
            <a:off x="152280" y="3352680"/>
            <a:ext cx="2057400" cy="1447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9" descr="Рис.4. Вторая фаза скользящего шага"/>
          <p:cNvPicPr/>
          <p:nvPr/>
        </p:nvPicPr>
        <p:blipFill>
          <a:blip r:embed="rId2"/>
          <a:stretch/>
        </p:blipFill>
        <p:spPr>
          <a:xfrm>
            <a:off x="2209680" y="3352680"/>
            <a:ext cx="2057400" cy="1447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0" descr="Рис.5. Третья фаза скользящего шага"/>
          <p:cNvPicPr/>
          <p:nvPr/>
        </p:nvPicPr>
        <p:blipFill>
          <a:blip r:embed="rId3"/>
          <a:stretch/>
        </p:blipFill>
        <p:spPr>
          <a:xfrm>
            <a:off x="5867280" y="3352680"/>
            <a:ext cx="1600200" cy="1447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1" descr="Рис.6. Четвертая фаза скользящего шага"/>
          <p:cNvPicPr/>
          <p:nvPr/>
        </p:nvPicPr>
        <p:blipFill>
          <a:blip r:embed="rId4"/>
          <a:stretch/>
        </p:blipFill>
        <p:spPr>
          <a:xfrm>
            <a:off x="4191120" y="3352680"/>
            <a:ext cx="1676160" cy="1447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2" descr="Рис.7. Пятая фаза скользящего шага"/>
          <p:cNvPicPr/>
          <p:nvPr/>
        </p:nvPicPr>
        <p:blipFill>
          <a:blip r:embed="rId5"/>
          <a:stretch/>
        </p:blipFill>
        <p:spPr>
          <a:xfrm>
            <a:off x="7391520" y="3352680"/>
            <a:ext cx="1600200" cy="14479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3"/>
          <p:cNvSpPr/>
          <p:nvPr/>
        </p:nvSpPr>
        <p:spPr>
          <a:xfrm>
            <a:off x="214560" y="4913280"/>
            <a:ext cx="26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бодное скольжение 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152280" y="5446800"/>
            <a:ext cx="497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льжение с выпрямлением опорной ноги 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83" name="Text Box 25"/>
          <p:cNvSpPr/>
          <p:nvPr/>
        </p:nvSpPr>
        <p:spPr>
          <a:xfrm>
            <a:off x="228600" y="590400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льжение с подседанием 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84" name="Text Box 26"/>
          <p:cNvSpPr/>
          <p:nvPr/>
        </p:nvSpPr>
        <p:spPr>
          <a:xfrm>
            <a:off x="5181480" y="5105520"/>
            <a:ext cx="287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ад с подседанием 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85" name="Text Box 27"/>
          <p:cNvSpPr/>
          <p:nvPr/>
        </p:nvSpPr>
        <p:spPr>
          <a:xfrm>
            <a:off x="5181480" y="56386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талкивание с выпрямлением толчковой ноги 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1279440" y="264960"/>
            <a:ext cx="66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овременный бесшажный х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898560" y="685800"/>
            <a:ext cx="7559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яется при передвижении под уклон и на равнине, на раскатанных участках лыжной трассы, при наличии хорошей опоры для палок и отличном скольжении. Передвигаясь этим ходом, лыжник одновременно сильно отталкивается палками. Скользя на обеих лыжах, он выносит обе палки вперед и вверх, затем быстро ставит их впереди носков ботинок и сильно отталкивается. Туловище при этом наклоняется до горизонтального положения 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pic>
        <p:nvPicPr>
          <p:cNvPr id="88" name="Picture 7" descr="Рис.10. Одновременный бесшажный ход"/>
          <p:cNvPicPr/>
          <p:nvPr/>
        </p:nvPicPr>
        <p:blipFill>
          <a:blip r:embed="rId1"/>
          <a:stretch/>
        </p:blipFill>
        <p:spPr>
          <a:xfrm>
            <a:off x="2362320" y="2819520"/>
            <a:ext cx="4647960" cy="38098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9"/>
          <p:cNvSpPr/>
          <p:nvPr/>
        </p:nvSpPr>
        <p:spPr>
          <a:xfrm>
            <a:off x="7391520" y="61722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Подробнее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762120" y="4176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ъем «полуелочкой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pic>
        <p:nvPicPr>
          <p:cNvPr id="91" name="Picture 5" descr="Рис.21. Подъем полуелочкой"/>
          <p:cNvPicPr/>
          <p:nvPr/>
        </p:nvPicPr>
        <p:blipFill>
          <a:blip r:embed="rId1"/>
          <a:stretch/>
        </p:blipFill>
        <p:spPr>
          <a:xfrm>
            <a:off x="6324480" y="152280"/>
            <a:ext cx="1981440" cy="18288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685800" y="95076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способ применяют на некрутых склонах 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pic>
        <p:nvPicPr>
          <p:cNvPr id="93" name="Picture 8" descr="Рис.22. Подъем елочкой"/>
          <p:cNvPicPr/>
          <p:nvPr/>
        </p:nvPicPr>
        <p:blipFill>
          <a:blip r:embed="rId2"/>
          <a:stretch/>
        </p:blipFill>
        <p:spPr>
          <a:xfrm>
            <a:off x="6324480" y="1981080"/>
            <a:ext cx="1986120" cy="20574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9"/>
          <p:cNvSpPr/>
          <p:nvPr/>
        </p:nvSpPr>
        <p:spPr>
          <a:xfrm>
            <a:off x="1981080" y="18288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ъем «елочкой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746280" y="2286000"/>
            <a:ext cx="489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увеличением крутизны склона носки лыж разводятся еще шире, а сами лыжи еще больше ставятся на ребра, увеличивается и опора на палки.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2057400" y="3657600"/>
            <a:ext cx="30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рможение «плугом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pic>
        <p:nvPicPr>
          <p:cNvPr id="97" name="Picture 12" descr="Рис.29. Торможение плугом"/>
          <p:cNvPicPr/>
          <p:nvPr/>
        </p:nvPicPr>
        <p:blipFill>
          <a:blip r:embed="rId3"/>
          <a:stretch/>
        </p:blipFill>
        <p:spPr>
          <a:xfrm>
            <a:off x="6324480" y="3962520"/>
            <a:ext cx="1967040" cy="24382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3"/>
          <p:cNvSpPr/>
          <p:nvPr/>
        </p:nvSpPr>
        <p:spPr>
          <a:xfrm>
            <a:off x="822240" y="4191120"/>
            <a:ext cx="474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торможении «плугом», давя пятками на лыжи и сжимая колени, задние концы лыж раздвигают в стороны, а носки сближают. Лыжи ставят на внутренние ребра. Палки держат близко к коленям, сзади. 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2883960" y="341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орот «переступанием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762120" y="83808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уется для изменения направления при движении . 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pic>
        <p:nvPicPr>
          <p:cNvPr id="101" name="Picture 6" descr="Рис.31. Поворот переступанием"/>
          <p:cNvPicPr/>
          <p:nvPr/>
        </p:nvPicPr>
        <p:blipFill>
          <a:blip r:embed="rId1"/>
          <a:stretch/>
        </p:blipFill>
        <p:spPr>
          <a:xfrm>
            <a:off x="4419720" y="838080"/>
            <a:ext cx="4038480" cy="56959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7"/>
          <p:cNvSpPr/>
          <p:nvPr/>
        </p:nvSpPr>
        <p:spPr>
          <a:xfrm>
            <a:off x="762120" y="2057400"/>
            <a:ext cx="25905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спуске со склона в основной стойке тяжесть тела переносится на наружную лыжу, а внутреннюю отводит носком в сторону поворота. Переступание производится энергичным отталкиванием наружной лыжей, после чего она быстро приставляется к внутренней.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ригорий Карелин</cp:lastModifiedBy>
  <dcterms:modified xsi:type="dcterms:W3CDTF">2017-02-07T08:16:31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