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8.jpeg" ContentType="image/jpeg"/>
  <Override PartName="/ppt/media/image9.png" ContentType="image/png"/>
  <Override PartName="/ppt/media/image20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C33-E27E-4B29-8F9B-B741CD19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705-418F-4A13-AB65-88B39EE3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F7-1013-424F-9C35-436FF894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047-006A-40EC-A6BF-5A867144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87F-641C-4A41-8E39-F26852D0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F4E-EDBE-46AF-855E-E605A816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601-4A1D-4345-A5C8-523D06C5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572-E77E-4BED-9121-63F0222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963-B627-4CB3-82C1-98A5FEE3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F6C-A835-4893-8553-DC64AC5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A78-B388-443B-877E-A318B5B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1AF-694C-462F-8AEA-EDA2E10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B4F6-2E76-4940-B088-6D6810423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file:///&#1087;&#1088;&#1080;&#1083;&#1086;&#1078;&#1077;&#1085;&#1080;&#1077;%20&#8470;1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&#1055;&#1088;&#1072;&#1074;&#1080;&#1083;&#1072;%20&#1090;&#1077;&#1093;&#1085;&#1080;&#1082;&#1080;%20&#1073;&#1077;&#1079;&#1086;&#1087;&#1072;&#1089;&#1085;&#1086;&#1089;&#1090;&#1080;%20&#1085;&#1072;%20&#1079;&#1072;&#1085;&#1103;&#1090;&#1080;&#1103;&#1093;%20&#1083;&#1099;&#1078;&#1085;&#1086;&#1081;%20&#1087;&#1086;&#1076;&#1075;&#1086;&#1090;&#1086;&#1074;&#1082;&#1086;&#1081;-5&#1082;&#1083;.doc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&#1090;&#1077;&#1093;&#1085;&#1080;&#1082;&#1072;%20&#1087;&#1077;&#1088;&#1077;&#1076;&#1074;&#1080;&#1078;&#1077;&#1085;&#1080;&#1081;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2840" y="1590480"/>
            <a:ext cx="6858000" cy="18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ЫЖНАЯ ПОДГОТ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67080" y="3962160"/>
            <a:ext cx="4267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еро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514600" y="6858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gency FB"/>
              </a:rPr>
              <a:t>МКОУ «Ключинская СШ»</a:t>
            </a: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352680" y="6400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gency FB"/>
              </a:rPr>
              <a:t>Ключи 2016г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1"/>
          <a:stretch/>
        </p:blipFill>
        <p:spPr>
          <a:xfrm>
            <a:off x="990720" y="3559320"/>
            <a:ext cx="30477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3200400" y="137160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37160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3"/>
          <p:cNvSpPr/>
          <p:nvPr/>
        </p:nvSpPr>
        <p:spPr>
          <a:xfrm>
            <a:off x="1721880" y="380880"/>
            <a:ext cx="56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ХЕМА ЛЫЖНОГО СТАДИОНА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04920" y="5715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28600" y="60199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04920" y="6324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55760" y="5562720"/>
            <a:ext cx="25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круг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для учител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для учащихс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2743200" y="177804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7804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3"/>
          <p:cNvSpPr/>
          <p:nvPr/>
        </p:nvSpPr>
        <p:spPr>
          <a:xfrm>
            <a:off x="924120" y="428760"/>
            <a:ext cx="72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хема передвижений на лыжном стадионе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257800" y="2286000"/>
          <a:ext cx="519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860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5791320" y="3200400"/>
          <a:ext cx="5191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6"/>
          <p:cNvGraphicFramePr/>
          <p:nvPr/>
        </p:nvGraphicFramePr>
        <p:xfrm>
          <a:off x="4267080" y="3886200"/>
          <a:ext cx="5191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8862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457200" y="5562720"/>
          <a:ext cx="380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556272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228600" y="6095880"/>
          <a:ext cx="38088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60958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609480" y="6095880"/>
          <a:ext cx="38124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6095880"/>
                    <a:ext cx="381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11"/>
          <p:cNvSpPr/>
          <p:nvPr/>
        </p:nvSpPr>
        <p:spPr>
          <a:xfrm>
            <a:off x="9907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1143000" y="6324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32080" y="556272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-1.48148E-006 C -0.0106 -0.01042 -0.02067 -0.0257 -0.04028 -0.03519 C -0.0599 -0.04468 -0.08959 -0.06042 -0.11806 -0.05741 C -0.14653 -0.0544 -0.18212 -0.04931 -0.21112 -0.01667 C -0.24011 0.01597 -0.27709 0.08356 -0.29167 0.13889 C -0.30626 0.19421 -0.30626 0.26227 -0.29862 0.31481 C -0.29098 0.36736 -0.27292 0.41551 -0.24584 0.4537 C -0.21876 0.4919 -0.17657 0.53819 -0.13612 0.54444 C -0.09567 0.55069 -0.03629 0.5243 -0.00278 0.49074 C 0.03072 0.45717 0.05295 0.39444 0.06527 0.34259 C 0.0776 0.29074 0.07777 0.23217 0.07083 0.17963 C 0.06388 0.12708 0.03558 0.05625 0.02361 0.02778 C 0.01163 -0.000699999999999999 0.01058 0.01042 -9.16667E-006 -1.48148E-006 Z">
                                      <p:cBhvr>
                                        <p:cTn id="19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55556E-006 C -0.00747 -0.04746 -0.01441 -0.06922 -0.03195 -0.09815 C -0.04948 -0.12709 -0.0757 -0.15857 -0.10556 -0.17408 C -0.13542 -0.18959 -0.17795 -0.20209 -0.21111 -0.19075 C -0.24427 -0.1794 -0.28038 -0.14052 -0.30417 -0.10556 C -0.32795 -0.07061 -0.34566 -0.02778 -0.35417 0.01851 C -0.36268 0.06481 -0.36163 0.12615 -0.35556 0.17222 C -0.34948 0.21828 -0.33889 0.25763 -0.31806 0.29444 C -0.29722 0.33124 -0.26025 0.37569 -0.23056 0.39259 C -0.20087 0.40948 -0.16997 0.41018 -0.14028 0.39629 C -0.11059 0.3824 -0.07292 0.34629 -0.05278 0.30925 C -0.03264 0.27222 -0.02084 0.22615 -0.01945 0.17407 C -0.01806 0.12198 -0.02483 0.04097 -0.04445 -0.00371 C -0.06406 -0.04839 -0.10278 -0.08334 -0.1375 -0.09445 C -0.17222 -0.10556 -0.22222 -0.09908 -0.25278 -0.07038 C -0.28334 -0.04167 -0.31094 0.0243 -0.32084 0.07777 C -0.33073 0.13124 -0.3257 0.20092 -0.3125 0.24999 C -0.29931 0.29907 -0.26719 0.34652 -0.24167 0.37222 C -0.21615 0.39791 -0.19045 0.4074 -0.15972 0.4037 C -0.129 0.39999 -0.08559 0.3861 -0.05695 0.34999 C -0.0283 0.31388 0.00278 0.24467 0.0125 0.18703 C 0.02222 0.12939 0.00746 0.04745 4.16667E-006 -5.55556E-006 Z">
                                      <p:cBhvr>
                                        <p:cTn id="200" dur="10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2743200" y="1778040"/>
          <a:ext cx="35575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78040"/>
                    <a:ext cx="35575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924120" y="428760"/>
            <a:ext cx="72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хема передвижений на лыжном стадионе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2666880" y="4648320"/>
          <a:ext cx="519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64832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3200400" y="5486400"/>
          <a:ext cx="5191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4864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4267080" y="3886200"/>
          <a:ext cx="5191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886200"/>
                    <a:ext cx="519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59259E-006 C 0.0125 0.01481 0.02517 0.02986 0.04166 0.04074 C 0.05816 0.05162 0.07864 0.0618 0.09861 0.06481 C 0.11857 0.06782 0.14948 0.0618 0.16111 0.05926 C 0.17274 0.05671 0.17031 0.05324 0.16805 0.05 E">
                                      <p:cBhvr>
                                        <p:cTn id="20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-0.0007 C 0.00989 0.03727 0.01892 0.07546 0.03559 0.10301 C 0.05225 0.13055 0.08559 0.15139 0.10086 0.16412 C 0.11614 0.17685 0.1217 0.17778 0.12725 0.17893 E">
                                      <p:cBhvr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05 0.05 L 0.17083 -0.51852 L 0.19722 -0.56852 L 0.27917 -0.57037 L 0.30694 -0.51852 L 0.30694 -0.22778 L 0.29444 -0.10555 L 0.225 0.01667 L 0.175 0.05556 E">
                                      <p:cBhvr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6 0.17894 L 0.12726 -0.2544 L 0.12864 -0.38773 L 0.10226 -0.43403 L 0.02726 -0.43588 L -0.01024 -0.39144 L -0.00608 -0.11921 L -0.00469 -0.02106 L 0.03281 0.0956 L 0.11614 0.18819 E">
                                      <p:cBhvr>
                                        <p:cTn id="21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947960" y="34524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носливость - главное качество лыж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17680" y="1255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выносливость развивается благодаря длительному передвижению на лыжах. В первых тренировках на выносливость темп передвижения должен быть слабым и средним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контролировать темп? Как определить его?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139" name="Picture 4" descr="Рис 64"/>
          <p:cNvPicPr/>
          <p:nvPr/>
        </p:nvPicPr>
        <p:blipFill>
          <a:blip r:embed="rId1"/>
          <a:stretch/>
        </p:blipFill>
        <p:spPr>
          <a:xfrm>
            <a:off x="685800" y="2590920"/>
            <a:ext cx="163836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90920" y="2590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всего это делать по частоте сердечных сокращений - по пульсу. Пульс можно подсчитать, положив пальцы одной руки на запястье другой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90920" y="3465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щутив пульсирующие толчки, подсчитай количество ударов за 6 или 10 секунд. Умножив полученную цифру соответственно, на 10 или 6, получишь количество ударов в минуту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651040" y="4684680"/>
            <a:ext cx="542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 передвижения на лыжах при частоте пульса 130-140 ударов в минуту считается слабым, 140-150 - средним или умеренным, 160-170 - выше среднего. Сильным темпом считается передвижение при частоте пульса более 170 ударов в минуту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free_st"/>
          <p:cNvPicPr/>
          <p:nvPr/>
        </p:nvPicPr>
        <p:blipFill>
          <a:blip r:embed="rId1"/>
          <a:stretch/>
        </p:blipFill>
        <p:spPr>
          <a:xfrm>
            <a:off x="457200" y="2590920"/>
            <a:ext cx="2905200" cy="3838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gor_lizh"/>
          <p:cNvPicPr/>
          <p:nvPr/>
        </p:nvPicPr>
        <p:blipFill>
          <a:blip r:embed="rId2"/>
          <a:stretch/>
        </p:blipFill>
        <p:spPr>
          <a:xfrm>
            <a:off x="2438280" y="0"/>
            <a:ext cx="5029200" cy="322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sport2"/>
          <p:cNvPicPr/>
          <p:nvPr/>
        </p:nvPicPr>
        <p:blipFill>
          <a:blip r:embed="rId3"/>
          <a:stretch/>
        </p:blipFill>
        <p:spPr>
          <a:xfrm>
            <a:off x="6172200" y="2514600"/>
            <a:ext cx="2649600" cy="39625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3352680" y="32464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ся с видами лыжного спорта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inter00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905120" y="341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8108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ЖНАЯ ПОДГОТОВКА 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391520" y="4572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1" name="Picture 9" descr="4M5"/>
          <p:cNvPicPr/>
          <p:nvPr/>
        </p:nvPicPr>
        <p:blipFill>
          <a:blip r:embed="rId3"/>
          <a:stretch/>
        </p:blipFill>
        <p:spPr>
          <a:xfrm>
            <a:off x="7391520" y="228600"/>
            <a:ext cx="15238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508040" y="209376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09480" y="4876920"/>
            <a:ext cx="792504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ж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зобретение очень древнее. Ученые полагают, что появились они 20-30 тысяч лет назад. А место их рождения надо искать на севере, посреди бескрайних снегов. У берегов Белого моря встречаются выбитые на скалах изображения лыж, а на Скандинавском полуострове найдены лыжи, которым 2-4 тыс лет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1676520" y="1447920"/>
            <a:ext cx="194760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5"/>
          <a:stretch/>
        </p:blipFill>
        <p:spPr>
          <a:xfrm>
            <a:off x="5562720" y="1447920"/>
            <a:ext cx="193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73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80880" y="152280"/>
            <a:ext cx="8610840" cy="1465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предки пользовались лыжами на войне и в быту. Появление лыж было обусловлено потребностью человека добывать на охоте пищу зимой и передвигаться по местности, занесенной снегом. Например, царь Иван III при завоевании Югорской земли (Западная Сибирь) послал специальную лыжную рать, которая успешно воевала в суровых условиях Сибири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322800" y="3352680"/>
            <a:ext cx="255420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65040" y="1789200"/>
            <a:ext cx="862668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ому увлечению лыжным спортом очень способствовал знаменитый норвежский полярный исследователь Фритьоф Нансен. В 1888 году он первым пересек с запада на восток Гренландию. Это было не только географическое достижение, но и спортивное: ведь Нансен вместе со своими спутниками шел на лыжах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6553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6553080" y="6284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дробнее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истори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cy fence and 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533520"/>
            <a:ext cx="7848360" cy="916920"/>
          </a:xfrm>
          <a:prstGeom prst="rect">
            <a:avLst/>
          </a:prstGeom>
          <a:gradFill rotWithShape="0">
            <a:gsLst>
              <a:gs pos="0">
                <a:srgbClr val="bbe0e3">
                  <a:alpha val="56078"/>
                </a:srgbClr>
              </a:gs>
              <a:gs pos="100000">
                <a:srgbClr val="fcf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95 году был создан Московский лыжный клуб. Правда, первенство России было разыграно только через 15 лет. Соревнования проходили в Москве, на Ходынском поле: 14 лыжников провели забег на 30 км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8292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952880" y="1981080"/>
            <a:ext cx="3581640" cy="3934440"/>
          </a:xfrm>
          <a:prstGeom prst="rect">
            <a:avLst/>
          </a:prstGeom>
          <a:gradFill rotWithShape="0">
            <a:gsLst>
              <a:gs pos="0">
                <a:srgbClr val="bbe0e3">
                  <a:alpha val="4627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ем стал дворник Павел Бычков. На страницах газет развернулась долгая дискуссия о том, можно ли считать спортсменом человека, чья профессиональная деятельность связана с физическим трудом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тати, Бычков прошел дистанцию за 2 часа 26 минут 47 секунд. Лучшие нынешние лыжники проходят 30-километровую дистанцию на целый час быстрее 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IMA_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609480" y="685800"/>
            <a:ext cx="7559640" cy="146556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ыжи популярны и в наше время. Для лыж зимой везде дорога; они необходимы охотникам, лесникам, сельским почтальонам. Без лыж не обходится ни одна исследовательская экспедиция. Но до чего же здорово мчаться на лыжах просто так по лыжне, проложенной в сказочном зимнем лесу!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366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7220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хника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безопасности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62120" y="3276720"/>
            <a:ext cx="7315200" cy="3111480"/>
          </a:xfrm>
          <a:prstGeom prst="rect">
            <a:avLst/>
          </a:prstGeom>
          <a:gradFill rotWithShape="0">
            <a:gsLst>
              <a:gs pos="0">
                <a:srgbClr val="bbe0e3">
                  <a:alpha val="41176"/>
                </a:srgbClr>
              </a:gs>
              <a:gs pos="100000">
                <a:srgbClr val="ffff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стовое задание: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имательно прочитайте задание теста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берите правильный ответ и напротив него поставьте цифру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тите внимание!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авильный ответ в каждом задании только один!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рьте свою работу и покажите сигналом, что вы закончил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 просмотра учителем щёлкните два раза левой клавишей  на слов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нижнем левом углу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803680" y="2851200"/>
            <a:ext cx="2377800" cy="368280"/>
          </a:xfrm>
          <a:prstGeom prst="rect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ция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3"/>
          <p:cNvSpPr/>
          <p:nvPr/>
        </p:nvSpPr>
        <p:spPr>
          <a:xfrm>
            <a:off x="1279440" y="1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576520" y="457200"/>
            <a:ext cx="39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передвижений на лыжах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746280" y="914400"/>
            <a:ext cx="78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жные хо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ют попеременными и одновременными. При передвижении на лыжах выполняются толчки сначала одной, а затем другой палкой. Такие лыжные ходы и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переменны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лыжи хорошо скользят по снегу, то возникает необходимость оттолкнуться двумя палками одновременно. Это увеличивает скорость скольжения. Такие лыжные ходы называ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временным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2120" y="2743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переменный двухшажный ход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76" name="Picture 18" descr="Рис.3. Первая фаза скользящего шага"/>
          <p:cNvPicPr/>
          <p:nvPr/>
        </p:nvPicPr>
        <p:blipFill>
          <a:blip r:embed="rId1"/>
          <a:stretch/>
        </p:blipFill>
        <p:spPr>
          <a:xfrm>
            <a:off x="152280" y="33526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Рис.4. Вторая фаза скользящего шага"/>
          <p:cNvPicPr/>
          <p:nvPr/>
        </p:nvPicPr>
        <p:blipFill>
          <a:blip r:embed="rId2"/>
          <a:stretch/>
        </p:blipFill>
        <p:spPr>
          <a:xfrm>
            <a:off x="2209680" y="33526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Рис.5. Третья фаза скользящего шага"/>
          <p:cNvPicPr/>
          <p:nvPr/>
        </p:nvPicPr>
        <p:blipFill>
          <a:blip r:embed="rId3"/>
          <a:stretch/>
        </p:blipFill>
        <p:spPr>
          <a:xfrm>
            <a:off x="5867280" y="33526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Рис.6. Четвертая фаза скользящего шага"/>
          <p:cNvPicPr/>
          <p:nvPr/>
        </p:nvPicPr>
        <p:blipFill>
          <a:blip r:embed="rId4"/>
          <a:stretch/>
        </p:blipFill>
        <p:spPr>
          <a:xfrm>
            <a:off x="4191120" y="335268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Рис.7. Пятая фаза скользящего шага"/>
          <p:cNvPicPr/>
          <p:nvPr/>
        </p:nvPicPr>
        <p:blipFill>
          <a:blip r:embed="rId5"/>
          <a:stretch/>
        </p:blipFill>
        <p:spPr>
          <a:xfrm>
            <a:off x="7391520" y="33526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214560" y="491328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ое скольжение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52280" y="544680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жение с выпрямлением опорной ноги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228600" y="59040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жение с подседанием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5181480" y="510552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ад с подседанием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181480" y="5638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алкивание с выпрямлением толчковой ноги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79440" y="264960"/>
            <a:ext cx="66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ый бесшажный х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98560" y="685800"/>
            <a:ext cx="75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при передвижении под уклон и на равнине, на раскатанных участках лыжной трассы, при наличии хорошей опоры для палок и отличном скольжении. Передвигаясь этим ходом, лыжник одновременно сильно отталкивается палками. Скользя на обеих лыжах, он выносит обе палки вперед и вверх, затем быстро ставит их впереди носков ботинок и сильно отталкивается. Туловище при этом наклоняется до горизонтального положения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88" name="Picture 7" descr="Рис.10. Одновременный бесшажный ход"/>
          <p:cNvPicPr/>
          <p:nvPr/>
        </p:nvPicPr>
        <p:blipFill>
          <a:blip r:embed="rId1"/>
          <a:stretch/>
        </p:blipFill>
        <p:spPr>
          <a:xfrm>
            <a:off x="2362320" y="2819520"/>
            <a:ext cx="464796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73915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62120" y="417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«полуелочко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1" name="Picture 5" descr="Рис.21. Подъем полуелочкой"/>
          <p:cNvPicPr/>
          <p:nvPr/>
        </p:nvPicPr>
        <p:blipFill>
          <a:blip r:embed="rId1"/>
          <a:stretch/>
        </p:blipFill>
        <p:spPr>
          <a:xfrm>
            <a:off x="6324480" y="152280"/>
            <a:ext cx="1981440" cy="1828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685800" y="95076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пособ применяют на некрутых склонах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3" name="Picture 8" descr="Рис.22. Подъем елочкой"/>
          <p:cNvPicPr/>
          <p:nvPr/>
        </p:nvPicPr>
        <p:blipFill>
          <a:blip r:embed="rId2"/>
          <a:stretch/>
        </p:blipFill>
        <p:spPr>
          <a:xfrm>
            <a:off x="6324480" y="1981080"/>
            <a:ext cx="1986120" cy="2057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1981080" y="1828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«елочко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46280" y="2286000"/>
            <a:ext cx="48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величением крутизны склона носки лыж разводятся еще шире, а сами лыжи еще больше ставятся на ребра, увеличивается и опора на палки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057400" y="3657600"/>
            <a:ext cx="30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рможение «плуго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97" name="Picture 12" descr="Рис.29. Торможение плугом"/>
          <p:cNvPicPr/>
          <p:nvPr/>
        </p:nvPicPr>
        <p:blipFill>
          <a:blip r:embed="rId3"/>
          <a:stretch/>
        </p:blipFill>
        <p:spPr>
          <a:xfrm>
            <a:off x="6324480" y="3962520"/>
            <a:ext cx="19670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822240" y="4191120"/>
            <a:ext cx="474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орможении «плугом», давя пятками на лыжи и сжимая колени, задние концы лыж раздвигают в стороны, а носки сближают. Лыжи ставят на внутренние ребра. Палки держат близко к коленям, сзади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883960" y="341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орот «переступание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120" y="8380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изменения направления при движении . 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  <p:pic>
        <p:nvPicPr>
          <p:cNvPr id="101" name="Picture 6" descr="Рис.31. Поворот переступанием"/>
          <p:cNvPicPr/>
          <p:nvPr/>
        </p:nvPicPr>
        <p:blipFill>
          <a:blip r:embed="rId1"/>
          <a:stretch/>
        </p:blipFill>
        <p:spPr>
          <a:xfrm>
            <a:off x="4419720" y="838080"/>
            <a:ext cx="4038480" cy="5695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762120" y="2057400"/>
            <a:ext cx="2590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пуске со склона в основной стойке тяжесть тела переносится на наружную лыжу, а внутреннюю отводит носком в сторону поворота. Переступание производится энергичным отталкиванием наружной лыжей, после чего она быстро приставляется к внутренней.</a:t>
            </a: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игорий Карелин</cp:lastModifiedBy>
  <dcterms:modified xsi:type="dcterms:W3CDTF">2017-02-07T08:16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