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F006-9439-4F27-8B54-A2C821E5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5D3F-007C-4AC9-818B-D0EB78AA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E42C-F1EC-4F9B-A789-CB9B3A448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8BDF-3B55-4E9E-A9F1-C85662D58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C595-C8AF-4923-87D8-3AF9F499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608E-742E-4691-B8C5-56E26192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6520-0AE2-4074-9004-0F61EC73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7272-8A99-4E22-93AC-611D2CD4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308A-5C62-48DD-9008-A4574D84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90FF-5817-44A2-8F93-40F2242F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A67F-3F90-4142-9AC7-65F81EA1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9970-552D-484B-B57F-7E48AACD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D4DC-C62A-429E-BCFA-D8326FC5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78E8-243B-45CC-B0BE-C498BF48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93C5-41C4-4839-BEA8-62B1E94A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EFA9-3748-4588-A349-EE66CBE0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EDD6-EE56-48E8-96B6-E9699C325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F906-5D4D-4735-8970-7537BA97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5D06-FB2B-40D7-9743-EA27AF3B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D1FC-30F5-42AF-B201-FFABFE85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B532-2881-4168-A47F-7A9D1A21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4075-B73B-49C9-BD73-D0DA0A46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3365-3C9F-4A46-9E71-9256B230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88A7-D0FD-4EF8-9ADA-89863A88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BA53-85CD-4B8F-A917-1456CF20F3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7D7A-B1D4-4664-A47B-6A4768A0AD9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24000" y="404280"/>
            <a:ext cx="8424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униципальное образовательное учрежд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редняя общеобразовательная школа №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зентац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стерской по обработке ткани 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ищевых продук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Голубевой Ирины Борисово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4" descr="Копия IMG_0098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419640" y="2924280"/>
            <a:ext cx="223200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66960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Мастерская по обработке ткани и пищевых продуктов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4" descr="IMG_0362"/>
          <p:cNvPicPr/>
          <p:nvPr/>
        </p:nvPicPr>
        <p:blipFill>
          <a:blip r:embed="rId1"/>
          <a:stretch/>
        </p:blipFill>
        <p:spPr>
          <a:xfrm>
            <a:off x="250920" y="1268280"/>
            <a:ext cx="8569080" cy="5400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468360" y="1484280"/>
            <a:ext cx="8207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стерская по обработке ткани и пищевых продуктов в этом помещении располагается более 10 лет. Занимает площадь 112 кв. м из них на 26кв.м. располагается кухня-лаборатория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целью  мастерск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является создание организационных и учебно – методических условий для обеспечения учащихся технологическими знаниями, умениями и навыками, необходимыми для продолжения образования, освоение будущей избранной специальности  на современном уровне, что предполагает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гарантия качественного образования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развитие творческих способностей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создание условий для формирования социальной адаптации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1. Обеспечение технологической подготовки учащихся через использование традиционных и современных технологий на уроке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Продолжение работы по повышению учебной мотивации учащихся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Организации работы по укреплению безопасного образовательного процесса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64000" y="-3596760"/>
            <a:ext cx="216000" cy="66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4920" y="-360"/>
            <a:ext cx="381636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Технология»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-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это особая наука, где знания  тесно переплетаются с умениями, способностью что- то  делать  руками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 наука эта понадобиться не в отдаленном будущем , а  здесь и сейчас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иходя из школы  мы разогреваем обед.   Даже у такого простого действия есть своя технологи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Уроки технологии научат готовить по правилам. Сервировать стол. Научат правилам этикет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 для этого в нашей кухне- лаборатории все ес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10" descr="Фото002"/>
          <p:cNvPicPr/>
          <p:nvPr/>
        </p:nvPicPr>
        <p:blipFill>
          <a:blip r:embed="rId1"/>
          <a:stretch/>
        </p:blipFill>
        <p:spPr>
          <a:xfrm>
            <a:off x="6732720" y="189000"/>
            <a:ext cx="2160360" cy="3095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Фото008"/>
          <p:cNvPicPr/>
          <p:nvPr/>
        </p:nvPicPr>
        <p:blipFill>
          <a:blip r:embed="rId2"/>
          <a:stretch/>
        </p:blipFill>
        <p:spPr>
          <a:xfrm>
            <a:off x="3203640" y="3573360"/>
            <a:ext cx="2376360" cy="3095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Фото010"/>
          <p:cNvPicPr/>
          <p:nvPr/>
        </p:nvPicPr>
        <p:blipFill>
          <a:blip r:embed="rId3"/>
          <a:stretch/>
        </p:blipFill>
        <p:spPr>
          <a:xfrm>
            <a:off x="4211640" y="260280"/>
            <a:ext cx="2260440" cy="3097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Фото007"/>
          <p:cNvPicPr/>
          <p:nvPr/>
        </p:nvPicPr>
        <p:blipFill>
          <a:blip r:embed="rId4"/>
          <a:stretch/>
        </p:blipFill>
        <p:spPr>
          <a:xfrm>
            <a:off x="6227640" y="3500280"/>
            <a:ext cx="2376720" cy="3095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Фото017"/>
          <p:cNvPicPr/>
          <p:nvPr/>
        </p:nvPicPr>
        <p:blipFill>
          <a:blip r:embed="rId5"/>
          <a:stretch/>
        </p:blipFill>
        <p:spPr>
          <a:xfrm>
            <a:off x="250920" y="3645000"/>
            <a:ext cx="237636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40338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ухня-лаборатория оснащена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вумя электроплитами «Мечта» с духовыми шкафам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олодильник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кроволновой печь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ухонным комбайн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лектромиксер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бором кастрюль и сковород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делочными доска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ухонными приспособления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оловой посуд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лектросамовар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глядными пособия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7" descr="Фото005"/>
          <p:cNvPicPr/>
          <p:nvPr/>
        </p:nvPicPr>
        <p:blipFill>
          <a:blip r:embed="rId1"/>
          <a:stretch/>
        </p:blipFill>
        <p:spPr>
          <a:xfrm>
            <a:off x="6948360" y="260280"/>
            <a:ext cx="1944720" cy="2737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Фото004"/>
          <p:cNvPicPr/>
          <p:nvPr/>
        </p:nvPicPr>
        <p:blipFill>
          <a:blip r:embed="rId2"/>
          <a:stretch/>
        </p:blipFill>
        <p:spPr>
          <a:xfrm>
            <a:off x="4643280" y="260280"/>
            <a:ext cx="2016360" cy="2808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Фото019"/>
          <p:cNvPicPr/>
          <p:nvPr/>
        </p:nvPicPr>
        <p:blipFill>
          <a:blip r:embed="rId3"/>
          <a:stretch/>
        </p:blipFill>
        <p:spPr>
          <a:xfrm>
            <a:off x="179280" y="436572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Фото024"/>
          <p:cNvPicPr/>
          <p:nvPr/>
        </p:nvPicPr>
        <p:blipFill>
          <a:blip r:embed="rId4"/>
          <a:stretch/>
        </p:blipFill>
        <p:spPr>
          <a:xfrm>
            <a:off x="5003640" y="3716280"/>
            <a:ext cx="1944720" cy="2870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Фото027"/>
          <p:cNvPicPr/>
          <p:nvPr/>
        </p:nvPicPr>
        <p:blipFill>
          <a:blip r:embed="rId5"/>
          <a:stretch/>
        </p:blipFill>
        <p:spPr>
          <a:xfrm>
            <a:off x="2843280" y="3716280"/>
            <a:ext cx="1944720" cy="2952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7" descr="Фото041"/>
          <p:cNvPicPr/>
          <p:nvPr/>
        </p:nvPicPr>
        <p:blipFill>
          <a:blip r:embed="rId6"/>
          <a:stretch/>
        </p:blipFill>
        <p:spPr>
          <a:xfrm>
            <a:off x="7164360" y="3645000"/>
            <a:ext cx="180036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64000" y="-3596760"/>
            <a:ext cx="216000" cy="66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3640" y="-360"/>
            <a:ext cx="482436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еники  на уроках технологии делают для себя много открытий. Одним из них является пошив одежды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еловек, владеющий таким мастерством, не спасует перед любой другой проблем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н знает, что постичь любое дело ему поможет учитель технологии и школьная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астерская оснащенн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учными, ножными и электрическими швейными машинам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ец. машиной « оверлог»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учным инструментом ( Ножницами, иглами, нитками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глядным пособие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10" descr="Фото001"/>
          <p:cNvPicPr/>
          <p:nvPr/>
        </p:nvPicPr>
        <p:blipFill>
          <a:blip r:embed="rId1"/>
          <a:stretch/>
        </p:blipFill>
        <p:spPr>
          <a:xfrm>
            <a:off x="5003640" y="83664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Фото045"/>
          <p:cNvPicPr/>
          <p:nvPr/>
        </p:nvPicPr>
        <p:blipFill>
          <a:blip r:embed="rId2"/>
          <a:stretch/>
        </p:blipFill>
        <p:spPr>
          <a:xfrm>
            <a:off x="2484360" y="3933720"/>
            <a:ext cx="1828800" cy="2438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Фото053"/>
          <p:cNvPicPr/>
          <p:nvPr/>
        </p:nvPicPr>
        <p:blipFill>
          <a:blip r:embed="rId3"/>
          <a:stretch/>
        </p:blipFill>
        <p:spPr>
          <a:xfrm>
            <a:off x="250920" y="400536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Фото041"/>
          <p:cNvPicPr/>
          <p:nvPr/>
        </p:nvPicPr>
        <p:blipFill>
          <a:blip r:embed="rId4"/>
          <a:stretch/>
        </p:blipFill>
        <p:spPr>
          <a:xfrm>
            <a:off x="7020000" y="3860640"/>
            <a:ext cx="1828800" cy="2438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Фото045"/>
          <p:cNvPicPr/>
          <p:nvPr/>
        </p:nvPicPr>
        <p:blipFill>
          <a:blip r:embed="rId5"/>
          <a:stretch/>
        </p:blipFill>
        <p:spPr>
          <a:xfrm>
            <a:off x="4788000" y="3933720"/>
            <a:ext cx="1828800" cy="2438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Фото048"/>
          <p:cNvPicPr/>
          <p:nvPr/>
        </p:nvPicPr>
        <p:blipFill>
          <a:blip r:embed="rId6"/>
          <a:stretch/>
        </p:blipFill>
        <p:spPr>
          <a:xfrm>
            <a:off x="7164360" y="765000"/>
            <a:ext cx="182880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71280" y="-6099120"/>
            <a:ext cx="73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476280"/>
            <a:ext cx="3888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скрытие творческого потенциала личности учеников осуществляется  в процессе  урочной и внеклассной  рабо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атый собранный материал в мастерской  помогает учить детей творчеств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изготовлении программного изделия я применяю карты пооперационного контрол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крепление  и контроль знаний проводится  с помощью тестовых заданий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уроках технологии обязательно  считаю использование  таблиц  и чертеже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 многом помогает  помпьютер, с показом фильмов и видеороликов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5" descr="Фото047"/>
          <p:cNvPicPr/>
          <p:nvPr/>
        </p:nvPicPr>
        <p:blipFill>
          <a:blip r:embed="rId1"/>
          <a:stretch/>
        </p:blipFill>
        <p:spPr>
          <a:xfrm>
            <a:off x="4716360" y="476280"/>
            <a:ext cx="1871640" cy="273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Фото048"/>
          <p:cNvPicPr/>
          <p:nvPr/>
        </p:nvPicPr>
        <p:blipFill>
          <a:blip r:embed="rId2"/>
          <a:stretch/>
        </p:blipFill>
        <p:spPr>
          <a:xfrm>
            <a:off x="6948360" y="476280"/>
            <a:ext cx="1828800" cy="2665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Фото056"/>
          <p:cNvPicPr/>
          <p:nvPr/>
        </p:nvPicPr>
        <p:blipFill>
          <a:blip r:embed="rId3"/>
          <a:stretch/>
        </p:blipFill>
        <p:spPr>
          <a:xfrm>
            <a:off x="6948360" y="3860640"/>
            <a:ext cx="1828800" cy="2664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Фото055"/>
          <p:cNvPicPr/>
          <p:nvPr/>
        </p:nvPicPr>
        <p:blipFill>
          <a:blip r:embed="rId4"/>
          <a:stretch/>
        </p:blipFill>
        <p:spPr>
          <a:xfrm>
            <a:off x="4572000" y="3860640"/>
            <a:ext cx="2016000" cy="265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37544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ащиеся с техническими способностями     разрабатывают в мастерской  проекты по макетировани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то стимулирует ученика к познавательной деятельности и реализации своих возможностей   и творческого потенциал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4" descr="IMG_0725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292720" y="260280"/>
            <a:ext cx="3456000" cy="2808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IMG_0791"/>
          <p:cNvPicPr/>
          <p:nvPr/>
        </p:nvPicPr>
        <p:blipFill>
          <a:blip r:embed="rId2"/>
          <a:stretch/>
        </p:blipFill>
        <p:spPr>
          <a:xfrm>
            <a:off x="5364000" y="3284640"/>
            <a:ext cx="3384720" cy="3166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Фото003"/>
          <p:cNvPicPr/>
          <p:nvPr/>
        </p:nvPicPr>
        <p:blipFill>
          <a:blip r:embed="rId3"/>
          <a:stretch/>
        </p:blipFill>
        <p:spPr>
          <a:xfrm>
            <a:off x="250920" y="2852640"/>
            <a:ext cx="489744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7921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учшие работы учеников выставляются  на стенде в мастерско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7" descr="Фото060"/>
          <p:cNvPicPr/>
          <p:nvPr/>
        </p:nvPicPr>
        <p:blipFill>
          <a:blip r:embed="rId1"/>
          <a:stretch/>
        </p:blipFill>
        <p:spPr>
          <a:xfrm>
            <a:off x="468360" y="765000"/>
            <a:ext cx="2376360" cy="3097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Фото071"/>
          <p:cNvPicPr/>
          <p:nvPr/>
        </p:nvPicPr>
        <p:blipFill>
          <a:blip r:embed="rId2"/>
          <a:stretch/>
        </p:blipFill>
        <p:spPr>
          <a:xfrm>
            <a:off x="250920" y="4076640"/>
            <a:ext cx="3024000" cy="2158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Фото011"/>
          <p:cNvPicPr/>
          <p:nvPr/>
        </p:nvPicPr>
        <p:blipFill>
          <a:blip r:embed="rId3"/>
          <a:stretch/>
        </p:blipFill>
        <p:spPr>
          <a:xfrm>
            <a:off x="6227640" y="692280"/>
            <a:ext cx="2333880" cy="2952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Фото012"/>
          <p:cNvPicPr/>
          <p:nvPr/>
        </p:nvPicPr>
        <p:blipFill>
          <a:blip r:embed="rId4"/>
          <a:stretch/>
        </p:blipFill>
        <p:spPr>
          <a:xfrm>
            <a:off x="3492360" y="692280"/>
            <a:ext cx="2160720" cy="2950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Фото014"/>
          <p:cNvPicPr/>
          <p:nvPr/>
        </p:nvPicPr>
        <p:blipFill>
          <a:blip r:embed="rId5"/>
          <a:stretch/>
        </p:blipFill>
        <p:spPr>
          <a:xfrm>
            <a:off x="3564000" y="4076640"/>
            <a:ext cx="3097080" cy="2089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Фото057"/>
          <p:cNvPicPr/>
          <p:nvPr/>
        </p:nvPicPr>
        <p:blipFill>
          <a:blip r:embed="rId6"/>
          <a:stretch/>
        </p:blipFill>
        <p:spPr>
          <a:xfrm>
            <a:off x="6948360" y="3860640"/>
            <a:ext cx="201636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34560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Я считаю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то желание придти в школу как в свой родной дом, у учеников проявляется не само по себ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этого надо создать благоприятную атмосфер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вою мастерскую, свое рабочее место я стараюсь превратить в лабораторию для творческих работ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2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м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мым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вышаю мотивацию учащихся  к выполнению проектов, стимулирую творческую деятельность,  создаю благоприятный психологический климат и безопасность труда.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6" descr="Фото056"/>
          <p:cNvPicPr/>
          <p:nvPr/>
        </p:nvPicPr>
        <p:blipFill>
          <a:blip r:embed="rId1"/>
          <a:stretch/>
        </p:blipFill>
        <p:spPr>
          <a:xfrm>
            <a:off x="3780000" y="404640"/>
            <a:ext cx="5040000" cy="612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19:23:59Z</dcterms:created>
  <dc:creator>len-aXXX</dc:creator>
  <dc:description/>
  <dc:language>en-US</dc:language>
  <cp:lastModifiedBy>Ирина</cp:lastModifiedBy>
  <dcterms:modified xsi:type="dcterms:W3CDTF">2017-02-07T20:24:26Z</dcterms:modified>
  <cp:revision>25</cp:revision>
  <dc:subject/>
  <dc:title>Слайд 1</dc:title>
</cp:coreProperties>
</file>