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B20-3C20-43AD-AFB4-7E61B09D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0E3-6BBB-4090-956F-76EFE806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C48-B0A6-4CC6-9D8B-C5AFCF2F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0A1-578E-4228-936C-312C5803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30DD-7DAF-43CB-BE3A-0C2E2B16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E54A-B296-4B62-936F-DB573BE1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B5AF-FEB2-456D-A1FC-31E8B359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572F-9231-4233-9CF6-A131AD4C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2C59-C489-433C-AC58-8EFC6E42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E85A-28E5-4D35-A0D3-3D096F29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8784-C8C0-40A7-8F9C-E1178E5B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2D4-2ACC-4F50-9FBF-C5B658E4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C613-EDBD-4E32-8302-95FD55FB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17CD-2101-48A1-AAD7-5721DAE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6CEC-B550-4FAD-85A7-695C9C49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C656-0880-457C-A25B-82D1DEB3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61FF-62F4-413D-9495-1A4D1E1A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50F-5283-4AFE-8C36-D498D53C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80E-72D2-4246-84E7-520B312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636-2446-4C11-9A4D-6113DD99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CE5-8CDC-415F-83F2-D8D29CE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DEA-AF80-4174-B1A0-3BCFD8BE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4A7-A0E5-4FCA-A041-2B6AD40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4F3-7208-41F1-8ED2-EA3B68B5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67F5-4CB2-48AA-AE0D-3FDA904F39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E4F1-4AD9-4C3C-9C79-8E6B6CF2E9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разовательное учрежд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терской по обработке ткани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щев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олубевой Ирины Борисов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Копия IMG_009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419640" y="2924280"/>
            <a:ext cx="2232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6696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астерская по обработке ткани и пищевых продуктов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IMG_0362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400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68360" y="1484280"/>
            <a:ext cx="820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терская по обработке ткани и пищевых продуктов в этом помещении располагается более 10 лет. Занимает площадь 112 кв. м из них на 26кв.м. располагается кухня-лаборатория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целью  мастерс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создание организационных и учебно – методических условий для обеспечения учащихся технологическими знаниями, умениями и навыками, необходимыми для продолжения образования, освоение будущей избранной специальности  на современном уровне, что предполагает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гарантия качественного образования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витие творческих способностей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оздание условий для формирования социальной адаптации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1. Обеспечение технологической подготовки учащихся через использование традиционных и современных технологий на уроке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Продолжение работы по повышению учебной мотивации учащихся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Организации работы по укреплению безопасного образовательного процесса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64000" y="-3596760"/>
            <a:ext cx="216000" cy="66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-360"/>
            <a:ext cx="38163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Технология»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о особая наука, где знания  тесно переплетаются с умениями, способностью что- то  делать  руками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наука эта понадобиться не в отдаленном будущем , а  здесь и сейчас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ходя из школы  мы разогреваем обед.   Даже у такого простого действия есть своя технолог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роки технологии научат готовить по правилам. Сервировать стол. Научат правилам этике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 для этого в нашей кухне- лаборатории все е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0" descr="Фото002"/>
          <p:cNvPicPr/>
          <p:nvPr/>
        </p:nvPicPr>
        <p:blipFill>
          <a:blip r:embed="rId1"/>
          <a:stretch/>
        </p:blipFill>
        <p:spPr>
          <a:xfrm>
            <a:off x="6732720" y="189000"/>
            <a:ext cx="2160360" cy="309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Фото008"/>
          <p:cNvPicPr/>
          <p:nvPr/>
        </p:nvPicPr>
        <p:blipFill>
          <a:blip r:embed="rId2"/>
          <a:stretch/>
        </p:blipFill>
        <p:spPr>
          <a:xfrm>
            <a:off x="3203640" y="3573360"/>
            <a:ext cx="2376360" cy="309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Фото010"/>
          <p:cNvPicPr/>
          <p:nvPr/>
        </p:nvPicPr>
        <p:blipFill>
          <a:blip r:embed="rId3"/>
          <a:stretch/>
        </p:blipFill>
        <p:spPr>
          <a:xfrm>
            <a:off x="4211640" y="260280"/>
            <a:ext cx="2260440" cy="309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Фото007"/>
          <p:cNvPicPr/>
          <p:nvPr/>
        </p:nvPicPr>
        <p:blipFill>
          <a:blip r:embed="rId4"/>
          <a:stretch/>
        </p:blipFill>
        <p:spPr>
          <a:xfrm>
            <a:off x="6227640" y="3500280"/>
            <a:ext cx="2376720" cy="309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Фото017"/>
          <p:cNvPicPr/>
          <p:nvPr/>
        </p:nvPicPr>
        <p:blipFill>
          <a:blip r:embed="rId5"/>
          <a:stretch/>
        </p:blipFill>
        <p:spPr>
          <a:xfrm>
            <a:off x="250920" y="3645000"/>
            <a:ext cx="2376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403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хня-лаборатория оснащен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вумя электроплитами «Мечта» с духовыми шкафа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лодильни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кроволновой печ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хонным комбайн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миксер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бором кастрюль и сковород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делочными доск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хонными приспособлен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оловой посуд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самовар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глядными пособ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7" descr="Фото005"/>
          <p:cNvPicPr/>
          <p:nvPr/>
        </p:nvPicPr>
        <p:blipFill>
          <a:blip r:embed="rId1"/>
          <a:stretch/>
        </p:blipFill>
        <p:spPr>
          <a:xfrm>
            <a:off x="6948360" y="260280"/>
            <a:ext cx="1944720" cy="273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Фото004"/>
          <p:cNvPicPr/>
          <p:nvPr/>
        </p:nvPicPr>
        <p:blipFill>
          <a:blip r:embed="rId2"/>
          <a:stretch/>
        </p:blipFill>
        <p:spPr>
          <a:xfrm>
            <a:off x="4643280" y="26028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Фото019"/>
          <p:cNvPicPr/>
          <p:nvPr/>
        </p:nvPicPr>
        <p:blipFill>
          <a:blip r:embed="rId3"/>
          <a:stretch/>
        </p:blipFill>
        <p:spPr>
          <a:xfrm>
            <a:off x="179280" y="43657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Фото024"/>
          <p:cNvPicPr/>
          <p:nvPr/>
        </p:nvPicPr>
        <p:blipFill>
          <a:blip r:embed="rId4"/>
          <a:stretch/>
        </p:blipFill>
        <p:spPr>
          <a:xfrm>
            <a:off x="5003640" y="3716280"/>
            <a:ext cx="1944720" cy="287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Фото027"/>
          <p:cNvPicPr/>
          <p:nvPr/>
        </p:nvPicPr>
        <p:blipFill>
          <a:blip r:embed="rId5"/>
          <a:stretch/>
        </p:blipFill>
        <p:spPr>
          <a:xfrm>
            <a:off x="2843280" y="3716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Фото041"/>
          <p:cNvPicPr/>
          <p:nvPr/>
        </p:nvPicPr>
        <p:blipFill>
          <a:blip r:embed="rId6"/>
          <a:stretch/>
        </p:blipFill>
        <p:spPr>
          <a:xfrm>
            <a:off x="7164360" y="3645000"/>
            <a:ext cx="1800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-3596760"/>
            <a:ext cx="216000" cy="66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-360"/>
            <a:ext cx="48243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ки  на уроках технологии делают для себя много открытий. Одним из них является пошив одежд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ловек, владеющий таким мастерством, не спасует перед любой другой проблем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н знает, что постичь любое дело ему поможет учитель технологии и школьная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стерская оснаще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чными, ножными и электрическими швейными машина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ец. машиной « оверлог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учным инструментом ( Ножницами, иглами, нитками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глядным пособи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0" descr="Фото001"/>
          <p:cNvPicPr/>
          <p:nvPr/>
        </p:nvPicPr>
        <p:blipFill>
          <a:blip r:embed="rId1"/>
          <a:stretch/>
        </p:blipFill>
        <p:spPr>
          <a:xfrm>
            <a:off x="5003640" y="83664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Фото045"/>
          <p:cNvPicPr/>
          <p:nvPr/>
        </p:nvPicPr>
        <p:blipFill>
          <a:blip r:embed="rId2"/>
          <a:stretch/>
        </p:blipFill>
        <p:spPr>
          <a:xfrm>
            <a:off x="2484360" y="393372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Фото053"/>
          <p:cNvPicPr/>
          <p:nvPr/>
        </p:nvPicPr>
        <p:blipFill>
          <a:blip r:embed="rId3"/>
          <a:stretch/>
        </p:blipFill>
        <p:spPr>
          <a:xfrm>
            <a:off x="250920" y="400536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Фото041"/>
          <p:cNvPicPr/>
          <p:nvPr/>
        </p:nvPicPr>
        <p:blipFill>
          <a:blip r:embed="rId4"/>
          <a:stretch/>
        </p:blipFill>
        <p:spPr>
          <a:xfrm>
            <a:off x="7020000" y="386064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Фото045"/>
          <p:cNvPicPr/>
          <p:nvPr/>
        </p:nvPicPr>
        <p:blipFill>
          <a:blip r:embed="rId5"/>
          <a:stretch/>
        </p:blipFill>
        <p:spPr>
          <a:xfrm>
            <a:off x="4788000" y="393372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Фото048"/>
          <p:cNvPicPr/>
          <p:nvPr/>
        </p:nvPicPr>
        <p:blipFill>
          <a:blip r:embed="rId6"/>
          <a:stretch/>
        </p:blipFill>
        <p:spPr>
          <a:xfrm>
            <a:off x="7164360" y="76500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1280" y="-60991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388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крытие творческого потенциала личности учеников осуществляется  в процессе  урочной и внеклассной  рабо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ый собранный материал в мастерской  помогает учить детей творчеств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изготовлении программного изделия я применяю карты пооперационного контро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репление  и контроль знаний проводится  с помощью тестовых заданий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уроках технологии обязательно  считаю использование  таблиц  и чертеж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 многом помогает  помпьютер, с показом фильмов и видеоролик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Фото047"/>
          <p:cNvPicPr/>
          <p:nvPr/>
        </p:nvPicPr>
        <p:blipFill>
          <a:blip r:embed="rId1"/>
          <a:stretch/>
        </p:blipFill>
        <p:spPr>
          <a:xfrm>
            <a:off x="4716360" y="476280"/>
            <a:ext cx="187164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Фото048"/>
          <p:cNvPicPr/>
          <p:nvPr/>
        </p:nvPicPr>
        <p:blipFill>
          <a:blip r:embed="rId2"/>
          <a:stretch/>
        </p:blipFill>
        <p:spPr>
          <a:xfrm>
            <a:off x="6948360" y="476280"/>
            <a:ext cx="1828800" cy="2665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Фото056"/>
          <p:cNvPicPr/>
          <p:nvPr/>
        </p:nvPicPr>
        <p:blipFill>
          <a:blip r:embed="rId3"/>
          <a:stretch/>
        </p:blipFill>
        <p:spPr>
          <a:xfrm>
            <a:off x="6948360" y="3860640"/>
            <a:ext cx="182880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Фото055"/>
          <p:cNvPicPr/>
          <p:nvPr/>
        </p:nvPicPr>
        <p:blipFill>
          <a:blip r:embed="rId4"/>
          <a:stretch/>
        </p:blipFill>
        <p:spPr>
          <a:xfrm>
            <a:off x="4572000" y="3860640"/>
            <a:ext cx="2016000" cy="26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ащиеся с техническими способностями     разрабатывают в мастерской  проекты по макетирован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стимулирует ученика к познавательной деятельности и реализации своих возможностей   и творческого потенциал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IMG_0725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292720" y="26028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IMG_0791"/>
          <p:cNvPicPr/>
          <p:nvPr/>
        </p:nvPicPr>
        <p:blipFill>
          <a:blip r:embed="rId2"/>
          <a:stretch/>
        </p:blipFill>
        <p:spPr>
          <a:xfrm>
            <a:off x="5364000" y="3284640"/>
            <a:ext cx="3384720" cy="316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Фото003"/>
          <p:cNvPicPr/>
          <p:nvPr/>
        </p:nvPicPr>
        <p:blipFill>
          <a:blip r:embed="rId3"/>
          <a:stretch/>
        </p:blipFill>
        <p:spPr>
          <a:xfrm>
            <a:off x="250920" y="2852640"/>
            <a:ext cx="48974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792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учшие работы учеников выставляются  на стенде в мастерско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Фото060"/>
          <p:cNvPicPr/>
          <p:nvPr/>
        </p:nvPicPr>
        <p:blipFill>
          <a:blip r:embed="rId1"/>
          <a:stretch/>
        </p:blipFill>
        <p:spPr>
          <a:xfrm>
            <a:off x="468360" y="765000"/>
            <a:ext cx="2376360" cy="3097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Фото071"/>
          <p:cNvPicPr/>
          <p:nvPr/>
        </p:nvPicPr>
        <p:blipFill>
          <a:blip r:embed="rId2"/>
          <a:stretch/>
        </p:blipFill>
        <p:spPr>
          <a:xfrm>
            <a:off x="250920" y="4076640"/>
            <a:ext cx="3024000" cy="215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Фото011"/>
          <p:cNvPicPr/>
          <p:nvPr/>
        </p:nvPicPr>
        <p:blipFill>
          <a:blip r:embed="rId3"/>
          <a:stretch/>
        </p:blipFill>
        <p:spPr>
          <a:xfrm>
            <a:off x="6227640" y="692280"/>
            <a:ext cx="233388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Фото012"/>
          <p:cNvPicPr/>
          <p:nvPr/>
        </p:nvPicPr>
        <p:blipFill>
          <a:blip r:embed="rId4"/>
          <a:stretch/>
        </p:blipFill>
        <p:spPr>
          <a:xfrm>
            <a:off x="3492360" y="692280"/>
            <a:ext cx="2160720" cy="2950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Фото014"/>
          <p:cNvPicPr/>
          <p:nvPr/>
        </p:nvPicPr>
        <p:blipFill>
          <a:blip r:embed="rId5"/>
          <a:stretch/>
        </p:blipFill>
        <p:spPr>
          <a:xfrm>
            <a:off x="3564000" y="4076640"/>
            <a:ext cx="3097080" cy="208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Фото057"/>
          <p:cNvPicPr/>
          <p:nvPr/>
        </p:nvPicPr>
        <p:blipFill>
          <a:blip r:embed="rId6"/>
          <a:stretch/>
        </p:blipFill>
        <p:spPr>
          <a:xfrm>
            <a:off x="6948360" y="3860640"/>
            <a:ext cx="20163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3456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 считаю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 желание придти в школу как в свой родной дом, у учеников проявляется не само по себ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этого надо создать благоприятную атмосфер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ою мастерскую, свое рабочее место я стараюсь превратить в лабораторию для творческих работ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ым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аю мотивацию учащихся  к выполнению проектов, стимулирую творческую деятельность,  создаю благоприятный психологический климат и безопасность труда.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Фото056"/>
          <p:cNvPicPr/>
          <p:nvPr/>
        </p:nvPicPr>
        <p:blipFill>
          <a:blip r:embed="rId1"/>
          <a:stretch/>
        </p:blipFill>
        <p:spPr>
          <a:xfrm>
            <a:off x="3780000" y="404640"/>
            <a:ext cx="5040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9:23:59Z</dcterms:created>
  <dc:creator>len-aXXX</dc:creator>
  <dc:description/>
  <dc:language>en-US</dc:language>
  <cp:lastModifiedBy>Ирина</cp:lastModifiedBy>
  <dcterms:modified xsi:type="dcterms:W3CDTF">2017-02-07T20:24:26Z</dcterms:modified>
  <cp:revision>25</cp:revision>
  <dc:subject/>
  <dc:title>Слайд 1</dc:title>
</cp:coreProperties>
</file>