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E0E-AEC8-4572-ABFC-5048B8DE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C98-5912-4BDE-876D-316A32CD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706-8A60-4DC3-97A3-A411095A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CBF-9FC1-4592-9CD4-6E9032F5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3F46-722D-416E-A0B4-F781DC1A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C284-3981-4A4F-85AD-D6FB4739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2792-75C8-46FC-A163-AA1B674A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5FF3-6717-43C1-BA43-87FEA50E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8088-39AB-4A4A-8CC8-15CAD63E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5B18-F908-4D18-9A65-081DFED6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F399-6924-475E-80B8-72062179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E15-D2DE-4945-91C9-D0CAE9FF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94FC-9151-46D5-AB57-60E9A9B6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045E-9F08-497C-9594-F3693A3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49A1-B883-4581-87E2-8ECB4AB5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5A2C-FAD5-43E9-B945-8B2DF94A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2832-9312-4C3A-BC40-D1E72D28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233-F208-49C8-91E0-E48F5529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4D5-381E-46CA-9323-FF3EDC0E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B21-37A0-4BF0-8489-0081E95C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09F-9E5F-48D1-B611-9BD30A50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A5C-0BAB-4858-98B8-C65779C0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CEF-B163-403E-824B-066E0C44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549-F60B-4B0D-8182-2EC15852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517D-4F09-42C4-879D-9778554120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F8D6-FFED-4281-8989-197C4F581A1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sportal.ru/media-gallery/detail/1818458/8238485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Психологическое сопровождение летнего отдыха детей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Мария\Desktop\img_20150609_150222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nsportal.ru/sites/default/files/styles/media_gallery_large/public/gallery/2015/08/26/leto._lager/20150618_115501.jpg?itok=CMrTE4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61800"/>
            <a:ext cx="79502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Мария\Desktop\20150618_122709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" name="Group 112"/>
          <p:cNvGrpSpPr/>
          <p:nvPr/>
        </p:nvGrpSpPr>
        <p:grpSpPr>
          <a:xfrm>
            <a:off x="0" y="152280"/>
            <a:ext cx="9029880" cy="6820200"/>
            <a:chOff x="0" y="152280"/>
            <a:chExt cx="9029880" cy="6820200"/>
          </a:xfrm>
        </p:grpSpPr>
        <p:sp>
          <p:nvSpPr>
            <p:cNvPr id="118" name="AutoShape 113"/>
            <p:cNvSpPr/>
            <p:nvPr/>
          </p:nvSpPr>
          <p:spPr>
            <a:xfrm>
              <a:off x="0" y="152280"/>
              <a:ext cx="9029880" cy="68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Rectangle 5"/>
            <p:cNvSpPr/>
            <p:nvPr/>
          </p:nvSpPr>
          <p:spPr>
            <a:xfrm>
              <a:off x="457560" y="152280"/>
              <a:ext cx="845712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514"/>
                  </a:solidFill>
                  <a:latin typeface="Times New Roman"/>
                </a:rPr>
                <a:t>Модель психолого-педагогическое сопровождения летнего отдыха детей и подростков</a:t>
              </a:r>
              <a:endParaRPr b="0" lang="en-US" sz="1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914040" y="1605960"/>
              <a:ext cx="82944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ДЕТИ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2629080" y="1605960"/>
              <a:ext cx="1371960" cy="67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ПЕДАГОГИ, ВОСПИТАТЕЛИ,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ВОЖАТ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7201440" y="1493640"/>
              <a:ext cx="1600200" cy="7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Исследовательская и издательская деятельность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5258160" y="1605960"/>
              <a:ext cx="1032480" cy="58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РОДИТЕЛИ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24" name="Group 11"/>
            <p:cNvGrpSpPr/>
            <p:nvPr/>
          </p:nvGrpSpPr>
          <p:grpSpPr>
            <a:xfrm>
              <a:off x="570960" y="3058920"/>
              <a:ext cx="1485360" cy="2777040"/>
              <a:chOff x="570960" y="3058920"/>
              <a:chExt cx="1485360" cy="2777040"/>
            </a:xfrm>
          </p:grpSpPr>
          <p:sp>
            <p:nvSpPr>
              <p:cNvPr id="125" name="Rectangle 12"/>
              <p:cNvSpPr/>
              <p:nvPr/>
            </p:nvSpPr>
            <p:spPr>
              <a:xfrm>
                <a:off x="570960" y="5353200"/>
                <a:ext cx="1485360" cy="48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Развитие способностей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570960" y="3058920"/>
                <a:ext cx="1485360" cy="48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Индивидуальное консультирование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0960" y="3541680"/>
                <a:ext cx="1485360" cy="48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Групповое консультирование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570960" y="4507920"/>
                <a:ext cx="1485360" cy="48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Групповая психодиагностика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9" name="Rectangle 16"/>
              <p:cNvSpPr/>
              <p:nvPr/>
            </p:nvSpPr>
            <p:spPr>
              <a:xfrm>
                <a:off x="570960" y="4024800"/>
                <a:ext cx="1485360" cy="48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Индивидуальная психодиагностик</a:t>
                </a:r>
                <a:r>
                  <a:rPr b="0" lang="ru-RU" sz="1100" spc="-1" strike="noStrike">
                    <a:solidFill>
                      <a:srgbClr val="000514"/>
                    </a:solidFill>
                    <a:latin typeface="Times New Roman"/>
                  </a:rPr>
                  <a:t>а</a:t>
                </a:r>
                <a:endParaRPr b="0" lang="en-US" sz="11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" name="Rectangle 17"/>
              <p:cNvSpPr/>
              <p:nvPr/>
            </p:nvSpPr>
            <p:spPr>
              <a:xfrm>
                <a:off x="570960" y="4991040"/>
                <a:ext cx="1485360" cy="36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Психокоррекция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31" name="Group 18"/>
            <p:cNvGrpSpPr/>
            <p:nvPr/>
          </p:nvGrpSpPr>
          <p:grpSpPr>
            <a:xfrm>
              <a:off x="2629080" y="3058920"/>
              <a:ext cx="1451520" cy="2903040"/>
              <a:chOff x="2629080" y="3058920"/>
              <a:chExt cx="1451520" cy="2903040"/>
            </a:xfrm>
          </p:grpSpPr>
          <p:sp>
            <p:nvSpPr>
              <p:cNvPr id="132" name="Rectangle 19"/>
              <p:cNvSpPr/>
              <p:nvPr/>
            </p:nvSpPr>
            <p:spPr>
              <a:xfrm>
                <a:off x="2629080" y="3058920"/>
                <a:ext cx="1451520" cy="46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Индивидуальное консультирование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" name="Rectangle 20"/>
              <p:cNvSpPr/>
              <p:nvPr/>
            </p:nvSpPr>
            <p:spPr>
              <a:xfrm>
                <a:off x="2629080" y="3523320"/>
                <a:ext cx="1451520" cy="46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Групповое консультирование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" name="Rectangle 21"/>
              <p:cNvSpPr/>
              <p:nvPr/>
            </p:nvSpPr>
            <p:spPr>
              <a:xfrm>
                <a:off x="2629080" y="4452120"/>
                <a:ext cx="1451520" cy="46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Групповая психодиагностика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5" name="Rectangle 22"/>
              <p:cNvSpPr/>
              <p:nvPr/>
            </p:nvSpPr>
            <p:spPr>
              <a:xfrm>
                <a:off x="2629080" y="3987720"/>
                <a:ext cx="1451520" cy="46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Индивидуальная психодиагностика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6" name="Rectangle 23"/>
              <p:cNvSpPr/>
              <p:nvPr/>
            </p:nvSpPr>
            <p:spPr>
              <a:xfrm>
                <a:off x="2629080" y="4916880"/>
                <a:ext cx="1451520" cy="104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Соц.-психологическая деятельность: тренинги, обучение.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7" name="Rectangle 24"/>
            <p:cNvSpPr/>
            <p:nvPr/>
          </p:nvSpPr>
          <p:spPr>
            <a:xfrm>
              <a:off x="5143320" y="3171240"/>
              <a:ext cx="1518840" cy="41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Индивидуальное консультиров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Rectangle 25"/>
            <p:cNvSpPr/>
            <p:nvPr/>
          </p:nvSpPr>
          <p:spPr>
            <a:xfrm>
              <a:off x="5143320" y="3618000"/>
              <a:ext cx="1485360" cy="56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Групповое консультиров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Rectangle 28"/>
            <p:cNvSpPr/>
            <p:nvPr/>
          </p:nvSpPr>
          <p:spPr>
            <a:xfrm>
              <a:off x="2629080" y="5965920"/>
              <a:ext cx="145908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Поддержка в формировании образовательных маршрутов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Rectangle 29"/>
            <p:cNvSpPr/>
            <p:nvPr/>
          </p:nvSpPr>
          <p:spPr>
            <a:xfrm>
              <a:off x="7429680" y="3171240"/>
              <a:ext cx="1257120" cy="190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Соц.-психологический мониторинг образовательной среды и развития воспитанников для целей образовательного учреждения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Line 136"/>
            <p:cNvSpPr/>
            <p:nvPr/>
          </p:nvSpPr>
          <p:spPr>
            <a:xfrm>
              <a:off x="1371960" y="935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Line 137"/>
            <p:cNvSpPr/>
            <p:nvPr/>
          </p:nvSpPr>
          <p:spPr>
            <a:xfrm>
              <a:off x="1371960" y="935280"/>
              <a:ext cx="0" cy="67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Line 138"/>
            <p:cNvSpPr/>
            <p:nvPr/>
          </p:nvSpPr>
          <p:spPr>
            <a:xfrm>
              <a:off x="3314880" y="935280"/>
              <a:ext cx="0" cy="67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Line 139"/>
            <p:cNvSpPr/>
            <p:nvPr/>
          </p:nvSpPr>
          <p:spPr>
            <a:xfrm>
              <a:off x="5714280" y="935280"/>
              <a:ext cx="0" cy="67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Line 140"/>
            <p:cNvSpPr/>
            <p:nvPr/>
          </p:nvSpPr>
          <p:spPr>
            <a:xfrm>
              <a:off x="8001000" y="935280"/>
              <a:ext cx="0" cy="55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Line 141"/>
            <p:cNvSpPr/>
            <p:nvPr/>
          </p:nvSpPr>
          <p:spPr>
            <a:xfrm>
              <a:off x="1257120" y="2275920"/>
              <a:ext cx="0" cy="78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Line 142"/>
            <p:cNvSpPr/>
            <p:nvPr/>
          </p:nvSpPr>
          <p:spPr>
            <a:xfrm>
              <a:off x="3314880" y="2275920"/>
              <a:ext cx="0" cy="78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Line 143"/>
            <p:cNvSpPr/>
            <p:nvPr/>
          </p:nvSpPr>
          <p:spPr>
            <a:xfrm>
              <a:off x="5829120" y="2275920"/>
              <a:ext cx="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Line 144"/>
            <p:cNvSpPr/>
            <p:nvPr/>
          </p:nvSpPr>
          <p:spPr>
            <a:xfrm>
              <a:off x="8001000" y="2275920"/>
              <a:ext cx="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8534160" cy="227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ограмма психологического сопровождения пришкольного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агеря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 дневной формой пребывания детей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Звёздочки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раст детей: 6-12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рок реализации: 1 оздоровительная смена лагеря (21 день, 24 час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втор: педагог-психолог МБОУДОД БЦВР БГО Ларина Т.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Цель программы - </a:t>
            </a: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создание условий для сохранения и укрепления психологического здоровья детей и для развития личности ребенка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дачи программ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оздание благоприятного климата в детском коллективе, помощь в адаптации к новому коллективу;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азработка и внедрение мероприятий, способствующих развитию индивидуальных способностей детей, позитивных личностных качеств, сплочению коллектив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рофилактика девиантного поведения детей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ориентировка детей  на здоровый образ жизн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ознакомление детей со способами снятия эмоционального напряжения, тревожности, агрессивност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изучение психофизиологического состояния детей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вышение психологической компетентности родителей и педагогов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Направления работы педагога-психолог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агностическо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ррекционно-развивающе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сультативно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ветительск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Формы и методы рабо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агностические методики (анкетирования, опросники, рисуночные тесты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ые занятия с элементами тренинг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зкотерап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терап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рт-терап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лаксационные  упражн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есед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дивидуальные и групповые консульт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жидаемые результаты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крепление психологического здоровья воспитанни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даптированность к условиям пришкольного лагер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абилизация эмоционального состоя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ормированность навыков эффективного взаимодействия детей и педагог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ормированность осознанного отношения к здоровь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Мария\Desktop\20150622_114811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16-04-28T11:09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