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388-D259-4C86-B6D6-B128479D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505-5DF4-43AA-A6E1-826A39AF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AF5-50A9-4B86-97B3-D1082B5E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974-27A6-46C8-B667-C3BE23FA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AA94-F438-43CA-948E-F62C0388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74FB-C14F-491E-9308-EE44CDDF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8304-BE9D-4E3C-B67F-C77C4C49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F186-7B25-40B7-8EF7-6DD75FD6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EEDF-5FBC-4868-8247-5CA023B1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0CF-DF6D-4BAD-A4AC-6F301D19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DF8D-8FB7-44FD-AD67-3D1ED0DE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DAB-C297-4694-AF18-2B4C3E7E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89C3-0C77-4809-AEF2-C71FF637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5A00-5402-4963-B662-5C7A3BB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8BA4-FA8C-4D82-AA5C-3EEC7C05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39E-E4D2-46FD-B887-7497B062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7197-2357-47C3-B3D5-066B6DF5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B0A-9D4C-493D-A554-ADFFF780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E89-614C-4F99-80FD-44607C1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197-210C-4929-BBE5-77C093DF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8AC-73BC-4CC4-A6F6-6D171CC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EC3-8FA0-4BE9-9422-EEBE29AB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276-6AA5-465D-9D4A-1183C28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9D5-2CA6-4F67-8144-D216C75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E583-5435-4DBD-9A61-9F82742E0F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B9C2-7752-41FC-AB39-D8EAFBCF354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sportal.ru/media-gallery/detail/1818458/8238485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Психологическое сопровождение летнего отдыха детей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Мария\Desktop\img_20150609_150222.jp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nsportal.ru/sites/default/files/styles/media_gallery_large/public/gallery/2015/08/26/leto._lager/20150618_115501.jpg?itok=CMrTE4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61800"/>
            <a:ext cx="79502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Мария\Desktop\20150618_122709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Group 112"/>
          <p:cNvGrpSpPr/>
          <p:nvPr/>
        </p:nvGrpSpPr>
        <p:grpSpPr>
          <a:xfrm>
            <a:off x="0" y="152280"/>
            <a:ext cx="9029880" cy="6820200"/>
            <a:chOff x="0" y="152280"/>
            <a:chExt cx="9029880" cy="6820200"/>
          </a:xfrm>
        </p:grpSpPr>
        <p:sp>
          <p:nvSpPr>
            <p:cNvPr id="118" name="AutoShape 113"/>
            <p:cNvSpPr/>
            <p:nvPr/>
          </p:nvSpPr>
          <p:spPr>
            <a:xfrm>
              <a:off x="0" y="152280"/>
              <a:ext cx="9029880" cy="68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Rectangle 5"/>
            <p:cNvSpPr/>
            <p:nvPr/>
          </p:nvSpPr>
          <p:spPr>
            <a:xfrm>
              <a:off x="457560" y="152280"/>
              <a:ext cx="845712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514"/>
                  </a:solidFill>
                  <a:latin typeface="Times New Roman"/>
                </a:rPr>
                <a:t>Модель психолого-педагогическое сопровождения летнего отдыха детей и подростков</a:t>
              </a:r>
              <a:endParaRPr b="0" lang="en-US" sz="1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914040" y="1605960"/>
              <a:ext cx="829440" cy="59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ДЕТ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2629080" y="1605960"/>
              <a:ext cx="1371960" cy="67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ПЕДАГОГИ, ВОСПИТАТЕЛИ,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ВОЖАТ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7201440" y="1493640"/>
              <a:ext cx="160020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Исследовательская и издательская деятельность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5258160" y="1605960"/>
              <a:ext cx="1032480" cy="58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24" name="Group 11"/>
            <p:cNvGrpSpPr/>
            <p:nvPr/>
          </p:nvGrpSpPr>
          <p:grpSpPr>
            <a:xfrm>
              <a:off x="570960" y="3058920"/>
              <a:ext cx="1485360" cy="2777040"/>
              <a:chOff x="570960" y="3058920"/>
              <a:chExt cx="1485360" cy="2777040"/>
            </a:xfrm>
          </p:grpSpPr>
          <p:sp>
            <p:nvSpPr>
              <p:cNvPr id="125" name="Rectangle 12"/>
              <p:cNvSpPr/>
              <p:nvPr/>
            </p:nvSpPr>
            <p:spPr>
              <a:xfrm>
                <a:off x="570960" y="535320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Развитие способностей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570960" y="305892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0960" y="354168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570960" y="450792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ая психодиагностика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9" name="Rectangle 16"/>
              <p:cNvSpPr/>
              <p:nvPr/>
            </p:nvSpPr>
            <p:spPr>
              <a:xfrm>
                <a:off x="570960" y="4024800"/>
                <a:ext cx="148536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ая психодиагностик</a:t>
                </a:r>
                <a:r>
                  <a:rPr b="0" lang="ru-RU" sz="1100" spc="-1" strike="noStrike">
                    <a:solidFill>
                      <a:srgbClr val="000514"/>
                    </a:solidFill>
                    <a:latin typeface="Times New Roman"/>
                  </a:rPr>
                  <a:t>а</a:t>
                </a:r>
                <a:endParaRPr b="0" lang="en-US" sz="11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" name="Rectangle 17"/>
              <p:cNvSpPr/>
              <p:nvPr/>
            </p:nvSpPr>
            <p:spPr>
              <a:xfrm>
                <a:off x="570960" y="4991040"/>
                <a:ext cx="1485360" cy="36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Психокоррекция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31" name="Group 18"/>
            <p:cNvGrpSpPr/>
            <p:nvPr/>
          </p:nvGrpSpPr>
          <p:grpSpPr>
            <a:xfrm>
              <a:off x="2629080" y="3058920"/>
              <a:ext cx="1451520" cy="2903040"/>
              <a:chOff x="2629080" y="3058920"/>
              <a:chExt cx="1451520" cy="2903040"/>
            </a:xfrm>
          </p:grpSpPr>
          <p:sp>
            <p:nvSpPr>
              <p:cNvPr id="132" name="Rectangle 19"/>
              <p:cNvSpPr/>
              <p:nvPr/>
            </p:nvSpPr>
            <p:spPr>
              <a:xfrm>
                <a:off x="2629080" y="30589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3" name="Rectangle 20"/>
              <p:cNvSpPr/>
              <p:nvPr/>
            </p:nvSpPr>
            <p:spPr>
              <a:xfrm>
                <a:off x="2629080" y="35233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ое консультирование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4" name="Rectangle 21"/>
              <p:cNvSpPr/>
              <p:nvPr/>
            </p:nvSpPr>
            <p:spPr>
              <a:xfrm>
                <a:off x="2629080" y="44521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Групповая психодиагностика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5" name="Rectangle 22"/>
              <p:cNvSpPr/>
              <p:nvPr/>
            </p:nvSpPr>
            <p:spPr>
              <a:xfrm>
                <a:off x="2629080" y="3987720"/>
                <a:ext cx="1451520" cy="46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Индивидуальная психодиагностика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6" name="Rectangle 23"/>
              <p:cNvSpPr/>
              <p:nvPr/>
            </p:nvSpPr>
            <p:spPr>
              <a:xfrm>
                <a:off x="2629080" y="4916880"/>
                <a:ext cx="1451520" cy="104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640" rIns="8964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514"/>
                    </a:solidFill>
                    <a:latin typeface="Times New Roman"/>
                  </a:rPr>
                  <a:t>Соц.-психологическая деятельность: тренинги, обучение.</a:t>
                </a:r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37" name="Rectangle 24"/>
            <p:cNvSpPr/>
            <p:nvPr/>
          </p:nvSpPr>
          <p:spPr>
            <a:xfrm>
              <a:off x="5143320" y="3171240"/>
              <a:ext cx="1518840" cy="41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Индивидуальное консультиров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Rectangle 25"/>
            <p:cNvSpPr/>
            <p:nvPr/>
          </p:nvSpPr>
          <p:spPr>
            <a:xfrm>
              <a:off x="5143320" y="3618000"/>
              <a:ext cx="148536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Групповое консультиров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2629080" y="5965920"/>
              <a:ext cx="145908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Поддержка в формировании образовательных маршрутов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7429680" y="3171240"/>
              <a:ext cx="1257120" cy="190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514"/>
                  </a:solidFill>
                  <a:latin typeface="Times New Roman"/>
                </a:rPr>
                <a:t>Соц.-психологический мониторинг образовательной среды и развития воспитанников для целей образовательного учреждения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136"/>
            <p:cNvSpPr/>
            <p:nvPr/>
          </p:nvSpPr>
          <p:spPr>
            <a:xfrm>
              <a:off x="1371960" y="935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Line 137"/>
            <p:cNvSpPr/>
            <p:nvPr/>
          </p:nvSpPr>
          <p:spPr>
            <a:xfrm>
              <a:off x="1371960" y="935280"/>
              <a:ext cx="0" cy="6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Line 138"/>
            <p:cNvSpPr/>
            <p:nvPr/>
          </p:nvSpPr>
          <p:spPr>
            <a:xfrm>
              <a:off x="3314880" y="935280"/>
              <a:ext cx="0" cy="6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Line 139"/>
            <p:cNvSpPr/>
            <p:nvPr/>
          </p:nvSpPr>
          <p:spPr>
            <a:xfrm>
              <a:off x="5714280" y="935280"/>
              <a:ext cx="0" cy="67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Line 140"/>
            <p:cNvSpPr/>
            <p:nvPr/>
          </p:nvSpPr>
          <p:spPr>
            <a:xfrm>
              <a:off x="8001000" y="935280"/>
              <a:ext cx="0" cy="55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Line 141"/>
            <p:cNvSpPr/>
            <p:nvPr/>
          </p:nvSpPr>
          <p:spPr>
            <a:xfrm>
              <a:off x="1257120" y="2275920"/>
              <a:ext cx="0" cy="78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Line 142"/>
            <p:cNvSpPr/>
            <p:nvPr/>
          </p:nvSpPr>
          <p:spPr>
            <a:xfrm>
              <a:off x="3314880" y="2275920"/>
              <a:ext cx="0" cy="78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143"/>
            <p:cNvSpPr/>
            <p:nvPr/>
          </p:nvSpPr>
          <p:spPr>
            <a:xfrm>
              <a:off x="5829120" y="2275920"/>
              <a:ext cx="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Line 144"/>
            <p:cNvSpPr/>
            <p:nvPr/>
          </p:nvSpPr>
          <p:spPr>
            <a:xfrm>
              <a:off x="8001000" y="2275920"/>
              <a:ext cx="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534160" cy="227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ограмма психологического сопровождения пришкольного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лагеря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 дневной формой пребывания детей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Звёздочки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раст детей: 6-12 л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ок реализации: 1 оздоровительная смена лагеря (21 день, 24 час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втор: педагог-психолог МБОУДОД БЦВР БГО Ларина Т.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 программы - </a:t>
            </a: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создание условий для сохранения и укрепления психологического здоровья детей и для развития личности ребенка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дачи программ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оздание благоприятного климата в детском коллективе, помощь в адаптации к новому коллективу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азработка и внедрение мероприятий, способствующих развитию индивидуальных способностей детей, позитивных личностных качеств, сплочению коллектив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рофилактика девиантного поведения детей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ориентировка детей  на здоровый образ жизн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ознакомление детей со способами снятия эмоционального напряжения, тревожности, агрессивност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изучение психофизиологического состояния детей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вышение психологической компетентности родителей и педагогов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Направления работы педагога-психолог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ческ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рекционно-развивающ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сультативно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ветительск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Формы и методы рабо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гностические методики (анкетирования, опросники, рисуночные тесты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занятия с элементами тренинг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зкотерап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терап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рт-терап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лаксационные  упраж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есе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дивидуальные и групповые консульт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жидаемые результаты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крепление психологического здоровья воспитанни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аптированность к условиям пришкольного лагер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билизация эмоционального состоя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нность навыков эффективного взаимодействия детей и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нность осознанного отношения к здоровь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Мария\Desktop\20150622_114811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6-04-28T11:09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