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0CFF-82B4-42CB-9845-493925303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4640-4EF0-40E0-91DB-7F49A365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820F-C2F4-44AA-8DBF-6D43109FB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A51F-85A6-44D0-8EB2-B92F8D002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D0A3-DFE1-4CE8-998F-569E7221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62AA-5F65-493C-AA0C-50A7CCEA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8399-A6A9-43FF-8DB5-6FD97CA6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EA21-EA44-4EA1-B59E-4F773571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EB56-6018-4118-B34A-FDF28B8E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66F1-F053-4C19-80BA-A562C88C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6E7C-E0F7-4DE9-A2C4-6250F7B2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162E-2EF1-4A0E-99C8-28A9E1B2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cc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cc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cc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cc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f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cc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ff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cc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ffff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cc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A524-C24A-42F3-9A2E-34220D1C2C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7" descr=""/>
          <p:cNvPicPr/>
          <p:nvPr/>
        </p:nvPicPr>
        <p:blipFill>
          <a:blip r:embed="rId1"/>
          <a:srcRect l="0" t="17900" r="0" b="0"/>
          <a:stretch/>
        </p:blipFill>
        <p:spPr>
          <a:xfrm>
            <a:off x="0" y="0"/>
            <a:ext cx="5934240" cy="36576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23640" y="4365360"/>
            <a:ext cx="4392360" cy="21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Психология подрос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_1_~1"/>
          <p:cNvPicPr/>
          <p:nvPr/>
        </p:nvPicPr>
        <p:blipFill>
          <a:blip r:embed="rId2"/>
          <a:stretch/>
        </p:blipFill>
        <p:spPr>
          <a:xfrm>
            <a:off x="4788000" y="3645000"/>
            <a:ext cx="4356000" cy="3213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"/>
          <p:cNvPicPr/>
          <p:nvPr/>
        </p:nvPicPr>
        <p:blipFill>
          <a:blip r:embed="rId3"/>
          <a:stretch/>
        </p:blipFill>
        <p:spPr>
          <a:xfrm>
            <a:off x="6156360" y="0"/>
            <a:ext cx="1828800" cy="1663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"/>
          <p:cNvPicPr/>
          <p:nvPr/>
        </p:nvPicPr>
        <p:blipFill>
          <a:blip r:embed="rId4"/>
          <a:stretch/>
        </p:blipFill>
        <p:spPr>
          <a:xfrm>
            <a:off x="6516720" y="1773360"/>
            <a:ext cx="230508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Центральные новообразования:</a:t>
            </a:r>
            <a:br>
              <a:rPr sz="3600"/>
            </a:b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497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увство взросл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Я-концепц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Это сензитивный период для развит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вательной активности, любознательности (особенно 11-12 ле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сознания подростка, его рефлексии, Я-концепции, чувства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ноценного общ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Л.С.Выготский:</a:t>
            </a:r>
            <a:br>
              <a:rPr sz="4000"/>
            </a:b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708360" y="1412640"/>
            <a:ext cx="518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Ключевая проблема подросткового период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проблема интересов подрост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"/>
          <p:cNvPicPr/>
          <p:nvPr/>
        </p:nvPicPr>
        <p:blipFill>
          <a:blip r:embed="rId1"/>
          <a:stretch/>
        </p:blipFill>
        <p:spPr>
          <a:xfrm>
            <a:off x="395280" y="1413000"/>
            <a:ext cx="3168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4000" y="404640"/>
            <a:ext cx="81356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«эгоцентрическая доминанта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интерес подростка к собственной личности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«доминанта дали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доминирование широких интересов, устремлённых в будущее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«доминанта усилия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тяга к сопротивлению, преодолению, волевым усилиям, что нередко проявляется в упрямстве, протесте, хулиганстве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«доминанта романтики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тремление к неизвестному, рискованному, героическому)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Ценность подросткового возраста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 полноценного проживания этого периода многие качества личности, индивидуальные особенности оказываются неразвитыми или развитыми недостаточно, многое в дальнейшем компенсируется или корректируется с большим тру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Подростковый кризис</a:t>
            </a: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азы кризи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негативн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или предкритическая – фаза ломки старых привычек, стереотип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кульминационн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13 лет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посткритическ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ериод формирования новых структур, построения новых отно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Пути протекания возрастных кризисов: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зис независи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зис зависи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0_35f43_1c9fb551_-1-XL"/>
          <p:cNvPicPr/>
          <p:nvPr/>
        </p:nvPicPr>
        <p:blipFill>
          <a:blip r:embed="rId1"/>
          <a:stretch/>
        </p:blipFill>
        <p:spPr>
          <a:xfrm>
            <a:off x="4427640" y="1557360"/>
            <a:ext cx="42591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1. Реакция эмансипации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601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росток старается высвободиться из-под опёки взрослых, отказ от выполнения общепринятых норм, правил поведения, обесценивание нравственных и духовных идеалов «отцов», дискредитация авторит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2.</a:t>
            </a: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Акцентуация характера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3. Реакция группирования  </a:t>
            </a:r>
            <a:br>
              <a:rPr sz="3600"/>
            </a:b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со сверстниками</a:t>
            </a:r>
            <a:br>
              <a:rPr sz="3600"/>
            </a:b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4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ный интерес к общению со сверстниками, ориентация на выработку групповых норм и ценностей. Подростковые группы образуют своего рода субкультуру со своим внутренним языком (жаргоном), со своими ценностями и идеалами для подражания, общими увлеч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4. Реакция увлечения (хобби)</a:t>
            </a:r>
            <a:br>
              <a:rPr sz="3600"/>
            </a:b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504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нтеллектуально-эстетическ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музыка, электроника, компьютеры, история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акопительны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коллекционирование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нформативно-коммуникативны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интересуются всем и нечем), много приятелей, но нет друз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эгоцентрическ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отребность быть в центре внимания, увлечение экстравагантной одеждой, художественной самодеятельностью, спорт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Особенности психического развития подростков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496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ая характеристика подросткового возра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роблема подросткового кризи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Характеристика учебной деятельности. Особенности развития познавательных процесс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Изменения личности в подростковом возрасте. Акцентуация  характера у подрост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Общение как ведущая деятельность в подростковом возра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96472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Важнейшие новообразования: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етическое рефлексивное мыш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ллектуализация восприятия и памя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чностная рефлек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пертрофированная потребность в общении со сверстн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Учебная деятельность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одной стороны, подростковый период – это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ериод снижения мотивации уч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интерес к окружающему миру за пределами школы, увлеченность общением со сверстниками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другой стороны, этот период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ензитивен для формирования новых, зрелых форм учебной мотива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ереход к учению, имеющему личностный смыс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713800" cy="63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Отношение подростка к предмету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интересно             неинтерес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условле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179280" y="1557360"/>
            <a:ext cx="2700360" cy="647640"/>
          </a:xfrm>
          <a:prstGeom prst="rect">
            <a:avLst/>
          </a:prstGeom>
          <a:solidFill>
            <a:srgbClr val="ffffcc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ЧЕСТВО РАБОТЫ УЧИТ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3276720" y="1628640"/>
            <a:ext cx="2303280" cy="576360"/>
          </a:xfrm>
          <a:prstGeom prst="rect">
            <a:avLst/>
          </a:prstGeom>
          <a:solidFill>
            <a:srgbClr val="ffffcc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РОСТОК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Е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 flipH="1">
            <a:off x="5939640" y="1628640"/>
            <a:ext cx="2808360" cy="576360"/>
          </a:xfrm>
          <a:prstGeom prst="rect">
            <a:avLst/>
          </a:prstGeom>
          <a:solidFill>
            <a:srgbClr val="ffffcc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НОШЕНИЕ УЧИТЕЛЯ К УЧАЩИМ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0"/>
          <p:cNvSpPr/>
          <p:nvPr/>
        </p:nvSpPr>
        <p:spPr>
          <a:xfrm>
            <a:off x="4427640" y="1268280"/>
            <a:ext cx="125280" cy="360360"/>
          </a:xfrm>
          <a:prstGeom prst="downArrow">
            <a:avLst>
              <a:gd name="adj1" fmla="val 50000"/>
              <a:gd name="adj2" fmla="val 71911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2"/>
          <p:cNvSpPr/>
          <p:nvPr/>
        </p:nvSpPr>
        <p:spPr>
          <a:xfrm>
            <a:off x="3851280" y="692280"/>
            <a:ext cx="998640" cy="144360"/>
          </a:xfrm>
          <a:prstGeom prst="leftRightArrow">
            <a:avLst>
              <a:gd name="adj1" fmla="val 50000"/>
              <a:gd name="adj2" fmla="val 13771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0"/>
          <p:cNvSpPr/>
          <p:nvPr/>
        </p:nvSpPr>
        <p:spPr>
          <a:xfrm>
            <a:off x="324000" y="2278800"/>
            <a:ext cx="882000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тод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оценка зн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ваторство                                                      эмоциональный настрой творчество                                                         уважение личност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жный предм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1"/>
          <p:cNvSpPr/>
          <p:nvPr/>
        </p:nvSpPr>
        <p:spPr>
          <a:xfrm>
            <a:off x="826920" y="3711960"/>
            <a:ext cx="76327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ужный предме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2"/>
          <p:cNvSpPr/>
          <p:nvPr/>
        </p:nvSpPr>
        <p:spPr>
          <a:xfrm>
            <a:off x="3203640" y="3573360"/>
            <a:ext cx="2952720" cy="86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УЕ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ФЕССИОН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МЕ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3"/>
          <p:cNvSpPr/>
          <p:nvPr/>
        </p:nvSpPr>
        <p:spPr>
          <a:xfrm>
            <a:off x="0" y="4960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бимый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любим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24"/>
          <p:cNvSpPr/>
          <p:nvPr/>
        </p:nvSpPr>
        <p:spPr>
          <a:xfrm>
            <a:off x="5724360" y="5013360"/>
            <a:ext cx="976320" cy="216000"/>
          </a:xfrm>
          <a:prstGeom prst="rightArrow">
            <a:avLst>
              <a:gd name="adj1" fmla="val 50000"/>
              <a:gd name="adj2" fmla="val 113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25"/>
          <p:cNvSpPr/>
          <p:nvPr/>
        </p:nvSpPr>
        <p:spPr>
          <a:xfrm>
            <a:off x="2050920" y="5013360"/>
            <a:ext cx="936720" cy="216000"/>
          </a:xfrm>
          <a:prstGeom prst="leftArrow">
            <a:avLst>
              <a:gd name="adj1" fmla="val 50000"/>
              <a:gd name="adj2" fmla="val 10841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6"/>
          <p:cNvSpPr/>
          <p:nvPr/>
        </p:nvSpPr>
        <p:spPr>
          <a:xfrm>
            <a:off x="395280" y="5734080"/>
            <a:ext cx="8317080" cy="93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ношение к учению и занятиям может качествен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личаться у разных подрост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07552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Мышление</a:t>
            </a:r>
            <a:br>
              <a:rPr sz="4400"/>
            </a:b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84358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Абстрактное мышл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рефлексивное мышление. Подросток осознаёт собственные интеллектуальные операции и управляет и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ествуют индивидуальные различия в мышлении, у одних – эмпирическое мышление, у других – теоретическое мыш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1-14 лет – сензитивный период для развития творческого мыш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ируемой и управляемой становится речь.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Подросток стремится иметь собственное мнение, свои взгляды и сужден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то способствует развитию критического мышл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вязи с недостатком опыта подросток начинает неоправданно возражать, упрямиться, не принимая бесспорных истин.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Проявляется критиканство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Память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учшается запоминание словесного и образного материала, увеличивается быстрота запоминания, улучшается продуктивность памя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мять обогащается и замещается мышлением. Мышление активно участвует в запоминании и воспроизведении.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Установка на понимание, заучивание логическое, осмысленно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Внимание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6421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иливается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произволь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однако развитие отличается противоречивос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внимателен на «нелюбимом» уроке, внимателен – на «любимом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утомление затрудняет возможность длительной концентрации внимания на учебн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сутствуя на уроке, нередко «витает в облаках», мечтает, читает под партой интересную кни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421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Восприяти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пособность к 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сложному аналитико-синтетическому восприятию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едметов и явлений. Восприятие становится плановым, последовательным и всесторонни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Воображени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звивается 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творческое воображ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Начинают писать стихи, занимаются конструированием... Фантазирование доставляет удовольствие и приносит успоко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82000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Акцентуация характера у подростков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79280" y="907920"/>
          <a:ext cx="8713800" cy="5761080"/>
        </p:xfrm>
        <a:graphic>
          <a:graphicData uri="http://schemas.openxmlformats.org/drawingml/2006/table">
            <a:tbl>
              <a:tblPr/>
              <a:tblGrid>
                <a:gridCol w="1962360"/>
                <a:gridCol w="4103640"/>
                <a:gridCol w="264780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центу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е чер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ге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у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7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ертим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ти всегда очень хорошее, приподнятое настроение, высокий жизненный тонус, общитель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ереносимость одиночества и критических замечаний в свой адре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клоид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/типич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фаз, сменяющих друг друг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субдепрессивный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период подъем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х продолжительность – 1-2 нед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убдепрессивной фазе – коренная ломка жизненного стереотипа; в фазе подъема – непереносимость одиночества, однообразной жизни, кропотливого тру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324000" y="476280"/>
          <a:ext cx="8569080" cy="6370560"/>
        </p:xfrm>
        <a:graphic>
          <a:graphicData uri="http://schemas.openxmlformats.org/drawingml/2006/table">
            <a:tbl>
              <a:tblPr/>
              <a:tblGrid>
                <a:gridCol w="2808000"/>
                <a:gridCol w="3157560"/>
                <a:gridCol w="2603520"/>
              </a:tblGrid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/лаби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зы короче – 2-3 хороших дня сменяется 2-3 плохими днями с дурным настроени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 же. Замечания и упреки усугубляют депрессивное состоя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226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Лаби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йняя изменчивость настроения. Меняется очень часто и круто, а повод – ничтожный. Значительная глубина пережи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ржение со стороны эмоционально значимых лиц, утрата близких, вынужденная разлука с ни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83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Астеноневротиче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ная утомляемость, раздражительность, склонность к фиксации на совеем здоровье. Особенно утомляются при умственных занятиях, вспышки по ничтожному повод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ная чувствительность к напряженным умственным нагрузкам и к событиям, провоцирующим ипохондрические реа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воеобразие подросткового возраста как этапа развития</a:t>
            </a:r>
            <a:br>
              <a:rPr sz="3600"/>
            </a:b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47280" y="1268280"/>
            <a:ext cx="8496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тя на подросте, ещё не взрослый, но уже не ребёно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ходный возрас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ереход от детского к взрослому состоянию, от незрелости к зрел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убертатный возрас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возраст полового созре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едний школьный возрас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5-9 клас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растной период – от 11 до 15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324000" y="260280"/>
          <a:ext cx="8640720" cy="5970600"/>
        </p:xfrm>
        <a:graphic>
          <a:graphicData uri="http://schemas.openxmlformats.org/drawingml/2006/table">
            <a:tbl>
              <a:tblPr/>
              <a:tblGrid>
                <a:gridCol w="2458800"/>
                <a:gridCol w="3373560"/>
                <a:gridCol w="2808360"/>
              </a:tblGrid>
              <a:tr h="3445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Сензитив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ая впечатлительность. Резко выражено чувство собственно неполноценности. Ищут самоутверждения там, где чувствуют свою неполноценность. Стремятся: застенчивые девочки – к общительности, робкие мальчики – к заносчив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ереносимость ситуации, где они становятся объектом насмешек, подозр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52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Психастениче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решительность и склонность к рассуждениям, тревожная мнительность и любовь к самоанализу, легкость возникновения навязчивых страхов, ритуалов, представл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уации, где необходимо принимать быстро и самостоятельно важные решения, ситуации с нагрузками на чувства ответств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68360" y="476280"/>
          <a:ext cx="8424720" cy="6278400"/>
        </p:xfrm>
        <a:graphic>
          <a:graphicData uri="http://schemas.openxmlformats.org/drawingml/2006/table">
            <a:tbl>
              <a:tblPr/>
              <a:tblGrid>
                <a:gridCol w="2303280"/>
                <a:gridCol w="3527640"/>
                <a:gridCol w="2593800"/>
              </a:tblGrid>
              <a:tr h="283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Шизоид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кнутость (отгороженность), неспособность, нежелание устанавливать контакты. Снижение потребности к общению, неспособность к сопереживан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уации, где нужно быстро устанавливать неформальные эмоциональные контакты, а также насильственные вторжения посторонних во внутренний м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445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Эпилептоид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лонность к состоянию злобно- тоскливого настроения с поспешно накипающим раздражением и поиском объекта, на ком можно было бы сорвать зло. Аффективная взрывчатость; малоподвижность (от моторики и эмоциональности до мышления). Изощренная мсти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фории. Подростки отмечают: «На меня находит злоба, раздражительность». В таких ситуациях ищут повод для скандала. Повод для гнева может быть ничтожен. Безудержная яр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250920" y="476280"/>
          <a:ext cx="8642160" cy="6188040"/>
        </p:xfrm>
        <a:graphic>
          <a:graphicData uri="http://schemas.openxmlformats.org/drawingml/2006/table">
            <a:tbl>
              <a:tblPr/>
              <a:tblGrid>
                <a:gridCol w="2158920"/>
                <a:gridCol w="3857760"/>
                <a:gridCol w="2625480"/>
              </a:tblGrid>
              <a:tr h="32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Истероид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предельный эгоцентризм, ненасытная жажда внимания к своей особе: восхищение, удивление, почитание. Для приукрашивания своей особы: лживость и фантазирование. Без большой эмоциональности – театральность. Легко «вживаются» в роль, ведут себя соответственно е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уации, где ущемлено самолюбие; утрата внимания значимых лиц, крах надежд на престижное положение, развенчанная исключи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93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 Неустойчив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желание трудиться, учиться, работать. Тяга к развлечениям, праздности. Все дурное просто липнет к ним. К будущему равнодушны, одна из главных черт - слабовол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место: безнадзорность, обстановка попустительства, открывающие просторы для праздности и безделья. Живут сегодняшним дн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94" name="Rectangle 540"/>
          <p:cNvSpPr/>
          <p:nvPr/>
        </p:nvSpPr>
        <p:spPr>
          <a:xfrm>
            <a:off x="0" y="755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395280" y="549360"/>
          <a:ext cx="8353440" cy="2225520"/>
        </p:xfrm>
        <a:graphic>
          <a:graphicData uri="http://schemas.openxmlformats.org/drawingml/2006/table">
            <a:tbl>
              <a:tblPr/>
              <a:tblGrid>
                <a:gridCol w="2232000"/>
                <a:gridCol w="3583080"/>
                <a:gridCol w="2538360"/>
              </a:tblGrid>
              <a:tr h="2226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 Конформ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ая и чрезмерная конформность к привычному окружению, к своей среде. Познавательно некритичны: истина то, что им сказали. Консервативны: нового не любя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хо переносят крутую ломку стереотипа. Им трудно, когда требуется личная инициати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42472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Мотивы общения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95280" y="1052640"/>
          <a:ext cx="8424720" cy="5454360"/>
        </p:xfrm>
        <a:graphic>
          <a:graphicData uri="http://schemas.openxmlformats.org/drawingml/2006/table">
            <a:tbl>
              <a:tblPr/>
              <a:tblGrid>
                <a:gridCol w="2168640"/>
                <a:gridCol w="6256080"/>
              </a:tblGrid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724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724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намика мотивов общ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9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3724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724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тое желание быть вместе: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Times New Roman"/>
                        <a:buChar char="•"/>
                        <a:tabLst>
                          <a:tab algn="l" pos="3724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месте играть, что-то дел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35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724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I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724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емление занять определенное место в среде сверстников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Symbol" charset="2"/>
                        <a:buChar char=""/>
                        <a:tabLst>
                          <a:tab algn="l" pos="3724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ть лидером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Symbol" charset="2"/>
                        <a:buChar char=""/>
                        <a:tabLst>
                          <a:tab algn="l" pos="3724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ть уважаемым, любимым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Symbol" charset="2"/>
                        <a:buChar char=""/>
                        <a:tabLst>
                          <a:tab algn="l" pos="3724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ть авторитетом какого-либо де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724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724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иск признания ценностей собственной личности в глазах сверстни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УЧИТЕЛЯ, ВЗРОСЛЫЕ, РОДИТЕЛИ ДОЛЖНЫ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AutoShape 4"/>
          <p:cNvSpPr/>
          <p:nvPr/>
        </p:nvSpPr>
        <p:spPr>
          <a:xfrm rot="10800000">
            <a:off x="900000" y="1628640"/>
            <a:ext cx="1028880" cy="457200"/>
          </a:xfrm>
          <a:prstGeom prst="triangle">
            <a:avLst>
              <a:gd name="adj" fmla="val 50000"/>
            </a:avLst>
          </a:prstGeom>
          <a:solidFill>
            <a:srgbClr val="008a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5"/>
          <p:cNvSpPr/>
          <p:nvPr/>
        </p:nvSpPr>
        <p:spPr>
          <a:xfrm rot="10800000">
            <a:off x="3850920" y="2133720"/>
            <a:ext cx="1028520" cy="457200"/>
          </a:xfrm>
          <a:prstGeom prst="triangle">
            <a:avLst>
              <a:gd name="adj" fmla="val 50000"/>
            </a:avLst>
          </a:prstGeom>
          <a:solidFill>
            <a:srgbClr val="008a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6"/>
          <p:cNvSpPr/>
          <p:nvPr/>
        </p:nvSpPr>
        <p:spPr>
          <a:xfrm rot="10800000">
            <a:off x="6876720" y="2565360"/>
            <a:ext cx="1028520" cy="457200"/>
          </a:xfrm>
          <a:prstGeom prst="triangle">
            <a:avLst>
              <a:gd name="adj" fmla="val 50000"/>
            </a:avLst>
          </a:prstGeom>
          <a:solidFill>
            <a:srgbClr val="008a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324000" y="2133720"/>
            <a:ext cx="2303280" cy="201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Д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менения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ростка со сверст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3059280" y="2637000"/>
            <a:ext cx="2520720" cy="1728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Ь младших подростков общению вокруг вопросов уч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ве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6012000" y="3068640"/>
            <a:ext cx="2952720" cy="2232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Ь старших подростков вопросам личностного общения и развития индивидуа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Общение взрослого с подростком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42472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росток – личность, претендующая на равные со взрослыми отношения и пра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большим воспитательным влиянием обладает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диалогическое общ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где существует равенство позиции взрослого и подрост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0_116915_4b5d1518_XL"/>
          <p:cNvPicPr/>
          <p:nvPr/>
        </p:nvPicPr>
        <p:blipFill>
          <a:blip r:embed="rId1"/>
          <a:stretch/>
        </p:blipFill>
        <p:spPr>
          <a:xfrm>
            <a:off x="2916360" y="4626000"/>
            <a:ext cx="38163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7138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тупайте в общение,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учитывая интересы подрост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редмет разговора должен быть конкретны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затрагивающим суть д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Нельзя касаться его лич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возникает круговая оборона. Вам не нравятся его действия, но не он сам как лич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жно, чтобы подросток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не только вас понимал, но и принима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2" descr="0_132086_f02ea6b0_XL"/>
          <p:cNvPicPr/>
          <p:nvPr/>
        </p:nvPicPr>
        <p:blipFill>
          <a:blip r:embed="rId1"/>
          <a:stretch/>
        </p:blipFill>
        <p:spPr>
          <a:xfrm>
            <a:off x="2771640" y="4365720"/>
            <a:ext cx="3888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24000" y="765000"/>
            <a:ext cx="8640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имая самостоятельность подростка,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не сводите её к вседозволен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 подростка самого справляться со своими трудност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отрите на подростка как на целеустремлённого, прилежного человека, которому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взрослый хочет помочь, не навязывая своих советов, но подводя к ним исподво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подросток отказывается что-либо сделать, используйте технику заезженной пластинки, повторяя свою просьбу снова и снова. Говоря «нет», держите сл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Морфологическая и физиологическая перестройка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ения эндокринн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«гормональная буря»)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4356000" y="2997360"/>
            <a:ext cx="216000" cy="504720"/>
          </a:xfrm>
          <a:prstGeom prst="downArrow">
            <a:avLst>
              <a:gd name="adj1" fmla="val 50000"/>
              <a:gd name="adj2" fmla="val 58417"/>
            </a:avLst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611280" y="3500280"/>
            <a:ext cx="806436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имуляция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ТА ТКА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рное физическое развитие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ил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онирование желез внутренней секреции (щитовидной, половых, надпочечни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4356000" y="1916280"/>
            <a:ext cx="216000" cy="504720"/>
          </a:xfrm>
          <a:prstGeom prst="downArrow">
            <a:avLst>
              <a:gd name="adj1" fmla="val 50000"/>
              <a:gd name="adj2" fmla="val 58417"/>
            </a:avLst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826920" y="2349360"/>
            <a:ext cx="777744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ТИВИЗАЦИЯ ГИПОФ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ПОЛОВОЕ СОЗРЕВАНИЕ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1600200"/>
          <a:ext cx="8229600" cy="2620800"/>
        </p:xfrm>
        <a:graphic>
          <a:graphicData uri="http://schemas.openxmlformats.org/drawingml/2006/table">
            <a:tbl>
              <a:tblPr/>
              <a:tblGrid>
                <a:gridCol w="4330800"/>
                <a:gridCol w="389880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воч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ьчи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-13 л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-15 л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47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акселер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11 л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13 л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арушения эмоционального плана</a:t>
            </a:r>
            <a:br>
              <a:rPr sz="4000"/>
            </a:b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836640"/>
          <a:ext cx="8229600" cy="4541760"/>
        </p:xfrm>
        <a:graphic>
          <a:graphicData uri="http://schemas.openxmlformats.org/drawingml/2006/table">
            <a:tbl>
              <a:tblPr/>
              <a:tblGrid>
                <a:gridCol w="4259160"/>
                <a:gridCol w="3970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девоч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мальчи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33cc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растает </a:t>
                      </a: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бидчивость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незапная плаксивость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33cc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ще становятся </a:t>
                      </a: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шумны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224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33cc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ерывно </a:t>
                      </a: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меняется настро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33cc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ие  действия сопровождаются ненужными движениями (вертит что-либо в руках..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530064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У девочек выражены больш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чем у мальчи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7138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арушения координации движений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илие лишних движений, неловкость, угловат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чь становится замедл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всегда быстро реагируют на обращение к н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ы более скуд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худшается почер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У мальчиков выражены больш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чем у дево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нижается работоспособность и повышается утомляемость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820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ачала двигательное беспокой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же сонливость или сильное возбу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Наблюдаются отклон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оматического харак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ение сердцеби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ение артериального д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ловные б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страя утомляем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42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Ведущая деятельность -  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интимно-личностное общение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о сверстниками</a:t>
            </a:r>
            <a:br>
              <a:rPr sz="2800"/>
            </a:b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1" name="Picture 6" descr="0_1320cf_20888bf7_XL"/>
          <p:cNvPicPr/>
          <p:nvPr/>
        </p:nvPicPr>
        <p:blipFill>
          <a:blip r:embed="rId1"/>
          <a:stretch/>
        </p:blipFill>
        <p:spPr>
          <a:xfrm>
            <a:off x="395280" y="2276640"/>
            <a:ext cx="4321080" cy="2601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0_11745c_c06828a8_XL"/>
          <p:cNvPicPr/>
          <p:nvPr/>
        </p:nvPicPr>
        <p:blipFill>
          <a:blip r:embed="rId2"/>
          <a:stretch/>
        </p:blipFill>
        <p:spPr>
          <a:xfrm>
            <a:off x="5156280" y="1600200"/>
            <a:ext cx="36637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23:53:32Z</dcterms:created>
  <dc:creator>Ольга</dc:creator>
  <dc:description/>
  <dc:language>en-US</dc:language>
  <cp:lastModifiedBy>Людмила</cp:lastModifiedBy>
  <dcterms:modified xsi:type="dcterms:W3CDTF">2017-02-07T15:02:44Z</dcterms:modified>
  <cp:revision>42</cp:revision>
  <dc:subject/>
  <dc:title>Слайд 1</dc:title>
</cp:coreProperties>
</file>